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8.png" ContentType="image/png"/>
  <Override PartName="/ppt/media/image14.jpeg" ContentType="image/jpeg"/>
  <Override PartName="/ppt/media/image41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33.jpeg" ContentType="image/jpeg"/>
  <Override PartName="/ppt/media/image32.jpeg" ContentType="image/jpeg"/>
  <Override PartName="/ppt/media/image3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39.png" ContentType="image/pn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67A5-16EA-4CB9-B4F8-3205084BE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4FC7-2A01-44A1-B752-425D0767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6E16-3994-43E3-BBEA-6EBE6DD8B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CB93-F626-4F11-BE02-C7194F2E4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8258-F3B4-4C1C-90CF-7F356AA4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095C-5483-4F2B-969E-0A701011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70EA-8339-4584-AB23-828D77D7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E69B-4F84-4698-9F51-B4DDFAF8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77E7-7FC7-4078-BB13-956E4DB0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FDB4-FF1C-43BA-A60F-E1BE1BAF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4CB5-8294-4FDD-8050-91BDFD4F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EDD0-F0E7-4F93-8101-FCF68C47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25FF-8DD9-48E7-8194-57C84D6472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леграм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смыкающиеся- это наземные животные, покрытые …….. чешуйками,  дышат  ячеистыми ………., сердце   …..камерное( исключение …………….), кругов кровообращения  …., в скелете появились  ……..и ………отделы. Оплодотворение  ……….  Размножаются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203480" y="8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1355760" y="103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ногообразие череп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ЛОГГЕРХЕД"/>
          <p:cNvPicPr/>
          <p:nvPr/>
        </p:nvPicPr>
        <p:blipFill>
          <a:blip r:embed="rId1"/>
          <a:stretch/>
        </p:blipFill>
        <p:spPr>
          <a:xfrm>
            <a:off x="1000080" y="1714680"/>
            <a:ext cx="2724120" cy="16668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9"/>
          <p:cNvSpPr/>
          <p:nvPr/>
        </p:nvSpPr>
        <p:spPr>
          <a:xfrm>
            <a:off x="1024920" y="337644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ггерхе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1" descr="Семейство ЧЕРЕПАХИ КОЖИСТЫЕ"/>
          <p:cNvPicPr/>
          <p:nvPr/>
        </p:nvPicPr>
        <p:blipFill>
          <a:blip r:embed="rId2"/>
          <a:stretch/>
        </p:blipFill>
        <p:spPr>
          <a:xfrm>
            <a:off x="6084720" y="1484280"/>
            <a:ext cx="2857680" cy="19432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6136560" y="352116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жистая черепа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3621240" y="4457880"/>
            <a:ext cx="251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повая черепа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7" descr="ЧЕРЕПАХА БОЛОТНАЯ ЕВРОПЕЙСКАЯ"/>
          <p:cNvPicPr/>
          <p:nvPr/>
        </p:nvPicPr>
        <p:blipFill>
          <a:blip r:embed="rId3"/>
          <a:stretch/>
        </p:blipFill>
        <p:spPr>
          <a:xfrm>
            <a:off x="826920" y="4292640"/>
            <a:ext cx="2857680" cy="19335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8"/>
          <p:cNvSpPr/>
          <p:nvPr/>
        </p:nvSpPr>
        <p:spPr>
          <a:xfrm>
            <a:off x="951120" y="6184800"/>
            <a:ext cx="262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олотная черепа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0" descr="ЧЕРЕПАХА БУГОРЧАТАЯ"/>
          <p:cNvPicPr/>
          <p:nvPr/>
        </p:nvPicPr>
        <p:blipFill>
          <a:blip r:embed="rId4"/>
          <a:stretch/>
        </p:blipFill>
        <p:spPr>
          <a:xfrm>
            <a:off x="5219640" y="4869000"/>
            <a:ext cx="2857680" cy="1619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1"/>
          <p:cNvSpPr/>
          <p:nvPr/>
        </p:nvSpPr>
        <p:spPr>
          <a:xfrm>
            <a:off x="5724360" y="640080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угорчатая черепа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4" descr="Семейство ЧЕРЕПАХИ МОРСКИЕ"/>
          <p:cNvPicPr/>
          <p:nvPr/>
        </p:nvPicPr>
        <p:blipFill>
          <a:blip r:embed="rId5"/>
          <a:stretch/>
        </p:blipFill>
        <p:spPr>
          <a:xfrm>
            <a:off x="3276720" y="234936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Семейство ЧЕРЕПАХИ МОРСКИЕ"/>
          <p:cNvPicPr/>
          <p:nvPr/>
        </p:nvPicPr>
        <p:blipFill>
          <a:blip r:embed="rId6"/>
          <a:stretch/>
        </p:blipFill>
        <p:spPr>
          <a:xfrm>
            <a:off x="3286080" y="2286000"/>
            <a:ext cx="2857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06050402"/>
          <p:cNvPicPr/>
          <p:nvPr/>
        </p:nvPicPr>
        <p:blipFill>
          <a:blip r:embed="rId1"/>
          <a:stretch/>
        </p:blipFill>
        <p:spPr>
          <a:xfrm>
            <a:off x="0" y="0"/>
            <a:ext cx="9144000" cy="50007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395280" y="5593320"/>
            <a:ext cx="815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ерхний ряд пресноводные черепах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ижний ряд – наземные черепах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0" y="198900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болотная черепа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3071880" y="20718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ятнист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6286680" y="206064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ллигаторов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57120" y="4929120"/>
            <a:ext cx="178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лонов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3571920" y="501336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эластична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6786720" y="500076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греческ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203480" y="8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355760" y="103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ногообразие череп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ЧЕРЕПАХА ЗЕЛЁНАЯ"/>
          <p:cNvPicPr/>
          <p:nvPr/>
        </p:nvPicPr>
        <p:blipFill>
          <a:blip r:embed="rId1"/>
          <a:stretch/>
        </p:blipFill>
        <p:spPr>
          <a:xfrm>
            <a:off x="1116000" y="1916280"/>
            <a:ext cx="2857680" cy="19047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1526760" y="373680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еленая черепа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9" descr="ЧЕРЕПАХА КАСПИЙСКАЯ"/>
          <p:cNvPicPr/>
          <p:nvPr/>
        </p:nvPicPr>
        <p:blipFill>
          <a:blip r:embed="rId2"/>
          <a:stretch/>
        </p:blipFill>
        <p:spPr>
          <a:xfrm>
            <a:off x="4643280" y="1989000"/>
            <a:ext cx="3616560" cy="21337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10"/>
          <p:cNvSpPr/>
          <p:nvPr/>
        </p:nvSpPr>
        <p:spPr>
          <a:xfrm>
            <a:off x="5487840" y="402588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спийская черепа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2" descr="ЧЕРЕПАХА КОЛЮЧАЯ"/>
          <p:cNvPicPr/>
          <p:nvPr/>
        </p:nvPicPr>
        <p:blipFill>
          <a:blip r:embed="rId3"/>
          <a:stretch/>
        </p:blipFill>
        <p:spPr>
          <a:xfrm>
            <a:off x="971640" y="4292640"/>
            <a:ext cx="2354040" cy="21574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3"/>
          <p:cNvSpPr/>
          <p:nvPr/>
        </p:nvSpPr>
        <p:spPr>
          <a:xfrm>
            <a:off x="900360" y="640080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ючая черепа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5" descr="ЧЕРЕПАХА ЛЕСНАЯ"/>
          <p:cNvPicPr/>
          <p:nvPr/>
        </p:nvPicPr>
        <p:blipFill>
          <a:blip r:embed="rId4"/>
          <a:stretch/>
        </p:blipFill>
        <p:spPr>
          <a:xfrm>
            <a:off x="4356000" y="4365720"/>
            <a:ext cx="2519640" cy="18889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6"/>
          <p:cNvSpPr/>
          <p:nvPr/>
        </p:nvSpPr>
        <p:spPr>
          <a:xfrm>
            <a:off x="4500000" y="6308640"/>
            <a:ext cx="23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сная черепа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новая черепах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Слоновая, или галапагосская, черепаха Chelonoidis (Geochelone) elephantopus"/>
          <p:cNvPicPr/>
          <p:nvPr/>
        </p:nvPicPr>
        <p:blipFill>
          <a:blip r:embed="rId1"/>
          <a:stretch/>
        </p:blipFill>
        <p:spPr>
          <a:xfrm>
            <a:off x="2771640" y="836640"/>
            <a:ext cx="4248360" cy="25210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5487840" y="1793880"/>
            <a:ext cx="22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826920" y="3429000"/>
            <a:ext cx="777744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Слоновые черепахи обитают на островах Галапагосского архипелага. Известно 12 подвидов. Самцы обычно крупнее самок. Голова галапагосских черепах относительно маленькая, а шеи - длинны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Масса черепах, обитающих на больших островах, может достигать 200 килограм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Длина карапакса до 122 сантиметро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земные черепах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071720"/>
            <a:ext cx="403848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фер-отличный землекоп .Живут в пусты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льневосточная эластичная-неплохие скалолазы.Занесена в Красную кни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0" y="1000080"/>
            <a:ext cx="3743280" cy="250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0" name="Рисунок 4" descr="zoo-41.jpg"/>
          <p:cNvPicPr/>
          <p:nvPr/>
        </p:nvPicPr>
        <p:blipFill>
          <a:blip r:embed="rId2"/>
          <a:stretch/>
        </p:blipFill>
        <p:spPr>
          <a:xfrm>
            <a:off x="1071720" y="3643200"/>
            <a:ext cx="3352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сноводные черепах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спий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от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Содержимое 4" descr="Caspian turtle (Mauremys caspica rivulata), El-Al river.jpg"/>
          <p:cNvPicPr/>
          <p:nvPr/>
        </p:nvPicPr>
        <p:blipFill>
          <a:blip r:embed="rId1"/>
          <a:stretch/>
        </p:blipFill>
        <p:spPr>
          <a:xfrm>
            <a:off x="714240" y="1214280"/>
            <a:ext cx="3500640" cy="22147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2" descr="88.jpg"/>
          <p:cNvPicPr/>
          <p:nvPr/>
        </p:nvPicPr>
        <p:blipFill>
          <a:blip r:embed="rId2"/>
          <a:stretch/>
        </p:blipFill>
        <p:spPr>
          <a:xfrm>
            <a:off x="1071720" y="3571920"/>
            <a:ext cx="35715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окоди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116000" y="1357200"/>
            <a:ext cx="7543800" cy="30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Крокодилы занимают особое положение среди современных пресмыкающихся, будучи более близкими родственниками вымерших динозавров, которых пережили почти на 60 млн. лет, и современных птиц, чем других рептилий нашего времени. В мире насчитывается 25 видов крокодил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Ряд особенностей организации крокодилов, и в первую очередь совершенство нервной, кровеносной и дыхательной систем, позволяет считать их наиболее высокоорганизованными из всех ныне живущих пресмыкающихс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7" descr="новый-3"/>
          <p:cNvPicPr/>
          <p:nvPr/>
        </p:nvPicPr>
        <p:blipFill>
          <a:blip r:embed="rId1"/>
          <a:stretch/>
        </p:blipFill>
        <p:spPr>
          <a:xfrm>
            <a:off x="3132000" y="4581360"/>
            <a:ext cx="30006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окодиловы сле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13840" y="1143000"/>
            <a:ext cx="86439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ует легенда о том, что крокодил ест добычу и плачет по ней крокодиловыми слезами. На самом деле крокодилы плачут не от жалости. Дело в том, что у крокодилов есть специальные слезные железы, которые выводят избыточные соли из организма. Поэтому крокодиловы слезы – это всего лишь реакция организма, которая избавляет рептилию от избытка солей. Также солевые железы располагаются и на языке крокодил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Гребнистый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морской крокодил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ый большой крокодил в мире, мега-хищ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метров, вес 2 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ща  – это любая добыча, которую хищник может пойм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C:\Users\Таня\Pictures\Гребнистый-крокодил-морской-крокодил-лат.-Crocodylus-porosus-768x458.jpg"/>
          <p:cNvPicPr/>
          <p:nvPr/>
        </p:nvPicPr>
        <p:blipFill>
          <a:blip r:embed="rId1"/>
          <a:stretch/>
        </p:blipFill>
        <p:spPr>
          <a:xfrm>
            <a:off x="357120" y="1785960"/>
            <a:ext cx="40719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ильский крокод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55280" y="4365720"/>
            <a:ext cx="7769160" cy="18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Нильский крокодил достигает в длину до 5 метров (по некоторым сообщениям до 6 метров). Есть сведения, что нильские крокодилы, живущие в северных районах (южная Африка) достигают меньших размеров - до 4 мет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Нильский крокодил (Crocodylus niloticus)"/>
          <p:cNvPicPr/>
          <p:nvPr/>
        </p:nvPicPr>
        <p:blipFill>
          <a:blip r:embed="rId1"/>
          <a:stretch/>
        </p:blipFill>
        <p:spPr>
          <a:xfrm>
            <a:off x="5076720" y="1125360"/>
            <a:ext cx="3816360" cy="2808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новый-2"/>
          <p:cNvPicPr/>
          <p:nvPr/>
        </p:nvPicPr>
        <p:blipFill>
          <a:blip r:embed="rId2"/>
          <a:stretch/>
        </p:blipFill>
        <p:spPr>
          <a:xfrm>
            <a:off x="1116000" y="1125360"/>
            <a:ext cx="3743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Arial"/>
              </a:rPr>
              <a:t>ТЕСТ: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1. Пресмыкающиеся произошли от: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котилозавров;   Б) земноводных; В)рыб ; 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2. В связи с жизнью на суше у пресмыкающихся: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А) тело покрыто сухой кожей с роговыми чешуйками;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Б) появляется кожное дыхание;  В) внутреннее оплодотворение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Г) имеется третье веко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3. Яйца пресмыкающихся покрыты: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А) известковой скорлупой;    Б) тонкой нежной оболочкой;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В) кожистой оболочкой;      Г) не имеют оболочки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4. Температура тела пресмыкающихся зависит от :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температуры окружающей среды   Б) температуры крови;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В) регенерации;                 Г) выделительной систе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203480" y="8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355760" y="103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ногообразие крокоди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крок гавиаловый"/>
          <p:cNvPicPr/>
          <p:nvPr/>
        </p:nvPicPr>
        <p:blipFill>
          <a:blip r:embed="rId1"/>
          <a:stretch/>
        </p:blipFill>
        <p:spPr>
          <a:xfrm>
            <a:off x="1116000" y="1773360"/>
            <a:ext cx="2857680" cy="1942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острорылый"/>
          <p:cNvPicPr/>
          <p:nvPr/>
        </p:nvPicPr>
        <p:blipFill>
          <a:blip r:embed="rId2"/>
          <a:stretch/>
        </p:blipFill>
        <p:spPr>
          <a:xfrm>
            <a:off x="5580000" y="1773360"/>
            <a:ext cx="2857680" cy="2038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кайман чёрный"/>
          <p:cNvPicPr/>
          <p:nvPr/>
        </p:nvPicPr>
        <p:blipFill>
          <a:blip r:embed="rId3"/>
          <a:stretch/>
        </p:blipFill>
        <p:spPr>
          <a:xfrm>
            <a:off x="5292720" y="4437000"/>
            <a:ext cx="2857680" cy="18576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1"/>
          <p:cNvSpPr/>
          <p:nvPr/>
        </p:nvSpPr>
        <p:spPr>
          <a:xfrm>
            <a:off x="5202720" y="632952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йман чер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6138000" y="388152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зкорылый крокоди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4" descr="гавиал"/>
          <p:cNvPicPr/>
          <p:nvPr/>
        </p:nvPicPr>
        <p:blipFill>
          <a:blip r:embed="rId4"/>
          <a:stretch/>
        </p:blipFill>
        <p:spPr>
          <a:xfrm>
            <a:off x="971640" y="4292640"/>
            <a:ext cx="2857320" cy="1962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5"/>
          <p:cNvSpPr/>
          <p:nvPr/>
        </p:nvSpPr>
        <p:spPr>
          <a:xfrm>
            <a:off x="2269800" y="64008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ви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2053800" y="3716280"/>
            <a:ext cx="30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виаловый крокоди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Turtle in the Pacific ocean video- Черепаха в Тихом Океане.mp4" descr=""/>
          <p:cNvPicPr/>
          <p:nvPr/>
        </p:nvPicPr>
        <p:blipFill>
          <a:blip r:embed="rId1"/>
          <a:stretch/>
        </p:blipFill>
        <p:spPr>
          <a:xfrm>
            <a:off x="507960" y="333360"/>
            <a:ext cx="812808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4000" y="14842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09 Мимолётная.mp3" descr=""/>
          <p:cNvPicPr/>
          <p:nvPr/>
        </p:nvPicPr>
        <p:blipFill>
          <a:blip r:embed="rId1"/>
          <a:stretch/>
        </p:blipFill>
        <p:spPr>
          <a:xfrm>
            <a:off x="8883720" y="6597720"/>
            <a:ext cx="2602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310996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1116000" y="1900080"/>
          <a:ext cx="7632720" cy="4500720"/>
        </p:xfrm>
        <a:graphic>
          <a:graphicData uri="http://schemas.openxmlformats.org/drawingml/2006/table">
            <a:tbl>
              <a:tblPr/>
              <a:tblGrid>
                <a:gridCol w="3816360"/>
                <a:gridCol w="3816360"/>
              </a:tblGrid>
              <a:tr h="1549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В природ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В жизни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1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начение пресмыкающих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1116000" y="1916280"/>
          <a:ext cx="7559640" cy="4640040"/>
        </p:xfrm>
        <a:graphic>
          <a:graphicData uri="http://schemas.openxmlformats.org/drawingml/2006/table">
            <a:tbl>
              <a:tblPr/>
              <a:tblGrid>
                <a:gridCol w="3743280"/>
                <a:gridCol w="3816360"/>
              </a:tblGrid>
              <a:tr h="1033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В природ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В жизни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1.Пресмыкающиес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входят в звенья пищевых цепе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2.регулируют численность других живых организмов в природ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1</a:t>
                      </a:r>
                      <a:r>
                        <a:rPr b="0" lang="ru-RU" sz="16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.Пресмыкающиеся уничтожают грызунов и насекомых вредящих челове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2.домашние живот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3.Мясо и кожа используется в хозяйстве челове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4.Из змеиного яда изготавливают лекарственные препар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5.Ядовитые укусы змей опасны для челове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9194d"/>
                          </a:solidFill>
                          <a:latin typeface="Arial"/>
                        </a:rPr>
                        <a:t>6.Пресмыкающиеся иногда вредят на бахчах и рыбных хозяйств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начение пресмыкающих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дкие нуждающиеся в охране пресмыкающиеся Ставропольского кр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180360" y="465300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глоголовка ушаст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" descr="E:\IMG_93131.jpg"/>
          <p:cNvPicPr/>
          <p:nvPr/>
        </p:nvPicPr>
        <p:blipFill>
          <a:blip r:embed="rId1"/>
          <a:stretch/>
        </p:blipFill>
        <p:spPr>
          <a:xfrm>
            <a:off x="468360" y="2781360"/>
            <a:ext cx="2473200" cy="1754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E:\veretenica-lomkaya-big.jpg"/>
          <p:cNvPicPr/>
          <p:nvPr/>
        </p:nvPicPr>
        <p:blipFill>
          <a:blip r:embed="rId2"/>
          <a:stretch/>
        </p:blipFill>
        <p:spPr>
          <a:xfrm>
            <a:off x="3132000" y="1628640"/>
            <a:ext cx="2687760" cy="20163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9"/>
          <p:cNvSpPr/>
          <p:nvPr/>
        </p:nvSpPr>
        <p:spPr>
          <a:xfrm>
            <a:off x="3140280" y="3789360"/>
            <a:ext cx="26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ретеница ломк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5" descr="E:\294.jpg"/>
          <p:cNvPicPr/>
          <p:nvPr/>
        </p:nvPicPr>
        <p:blipFill>
          <a:blip r:embed="rId3"/>
          <a:stretch/>
        </p:blipFill>
        <p:spPr>
          <a:xfrm>
            <a:off x="6227640" y="2349360"/>
            <a:ext cx="2659320" cy="18716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9"/>
          <p:cNvSpPr/>
          <p:nvPr/>
        </p:nvSpPr>
        <p:spPr>
          <a:xfrm>
            <a:off x="6154200" y="4292640"/>
            <a:ext cx="28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елтобрюхий поло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соответствие между отрядами пресмыкающихся и характерными для них признак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ит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: Крокод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: Черепа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: Ящер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: Зм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284720" y="1398240"/>
            <a:ext cx="3797280" cy="36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.Позвоночник, грудина, рёбра соединены с верхним щитом панцир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2.Хвост сжат с бок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Кожа покрыта чешуйк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4.Кожа покрыта роговыми щитк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5.Отсутствие зуб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6.Мощная челюсть с острыми зуб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7.Парные мускусные желез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8.Части тела втягиваются под панцир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9.Кожа покрыта роговыми чешуйками и щитк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0.Подвижное соединение головы и туловищ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1.Конечности отсутствую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2.Наличие   конечност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3.Раздвоенный язы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4.Сросшиеся ве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5.Плохо выражены отделы тел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16.Подвижные ве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мы узнал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ки пресмыкающихся – древние земновод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 включает четыре отря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дин отряд относятся животные, имеющие общие призна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ий вид животного отражает его приспособленность к среде об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роль в природе – компоненты пищевых цепей, хищники – регуляторы числ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инство подлежит охра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250920" y="404640"/>
            <a:ext cx="85327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9194d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19194d"/>
                </a:solidFill>
                <a:latin typeface="Arial"/>
              </a:rPr>
              <a:t>"Природу остановить нельзя: она - процесс, она - течение, перелив, движение. смотрите на нее как она есть, а она есть движение, дайте ей просмотр, смотрите на ее биографию, на историю ее развития - тогда только раскроется она в связи"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203480" y="879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355760" y="103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371600" y="220968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332000" y="198900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900000" y="2940120"/>
            <a:ext cx="705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авить кроссворд на тему: многообразие пресмыкающихся, подготовить сообщение о пресмыкающихся Ставропольского кра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умать , почему А.П.Чехов дал одному из своих рассказов название «Хамелеон»? В каком смысле употреблено это слово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Прямоугольник 8"/>
          <p:cNvSpPr/>
          <p:nvPr/>
        </p:nvSpPr>
        <p:spPr>
          <a:xfrm>
            <a:off x="1176480" y="1695600"/>
            <a:ext cx="523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§ 42-43, с.197-204 , вопросы с.204-2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ряды пресмыкающихся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репахи и крокодил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rcRect l="0" t="0" r="0" b="4937"/>
          <a:stretch/>
        </p:blipFill>
        <p:spPr>
          <a:xfrm>
            <a:off x="500040" y="1571760"/>
            <a:ext cx="84297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дактическ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формировать представления о многообразии  пресмыкающихся:отрядов черепах и крокодилов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зать многообразие современных пресмыкающихся, на различных примерах показать черты приспособленности животных к среде обитания; определить значение в природе, жизни человека и необходимость их охра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звивающие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ть умения работать с дополнительными источниками информации (находить необходимые сведения, составлять характеристику, сравнивать, обобщать знания), работать в малых групп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спитательные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ощрять любознательность, желание расширять и углублять знания по предме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4" descr=""/>
          <p:cNvPicPr/>
          <p:nvPr/>
        </p:nvPicPr>
        <p:blipFill>
          <a:blip r:embed="rId1"/>
          <a:stretch/>
        </p:blipFill>
        <p:spPr>
          <a:xfrm>
            <a:off x="1712880" y="-695160"/>
            <a:ext cx="5284800" cy="382896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2908440" y="595440"/>
            <a:ext cx="27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ласс Пресмыкающие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Рисунок 17" descr=""/>
          <p:cNvPicPr/>
          <p:nvPr/>
        </p:nvPicPr>
        <p:blipFill>
          <a:blip r:embed="rId2"/>
          <a:stretch/>
        </p:blipFill>
        <p:spPr>
          <a:xfrm>
            <a:off x="-60480" y="1584360"/>
            <a:ext cx="4503960" cy="3292560"/>
          </a:xfrm>
          <a:prstGeom prst="rect">
            <a:avLst/>
          </a:prstGeom>
          <a:ln w="0">
            <a:noFill/>
          </a:ln>
        </p:spPr>
      </p:pic>
      <p:sp>
        <p:nvSpPr>
          <p:cNvPr id="52" name="TextBox 18"/>
          <p:cNvSpPr/>
          <p:nvPr/>
        </p:nvSpPr>
        <p:spPr>
          <a:xfrm>
            <a:off x="701640" y="2619360"/>
            <a:ext cx="27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тряд Чешуйчат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Рисунок 19" descr=""/>
          <p:cNvPicPr/>
          <p:nvPr/>
        </p:nvPicPr>
        <p:blipFill>
          <a:blip r:embed="rId3"/>
          <a:stretch/>
        </p:blipFill>
        <p:spPr>
          <a:xfrm>
            <a:off x="1695600" y="3371760"/>
            <a:ext cx="4125600" cy="3029040"/>
          </a:xfrm>
          <a:prstGeom prst="rect">
            <a:avLst/>
          </a:prstGeom>
          <a:ln w="0">
            <a:noFill/>
          </a:ln>
        </p:spPr>
      </p:pic>
      <p:sp>
        <p:nvSpPr>
          <p:cNvPr id="54" name="TextBox 20"/>
          <p:cNvSpPr/>
          <p:nvPr/>
        </p:nvSpPr>
        <p:spPr>
          <a:xfrm>
            <a:off x="2516040" y="4548240"/>
            <a:ext cx="244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тряд Черепах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Рисунок 21" descr=""/>
          <p:cNvPicPr/>
          <p:nvPr/>
        </p:nvPicPr>
        <p:blipFill>
          <a:blip r:embed="rId4"/>
          <a:stretch/>
        </p:blipFill>
        <p:spPr>
          <a:xfrm>
            <a:off x="5334120" y="2852640"/>
            <a:ext cx="3949560" cy="2908440"/>
          </a:xfrm>
          <a:prstGeom prst="rect">
            <a:avLst/>
          </a:prstGeom>
          <a:ln w="0">
            <a:noFill/>
          </a:ln>
        </p:spPr>
      </p:pic>
      <p:sp>
        <p:nvSpPr>
          <p:cNvPr id="56" name="TextBox 22"/>
          <p:cNvSpPr/>
          <p:nvPr/>
        </p:nvSpPr>
        <p:spPr>
          <a:xfrm>
            <a:off x="6048360" y="3780000"/>
            <a:ext cx="22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тряд Крокоди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Рисунок 24" descr=""/>
          <p:cNvPicPr/>
          <p:nvPr/>
        </p:nvPicPr>
        <p:blipFill>
          <a:blip r:embed="rId5"/>
          <a:stretch/>
        </p:blipFill>
        <p:spPr>
          <a:xfrm>
            <a:off x="5151600" y="1268280"/>
            <a:ext cx="3962160" cy="2919600"/>
          </a:xfrm>
          <a:prstGeom prst="rect">
            <a:avLst/>
          </a:prstGeom>
          <a:ln w="0">
            <a:noFill/>
          </a:ln>
        </p:spPr>
      </p:pic>
      <p:sp>
        <p:nvSpPr>
          <p:cNvPr id="58" name="TextBox 25"/>
          <p:cNvSpPr/>
          <p:nvPr/>
        </p:nvSpPr>
        <p:spPr>
          <a:xfrm>
            <a:off x="5832360" y="2206800"/>
            <a:ext cx="232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тряд Клювогол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Прямая со стрелкой 10"/>
          <p:cNvCxnSpPr/>
          <p:nvPr/>
        </p:nvCxnSpPr>
        <p:spPr>
          <a:xfrm flipH="1">
            <a:off x="2907720" y="1989000"/>
            <a:ext cx="224280" cy="504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Прямая со стрелкой 31"/>
          <p:cNvCxnSpPr/>
          <p:nvPr/>
        </p:nvCxnSpPr>
        <p:spPr>
          <a:xfrm flipH="1">
            <a:off x="4236480" y="2165400"/>
            <a:ext cx="1080" cy="2031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Прямая со стрелкой 34"/>
          <p:cNvCxnSpPr/>
          <p:nvPr/>
        </p:nvCxnSpPr>
        <p:spPr>
          <a:xfrm>
            <a:off x="5670720" y="1684440"/>
            <a:ext cx="336600" cy="481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Прямая со стрелкой 37"/>
          <p:cNvCxnSpPr/>
          <p:nvPr/>
        </p:nvCxnSpPr>
        <p:spPr>
          <a:xfrm>
            <a:off x="5013000" y="2055960"/>
            <a:ext cx="568800" cy="1894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ерепах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143000" y="1285920"/>
            <a:ext cx="7543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Насчитывают около 300 видов современных черепах, группируемых в 12 семейств Места обитания черепах исключительно разнообразны — жаркие пустыни, тропические леса, горные склоны, озера, реки и болота, культурные земли, побережья морей и бескрайние просторы океан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rcRect l="1923" t="7692" r="57757" b="53848"/>
          <a:stretch/>
        </p:blipFill>
        <p:spPr>
          <a:xfrm>
            <a:off x="2700360" y="5143680"/>
            <a:ext cx="23972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rcRect l="21115" t="0" r="12599" b="4749"/>
          <a:stretch/>
        </p:blipFill>
        <p:spPr>
          <a:xfrm>
            <a:off x="5214960" y="214200"/>
            <a:ext cx="2716200" cy="5202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60480" y="115920"/>
            <a:ext cx="399564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ззубые хищ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убов 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убы черепахам заменяют острые роговые края челю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428760" y="1785960"/>
            <a:ext cx="3929040" cy="421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репах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хопутные                            Морские                                  Мор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сновод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Прямая со стрелкой 6"/>
          <p:cNvCxnSpPr/>
          <p:nvPr/>
        </p:nvCxnSpPr>
        <p:spPr>
          <a:xfrm>
            <a:off x="5795640" y="980640"/>
            <a:ext cx="1207080" cy="508680"/>
          </a:xfrm>
          <a:prstGeom prst="straightConnector1">
            <a:avLst/>
          </a:prstGeom>
          <a:ln w="648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5" name="Прямая со стрелкой 8"/>
          <p:cNvCxnSpPr/>
          <p:nvPr/>
        </p:nvCxnSpPr>
        <p:spPr>
          <a:xfrm flipH="1">
            <a:off x="2195280" y="877680"/>
            <a:ext cx="1224720" cy="503640"/>
          </a:xfrm>
          <a:prstGeom prst="straightConnector1">
            <a:avLst/>
          </a:prstGeom>
          <a:ln w="6480">
            <a:solidFill>
              <a:srgbClr val="bbe0e3"/>
            </a:solidFill>
            <a:miter/>
            <a:tailEnd len="med" type="arrow" w="med"/>
          </a:ln>
        </p:spPr>
      </p:cxnSp>
      <p:pic>
        <p:nvPicPr>
          <p:cNvPr id="76" name="Picture 3" descr=""/>
          <p:cNvPicPr/>
          <p:nvPr/>
        </p:nvPicPr>
        <p:blipFill>
          <a:blip r:embed="rId1"/>
          <a:srcRect l="0" t="7440" r="13933" b="0"/>
          <a:stretch/>
        </p:blipFill>
        <p:spPr>
          <a:xfrm>
            <a:off x="6000840" y="1785960"/>
            <a:ext cx="2894040" cy="2303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2"/>
          <a:srcRect l="5717" t="0" r="3178" b="0"/>
          <a:stretch/>
        </p:blipFill>
        <p:spPr>
          <a:xfrm>
            <a:off x="193680" y="1771560"/>
            <a:ext cx="2949480" cy="2165400"/>
          </a:xfrm>
          <a:prstGeom prst="rect">
            <a:avLst/>
          </a:prstGeom>
          <a:ln w="0">
            <a:noFill/>
          </a:ln>
        </p:spPr>
      </p:pic>
      <p:cxnSp>
        <p:nvCxnSpPr>
          <p:cNvPr id="78" name="Прямая со стрелкой 12"/>
          <p:cNvCxnSpPr/>
          <p:nvPr/>
        </p:nvCxnSpPr>
        <p:spPr>
          <a:xfrm>
            <a:off x="4624200" y="1130040"/>
            <a:ext cx="1080" cy="2299320"/>
          </a:xfrm>
          <a:prstGeom prst="straightConnector1">
            <a:avLst/>
          </a:prstGeom>
          <a:ln w="6480">
            <a:solidFill>
              <a:srgbClr val="bbe0e3"/>
            </a:solidFill>
            <a:miter/>
            <a:tailEnd len="med" type="arrow" w="med"/>
          </a:ln>
        </p:spPr>
      </p:cxnSp>
      <p:pic>
        <p:nvPicPr>
          <p:cNvPr id="79" name="Picture 7" descr=""/>
          <p:cNvPicPr/>
          <p:nvPr/>
        </p:nvPicPr>
        <p:blipFill>
          <a:blip r:embed="rId3"/>
          <a:stretch/>
        </p:blipFill>
        <p:spPr>
          <a:xfrm>
            <a:off x="2571840" y="4429080"/>
            <a:ext cx="350496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5:15:30Z</dcterms:created>
  <dc:creator>Виталий Аржанов</dc:creator>
  <dc:description/>
  <dc:language>en-US</dc:language>
  <cp:lastModifiedBy>Таня</cp:lastModifiedBy>
  <dcterms:modified xsi:type="dcterms:W3CDTF">2016-12-14T02:36:56Z</dcterms:modified>
  <cp:revision>56</cp:revision>
  <dc:subject/>
  <dc:title>Урок  виртуальное путешествие</dc:title>
</cp:coreProperties>
</file>