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8.png" ContentType="image/png"/>
  <Override PartName="/ppt/media/image14.jpeg" ContentType="image/jpeg"/>
  <Override PartName="/ppt/media/image41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16B-7143-43BB-B083-8FD55940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615-7EEB-4409-B75B-6F1EE9E3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276-7A08-4A9A-80C5-EFD23886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72C-81A3-4224-BAF6-85754375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115-C676-42E8-BA9C-6EEEF6FB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0ED-55F3-4729-88DA-EE67E5EF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A6E-A19F-4F23-84FF-3602120E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5A8-D42C-4B07-AFD6-8CD03080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FB1-EEF2-4F28-871E-84684BE8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080-ADBC-4130-B6F3-2959FCE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3B2-FDCF-4415-8B28-4FEE1D1A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47F-982B-4F45-ABBE-00E26CF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BA30-8589-4BF9-BB93-5720E89A5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мыкающиеся- это наземные животные, покрытые …….. чешуйками,  дышат  ячеистыми ………., сердце   …..камерное( исключение …………….), кругов кровообращения  …., в скелете появились  ……..и ………отделы. Оплодотворение  ……….  Размножаются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образие чере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ЛОГГЕРХЕД"/>
          <p:cNvPicPr/>
          <p:nvPr/>
        </p:nvPicPr>
        <p:blipFill>
          <a:blip r:embed="rId1"/>
          <a:stretch/>
        </p:blipFill>
        <p:spPr>
          <a:xfrm>
            <a:off x="1000080" y="1714680"/>
            <a:ext cx="2724120" cy="1666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024920" y="3376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герх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Семейство ЧЕРЕПАХИ КОЖИСТЫЕ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1943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6136560" y="35211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жист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621240" y="44578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пов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ЧЕРЕПАХА БОЛОТНАЯ ЕВРОПЕЙСКАЯ"/>
          <p:cNvPicPr/>
          <p:nvPr/>
        </p:nvPicPr>
        <p:blipFill>
          <a:blip r:embed="rId3"/>
          <a:stretch/>
        </p:blipFill>
        <p:spPr>
          <a:xfrm>
            <a:off x="826920" y="429264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8"/>
          <p:cNvSpPr/>
          <p:nvPr/>
        </p:nvSpPr>
        <p:spPr>
          <a:xfrm>
            <a:off x="951120" y="61848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0" descr="ЧЕРЕПАХА БУГОРЧАТАЯ"/>
          <p:cNvPicPr/>
          <p:nvPr/>
        </p:nvPicPr>
        <p:blipFill>
          <a:blip r:embed="rId4"/>
          <a:stretch/>
        </p:blipFill>
        <p:spPr>
          <a:xfrm>
            <a:off x="5219640" y="4869000"/>
            <a:ext cx="2857680" cy="1619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1"/>
          <p:cNvSpPr/>
          <p:nvPr/>
        </p:nvSpPr>
        <p:spPr>
          <a:xfrm>
            <a:off x="5724360" y="640080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горчат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Семейство ЧЕРЕПАХИ МОРСКИЕ"/>
          <p:cNvPicPr/>
          <p:nvPr/>
        </p:nvPicPr>
        <p:blipFill>
          <a:blip r:embed="rId5"/>
          <a:stretch/>
        </p:blipFill>
        <p:spPr>
          <a:xfrm>
            <a:off x="3276720" y="2349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Семейство ЧЕРЕПАХИ МОРСКИЕ"/>
          <p:cNvPicPr/>
          <p:nvPr/>
        </p:nvPicPr>
        <p:blipFill>
          <a:blip r:embed="rId6"/>
          <a:stretch/>
        </p:blipFill>
        <p:spPr>
          <a:xfrm>
            <a:off x="3286080" y="2286000"/>
            <a:ext cx="2857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6050402"/>
          <p:cNvPicPr/>
          <p:nvPr/>
        </p:nvPicPr>
        <p:blipFill>
          <a:blip r:embed="rId1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395280" y="5593320"/>
            <a:ext cx="81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хний ряд пресноводные череп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ний ряд – наземные череп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989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от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7188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ятнист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286680" y="20606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ллигаторо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7120" y="492912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нов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571920" y="50133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ластич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6786720" y="5000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ре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образие чере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ЧЕРЕПАХА ЗЕЛЁНАЯ"/>
          <p:cNvPicPr/>
          <p:nvPr/>
        </p:nvPicPr>
        <p:blipFill>
          <a:blip r:embed="rId1"/>
          <a:stretch/>
        </p:blipFill>
        <p:spPr>
          <a:xfrm>
            <a:off x="1116000" y="191628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526760" y="373680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ле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ЧЕРЕПАХА КАСПИЙСКАЯ"/>
          <p:cNvPicPr/>
          <p:nvPr/>
        </p:nvPicPr>
        <p:blipFill>
          <a:blip r:embed="rId2"/>
          <a:stretch/>
        </p:blipFill>
        <p:spPr>
          <a:xfrm>
            <a:off x="4643280" y="1989000"/>
            <a:ext cx="361656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5487840" y="40258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спийск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ЧЕРЕПАХА КОЛЮЧАЯ"/>
          <p:cNvPicPr/>
          <p:nvPr/>
        </p:nvPicPr>
        <p:blipFill>
          <a:blip r:embed="rId3"/>
          <a:stretch/>
        </p:blipFill>
        <p:spPr>
          <a:xfrm>
            <a:off x="971640" y="4292640"/>
            <a:ext cx="2354040" cy="2157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900360" y="64008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юч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" descr="ЧЕРЕПАХА ЛЕСНАЯ"/>
          <p:cNvPicPr/>
          <p:nvPr/>
        </p:nvPicPr>
        <p:blipFill>
          <a:blip r:embed="rId4"/>
          <a:stretch/>
        </p:blipFill>
        <p:spPr>
          <a:xfrm>
            <a:off x="4356000" y="4365720"/>
            <a:ext cx="2519640" cy="1888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6"/>
          <p:cNvSpPr/>
          <p:nvPr/>
        </p:nvSpPr>
        <p:spPr>
          <a:xfrm>
            <a:off x="4500000" y="630864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лоновая, или галапагосская, черепаха Chelonoidis (Geochelone) elephantopus"/>
          <p:cNvPicPr/>
          <p:nvPr/>
        </p:nvPicPr>
        <p:blipFill>
          <a:blip r:embed="rId1"/>
          <a:stretch/>
        </p:blipFill>
        <p:spPr>
          <a:xfrm>
            <a:off x="2771640" y="836640"/>
            <a:ext cx="424836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487840" y="1793880"/>
            <a:ext cx="22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26920" y="3429000"/>
            <a:ext cx="7777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лоновые черепахи обитают на островах Галапагосского архипелага. Известно 12 подвидов. Самцы обычно крупнее самок. Голова галапагосских черепах относительно маленькая, а шеи - дли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асса черепах, обитающих на больших островах, может достигать 200 кил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лина карапакса до 122 санти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емные черепа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фер-отличный землекоп .Живут в пуст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евосточная эластичная-неплохие скалолазы.Занесена в Красн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0" y="1000080"/>
            <a:ext cx="37432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Рисунок 4" descr="zoo-41.jpg"/>
          <p:cNvPicPr/>
          <p:nvPr/>
        </p:nvPicPr>
        <p:blipFill>
          <a:blip r:embed="rId2"/>
          <a:stretch/>
        </p:blipFill>
        <p:spPr>
          <a:xfrm>
            <a:off x="1071720" y="364320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сноводные черепа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пи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о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4" descr="Caspian turtle (Mauremys caspica rivulata), El-Al river.jpg"/>
          <p:cNvPicPr/>
          <p:nvPr/>
        </p:nvPicPr>
        <p:blipFill>
          <a:blip r:embed="rId1"/>
          <a:stretch/>
        </p:blipFill>
        <p:spPr>
          <a:xfrm>
            <a:off x="714240" y="1214280"/>
            <a:ext cx="3500640" cy="22147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88.jpg"/>
          <p:cNvPicPr/>
          <p:nvPr/>
        </p:nvPicPr>
        <p:blipFill>
          <a:blip r:embed="rId2"/>
          <a:stretch/>
        </p:blipFill>
        <p:spPr>
          <a:xfrm>
            <a:off x="1071720" y="3571920"/>
            <a:ext cx="3571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код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16000" y="1357200"/>
            <a:ext cx="75438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рокодилы занимают особое положение среди современных пресмыкающихся, будучи более близкими родственниками вымерших динозавров, которых пережили почти на 60 млн. лет, и современных птиц, чем других рептилий нашего времени. В мире насчитывается 25 видов крокоди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Ряд особенностей организации крокодилов, и в первую очередь совершенство нервной, кровеносной и дыхательной систем, позволяет считать их наиболее высокоорганизованными из всех ныне живущих пресмыкающих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новый-3"/>
          <p:cNvPicPr/>
          <p:nvPr/>
        </p:nvPicPr>
        <p:blipFill>
          <a:blip r:embed="rId1"/>
          <a:stretch/>
        </p:blipFill>
        <p:spPr>
          <a:xfrm>
            <a:off x="3132000" y="4581360"/>
            <a:ext cx="3000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диловы с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1143000"/>
            <a:ext cx="8643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легенда о том, что крокодил ест добычу и плачет по ней крокодиловыми слезами. На самом деле крокодилы плачут не от жалости. Дело в том, что у крокодилов есть специальные слезные железы, которые выводят избыточные соли из организма. Поэтому крокодиловы слезы – это всего лишь реакция организма, которая избавляет рептилию от избытка солей. Также солевые железы располагаются и на языке крокод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ебнисты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морской крокоди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крокодил в мире, мега-хищ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метров, вес 2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а  – это любая добыча, которую хищник может пой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Таня\Pictures\Гребнистый-крокодил-морской-крокодил-лат.-Crocodylus-porosus-768x458.jpg"/>
          <p:cNvPicPr/>
          <p:nvPr/>
        </p:nvPicPr>
        <p:blipFill>
          <a:blip r:embed="rId1"/>
          <a:stretch/>
        </p:blipFill>
        <p:spPr>
          <a:xfrm>
            <a:off x="357120" y="178596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льский крокод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4365720"/>
            <a:ext cx="776916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ильский крокодил достигает в длину до 5 метров (по некоторым сообщениям до 6 метров). Есть сведения, что нильские крокодилы, живущие в северных районах (южная Африка) достигают меньших размеров - до 4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Нильский крокодил (Crocodylus niloticus)"/>
          <p:cNvPicPr/>
          <p:nvPr/>
        </p:nvPicPr>
        <p:blipFill>
          <a:blip r:embed="rId1"/>
          <a:stretch/>
        </p:blipFill>
        <p:spPr>
          <a:xfrm>
            <a:off x="5076720" y="112536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новый-2"/>
          <p:cNvPicPr/>
          <p:nvPr/>
        </p:nvPicPr>
        <p:blipFill>
          <a:blip r:embed="rId2"/>
          <a:stretch/>
        </p:blipFill>
        <p:spPr>
          <a:xfrm>
            <a:off x="1116000" y="1125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ТЕСТ: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. Пресмыкающиеся произошли от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отилозавров;   Б) земноводных; В)рыб 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2. В связи с жизнью на суше у пресмыкающихся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А) тело покрыто сухой кожей с роговыми чешуйками;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Б) появляется кожное дыхание;  В) внутреннее оплодотворение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Г) имеется третье веко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3. Яйца пресмыкающихся покрыты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) известковой скорлупой;    Б) тонкой нежной оболочкой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В) кожистой оболочкой;      Г) не имеют оболочк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4. Температура тела пресмыкающихся зависит от 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температуры окружающей среды   Б) температуры крови;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В) регенерации;                 Г) выделитель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образие крокоди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крок гавиаловый"/>
          <p:cNvPicPr/>
          <p:nvPr/>
        </p:nvPicPr>
        <p:blipFill>
          <a:blip r:embed="rId1"/>
          <a:stretch/>
        </p:blipFill>
        <p:spPr>
          <a:xfrm>
            <a:off x="1116000" y="1773360"/>
            <a:ext cx="2857680" cy="194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острорылый"/>
          <p:cNvPicPr/>
          <p:nvPr/>
        </p:nvPicPr>
        <p:blipFill>
          <a:blip r:embed="rId2"/>
          <a:stretch/>
        </p:blipFill>
        <p:spPr>
          <a:xfrm>
            <a:off x="5580000" y="177336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кайман чёрный"/>
          <p:cNvPicPr/>
          <p:nvPr/>
        </p:nvPicPr>
        <p:blipFill>
          <a:blip r:embed="rId3"/>
          <a:stretch/>
        </p:blipFill>
        <p:spPr>
          <a:xfrm>
            <a:off x="5292720" y="4437000"/>
            <a:ext cx="2857680" cy="185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5202720" y="6329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йман че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138000" y="3881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корылый крокод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гавиал"/>
          <p:cNvPicPr/>
          <p:nvPr/>
        </p:nvPicPr>
        <p:blipFill>
          <a:blip r:embed="rId4"/>
          <a:stretch/>
        </p:blipFill>
        <p:spPr>
          <a:xfrm>
            <a:off x="971640" y="4292640"/>
            <a:ext cx="2857320" cy="1962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5"/>
          <p:cNvSpPr/>
          <p:nvPr/>
        </p:nvSpPr>
        <p:spPr>
          <a:xfrm>
            <a:off x="2269800" y="6400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в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2053800" y="3716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виаловый крокод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urtle in the Pacific ocean video- Черепаха в Тихом Океане.mp4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1280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09 Мимолётная.mp3" descr=""/>
          <p:cNvPicPr/>
          <p:nvPr/>
        </p:nvPicPr>
        <p:blipFill>
          <a:blip r:embed="rId1"/>
          <a:stretch/>
        </p:blipFill>
        <p:spPr>
          <a:xfrm>
            <a:off x="8883720" y="6597720"/>
            <a:ext cx="2602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1099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116000" y="1900080"/>
          <a:ext cx="7632720" cy="450072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54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жизн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ение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116000" y="1916280"/>
          <a:ext cx="7559640" cy="4640040"/>
        </p:xfrm>
        <a:graphic>
          <a:graphicData uri="http://schemas.openxmlformats.org/drawingml/2006/table">
            <a:tbl>
              <a:tblPr/>
              <a:tblGrid>
                <a:gridCol w="3743280"/>
                <a:gridCol w="381636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жизн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1.Пресмыкающие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ходят в звенья пищевых цеп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2.регулируют численность других живых организмов в приро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.Пресмыкающиеся уничтожают грызунов и насекомых вредящих челове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2.домашние живо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3.Мясо и кожа используется в хозяйстве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4.Из змеиного яда изготавливают лекарственные 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5.Ядовитые укусы змей опасны для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6.Пресмыкающиеся иногда вредят на бахчах и рыбных хозяйств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ение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кие нуждающиеся в охране пресмыкающиеся Ставрополь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80360" y="46530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оголовка уша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E:\IMG_93131.jpg"/>
          <p:cNvPicPr/>
          <p:nvPr/>
        </p:nvPicPr>
        <p:blipFill>
          <a:blip r:embed="rId1"/>
          <a:stretch/>
        </p:blipFill>
        <p:spPr>
          <a:xfrm>
            <a:off x="468360" y="2781360"/>
            <a:ext cx="2473200" cy="175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veretenica-lomkaya-big.jpg"/>
          <p:cNvPicPr/>
          <p:nvPr/>
        </p:nvPicPr>
        <p:blipFill>
          <a:blip r:embed="rId2"/>
          <a:stretch/>
        </p:blipFill>
        <p:spPr>
          <a:xfrm>
            <a:off x="3132000" y="1628640"/>
            <a:ext cx="2687760" cy="2016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3140280" y="378936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етеница лом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E:\294.jpg"/>
          <p:cNvPicPr/>
          <p:nvPr/>
        </p:nvPicPr>
        <p:blipFill>
          <a:blip r:embed="rId3"/>
          <a:stretch/>
        </p:blipFill>
        <p:spPr>
          <a:xfrm>
            <a:off x="6227640" y="2349360"/>
            <a:ext cx="2659320" cy="1871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6154200" y="429264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обрюхий пол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соответствие между отрядами пресмыкающихся и характерными для них при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окод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: Череп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Яще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: Зм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4720" y="1398240"/>
            <a:ext cx="379728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Позвоночник, грудина, рёбра соединены с верхним щитом панцир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Хвост сжат с бо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Кожа покрыта чешуй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Кожа покрыта роговыми щит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Отсутствие зуб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Мощная челюсть с острыми зуб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Парные мускусные желе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Части тела втягиваются под панцир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9.Кожа покрыта роговыми чешуйками и щит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0.Подвижное соединение головы и туловищ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.Конечности отсутствую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.Наличие   конечно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3.Раздвоенный язы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4.Сросшиеся в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Плохо выражены отделы т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6.Подвижные в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ки пресмыкающихся – древние земновод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включает четыре от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ин отряд относятся животные, имеющие общие при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животного отражает его приспособленность к среде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роль в природе – компоненты пищевых цепей, хищники – регуляторы чис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подлежит ох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920" y="404640"/>
            <a:ext cx="85327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19194d"/>
                </a:solidFill>
                <a:latin typeface="Arial"/>
              </a:rPr>
              <a:t>"Природу остановить нельзя: она - процесс, она - течение, перелив, движение. смотрите на нее как она есть, а она есть движение, дайте ей просмотр, смотрите на ее биографию, на историю ее развития - тогда только раскроется она в связи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71600" y="22096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332000" y="19890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900000" y="2940120"/>
            <a:ext cx="705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ть кроссворд на тему: многообразие пресмыкающихся, подготовить сообщение о пресмыкающихся Ставропольского кр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умать , почему А.П.Чехов дал одному из своих рассказов название «Хамелеон»? В каком смысле употреблено это слов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1176480" y="169560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§ 42-43, с.197-204 , вопросы с.204-2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яды пресмыкающихся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хи и крокоди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rcRect l="0" t="0" r="0" b="4937"/>
          <a:stretch/>
        </p:blipFill>
        <p:spPr>
          <a:xfrm>
            <a:off x="500040" y="1571760"/>
            <a:ext cx="8429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дактичес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ть представления о многообразии  пресмыкающихся:отрядов черепах и крокодило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ь многообразие современных пресмыкающихся, на различных примерах показать черты приспособленности животных к среде обитания; определить значение в природе, жизни человека и необходимость их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ющ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мения работать с дополнительными источниками информации (находить необходимые сведения, составлять характеристику, сравнивать, обобщать знания), работать в малых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ощрять любознательность, желание расширять и углублять знания по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1712880" y="-695160"/>
            <a:ext cx="528480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908440" y="5954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ласс Пресмыкающи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-60480" y="1584360"/>
            <a:ext cx="4503960" cy="3292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8"/>
          <p:cNvSpPr/>
          <p:nvPr/>
        </p:nvSpPr>
        <p:spPr>
          <a:xfrm>
            <a:off x="701640" y="26193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Чешуйча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19" descr=""/>
          <p:cNvPicPr/>
          <p:nvPr/>
        </p:nvPicPr>
        <p:blipFill>
          <a:blip r:embed="rId3"/>
          <a:stretch/>
        </p:blipFill>
        <p:spPr>
          <a:xfrm>
            <a:off x="1695600" y="3371760"/>
            <a:ext cx="4125600" cy="30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0"/>
          <p:cNvSpPr/>
          <p:nvPr/>
        </p:nvSpPr>
        <p:spPr>
          <a:xfrm>
            <a:off x="2516040" y="4548240"/>
            <a:ext cx="24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Череп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21" descr=""/>
          <p:cNvPicPr/>
          <p:nvPr/>
        </p:nvPicPr>
        <p:blipFill>
          <a:blip r:embed="rId4"/>
          <a:stretch/>
        </p:blipFill>
        <p:spPr>
          <a:xfrm>
            <a:off x="5334120" y="2852640"/>
            <a:ext cx="3949560" cy="2908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2"/>
          <p:cNvSpPr/>
          <p:nvPr/>
        </p:nvSpPr>
        <p:spPr>
          <a:xfrm>
            <a:off x="6048360" y="3780000"/>
            <a:ext cx="22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Крокоди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24" descr=""/>
          <p:cNvPicPr/>
          <p:nvPr/>
        </p:nvPicPr>
        <p:blipFill>
          <a:blip r:embed="rId5"/>
          <a:stretch/>
        </p:blipFill>
        <p:spPr>
          <a:xfrm>
            <a:off x="5151600" y="1268280"/>
            <a:ext cx="3962160" cy="2919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5"/>
          <p:cNvSpPr/>
          <p:nvPr/>
        </p:nvSpPr>
        <p:spPr>
          <a:xfrm>
            <a:off x="5832360" y="2206800"/>
            <a:ext cx="23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Клювогол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10"/>
          <p:cNvCxnSpPr/>
          <p:nvPr/>
        </p:nvCxnSpPr>
        <p:spPr>
          <a:xfrm flipH="1">
            <a:off x="2907720" y="1989000"/>
            <a:ext cx="2242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Прямая со стрелкой 31"/>
          <p:cNvCxnSpPr/>
          <p:nvPr/>
        </p:nvCxnSpPr>
        <p:spPr>
          <a:xfrm flipH="1">
            <a:off x="4236480" y="2165400"/>
            <a:ext cx="1080" cy="20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Прямая со стрелкой 34"/>
          <p:cNvCxnSpPr/>
          <p:nvPr/>
        </p:nvCxnSpPr>
        <p:spPr>
          <a:xfrm>
            <a:off x="5670720" y="1684440"/>
            <a:ext cx="336600" cy="481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Прямая со стрелкой 37"/>
          <p:cNvCxnSpPr/>
          <p:nvPr/>
        </p:nvCxnSpPr>
        <p:spPr>
          <a:xfrm>
            <a:off x="5013000" y="2055960"/>
            <a:ext cx="568800" cy="1894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3000" y="12859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асчитывают около 300 видов современных черепах, группируемых в 12 семейств Места обитания черепах исключительно разнообразны — жаркие пустыни, тропические леса, горные склоны, озера, реки и болота, культурные земли, побережья морей и бескрайние просторы оке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1923" t="7692" r="57757" b="53848"/>
          <a:stretch/>
        </p:blipFill>
        <p:spPr>
          <a:xfrm>
            <a:off x="2700360" y="5143680"/>
            <a:ext cx="239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21115" t="0" r="12599" b="4749"/>
          <a:stretch/>
        </p:blipFill>
        <p:spPr>
          <a:xfrm>
            <a:off x="5214960" y="214200"/>
            <a:ext cx="2716200" cy="520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0480" y="115920"/>
            <a:ext cx="39956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зубые хищ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ов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ы черепахам заменяют острые роговые края челю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21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х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опутные                            Морские                                  Мо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6"/>
          <p:cNvCxnSpPr/>
          <p:nvPr/>
        </p:nvCxnSpPr>
        <p:spPr>
          <a:xfrm>
            <a:off x="5795640" y="980640"/>
            <a:ext cx="1207080" cy="508680"/>
          </a:xfrm>
          <a:prstGeom prst="straightConnector1">
            <a:avLst/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5" name="Прямая со стрелкой 8"/>
          <p:cNvCxnSpPr/>
          <p:nvPr/>
        </p:nvCxnSpPr>
        <p:spPr>
          <a:xfrm flipH="1">
            <a:off x="2195280" y="877680"/>
            <a:ext cx="1224720" cy="503640"/>
          </a:xfrm>
          <a:prstGeom prst="straightConnector1">
            <a:avLst/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  <p:pic>
        <p:nvPicPr>
          <p:cNvPr id="76" name="Picture 3" descr=""/>
          <p:cNvPicPr/>
          <p:nvPr/>
        </p:nvPicPr>
        <p:blipFill>
          <a:blip r:embed="rId1"/>
          <a:srcRect l="0" t="7440" r="13933" b="0"/>
          <a:stretch/>
        </p:blipFill>
        <p:spPr>
          <a:xfrm>
            <a:off x="6000840" y="1785960"/>
            <a:ext cx="2894040" cy="230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rcRect l="5717" t="0" r="3178" b="0"/>
          <a:stretch/>
        </p:blipFill>
        <p:spPr>
          <a:xfrm>
            <a:off x="193680" y="1771560"/>
            <a:ext cx="2949480" cy="216540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12"/>
          <p:cNvCxnSpPr/>
          <p:nvPr/>
        </p:nvCxnSpPr>
        <p:spPr>
          <a:xfrm>
            <a:off x="4624200" y="1130040"/>
            <a:ext cx="1080" cy="2299320"/>
          </a:xfrm>
          <a:prstGeom prst="straightConnector1">
            <a:avLst/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2571840" y="4429080"/>
            <a:ext cx="35049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5:15:30Z</dcterms:created>
  <dc:creator>Виталий Аржанов</dc:creator>
  <dc:description/>
  <dc:language>en-US</dc:language>
  <cp:lastModifiedBy>Таня</cp:lastModifiedBy>
  <dcterms:modified xsi:type="dcterms:W3CDTF">2016-12-14T02:36:56Z</dcterms:modified>
  <cp:revision>56</cp:revision>
  <dc:subject/>
  <dc:title>Урок  виртуальное путешествие</dc:title>
</cp:coreProperties>
</file>