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ECA7-F9B6-477B-BDC2-256C68231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7B3F-08C4-412B-805C-CA276B7CD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91EF-E2C5-4FCB-A611-F91240937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65B1-133C-4722-9952-6210981F6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11EF-2CAE-4B79-B8D9-939D90920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07E7-9F05-43B3-8765-DC4539F0A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C96D-7CD3-47C4-95A4-1827716AB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EC16-2688-4C78-B7CA-6050EA522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CC09-3D5A-4E2C-8567-72A4BEB11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2714-62C0-4441-8091-F4AAEB36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B545-4F03-44F2-A705-9BD80B22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5158-AD0F-465D-A8C5-5A6C4A85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65339-442E-4A95-B1D2-AF60F0068B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00"/>
                </a:solidFill>
                <a:latin typeface="Comic Sans MS"/>
              </a:rPr>
              <a:t>Народные промысл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3640" y="5105520"/>
            <a:ext cx="8569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Comic Sans MS"/>
              </a:rPr>
              <a:t>Западная и Восточная Сибир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00"/>
                </a:solidFill>
                <a:latin typeface="Comic Sans MS"/>
              </a:rPr>
              <a:t>Пушной промысе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067280" y="1267920"/>
            <a:ext cx="5076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 значении пушного промысла в развитии Сибири XVII в. свидетельствует и сама символика ее герба из жалованной грамоты 1690 г.: два соболя, пронзенные двумя скрещивающимися стрелами и держащие в зубах "корону сибирского царства".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 пушного промысла в XVII в. началось развитие капиталистических отношений в Сибири.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аибольшую выгоду приносила добыча соболей.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362916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&amp;KHcy;&amp;ucy;&amp;dcy;&amp;ocy;&amp;zhcy;&amp;iecy;&amp;scy;&amp;tcy;&amp;vcy;&amp;iecy;&amp;ncy;&amp;ncy;&amp;ycy;&amp;iecy; &amp;icy;&amp;zcy;&amp;dcy;&amp;iecy;&amp;lcy;&amp;icy;&amp;yacy; &amp;icy;&amp;zcy; &amp;mcy;&amp;iecy;&amp;khcy;&amp;acy;, &amp;kcy;&amp;ocy;&amp;zhcy;&amp;icy; &amp;icy; &amp;scy;&amp;ucy;&amp;kcy;&amp;ncy;&amp;acy;. . (&amp;Ncy;. &amp;Icy;. &amp;Kcy;&amp;acy;&amp;pcy;&amp;lcy;&amp;acy;&amp;ncy;) 1983 &amp;Mcy;&amp;icy;&amp;tcy;&amp;lcy;&amp;yacy;&amp;ncy;&amp;scy;&amp;kcy;&amp;acy;&amp;yacy; &amp;Tcy;.&amp;Bcy;. - &amp;Scy;&amp;iecy;&amp;lcy;&amp;softcy;&amp;scy;&amp;kcy;&amp;ocy;&amp;mcy;&amp;ucy; &amp;ucy;&amp;chcy;&amp;icy;&amp;tcy;&amp;iecy;&amp;lcy;&amp;yucy; &amp;ocy; &amp;ncy;&amp;acy;&amp;rcy;&amp;ocy;&amp;dcy;&amp;ncy;&amp;ycy;&amp;khcy; &amp;khcy;&amp;ucy;&amp;dcy;&amp;ocy;&amp;zhcy;&amp;iecy;&amp;scy;&amp;tcy;&amp;vcy;&amp;iecy;&amp;ncy;&amp;ncy;&amp;ycy;"/>
          <p:cNvPicPr/>
          <p:nvPr/>
        </p:nvPicPr>
        <p:blipFill>
          <a:blip r:embed="rId2"/>
          <a:stretch/>
        </p:blipFill>
        <p:spPr>
          <a:xfrm>
            <a:off x="0" y="549360"/>
            <a:ext cx="4610160" cy="6308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&amp;Ncy;&amp;acy;&amp;rcy;&amp;ocy;&amp;dcy;&amp;ncy;&amp;ycy;&amp;iecy; &amp;khcy;&amp;ucy;&amp;dcy;&amp;ocy;&amp;zhcy;&amp;iecy;&amp;scy;&amp;tcy;&amp;vcy;&amp;iecy;&amp;ncy;&amp;ncy;&amp;ycy;&amp;iecy; &amp;pcy;&amp;rcy;&amp;ocy;&amp;mcy;&amp;ycy;&amp;scy;&amp;lcy;&amp;ycy;. . &amp;Ncy;&amp;acy;&amp;rcy;&amp;ocy;&amp;dcy;&amp;ncy;&amp;ycy;&amp;iecy; &amp;pcy;&amp;rcy;&amp;ocy;&amp;mcy;&amp;ycy;&amp;scy;&amp;lcy;&amp;ycy; &amp;icy; &amp;rcy;&amp;iecy;&amp;mcy;&amp;iecy;&amp;scy;&amp;lcy;&amp;acy;. . &amp;Pcy;&amp;acy;&amp;lcy;&amp;acy;&amp;tcy;&amp;acy; &amp;rcy;&amp;iecy;&amp;mcy;&amp;iecy;&amp;scy;&amp;iecy;&amp;lcy;"/>
          <p:cNvPicPr/>
          <p:nvPr/>
        </p:nvPicPr>
        <p:blipFill>
          <a:blip r:embed="rId3"/>
          <a:stretch/>
        </p:blipFill>
        <p:spPr>
          <a:xfrm>
            <a:off x="4546440" y="0"/>
            <a:ext cx="459756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Кочевой и охотничий в прошлом образ жизни определил стремление к художественному оформлению охотничьей одежды и предметов охотничьего снаряжения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2852640"/>
            <a:ext cx="9144000" cy="38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2. &amp;rcy;&amp;ocy;&amp;dcy; &amp;vcy;&amp;zcy;&amp;vcy;, &amp;Vcy;&amp;icy;&amp;dcy;&amp;iecy;&amp;ocy;&amp;kcy;&amp;acy;&amp;ncy;&amp;acy;&amp;lcy;, &amp;Pcy;&amp;rcy;&amp;acy;&amp;vcy;&amp;dcy;&amp;icy;&amp;ncy;&amp;fcy;&amp;ocy;&amp;rcy;&amp;mcy;"/>
          <p:cNvPicPr/>
          <p:nvPr/>
        </p:nvPicPr>
        <p:blipFill>
          <a:blip r:embed="rId2"/>
          <a:stretch/>
        </p:blipFill>
        <p:spPr>
          <a:xfrm>
            <a:off x="4788000" y="4959360"/>
            <a:ext cx="2736720" cy="18986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0000"/>
                </a:solidFill>
                <a:latin typeface="Comic Sans MS"/>
              </a:rPr>
              <a:t>Резьба по дерев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0" y="14130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чти у всех коренных народов Сибири была распространена резьба по дереву. Резьбой украшалась посуда, деревянные предметы домашнего обихода у якутов, буря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&amp;Kcy;&amp;ocy;&amp;mcy;&amp;mcy;&amp;iecy;&amp;rcy;&amp;chcy;&amp;iecy;&amp;scy;&amp;kcy;&amp;acy;&amp;yacy; &amp;ncy;&amp;iecy;&amp;dcy;&amp;vcy;&amp;icy;&amp;zhcy;&amp;icy;&amp;mcy;&amp;ocy;&amp;scy;&amp;tcy;&amp;softcy; &amp;vcy; &amp;Scy;&amp;acy;&amp;ncy;&amp;kcy;&amp;tcy;-&amp;Pcy;&amp;iecy;&amp;tcy;&amp;iecy;&amp;rcy;&amp;bcy;&amp;ucy;&amp;rcy;&amp;gcy;&amp;iecy;, &amp;ocy;&amp;bcy;&amp;hardcy;&amp;yacy;&amp;vcy;&amp;lcy;&amp;iecy;&amp;ncy;&amp;icy;&amp;yacy; &amp;pcy;&amp;rcy;&amp;ocy;…"/>
          <p:cNvPicPr/>
          <p:nvPr/>
        </p:nvPicPr>
        <p:blipFill>
          <a:blip r:embed="rId3"/>
          <a:stretch/>
        </p:blipFill>
        <p:spPr>
          <a:xfrm>
            <a:off x="0" y="3267000"/>
            <a:ext cx="4788000" cy="3591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&amp;Rcy;&amp;iecy;&amp;zcy;&amp;softcy;&amp;bcy;&amp;acy; &amp;pcy;&amp;ocy; &amp;dcy;&amp;iecy;&amp;rcy;&amp;iecy;&amp;vcy;&amp;ucy; .RU: &amp;Icy;&amp;ncy;&amp;fcy;&amp;ocy;&amp;rcy;&amp;mcy;&amp;acy;&amp;tscy;&amp;icy;&amp;yacy; / &amp;Rcy;&amp;ycy;&amp;scy;&amp;iecy;&amp;vcy; &amp;Vcy;&amp;icy;&amp;kcy;&amp;tcy;&amp;ocy;&amp;rcy;"/>
          <p:cNvPicPr/>
          <p:nvPr/>
        </p:nvPicPr>
        <p:blipFill>
          <a:blip r:embed="rId4"/>
          <a:stretch/>
        </p:blipFill>
        <p:spPr>
          <a:xfrm>
            <a:off x="7275600" y="3284640"/>
            <a:ext cx="1868400" cy="3573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&amp;Rcy;&amp;iecy;&amp;zcy;&amp;softcy;&amp;bcy;&amp;acy; &amp;pcy;&amp;ocy; &amp;dcy;&amp;iecy;&amp;rcy;&amp;iecy;&amp;vcy;&amp;ucy; .RU: &amp;Icy;&amp;ncy;&amp;fcy;&amp;ocy;&amp;rcy;&amp;mcy;&amp;acy;&amp;tscy;&amp;icy;&amp;yacy; / &amp;Rcy;&amp;ycy;&amp;scy;&amp;iecy;&amp;vcy; &amp;Vcy;&amp;icy;&amp;kcy;&amp;tcy;&amp;ocy;&amp;rcy;"/>
          <p:cNvPicPr/>
          <p:nvPr/>
        </p:nvPicPr>
        <p:blipFill>
          <a:blip r:embed="rId5"/>
          <a:stretch/>
        </p:blipFill>
        <p:spPr>
          <a:xfrm>
            <a:off x="4788000" y="3284640"/>
            <a:ext cx="252072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0000"/>
                </a:solidFill>
                <a:latin typeface="Comic Sans MS"/>
              </a:rPr>
              <a:t>Резьба по кост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5724000" y="1916280"/>
            <a:ext cx="3419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ревним искусством сибиряков является резьба по мамонтовой кости, а так же по кости других живот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&amp;rcy;&amp;iecy;&amp;zcy;&amp;softcy;&amp;bcy;&amp;acy; &amp;pcy;&amp;ocy; &amp;kcy;&amp;ocy;&amp;scy;&amp;tcy;&amp;icy; &amp;Pcy;&amp;lcy;&amp;acy;&amp;scy;&amp;tcy;&amp;icy;&amp;lcy;&amp;icy;&amp;ncy;&amp;ocy;&amp;vcy;&amp;ycy;&amp;iecy; &amp;mcy;&amp;ucy;&amp;lcy;&amp;softcy;&amp;tcy;&amp;fcy;&amp;icy;&amp;lcy;&amp;softcy;&amp;mcy;&amp;ycy; &amp;icy; &amp;kcy;&amp;ocy;&amp;mcy;&amp;icy;&amp;kcy;&amp;scy;&amp;ycy;"/>
          <p:cNvPicPr/>
          <p:nvPr/>
        </p:nvPicPr>
        <p:blipFill>
          <a:blip r:embed="rId2"/>
          <a:stretch/>
        </p:blipFill>
        <p:spPr>
          <a:xfrm>
            <a:off x="0" y="1190520"/>
            <a:ext cx="571500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0000"/>
                </a:solidFill>
                <a:latin typeface="Comic Sans MS"/>
              </a:rPr>
              <a:t>Ткачеств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5508720" y="1412640"/>
            <a:ext cx="363528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олсты разных сортов и добротности выделывали повсеместно. Современники отмечают высокое качество холста рубашечного: тонок, чрезвычайно плотен, ровен, не шероховат, на цвет белоснежен, на ощупь мягок, как шелк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&amp;Scy;&amp;acy;&amp;mcy;&amp;ocy;&amp;dcy;&amp;iecy;&amp;lcy;&amp;softcy;&amp;ncy;&amp;ycy;&amp;iecy; - &amp;Scy;&amp;acy;&amp;mcy;&amp;ocy;&amp;dcy;&amp;iecy;&amp;lcy;&amp;softcy;&amp;ncy;&amp;ycy;&amp;iecy;"/>
          <p:cNvPicPr/>
          <p:nvPr/>
        </p:nvPicPr>
        <p:blipFill>
          <a:blip r:embed="rId2"/>
          <a:stretch/>
        </p:blipFill>
        <p:spPr>
          <a:xfrm>
            <a:off x="0" y="1989000"/>
            <a:ext cx="552456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родное творчество мастериц-рукодельниц проявилось в создании так называемых пестрядей и узорных браней с многообразным цветовым рисунк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24000" y="1268280"/>
            <a:ext cx="857232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енщины-крестьянки изготовляли домашним способом одежду. И мужские и женские костюмы украшались вышивкой, аппликацией на одежде и обуви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&amp;Ocy;&amp;tcy;&amp;vcy;&amp;iecy;&amp;tcy;&amp;ycy;@Mail.Ru: &amp;pcy;&amp;ocy;&amp;zhcy;&amp;acy;&amp;lcy;&amp;ucy;&amp;jcy;&amp;scy;&amp;tcy;&amp;acy; &amp;pcy;&amp;ocy;&amp;dcy;&amp;scy;&amp;kcy;&amp;acy;&amp;zhcy;&amp;icy;&amp;tcy;&amp;iecy;!) ) &amp;kcy;&amp;acy;&amp;kcy; &amp;ncy;&amp;acy;&amp;zcy;&amp;ycy;&amp;vcy;&amp;acy;&amp;iecy;&amp;tcy;&amp;scy;&amp;yacy; &amp;mcy;&amp;iecy;&amp;khcy;&amp;ocy;&amp;vcy;&amp;acy;&amp;yacy; &amp;ocy;&amp;bcy;&amp;ucy;&amp;vcy;&amp;icy; &amp;vcy; &amp;Scy;&amp;icy;&amp;bcy;&amp;icy;&amp;rcy;&amp;icy;?"/>
          <p:cNvPicPr/>
          <p:nvPr/>
        </p:nvPicPr>
        <p:blipFill>
          <a:blip r:embed="rId2"/>
          <a:stretch/>
        </p:blipFill>
        <p:spPr>
          <a:xfrm>
            <a:off x="0" y="2411280"/>
            <a:ext cx="5651640" cy="4446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&amp;Pcy;&amp;rcy;&amp;iecy;&amp;zcy;&amp;iecy;&amp;ncy;&amp;tcy;&amp;acy;&amp;tscy;&amp;icy;&amp;yacy; &amp;ncy;&amp;acy;&amp;rcy;&amp;ocy;&amp;dcy;&amp;ncy;&amp;ocy;&amp;gcy;&amp;ocy; &amp;kcy;&amp;ocy;&amp;scy;&amp;tcy;&amp;yucy;&amp;mcy;&amp;acy; &amp;rcy;&amp;ocy;&amp;scy;&amp;scy;&amp;icy;&amp;icy; &amp;scy;&amp;icy;&amp;bcy;&amp;icy;&amp;rcy;&amp;softcy;"/>
          <p:cNvPicPr/>
          <p:nvPr/>
        </p:nvPicPr>
        <p:blipFill>
          <a:blip r:embed="rId3"/>
          <a:stretch/>
        </p:blipFill>
        <p:spPr>
          <a:xfrm>
            <a:off x="5222880" y="1628640"/>
            <a:ext cx="392112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4356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ппликацией украшались и войлочные ковры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2739960"/>
            <a:ext cx="4140360" cy="41180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3492360" y="3357720"/>
            <a:ext cx="5651640" cy="3500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4140360" y="0"/>
            <a:ext cx="500364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&amp;Vcy;&amp;acy;&amp;lcy;&amp;iecy;&amp;ncy;&amp;kcy;&amp;icy;, &amp;vcy;&amp;acy;&amp;lcy;&amp;iecy;&amp;ncy;&amp;kcy;&amp;icy;. &amp;Dcy;&amp;ncy;&amp;iecy;&amp;vcy;&amp;ncy;&amp;icy;&amp;kcy; &amp;gcy;&amp;rcy;&amp;ucy;&amp;pcy;&amp;pcy;&amp;ycy; &quot;&quot;&amp;Lcy;&amp;acy;&amp;rcy;&amp;iecy;&amp;tscy;&quot;&quot; - &amp;Scy;&amp;tcy;&amp;rcy;&amp;acy;&amp;ncy;&amp;acy; &amp;Mcy;&amp;acy;&amp;mcy;"/>
          <p:cNvPicPr/>
          <p:nvPr/>
        </p:nvPicPr>
        <p:blipFill>
          <a:blip r:embed="rId2"/>
          <a:stretch/>
        </p:blipFill>
        <p:spPr>
          <a:xfrm>
            <a:off x="3132000" y="0"/>
            <a:ext cx="6012000" cy="45086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&amp;Rcy;&amp;Icy;&amp;Acy; &amp;Ncy;&amp;ocy;&amp;vcy;&amp;ocy;&amp;scy;&amp;tcy;&amp;icy; : &amp;Ocy;&amp;bcy;&amp;shchcy;&amp;iecy;&amp;scy;&amp;tcy;&amp;vcy;&amp;ocy; - &amp;ncy;&amp;ocy;&amp;vcy;&amp;ocy;&amp;scy;&amp;tcy;&amp;icy; Wikidigger"/>
          <p:cNvPicPr/>
          <p:nvPr/>
        </p:nvPicPr>
        <p:blipFill>
          <a:blip r:embed="rId3"/>
          <a:stretch/>
        </p:blipFill>
        <p:spPr>
          <a:xfrm>
            <a:off x="0" y="3168720"/>
            <a:ext cx="5508720" cy="36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http://doc4web.ru/images/59/59304/640/img0.jpg"/>
          <p:cNvPicPr/>
          <p:nvPr/>
        </p:nvPicPr>
        <p:blipFill>
          <a:blip r:embed="rId2"/>
          <a:stretch/>
        </p:blipFill>
        <p:spPr>
          <a:xfrm>
            <a:off x="395280" y="333360"/>
            <a:ext cx="83520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14836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Comic Sans MS"/>
              </a:rPr>
              <a:t>Изделия из кож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&amp;Icy;&amp;ncy;&amp;tcy;&amp;iecy;&amp;rcy;&amp;ncy;&amp;iecy;&amp;tcy;-&amp;mcy;&amp;acy;&amp;gcy;&amp;acy;&amp;zcy;&amp;icy;&amp;ncy; &amp;scy;&amp;icy;&amp;bcy;&amp;icy;&amp;rcy;&amp;scy;&amp;kcy;&amp;ocy;&amp;gcy;&amp;ocy; &amp;ecy;&amp;tcy;&amp;ncy;&amp;icy;&amp;chcy;&amp;iecy;&amp;scy;&amp;kcy;&amp;ocy;&amp;gcy;&amp;ocy; &amp;icy;&amp;scy;&amp;kcy;&amp;ucy;&amp;scy;&amp;scy;&amp;tcy;&amp;vcy;&amp;acy; - &amp;mcy;&amp;ocy;&amp;ncy;&amp;gcy;&amp;ocy;&amp;lcy;&amp;softcy;&amp;scy;&amp;kcy;&amp;acy;&amp;yacy; &amp;scy;&amp;ucy;&amp;mcy;&amp;ocy;&amp;chcy;&amp;kcy;&amp;acy; &amp;icy;&amp;zcy; &amp;kcy;&amp;ocy;&amp;zhcy;&amp;icy;, mongolian souvenir"/>
          <p:cNvPicPr/>
          <p:nvPr/>
        </p:nvPicPr>
        <p:blipFill>
          <a:blip r:embed="rId2"/>
          <a:stretch/>
        </p:blipFill>
        <p:spPr>
          <a:xfrm>
            <a:off x="5521320" y="0"/>
            <a:ext cx="3622680" cy="42926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&amp;Bcy;&amp;rcy;&amp;acy;&amp;scy;&amp;lcy;&amp;iecy;&amp;tcy; &amp;icy;&amp;zcy; &amp;kcy;&amp;ocy;&amp;zhcy;&amp;icy;"/>
          <p:cNvPicPr/>
          <p:nvPr/>
        </p:nvPicPr>
        <p:blipFill>
          <a:blip r:embed="rId3"/>
          <a:stretch/>
        </p:blipFill>
        <p:spPr>
          <a:xfrm>
            <a:off x="5580000" y="4327560"/>
            <a:ext cx="3564000" cy="25304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&amp;Vcy; &amp;Icy;&amp;rcy;&amp;kcy;&amp;ucy;&amp;tcy;&amp;scy;&amp;kcy;&amp;iecy; &amp;ocy;&amp;tcy;&amp;kcy;&amp;rcy;&amp;ocy;&amp;iecy;&amp;tcy;&amp;scy;&amp;yacy; &amp;Mcy;&amp;ocy;&amp;ncy;&amp;gcy;&amp;ocy;&amp;lcy;&amp;softcy;&amp;scy;&amp;kcy;&amp;icy;&amp;jcy; &amp;tcy;&amp;ocy;&amp;rcy;&amp;gcy;&amp;ocy;&amp;vcy;&amp;ycy;&amp;jcy; &amp;dcy;&amp;ocy;&amp;mcy;"/>
          <p:cNvPicPr/>
          <p:nvPr/>
        </p:nvPicPr>
        <p:blipFill>
          <a:blip r:embed="rId4"/>
          <a:stretch/>
        </p:blipFill>
        <p:spPr>
          <a:xfrm>
            <a:off x="0" y="2401920"/>
            <a:ext cx="594036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38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a50021"/>
                </a:solidFill>
                <a:latin typeface="Comic Sans MS"/>
              </a:rPr>
              <a:t>Спасибо за</a:t>
            </a:r>
            <a:br>
              <a:rPr sz="10600"/>
            </a:br>
            <a:br>
              <a:rPr sz="10600"/>
            </a:br>
            <a:r>
              <a:rPr b="1" lang="en-US" sz="10600" spc="-1" strike="noStrike">
                <a:solidFill>
                  <a:srgbClr val="a50021"/>
                </a:solidFill>
                <a:latin typeface="Comic Sans MS"/>
              </a:rPr>
              <a:t> внимание!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979640" y="2781360"/>
            <a:ext cx="5256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993300"/>
                  </a:solidFill>
                  <a:miter/>
                </a:ln>
                <a:solidFill>
                  <a:srgbClr val="000099">
                    <a:alpha val="81000"/>
                  </a:srgbClr>
                </a:solidFill>
                <a:latin typeface="Impact"/>
              </a:rPr>
              <a:t>Спасибо за внимание!</a:t>
            </a:r>
            <a:endParaRPr b="0" lang="en-US" sz="1800" spc="1" strike="noStrike">
              <a:ln w="31680">
                <a:solidFill>
                  <a:srgbClr val="993300"/>
                </a:solidFill>
                <a:miter/>
              </a:ln>
              <a:solidFill>
                <a:srgbClr val="000099">
                  <a:alpha val="81000"/>
                </a:srgbClr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&amp;Ucy;&amp;rcy;&amp;acy;&amp;lcy;&amp;ocy;-&amp;scy;&amp;icy;&amp;bcy;&amp;icy;&amp;rcy;&amp;scy;&amp;kcy;&amp;acy;&amp;yacy; &amp;rcy;&amp;ocy;&amp;scy;&amp;pcy;&amp;icy;&amp;scy;&amp;softcy; - &amp;YAcy;&amp;rcy;&amp;mcy;&amp;acy;&amp;rcy;&amp;kcy;&amp;acy; &amp;Mcy;&amp;acy;&amp;scy;&amp;tcy;&amp;iecy;&amp;rcy;&amp;ocy;&amp;vcy; - &amp;rcy;&amp;ucy;&amp;chcy;&amp;ncy;&amp;acy;&amp;yacy; &amp;rcy;&amp;acy;&amp;bcy;&amp;ocy;&amp;tcy;&amp;acy;, …"/>
          <p:cNvPicPr/>
          <p:nvPr/>
        </p:nvPicPr>
        <p:blipFill>
          <a:blip r:embed="rId2"/>
          <a:stretch/>
        </p:blipFill>
        <p:spPr>
          <a:xfrm>
            <a:off x="755640" y="0"/>
            <a:ext cx="3419640" cy="2565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&amp;Ucy;&amp;rcy;&amp;acy;&amp;lcy;&amp;ocy; - &amp;scy;&amp;icy;&amp;bcy;&amp;icy;&amp;rcy;&amp;scy;&amp;kcy;&amp;acy;&amp;yacy; &amp;icy; &amp;tcy;&amp;yucy;&amp;mcy;&amp;iecy;&amp;ncy;&amp;scy;&amp;kcy;&amp;icy;&amp;yacy; &amp;dcy;&amp;ocy;&amp;mcy;&amp;ocy;&amp;vcy;&amp;acy;&amp;yacy; &amp;rcy;&amp;ocy;&amp;scy;&amp;pcy;&amp;icy;&amp;scy;&amp;softcy;"/>
          <p:cNvPicPr/>
          <p:nvPr/>
        </p:nvPicPr>
        <p:blipFill>
          <a:blip r:embed="rId3"/>
          <a:stretch/>
        </p:blipFill>
        <p:spPr>
          <a:xfrm>
            <a:off x="4940280" y="0"/>
            <a:ext cx="4203720" cy="4365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&amp;TScy;&amp;vcy;&amp;iecy;&amp;tcy;&amp;ucy;&amp;shchcy;&amp;iecy;&amp;iecy; &amp;dcy;&amp;rcy;&amp;iecy;&amp;vcy;&amp;ocy; / &amp;Acy;&amp;fcy;&amp;icy;&amp;shcy;&amp;acy; &amp;scy;&amp;ocy;&amp;bcy;&amp;ycy;&amp;tcy;&amp;icy;&amp;jcy; &amp;Bcy;&amp;acy;&amp;rcy;&amp;ncy;&amp;acy;&amp;ucy;&amp;lcy;&amp;acy; / &amp;Dcy;&amp;ocy;&amp;scy;&amp;ucy;&amp;gcy;"/>
          <p:cNvPicPr/>
          <p:nvPr/>
        </p:nvPicPr>
        <p:blipFill>
          <a:blip r:embed="rId4"/>
          <a:stretch/>
        </p:blipFill>
        <p:spPr>
          <a:xfrm>
            <a:off x="4788000" y="4406760"/>
            <a:ext cx="4356000" cy="2451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&amp;Fcy;&amp;ocy;&amp;tcy;&amp;ocy; - &amp;Ucy;&amp;rcy;&amp;acy;&amp;lcy;&amp;ocy;-&amp;Scy;&amp;icy;&amp;bcy;&amp;icy;&amp;rcy;&amp;scy;&amp;kcy;&amp;acy;&amp;yacy; &amp;rcy;&amp;ocy;&amp;scy;&amp;pcy;&amp;icy;&amp;scy;&amp;softcy;"/>
          <p:cNvPicPr/>
          <p:nvPr/>
        </p:nvPicPr>
        <p:blipFill>
          <a:blip r:embed="rId5"/>
          <a:stretch/>
        </p:blipFill>
        <p:spPr>
          <a:xfrm>
            <a:off x="0" y="2206800"/>
            <a:ext cx="4932360" cy="46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7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4800" spc="-1" strike="noStrike">
                <a:solidFill>
                  <a:srgbClr val="990000"/>
                </a:solidFill>
                <a:latin typeface="Comic Sans MS"/>
              </a:rPr>
              <a:t>   </a:t>
            </a:r>
            <a:r>
              <a:rPr b="1" lang="ru-RU" sz="4800" spc="-1" strike="noStrike">
                <a:solidFill>
                  <a:srgbClr val="990000"/>
                </a:solidFill>
                <a:latin typeface="Comic Sans MS"/>
              </a:rPr>
              <a:t>Плетение из бересты.</a:t>
            </a:r>
            <a:br>
              <a:rPr sz="48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народном быту широко применяли традиционные берестяные изделия: туески, или бураки, набирушки, лукошки, заплечники, сумки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3284640"/>
            <a:ext cx="4500720" cy="3573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708360" y="2781360"/>
            <a:ext cx="54356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29240" cy="3610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3"/>
          <p:cNvPicPr/>
          <p:nvPr/>
        </p:nvPicPr>
        <p:blipFill>
          <a:blip r:embed="rId3"/>
          <a:stretch/>
        </p:blipFill>
        <p:spPr>
          <a:xfrm>
            <a:off x="4067280" y="3629160"/>
            <a:ext cx="5076720" cy="3228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803_2"/>
          <p:cNvPicPr/>
          <p:nvPr/>
        </p:nvPicPr>
        <p:blipFill>
          <a:blip r:embed="rId4"/>
          <a:stretch/>
        </p:blipFill>
        <p:spPr>
          <a:xfrm>
            <a:off x="0" y="3639960"/>
            <a:ext cx="4500720" cy="3218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4643280" y="0"/>
            <a:ext cx="450072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07672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990000"/>
                </a:solidFill>
                <a:latin typeface="Comic Sans MS"/>
              </a:rPr>
              <a:t>Плетени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076720" y="259920"/>
            <a:ext cx="406728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лели различные необходимые в быту изделия из всего, что попадалось под руки: из коры деревьев, из гибких ветвей, из кожи животных, позже пошли в ход веревки, пенька и многое-многое другое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громной популярностью пользовались плетеные корзины, плетеная мебель, плетеные коляски для кукол и детей и многое-многое другое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&amp;Lcy;&amp;acy;&amp;pcy;&amp;tcy;&amp;icy;"/>
          <p:cNvPicPr/>
          <p:nvPr/>
        </p:nvPicPr>
        <p:blipFill>
          <a:blip r:embed="rId2"/>
          <a:stretch/>
        </p:blipFill>
        <p:spPr>
          <a:xfrm>
            <a:off x="324000" y="1197000"/>
            <a:ext cx="450036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&amp;Pcy;&amp;lcy;&amp;iecy;&amp;tcy;&amp;iecy;&amp;ncy;&amp;acy;&amp;yacy; &amp;mcy;&amp;iecy;&amp;bcy;&amp;iecy;&amp;lcy;&amp;softcy; &amp;vcy; &amp;icy;&amp;ncy;&amp;tcy;&amp;iecy;&amp;rcy;&amp;softcy;&amp;iecy;&amp;rcy;&amp;iecy; &amp;gcy;&amp;ocy;&amp;scy;&amp;tcy;&amp;icy;&amp;ncy;&amp;ocy;&amp;jcy; - 20 &amp;vcy;&amp;acy;&amp;rcy;&amp;icy;&amp;acy;&amp;ncy;&amp;tcy;&amp;ocy;&amp;vcy;, &amp;fcy;&amp;ocy;&amp;tcy;&amp;ocy;, &amp;icy;…"/>
          <p:cNvPicPr/>
          <p:nvPr/>
        </p:nvPicPr>
        <p:blipFill>
          <a:blip r:embed="rId2"/>
          <a:stretch/>
        </p:blipFill>
        <p:spPr>
          <a:xfrm>
            <a:off x="2050920" y="0"/>
            <a:ext cx="7093080" cy="4753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0" y="3427560"/>
            <a:ext cx="4716360" cy="34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00"/>
                </a:solidFill>
                <a:latin typeface="Comic Sans MS"/>
              </a:rPr>
              <a:t>Гончарное ремесло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0" y="112500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сибирском быту этому традиционному промыслу всегда уделялось много внимания. Широкое использование керамических изделий в хозяйстве и быту крестьян объяснялось доступностью и почти повсеместным производством их в русских сел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11280" y="2930400"/>
            <a:ext cx="792144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9T18:42:43Z</dcterms:created>
  <dc:creator>Интернет</dc:creator>
  <dc:description/>
  <dc:language>en-US</dc:language>
  <cp:lastModifiedBy>Интернет</cp:lastModifiedBy>
  <dcterms:modified xsi:type="dcterms:W3CDTF">2017-01-02T18:59:37Z</dcterms:modified>
  <cp:revision>31</cp:revision>
  <dc:subject/>
  <dc:title>Народные промыслы</dc:title>
</cp:coreProperties>
</file>