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E27-F5B4-405A-9724-3169ABBB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DA7-61EC-4529-9F9C-66A039A2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F0E-30F5-42F2-ACB5-B10AD284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DA8-18CB-4B74-8CF0-1133625E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DC8-54FA-4496-8EB6-9551D707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AC9-421C-4118-BBC6-B2A831AE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7B5-B250-411E-AC12-6D381C3F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23B-FAB6-4B4A-AB88-5342A0AD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900-C0F9-474F-89FD-B35285C4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397-9D0B-49E0-87D0-F7612573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BD9-C264-4AE0-8075-30B0216C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11C-90BD-4B14-8429-CD1AA84D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DA01-88C0-4C51-B9A6-11BD24C9D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Comic Sans MS"/>
              </a:rPr>
              <a:t>Народные промыс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10552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Западная и Восточная Сиби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omic Sans MS"/>
              </a:rPr>
              <a:t>Пушной промысе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067280" y="1267920"/>
            <a:ext cx="5076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 значении пушного промысла в развитии Сибири XVII в. свидетельствует и сама символика ее герба из жалованной грамоты 1690 г.: два соболя, пронзенные двумя скрещивающимися стрелами и держащие в зубах "корону сибирского царства"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 пушного промысла в XVII в. началось развитие капиталистических отношений в Сибири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ибольшую выгоду приносила добыча соболей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6291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&amp;KHcy;&amp;ucy;&amp;dcy;&amp;ocy;&amp;zhcy;&amp;iecy;&amp;scy;&amp;tcy;&amp;vcy;&amp;iecy;&amp;ncy;&amp;ncy;&amp;ycy;&amp;iecy; &amp;icy;&amp;zcy;&amp;dcy;&amp;iecy;&amp;lcy;&amp;icy;&amp;yacy; &amp;icy;&amp;zcy; &amp;mcy;&amp;iecy;&amp;khcy;&amp;acy;, &amp;kcy;&amp;ocy;&amp;zhcy;&amp;icy; &amp;icy; &amp;scy;&amp;ucy;&amp;kcy;&amp;ncy;&amp;acy;. . (&amp;Ncy;. &amp;Icy;. &amp;Kcy;&amp;acy;&amp;pcy;&amp;lcy;&amp;acy;&amp;ncy;) 1983 &amp;Mcy;&amp;icy;&amp;tcy;&amp;lcy;&amp;yacy;&amp;ncy;&amp;scy;&amp;kcy;&amp;acy;&amp;yacy; &amp;Tcy;.&amp;Bcy;. - &amp;Scy;&amp;iecy;&amp;lcy;&amp;softcy;&amp;scy;&amp;kcy;&amp;ocy;&amp;mcy;&amp;ucy; &amp;ucy;&amp;chcy;&amp;icy;&amp;tcy;&amp;iecy;&amp;lcy;&amp;yucy; &amp;ocy; &amp;ncy;&amp;acy;&amp;rcy;&amp;ocy;&amp;dcy;&amp;ncy;&amp;ycy;&amp;khcy; &amp;khcy;&amp;ucy;&amp;dcy;&amp;ocy;&amp;zhcy;&amp;iecy;&amp;scy;&amp;tcy;&amp;vcy;&amp;iecy;&amp;ncy;&amp;ncy;&amp;ycy;"/>
          <p:cNvPicPr/>
          <p:nvPr/>
        </p:nvPicPr>
        <p:blipFill>
          <a:blip r:embed="rId2"/>
          <a:stretch/>
        </p:blipFill>
        <p:spPr>
          <a:xfrm>
            <a:off x="0" y="549360"/>
            <a:ext cx="4610160" cy="630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&amp;Ncy;&amp;acy;&amp;rcy;&amp;ocy;&amp;dcy;&amp;ncy;&amp;ycy;&amp;iecy; &amp;khcy;&amp;ucy;&amp;dcy;&amp;ocy;&amp;zhcy;&amp;iecy;&amp;scy;&amp;tcy;&amp;vcy;&amp;iecy;&amp;ncy;&amp;ncy;&amp;ycy;&amp;iecy; &amp;pcy;&amp;rcy;&amp;ocy;&amp;mcy;&amp;ycy;&amp;scy;&amp;lcy;&amp;ycy;. . &amp;Ncy;&amp;acy;&amp;rcy;&amp;ocy;&amp;dcy;&amp;ncy;&amp;ycy;&amp;iecy; &amp;pcy;&amp;rcy;&amp;ocy;&amp;mcy;&amp;ycy;&amp;scy;&amp;lcy;&amp;ycy; &amp;icy; &amp;rcy;&amp;iecy;&amp;mcy;&amp;iecy;&amp;scy;&amp;lcy;&amp;acy;. . &amp;Pcy;&amp;acy;&amp;lcy;&amp;acy;&amp;tcy;&amp;acy; &amp;rcy;&amp;iecy;&amp;mcy;&amp;iecy;&amp;scy;&amp;iecy;&amp;lcy;"/>
          <p:cNvPicPr/>
          <p:nvPr/>
        </p:nvPicPr>
        <p:blipFill>
          <a:blip r:embed="rId3"/>
          <a:stretch/>
        </p:blipFill>
        <p:spPr>
          <a:xfrm>
            <a:off x="4546440" y="0"/>
            <a:ext cx="45975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чевой и охотничий в прошлом образ жизни определил стремление к художественному оформлению охотничьей одежды и предметов охотничьего снаряжения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91440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2. &amp;rcy;&amp;ocy;&amp;dcy; &amp;vcy;&amp;zcy;&amp;vcy;, &amp;Vcy;&amp;icy;&amp;dcy;&amp;iecy;&amp;ocy;&amp;kcy;&amp;acy;&amp;ncy;&amp;acy;&amp;lcy;, &amp;Pcy;&amp;rcy;&amp;acy;&amp;vcy;&amp;dcy;&amp;icy;&amp;ncy;&amp;fcy;&amp;ocy;&amp;rcy;&amp;mcy;"/>
          <p:cNvPicPr/>
          <p:nvPr/>
        </p:nvPicPr>
        <p:blipFill>
          <a:blip r:embed="rId2"/>
          <a:stretch/>
        </p:blipFill>
        <p:spPr>
          <a:xfrm>
            <a:off x="4788000" y="4959360"/>
            <a:ext cx="2736720" cy="1898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00"/>
                </a:solidFill>
                <a:latin typeface="Comic Sans MS"/>
              </a:rPr>
              <a:t>Резьба по дерев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ти у всех коренных народов Сибири была распространена резьба по дереву. Резьбой украшалась посуда, деревянные предметы домашнего обихода у якутов, буря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Kcy;&amp;ocy;&amp;mcy;&amp;mcy;&amp;iecy;&amp;rcy;&amp;chcy;&amp;iecy;&amp;scy;&amp;kcy;&amp;acy;&amp;yacy; &amp;ncy;&amp;iecy;&amp;dcy;&amp;vcy;&amp;icy;&amp;zhcy;&amp;icy;&amp;mcy;&amp;ocy;&amp;scy;&amp;tcy;&amp;softcy; &amp;vcy; &amp;Scy;&amp;acy;&amp;ncy;&amp;kcy;&amp;tcy;-&amp;Pcy;&amp;iecy;&amp;tcy;&amp;iecy;&amp;rcy;&amp;bcy;&amp;ucy;&amp;rcy;&amp;gcy;&amp;iecy;, &amp;ocy;&amp;bcy;&amp;hardcy;&amp;yacy;&amp;vcy;&amp;lcy;&amp;iecy;&amp;ncy;&amp;icy;&amp;yacy; &amp;pcy;&amp;rcy;&amp;ocy;…"/>
          <p:cNvPicPr/>
          <p:nvPr/>
        </p:nvPicPr>
        <p:blipFill>
          <a:blip r:embed="rId3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&amp;Rcy;&amp;iecy;&amp;zcy;&amp;softcy;&amp;bcy;&amp;acy; &amp;pcy;&amp;ocy; &amp;dcy;&amp;iecy;&amp;rcy;&amp;iecy;&amp;vcy;&amp;ucy; .RU: &amp;Icy;&amp;ncy;&amp;fcy;&amp;ocy;&amp;rcy;&amp;mcy;&amp;acy;&amp;tscy;&amp;icy;&amp;yacy; / &amp;Rcy;&amp;ycy;&amp;scy;&amp;iecy;&amp;vcy; &amp;Vcy;&amp;icy;&amp;kcy;&amp;tcy;&amp;ocy;&amp;rcy;"/>
          <p:cNvPicPr/>
          <p:nvPr/>
        </p:nvPicPr>
        <p:blipFill>
          <a:blip r:embed="rId4"/>
          <a:stretch/>
        </p:blipFill>
        <p:spPr>
          <a:xfrm>
            <a:off x="7275600" y="3284640"/>
            <a:ext cx="1868400" cy="35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&amp;Rcy;&amp;iecy;&amp;zcy;&amp;softcy;&amp;bcy;&amp;acy; &amp;pcy;&amp;ocy; &amp;dcy;&amp;iecy;&amp;rcy;&amp;iecy;&amp;vcy;&amp;ucy; .RU: &amp;Icy;&amp;ncy;&amp;fcy;&amp;ocy;&amp;rcy;&amp;mcy;&amp;acy;&amp;tscy;&amp;icy;&amp;yacy; / &amp;Rcy;&amp;ycy;&amp;scy;&amp;iecy;&amp;vcy; &amp;Vcy;&amp;icy;&amp;kcy;&amp;tcy;&amp;ocy;&amp;rcy;"/>
          <p:cNvPicPr/>
          <p:nvPr/>
        </p:nvPicPr>
        <p:blipFill>
          <a:blip r:embed="rId5"/>
          <a:stretch/>
        </p:blipFill>
        <p:spPr>
          <a:xfrm>
            <a:off x="4788000" y="3284640"/>
            <a:ext cx="25207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00"/>
                </a:solidFill>
                <a:latin typeface="Comic Sans MS"/>
              </a:rPr>
              <a:t>Резьба по кост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724000" y="1916280"/>
            <a:ext cx="341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ревним искусством сибиряков является резьба по мамонтовой кости, а так же по кости други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&amp;rcy;&amp;iecy;&amp;zcy;&amp;softcy;&amp;bcy;&amp;acy; &amp;pcy;&amp;ocy; &amp;kcy;&amp;ocy;&amp;scy;&amp;tcy;&amp;icy; &amp;Pcy;&amp;lcy;&amp;acy;&amp;scy;&amp;tcy;&amp;icy;&amp;lcy;&amp;icy;&amp;ncy;&amp;ocy;&amp;vcy;&amp;ycy;&amp;iecy; &amp;mcy;&amp;ucy;&amp;lcy;&amp;softcy;&amp;tcy;&amp;fcy;&amp;icy;&amp;lcy;&amp;softcy;&amp;mcy;&amp;ycy; &amp;icy; &amp;kcy;&amp;ocy;&amp;mcy;&amp;icy;&amp;kcy;&amp;scy;&amp;ycy;"/>
          <p:cNvPicPr/>
          <p:nvPr/>
        </p:nvPicPr>
        <p:blipFill>
          <a:blip r:embed="rId2"/>
          <a:stretch/>
        </p:blipFill>
        <p:spPr>
          <a:xfrm>
            <a:off x="0" y="1190520"/>
            <a:ext cx="5715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00"/>
                </a:solidFill>
                <a:latin typeface="Comic Sans MS"/>
              </a:rPr>
              <a:t>Ткаче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508720" y="1412640"/>
            <a:ext cx="36352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лсты разных сортов и добротности выделывали повсеместно. Современники отмечают высокое качество холста рубашечного: тонок, чрезвычайно плотен, ровен, не шероховат, на цвет белоснежен, на ощупь мягок, как шелк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&amp;Scy;&amp;acy;&amp;mcy;&amp;ocy;&amp;dcy;&amp;iecy;&amp;lcy;&amp;softcy;&amp;ncy;&amp;ycy;&amp;iecy; - &amp;Scy;&amp;acy;&amp;mcy;&amp;ocy;&amp;dcy;&amp;iecy;&amp;lcy;&amp;softcy;&amp;ncy;&amp;ycy;&amp;iecy;"/>
          <p:cNvPicPr/>
          <p:nvPr/>
        </p:nvPicPr>
        <p:blipFill>
          <a:blip r:embed="rId2"/>
          <a:stretch/>
        </p:blipFill>
        <p:spPr>
          <a:xfrm>
            <a:off x="0" y="198900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одное творчество мастериц-рукодельниц проявилось в создании так называемых пестрядей и узорных браней с многообразным цветовым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5723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нщины-крестьянки изготовляли домашним способом одежду. И мужские и женские костюмы украшались вышивкой, аппликацией на одежде и обув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&amp;Ocy;&amp;tcy;&amp;vcy;&amp;iecy;&amp;tcy;&amp;ycy;@Mail.Ru: &amp;pcy;&amp;ocy;&amp;zhcy;&amp;acy;&amp;lcy;&amp;ucy;&amp;jcy;&amp;scy;&amp;tcy;&amp;acy; &amp;pcy;&amp;ocy;&amp;dcy;&amp;scy;&amp;kcy;&amp;acy;&amp;zhcy;&amp;icy;&amp;tcy;&amp;iecy;!) ) &amp;kcy;&amp;acy;&amp;kcy; &amp;ncy;&amp;acy;&amp;zcy;&amp;ycy;&amp;vcy;&amp;acy;&amp;iecy;&amp;tcy;&amp;scy;&amp;yacy; &amp;mcy;&amp;iecy;&amp;khcy;&amp;ocy;&amp;vcy;&amp;acy;&amp;yacy; &amp;ocy;&amp;bcy;&amp;ucy;&amp;vcy;&amp;icy; &amp;vcy; &amp;Scy;&amp;icy;&amp;bcy;&amp;icy;&amp;rcy;&amp;icy;?"/>
          <p:cNvPicPr/>
          <p:nvPr/>
        </p:nvPicPr>
        <p:blipFill>
          <a:blip r:embed="rId2"/>
          <a:stretch/>
        </p:blipFill>
        <p:spPr>
          <a:xfrm>
            <a:off x="0" y="2411280"/>
            <a:ext cx="5651640" cy="444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&amp;Pcy;&amp;rcy;&amp;iecy;&amp;zcy;&amp;iecy;&amp;ncy;&amp;tcy;&amp;acy;&amp;tscy;&amp;icy;&amp;yacy; &amp;ncy;&amp;acy;&amp;rcy;&amp;ocy;&amp;dcy;&amp;ncy;&amp;ocy;&amp;gcy;&amp;ocy; &amp;kcy;&amp;ocy;&amp;scy;&amp;tcy;&amp;yucy;&amp;mcy;&amp;acy; &amp;rcy;&amp;ocy;&amp;scy;&amp;scy;&amp;icy;&amp;icy; &amp;scy;&amp;icy;&amp;bcy;&amp;icy;&amp;rcy;&amp;softcy;"/>
          <p:cNvPicPr/>
          <p:nvPr/>
        </p:nvPicPr>
        <p:blipFill>
          <a:blip r:embed="rId3"/>
          <a:stretch/>
        </p:blipFill>
        <p:spPr>
          <a:xfrm>
            <a:off x="5222880" y="1628640"/>
            <a:ext cx="39211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435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ппликацией украшались и войлочные ковр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2739960"/>
            <a:ext cx="4140360" cy="4118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565164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140360" y="0"/>
            <a:ext cx="5003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&amp;Vcy;&amp;acy;&amp;lcy;&amp;iecy;&amp;ncy;&amp;kcy;&amp;icy;, &amp;vcy;&amp;acy;&amp;lcy;&amp;iecy;&amp;ncy;&amp;kcy;&amp;icy;. &amp;Dcy;&amp;ncy;&amp;iecy;&amp;vcy;&amp;ncy;&amp;icy;&amp;kcy; &amp;gcy;&amp;rcy;&amp;ucy;&amp;pcy;&amp;pcy;&amp;ycy; &quot;&quot;&amp;Lcy;&amp;acy;&amp;rcy;&amp;iecy;&amp;tscy;&quot;&quot; - &amp;Scy;&amp;tcy;&amp;rcy;&amp;acy;&amp;ncy;&amp;acy; &amp;Mcy;&amp;acy;&amp;mcy;"/>
          <p:cNvPicPr/>
          <p:nvPr/>
        </p:nvPicPr>
        <p:blipFill>
          <a:blip r:embed="rId2"/>
          <a:stretch/>
        </p:blipFill>
        <p:spPr>
          <a:xfrm>
            <a:off x="3132000" y="0"/>
            <a:ext cx="6012000" cy="450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&amp;Rcy;&amp;Icy;&amp;Acy; &amp;Ncy;&amp;ocy;&amp;vcy;&amp;ocy;&amp;scy;&amp;tcy;&amp;icy; : &amp;Ocy;&amp;bcy;&amp;shchcy;&amp;iecy;&amp;scy;&amp;tcy;&amp;vcy;&amp;ocy; - &amp;ncy;&amp;ocy;&amp;vcy;&amp;ocy;&amp;scy;&amp;tcy;&amp;icy; Wikidigger"/>
          <p:cNvPicPr/>
          <p:nvPr/>
        </p:nvPicPr>
        <p:blipFill>
          <a:blip r:embed="rId3"/>
          <a:stretch/>
        </p:blipFill>
        <p:spPr>
          <a:xfrm>
            <a:off x="0" y="3168720"/>
            <a:ext cx="5508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http://doc4web.ru/images/59/59304/640/img0.jpg"/>
          <p:cNvPicPr/>
          <p:nvPr/>
        </p:nvPicPr>
        <p:blipFill>
          <a:blip r:embed="rId2"/>
          <a:stretch/>
        </p:blipFill>
        <p:spPr>
          <a:xfrm>
            <a:off x="395280" y="333360"/>
            <a:ext cx="8352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48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Изделия из кож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&amp;Icy;&amp;ncy;&amp;tcy;&amp;iecy;&amp;rcy;&amp;ncy;&amp;iecy;&amp;tcy;-&amp;mcy;&amp;acy;&amp;gcy;&amp;acy;&amp;zcy;&amp;icy;&amp;ncy; &amp;scy;&amp;icy;&amp;bcy;&amp;icy;&amp;rcy;&amp;scy;&amp;kcy;&amp;ocy;&amp;gcy;&amp;ocy; &amp;ecy;&amp;tcy;&amp;ncy;&amp;icy;&amp;chcy;&amp;iecy;&amp;scy;&amp;kcy;&amp;ocy;&amp;gcy;&amp;ocy; &amp;icy;&amp;scy;&amp;kcy;&amp;ucy;&amp;scy;&amp;scy;&amp;tcy;&amp;vcy;&amp;acy; - &amp;mcy;&amp;ocy;&amp;ncy;&amp;gcy;&amp;ocy;&amp;lcy;&amp;softcy;&amp;scy;&amp;kcy;&amp;acy;&amp;yacy; &amp;scy;&amp;ucy;&amp;mcy;&amp;ocy;&amp;chcy;&amp;kcy;&amp;acy; &amp;icy;&amp;zcy; &amp;kcy;&amp;ocy;&amp;zhcy;&amp;icy;, mongolian souvenir"/>
          <p:cNvPicPr/>
          <p:nvPr/>
        </p:nvPicPr>
        <p:blipFill>
          <a:blip r:embed="rId2"/>
          <a:stretch/>
        </p:blipFill>
        <p:spPr>
          <a:xfrm>
            <a:off x="5521320" y="0"/>
            <a:ext cx="3622680" cy="4292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&amp;Bcy;&amp;rcy;&amp;acy;&amp;scy;&amp;lcy;&amp;iecy;&amp;tcy; &amp;icy;&amp;zcy; &amp;kcy;&amp;ocy;&amp;zhcy;&amp;icy;"/>
          <p:cNvPicPr/>
          <p:nvPr/>
        </p:nvPicPr>
        <p:blipFill>
          <a:blip r:embed="rId3"/>
          <a:stretch/>
        </p:blipFill>
        <p:spPr>
          <a:xfrm>
            <a:off x="5580000" y="4327560"/>
            <a:ext cx="3564000" cy="2530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&amp;Vcy; &amp;Icy;&amp;rcy;&amp;kcy;&amp;ucy;&amp;tcy;&amp;scy;&amp;kcy;&amp;iecy; &amp;ocy;&amp;tcy;&amp;kcy;&amp;rcy;&amp;ocy;&amp;iecy;&amp;tcy;&amp;scy;&amp;yacy; &amp;Mcy;&amp;ocy;&amp;ncy;&amp;gcy;&amp;ocy;&amp;lcy;&amp;softcy;&amp;scy;&amp;kcy;&amp;icy;&amp;jcy; &amp;tcy;&amp;ocy;&amp;rcy;&amp;gcy;&amp;ocy;&amp;vcy;&amp;ycy;&amp;jcy; &amp;dcy;&amp;ocy;&amp;mcy;"/>
          <p:cNvPicPr/>
          <p:nvPr/>
        </p:nvPicPr>
        <p:blipFill>
          <a:blip r:embed="rId4"/>
          <a:stretch/>
        </p:blipFill>
        <p:spPr>
          <a:xfrm>
            <a:off x="0" y="24019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38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a50021"/>
                </a:solidFill>
                <a:latin typeface="Comic Sans MS"/>
              </a:rPr>
              <a:t>Спасибо за</a:t>
            </a:r>
            <a:br>
              <a:rPr sz="10600"/>
            </a:br>
            <a:br>
              <a:rPr sz="10600"/>
            </a:br>
            <a:r>
              <a:rPr b="1" lang="en-US" sz="10600" spc="-1" strike="noStrike">
                <a:solidFill>
                  <a:srgbClr val="a50021"/>
                </a:solidFill>
                <a:latin typeface="Comic Sans MS"/>
              </a:rPr>
              <a:t> внимание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79640" y="2781360"/>
            <a:ext cx="525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993300"/>
                  </a:solidFill>
                  <a:miter/>
                </a:ln>
                <a:solidFill>
                  <a:srgbClr val="000099">
                    <a:alpha val="81000"/>
                  </a:srgbClr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31680">
                <a:solidFill>
                  <a:srgbClr val="993300"/>
                </a:solidFill>
                <a:miter/>
              </a:ln>
              <a:solidFill>
                <a:srgbClr val="000099">
                  <a:alpha val="81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&amp;Ucy;&amp;rcy;&amp;acy;&amp;lcy;&amp;ocy;-&amp;scy;&amp;icy;&amp;bcy;&amp;icy;&amp;rcy;&amp;scy;&amp;kcy;&amp;acy;&amp;yacy; &amp;rcy;&amp;ocy;&amp;scy;&amp;pcy;&amp;icy;&amp;scy;&amp;softcy; - &amp;YAcy;&amp;rcy;&amp;mcy;&amp;acy;&amp;rcy;&amp;kcy;&amp;acy; &amp;Mcy;&amp;acy;&amp;scy;&amp;tcy;&amp;iecy;&amp;rcy;&amp;ocy;&amp;vcy; - &amp;rcy;&amp;ucy;&amp;chcy;&amp;ncy;&amp;acy;&amp;yacy; &amp;rcy;&amp;acy;&amp;bcy;&amp;ocy;&amp;tcy;&amp;acy;, …"/>
          <p:cNvPicPr/>
          <p:nvPr/>
        </p:nvPicPr>
        <p:blipFill>
          <a:blip r:embed="rId2"/>
          <a:stretch/>
        </p:blipFill>
        <p:spPr>
          <a:xfrm>
            <a:off x="755640" y="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&amp;Ucy;&amp;rcy;&amp;acy;&amp;lcy;&amp;ocy; - &amp;scy;&amp;icy;&amp;bcy;&amp;icy;&amp;rcy;&amp;scy;&amp;kcy;&amp;acy;&amp;yacy; &amp;icy; &amp;tcy;&amp;yucy;&amp;mcy;&amp;iecy;&amp;ncy;&amp;scy;&amp;kcy;&amp;icy;&amp;yacy; &amp;dcy;&amp;ocy;&amp;mcy;&amp;ocy;&amp;vcy;&amp;acy;&amp;yacy; &amp;rcy;&amp;ocy;&amp;scy;&amp;pcy;&amp;icy;&amp;scy;&amp;softcy;"/>
          <p:cNvPicPr/>
          <p:nvPr/>
        </p:nvPicPr>
        <p:blipFill>
          <a:blip r:embed="rId3"/>
          <a:stretch/>
        </p:blipFill>
        <p:spPr>
          <a:xfrm>
            <a:off x="4940280" y="0"/>
            <a:ext cx="4203720" cy="4365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&amp;TScy;&amp;vcy;&amp;iecy;&amp;tcy;&amp;ucy;&amp;shchcy;&amp;iecy;&amp;iecy; &amp;dcy;&amp;rcy;&amp;iecy;&amp;vcy;&amp;ocy; / &amp;Acy;&amp;fcy;&amp;icy;&amp;shcy;&amp;acy; &amp;scy;&amp;ocy;&amp;bcy;&amp;ycy;&amp;tcy;&amp;icy;&amp;jcy; &amp;Bcy;&amp;acy;&amp;rcy;&amp;ncy;&amp;acy;&amp;ucy;&amp;lcy;&amp;acy; / &amp;Dcy;&amp;ocy;&amp;scy;&amp;ucy;&amp;gcy;"/>
          <p:cNvPicPr/>
          <p:nvPr/>
        </p:nvPicPr>
        <p:blipFill>
          <a:blip r:embed="rId4"/>
          <a:stretch/>
        </p:blipFill>
        <p:spPr>
          <a:xfrm>
            <a:off x="4788000" y="4406760"/>
            <a:ext cx="4356000" cy="2451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&amp;Fcy;&amp;ocy;&amp;tcy;&amp;ocy; - &amp;Ucy;&amp;rcy;&amp;acy;&amp;lcy;&amp;ocy;-&amp;Scy;&amp;icy;&amp;bcy;&amp;icy;&amp;rcy;&amp;scy;&amp;kcy;&amp;acy;&amp;yacy; &amp;rcy;&amp;ocy;&amp;scy;&amp;pcy;&amp;icy;&amp;scy;&amp;softcy;"/>
          <p:cNvPicPr/>
          <p:nvPr/>
        </p:nvPicPr>
        <p:blipFill>
          <a:blip r:embed="rId5"/>
          <a:stretch/>
        </p:blipFill>
        <p:spPr>
          <a:xfrm>
            <a:off x="0" y="2206800"/>
            <a:ext cx="49323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Comic Sans MS"/>
              </a:rPr>
              <a:t>   </a:t>
            </a:r>
            <a:r>
              <a:rPr b="1" lang="ru-RU" sz="4800" spc="-1" strike="noStrike">
                <a:solidFill>
                  <a:srgbClr val="990000"/>
                </a:solidFill>
                <a:latin typeface="Comic Sans MS"/>
              </a:rPr>
              <a:t>Плетение из бересты.</a:t>
            </a:r>
            <a:br>
              <a:rPr sz="4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ародном быту широко применяли традиционные берестяные изделия: туески, или бураки, набирушки, лукошки, заплечники, сум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29240" cy="3610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3"/>
          <p:cNvPicPr/>
          <p:nvPr/>
        </p:nvPicPr>
        <p:blipFill>
          <a:blip r:embed="rId3"/>
          <a:stretch/>
        </p:blipFill>
        <p:spPr>
          <a:xfrm>
            <a:off x="4067280" y="3629160"/>
            <a:ext cx="5076720" cy="3228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803_2"/>
          <p:cNvPicPr/>
          <p:nvPr/>
        </p:nvPicPr>
        <p:blipFill>
          <a:blip r:embed="rId4"/>
          <a:stretch/>
        </p:blipFill>
        <p:spPr>
          <a:xfrm>
            <a:off x="0" y="3639960"/>
            <a:ext cx="4500720" cy="3218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76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00"/>
                </a:solidFill>
                <a:latin typeface="Comic Sans MS"/>
              </a:rPr>
              <a:t>Плет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76720" y="259920"/>
            <a:ext cx="40672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ели различные необходимые в быту изделия из всего, что попадалось под руки: из коры деревьев, из гибких ветвей, из кожи животных, позже пошли в ход веревки, пенька и многое-многое другое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ромной популярностью пользовались плетеные корзины, плетеная мебель, плетеные коляски для кукол и детей и многое-многое другое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&amp;Lcy;&amp;acy;&amp;pcy;&amp;tcy;&amp;icy;"/>
          <p:cNvPicPr/>
          <p:nvPr/>
        </p:nvPicPr>
        <p:blipFill>
          <a:blip r:embed="rId2"/>
          <a:stretch/>
        </p:blipFill>
        <p:spPr>
          <a:xfrm>
            <a:off x="324000" y="1197000"/>
            <a:ext cx="4500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&amp;Pcy;&amp;lcy;&amp;iecy;&amp;tcy;&amp;iecy;&amp;ncy;&amp;acy;&amp;yacy; &amp;mcy;&amp;iecy;&amp;bcy;&amp;iecy;&amp;lcy;&amp;softcy; &amp;vcy; &amp;icy;&amp;ncy;&amp;tcy;&amp;iecy;&amp;rcy;&amp;softcy;&amp;iecy;&amp;rcy;&amp;iecy; &amp;gcy;&amp;ocy;&amp;scy;&amp;tcy;&amp;icy;&amp;ncy;&amp;ocy;&amp;jcy; - 20 &amp;vcy;&amp;acy;&amp;rcy;&amp;icy;&amp;acy;&amp;ncy;&amp;tcy;&amp;ocy;&amp;vcy;, &amp;fcy;&amp;ocy;&amp;tcy;&amp;ocy;, &amp;icy;…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4753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427560"/>
            <a:ext cx="471636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Comic Sans MS"/>
              </a:rPr>
              <a:t>Гончарное ремесл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ибирском быту этому традиционному промыслу всегда уделялось много внимания. Широкое использование керамических изделий в хозяйстве и быту крестьян объяснялось доступностью и почти повсеместным производством их в русских се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2930400"/>
            <a:ext cx="792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18:42:43Z</dcterms:created>
  <dc:creator>Интернет</dc:creator>
  <dc:description/>
  <dc:language>en-US</dc:language>
  <cp:lastModifiedBy>Интернет</cp:lastModifiedBy>
  <dcterms:modified xsi:type="dcterms:W3CDTF">2017-01-02T18:59:37Z</dcterms:modified>
  <cp:revision>31</cp:revision>
  <dc:subject/>
  <dc:title>Народные промыслы</dc:title>
</cp:coreProperties>
</file>