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5555-2AFE-4DA6-9071-5AAFB65A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03B6-3277-49CD-9DB8-3773C316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3D1-0994-4741-9D0A-AFB26CD6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7CB0-9C1B-4A68-9EFA-E6C1D4C2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48A1-8C94-4C24-A3B3-EB920D11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95F7-9724-4CC2-B6D6-BEEC38D1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4A54-7B60-4909-9A53-EB5970C9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DB09-7D14-4621-B368-261061AE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97F6-D6E0-4D95-875A-7DB5CB90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6318-5BF4-4077-B359-3B17D285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0A22-B81F-4BD6-9269-02EF7321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8AD-A0D3-4EE5-9FC0-B40D6421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DE4F-27B6-4DE4-B2ED-E17CBC68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A6E8-B348-4E55-AA6A-BEEBF9E9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4290-FCCA-434F-9448-96DF5742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3231-802C-4137-BF7C-EBFE8EF1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DE7-D971-43B5-B28C-9C6C20F9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8EC6-913C-441F-B3F4-BAB2D91B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9E5-C4C8-4D32-B1F1-857F502E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8C8-0EB0-45A0-867D-A480B454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D3B-3C4C-49AC-A10E-C7BD3E63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47BF-41ED-4C24-9BAA-0A22B6B5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EDB-3AB7-47A9-836E-85C83776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464A-23CB-4A8E-B1CE-EE4DFF26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2C0-CE24-453B-ACDF-D2BF8A0A16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F5EA-5128-4297-9608-9591642AD5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latvia.mid.ru/fg/rus0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895480"/>
            <a:ext cx="6400800" cy="1905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Monotype Corsiva"/>
              </a:rPr>
              <a:t>Ответ по плану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870600" cy="457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«Мыслящий ум не чувствует себя счастливым, пока ему не удаётся связать воедино разрозненные факты»</a:t>
            </a: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4800" spc="-1" strike="noStrike">
                <a:solidFill>
                  <a:srgbClr val="00b200"/>
                </a:solidFill>
                <a:latin typeface="Monotype Corsiva"/>
              </a:rPr>
              <a:t>Д.Хевелс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Ответ по плану и без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1. Расскажите о широтном положении Африк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2. Африку называют континентом коротких теней.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3772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Monotype Corsiva"/>
              </a:rPr>
              <a:t>- длина тени зависит от высоты Солнца, чем выше Солнце, тем короче тен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Monotype Corsiva"/>
              </a:rPr>
              <a:t>- большая часть Африки находится в тропических и в экваториальных широтах, где Солнце бывает в зенит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Monotype Corsiva"/>
              </a:rPr>
              <a:t>- самая короткая тень наблюдается во время положения Солнца в зените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dff"/>
                </a:solidFill>
                <a:latin typeface="Monotype Corsiva"/>
              </a:rPr>
              <a:t>- в экваториальных и в тропических широтах Солнце поднимается выше, чем в умеренных, поэтому там и тень короче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687096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Ответ по плану и без…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240" y="114300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3. Африку называют </a:t>
            </a:r>
            <a:r>
              <a:rPr b="1" i="1" lang="ru-RU" sz="3200" spc="-1" strike="noStrike">
                <a:solidFill>
                  <a:srgbClr val="00b200"/>
                </a:solidFill>
                <a:latin typeface="Monotype Corsiva"/>
              </a:rPr>
              <a:t>континентом коротких теней</a:t>
            </a: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.</a:t>
            </a:r>
            <a:br>
              <a:rPr sz="3200"/>
            </a:b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1) Объясните: а) как вы понимаете смысл этого высказывания; б) от чего зависит длина тени от предмета.</a:t>
            </a:r>
            <a:br>
              <a:rPr sz="3200"/>
            </a:b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2) Расскажите, в каких широтах находится Африка.</a:t>
            </a:r>
            <a:br>
              <a:rPr sz="3200"/>
            </a:b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3) Объясните, как взаимосвязаны широтное положение Африки и высота Солнца.</a:t>
            </a:r>
            <a:br>
              <a:rPr sz="3200"/>
            </a:b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4) Объясните, почему Африке дали такое образное название. Сформулируйте полный ответ, состоящий из нескольких предложени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05740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Monotype Corsiva"/>
              </a:rPr>
              <a:t>«Порядок больше всего помогает ясному усвоению» </a:t>
            </a:r>
            <a:r>
              <a:rPr b="1" i="1" lang="ru-RU" sz="4800" spc="-1" strike="noStrike">
                <a:solidFill>
                  <a:srgbClr val="00b200"/>
                </a:solidFill>
                <a:latin typeface="Monotype Corsiva"/>
              </a:rPr>
              <a:t>Цицерон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Составление логической цепочки, как предшественницы план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  </a:t>
            </a: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Тема: Причина образования государ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Усовершенствование орудий труда  Накопление излишков       Появление частной собственности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Появление неравенства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Возникновение классов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   </a:t>
            </a:r>
            <a:r>
              <a:rPr b="1" lang="ru-RU" sz="3200" spc="-1" strike="noStrike">
                <a:solidFill>
                  <a:srgbClr val="9933ff"/>
                </a:solidFill>
                <a:latin typeface="Monotype Corsiva"/>
              </a:rPr>
              <a:t>Создание государст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6629400" y="266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9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36576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724280" y="4648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4800600" y="4038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Алгоритм составления план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18960" y="12193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Внимательно прочитай текст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Выдели главные мысли текс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Проверь, как они соотносятся друг с друг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Сгруппируй текст вокруг главной мысли (раздели его на смысловые части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По количеству главных мыслей определи количество пунктов план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Сформулируй главные мысли кратко (запиши их в виде пунктов план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475200" indent="-47520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Прочитай текст повторно, проверь, не пропустил ли что-т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Критерии оценки устного ответ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Отражает ли ответ основное содержание материал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Все ли предложения связаны друг с друго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Понятен ли ответ другому человек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d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dff"/>
                </a:solidFill>
                <a:latin typeface="Monotype Corsiva"/>
              </a:rPr>
              <a:t>Содержит ли ответ основной вывод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«Кто не знает, куда идёт, вероятно, придёт не туда»</a:t>
            </a: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 </a:t>
            </a:r>
            <a:br>
              <a:rPr sz="5400"/>
            </a:br>
            <a:r>
              <a:rPr b="1" i="1" lang="ru-RU" sz="5400" spc="-1" strike="noStrike">
                <a:solidFill>
                  <a:srgbClr val="00b200"/>
                </a:solidFill>
                <a:latin typeface="Monotype Corsiva"/>
              </a:rPr>
              <a:t>Лоренс Пите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1447560"/>
            <a:ext cx="6870960" cy="464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План </a:t>
            </a: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– </a:t>
            </a:r>
            <a:br>
              <a:rPr sz="4800"/>
            </a:br>
            <a:r>
              <a:rPr b="1" lang="ru-RU" sz="4800" spc="-1" strike="noStrike">
                <a:solidFill>
                  <a:srgbClr val="703dff"/>
                </a:solidFill>
                <a:latin typeface="Monotype Corsiva"/>
              </a:rPr>
              <a:t>логическая последовательность действий, которые необходимо совершить для достижения поставленной цел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Monotype Corsiva"/>
              </a:rPr>
              <a:t>Тема урока: Отряд Грызуны. Крыс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План урок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1) Внешнее стро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Размеры тел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Признак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2) Места обита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3) Внутреннее стро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Пищеваритель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Дыхатель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Кровенос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Выделитель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Репродуктивная систем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Нервная систем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200"/>
                </a:solidFill>
                <a:latin typeface="Monotype Corsiva"/>
              </a:rPr>
              <a:t>Органы чувст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5" descr="PH07880"/>
          <p:cNvPicPr/>
          <p:nvPr/>
        </p:nvPicPr>
        <p:blipFill>
          <a:blip r:embed="rId1"/>
          <a:stretch/>
        </p:blipFill>
        <p:spPr>
          <a:xfrm>
            <a:off x="3581280" y="2055960"/>
            <a:ext cx="4953240" cy="3619440"/>
          </a:xfrm>
          <a:prstGeom prst="rect">
            <a:avLst/>
          </a:prstGeom>
          <a:ln w="38160">
            <a:solidFill>
              <a:srgbClr val="00b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dff"/>
                </a:solidFill>
                <a:latin typeface="Monotype Corsiva"/>
              </a:rPr>
              <a:t>Тема урока: Равнины суши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лан урок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Monotype Corsiva"/>
              </a:rPr>
              <a:t>1) Что такое равнины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Monotype Corsiva"/>
              </a:rPr>
              <a:t>2) Рельеф равни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Monotype Corsiva"/>
              </a:rPr>
              <a:t>3) Различие равнин по высот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Monotype Corsiva"/>
              </a:rPr>
              <a:t>4) Изменение равнин во времен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5" descr="Картинка 19 из 2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981080"/>
            <a:ext cx="3809880" cy="3619800"/>
          </a:xfrm>
          <a:prstGeom prst="rect">
            <a:avLst/>
          </a:prstGeom>
          <a:ln w="38160">
            <a:solidFill>
              <a:srgbClr val="00b2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Тема: Вод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Что значит вода для животных, растений и челове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О каких свойствах воды вы уже знает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Приведите примеры использования воды в быт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2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Monotype Corsiva"/>
              </a:rPr>
              <a:t>Подтема: Превращения вод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Organization Chart 5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164" name="_s102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207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29"/>
            <p:cNvCxnSpPr>
              <a:stCxn id="168" idx="0"/>
              <a:endCxn id="166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0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2822040" y="2310840"/>
              <a:ext cx="731880" cy="2691720"/>
            </a:xfrm>
            <a:prstGeom prst="bentConnector3">
              <a:avLst>
                <a:gd name="adj1" fmla="val 207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1031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Comic Sans MS"/>
                </a:rPr>
                <a:t>Состояния воды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_s1032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Comic Sans MS"/>
                </a:rPr>
                <a:t>Твёрдое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_s1033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Comic Sans MS"/>
                </a:rPr>
                <a:t>Жидкое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_s1034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33ff"/>
                  </a:solidFill>
                  <a:latin typeface="Comic Sans MS"/>
                </a:rPr>
                <a:t>Газообразно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Monotype Corsiva"/>
              </a:rPr>
              <a:t>Подтема: Процесс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2" name="Organization Chart 5"/>
          <p:cNvGrpSpPr/>
          <p:nvPr/>
        </p:nvGrpSpPr>
        <p:grpSpPr>
          <a:xfrm>
            <a:off x="685800" y="1828800"/>
            <a:ext cx="7695720" cy="3656520"/>
            <a:chOff x="685800" y="1828800"/>
            <a:chExt cx="7695720" cy="3656520"/>
          </a:xfrm>
        </p:grpSpPr>
        <p:cxnSp>
          <p:nvCxnSpPr>
            <p:cNvPr id="173" name="_s205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514120" y="2309400"/>
              <a:ext cx="731880" cy="2694240"/>
            </a:xfrm>
            <a:prstGeom prst="bentConnector3">
              <a:avLst>
                <a:gd name="adj1" fmla="val 207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2053"/>
            <p:cNvCxnSpPr>
              <a:stCxn id="177" idx="0"/>
              <a:endCxn id="175" idx="2"/>
            </p:cNvCxnSpPr>
            <p:nvPr/>
          </p:nvCxnSpPr>
          <p:spPr>
            <a:xfrm flipV="1">
              <a:off x="4533480" y="3290760"/>
              <a:ext cx="2880" cy="73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2054"/>
            <p:cNvCxnSpPr>
              <a:stCxn id="179" idx="0"/>
              <a:endCxn id="175" idx="2"/>
            </p:cNvCxnSpPr>
            <p:nvPr/>
          </p:nvCxnSpPr>
          <p:spPr>
            <a:xfrm flipH="1" flipV="1" rot="5400000">
              <a:off x="2822040" y="2310840"/>
              <a:ext cx="731880" cy="2691720"/>
            </a:xfrm>
            <a:prstGeom prst="bentConnector3">
              <a:avLst>
                <a:gd name="adj1" fmla="val 2076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5" name="_s2055"/>
            <p:cNvSpPr/>
            <p:nvPr/>
          </p:nvSpPr>
          <p:spPr>
            <a:xfrm>
              <a:off x="3379320" y="182880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Процессы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_s2056"/>
            <p:cNvSpPr/>
            <p:nvPr/>
          </p:nvSpPr>
          <p:spPr>
            <a:xfrm>
              <a:off x="68580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Испарение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_s2057"/>
            <p:cNvSpPr/>
            <p:nvPr/>
          </p:nvSpPr>
          <p:spPr>
            <a:xfrm>
              <a:off x="337932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Замерзание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_s2058"/>
            <p:cNvSpPr/>
            <p:nvPr/>
          </p:nvSpPr>
          <p:spPr>
            <a:xfrm>
              <a:off x="6072840" y="4022640"/>
              <a:ext cx="2308680" cy="14626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Конденсация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Работа по плану как закрепление т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Почему морская вода солёна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Как очистить воду от нерастворимых в ней веществ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Можно ли фильтрованием сделать солёную воду пресной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Почему айсберги плавают в морской вод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200"/>
                </a:solidFill>
                <a:latin typeface="Monotype Corsiva"/>
              </a:rPr>
              <a:t>Почему море не переполняется, приняв многие реки?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02T10:42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