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943-89CF-4741-9F6C-42B970BB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D53-1C25-41E8-8D1D-B58F5090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74E-3669-4A51-B947-3787EE25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6E4-11B4-4CB9-A38A-8D6E3E49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AB90-FBD7-463E-BF85-3E8C4329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E75E-56A6-4888-9629-677F0716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92D9-7157-46D8-B13D-E99D9226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1A65-EA25-4EB6-9E55-7755DB7C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3703-EAB0-4104-8E64-EB5337B8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0900-A2DA-46E3-BD06-B25D8DC9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0B23-2C8C-48DB-8296-D10CB90A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3C1-525E-4497-9A4C-014DC94B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953E-25D1-424C-AD6B-E8046056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7C34-69AF-4FB5-84FC-0DA316CE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CED7-A4FE-4049-B37C-CC13311C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4C95-603B-4702-93C7-B27EDC22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6E5A-8ED9-4CDD-9946-B7352A9F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8BC-3C46-4E45-B99A-ACF908C0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958-173C-443D-86E5-BD300581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3B4-04C0-46C2-856B-4CF106E4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081-DD40-45CB-9172-CAEE8814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28A-5EEF-4404-98A2-ACFA683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F34-4AEF-4D48-99A4-2141335F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655-BF25-44E6-9A13-C240D20D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726D-2FE1-46A2-841A-5D0E9137BE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67BE-34E0-4F85-821C-24CD0D9C0B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atvia.mid.ru/fg/rus0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895480"/>
            <a:ext cx="6400800" cy="1905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Ответ по плану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68706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«Мыслящий ум не чувствует себя счастливым, пока ему не удаётся связать воедино разрозненные факты»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00b200"/>
                </a:solidFill>
                <a:latin typeface="Monotype Corsiva"/>
              </a:rPr>
              <a:t>Д.Хевелс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Ответ по плану и без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1. Расскажите о широтном положении Афри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2. Африку называют континентом коротких теней.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Monotype Corsiva"/>
              </a:rPr>
              <a:t>- длина тени зависит от высоты Солнца, чем выше Солнце, тем короче тен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Monotype Corsiva"/>
              </a:rPr>
              <a:t>- большая часть Африки находится в тропических и в экваториальных широтах, где Солнце бывает в зенит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Monotype Corsiva"/>
              </a:rPr>
              <a:t>- самая короткая тень наблюдается во время положения Солнца в зенит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Monotype Corsiva"/>
              </a:rPr>
              <a:t>- в экваториальных и в тропических широтах Солнце поднимается выше, чем в умеренных, поэтому там и тень короче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687096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Ответ по плану и без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240" y="11430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3. Африку называют </a:t>
            </a:r>
            <a:r>
              <a:rPr b="1" i="1" lang="ru-RU" sz="3200" spc="-1" strike="noStrike">
                <a:solidFill>
                  <a:srgbClr val="00b200"/>
                </a:solidFill>
                <a:latin typeface="Monotype Corsiva"/>
              </a:rPr>
              <a:t>континентом коротких теней</a:t>
            </a: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1) Объясните: а) как вы понимаете смысл этого высказывания; б) от чего зависит длина тени от предмета.</a:t>
            </a:r>
            <a:br>
              <a:rPr sz="3200"/>
            </a:b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2) Расскажите, в каких широтах находится Африка.</a:t>
            </a:r>
            <a:br>
              <a:rPr sz="3200"/>
            </a:b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3) Объясните, как взаимосвязаны широтное положение Африки и высота Солнца.</a:t>
            </a:r>
            <a:br>
              <a:rPr sz="3200"/>
            </a:b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4) Объясните, почему Африке дали такое образное название. Сформулируйте полный ответ, состоящий из нескольких предложе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«Порядок больше всего помогает ясному усвоению» </a:t>
            </a:r>
            <a:r>
              <a:rPr b="1" i="1" lang="ru-RU" sz="4800" spc="-1" strike="noStrike">
                <a:solidFill>
                  <a:srgbClr val="00b200"/>
                </a:solidFill>
                <a:latin typeface="Monotype Corsiva"/>
              </a:rPr>
              <a:t>Цицерон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Составление логической цепочки, как предшественницы план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Тема: Причина образования государ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Усовершенствование орудий труда  Накопление излишков       Появление частной собственности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Появление неравенства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Возникновение классов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Создание государ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662940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36576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7242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480060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Алгоритм составления план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Внимательно прочитай текс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Выдели главные мысли текс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Проверь, как они соотносятся друг с друг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Сгруппируй текст вокруг главной мысли (раздели его на смысловые части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По количеству главных мыслей определи количество пунктов пла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Сформулируй главные мысли кратко (запиши их в виде пунктов план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Прочитай текст повторно, проверь, не пропустил ли что-т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Критерии оценки устного ответ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Отражает ли ответ основное содержание материал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Все ли предложения связаны друг с друг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Понятен ли ответ другому человек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Содержит ли ответ основной вывод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«Кто не знает, куда идёт, вероятно, придёт не туда»</a:t>
            </a: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5400"/>
            </a:br>
            <a:r>
              <a:rPr b="1" i="1" lang="ru-RU" sz="5400" spc="-1" strike="noStrike">
                <a:solidFill>
                  <a:srgbClr val="00b200"/>
                </a:solidFill>
                <a:latin typeface="Monotype Corsiva"/>
              </a:rPr>
              <a:t>Лоренс Пите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6870960" cy="464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План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– </a:t>
            </a:r>
            <a:br>
              <a:rPr sz="4800"/>
            </a:br>
            <a:r>
              <a:rPr b="1" lang="ru-RU" sz="4800" spc="-1" strike="noStrike">
                <a:solidFill>
                  <a:srgbClr val="703dff"/>
                </a:solidFill>
                <a:latin typeface="Monotype Corsiva"/>
              </a:rPr>
              <a:t>логическая последовательность действий, которые необходимо совершить для достижения поставленной цели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Monotype Corsiva"/>
              </a:rPr>
              <a:t>Тема урока: Отряд Грызуны. Крыс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План урок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1) Внешнее стро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Размеры те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Призна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2) Места обит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3) Внутреннее стро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Пищеваритель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Дыхатель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Кровенос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Выделитель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Репродуктив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Нервная систем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Органы чувст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5" descr="PH07880"/>
          <p:cNvPicPr/>
          <p:nvPr/>
        </p:nvPicPr>
        <p:blipFill>
          <a:blip r:embed="rId1"/>
          <a:stretch/>
        </p:blipFill>
        <p:spPr>
          <a:xfrm>
            <a:off x="3581280" y="2055960"/>
            <a:ext cx="4953240" cy="3619440"/>
          </a:xfrm>
          <a:prstGeom prst="rect">
            <a:avLst/>
          </a:prstGeom>
          <a:ln w="38160">
            <a:solidFill>
              <a:srgbClr val="00b2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Monotype Corsiva"/>
              </a:rPr>
              <a:t>Тема урока: Равнины суш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лан урок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Monotype Corsiva"/>
              </a:rPr>
              <a:t>1) Что такое равнин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Monotype Corsiva"/>
              </a:rPr>
              <a:t>2) Рельеф равни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Monotype Corsiva"/>
              </a:rPr>
              <a:t>3) Различие равнин по высот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Monotype Corsiva"/>
              </a:rPr>
              <a:t>4) Изменение равнин во врем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5" descr="Картинка 19 из 24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981080"/>
            <a:ext cx="3809880" cy="3619800"/>
          </a:xfrm>
          <a:prstGeom prst="rect">
            <a:avLst/>
          </a:prstGeom>
          <a:ln w="38160">
            <a:solidFill>
              <a:srgbClr val="00b2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Тема: Вод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Что значит вода для животных, растений и челове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О каких свойствах воды вы уже знает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Приведите примеры использования воды в быт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Monotype Corsiva"/>
              </a:rPr>
              <a:t>Подтема: Превращения во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Organization Chart 5"/>
          <p:cNvGrpSpPr/>
          <p:nvPr/>
        </p:nvGrpSpPr>
        <p:grpSpPr>
          <a:xfrm>
            <a:off x="685800" y="1828800"/>
            <a:ext cx="7695720" cy="3656520"/>
            <a:chOff x="685800" y="1828800"/>
            <a:chExt cx="7695720" cy="3656520"/>
          </a:xfrm>
        </p:grpSpPr>
        <p:cxnSp>
          <p:nvCxnSpPr>
            <p:cNvPr id="164" name="_s102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514120" y="2309400"/>
              <a:ext cx="731880" cy="2694240"/>
            </a:xfrm>
            <a:prstGeom prst="bentConnector3">
              <a:avLst>
                <a:gd name="adj1" fmla="val 207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29"/>
            <p:cNvCxnSpPr>
              <a:stCxn id="168" idx="0"/>
              <a:endCxn id="166" idx="2"/>
            </p:cNvCxnSpPr>
            <p:nvPr/>
          </p:nvCxnSpPr>
          <p:spPr>
            <a:xfrm flipV="1">
              <a:off x="4533480" y="3290760"/>
              <a:ext cx="2880" cy="73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0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2822040" y="2310840"/>
              <a:ext cx="731880" cy="2691720"/>
            </a:xfrm>
            <a:prstGeom prst="bentConnector3">
              <a:avLst>
                <a:gd name="adj1" fmla="val 207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1031"/>
            <p:cNvSpPr/>
            <p:nvPr/>
          </p:nvSpPr>
          <p:spPr>
            <a:xfrm>
              <a:off x="3379320" y="182880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ff"/>
                  </a:solidFill>
                  <a:latin typeface="Comic Sans MS"/>
                </a:rPr>
                <a:t>Состояния воды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_s1032"/>
            <p:cNvSpPr/>
            <p:nvPr/>
          </p:nvSpPr>
          <p:spPr>
            <a:xfrm>
              <a:off x="68580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ff"/>
                  </a:solidFill>
                  <a:latin typeface="Comic Sans MS"/>
                </a:rPr>
                <a:t>Твёрдое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3"/>
            <p:cNvSpPr/>
            <p:nvPr/>
          </p:nvSpPr>
          <p:spPr>
            <a:xfrm>
              <a:off x="337932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ff"/>
                  </a:solidFill>
                  <a:latin typeface="Comic Sans MS"/>
                </a:rPr>
                <a:t>Жидкое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_s1034"/>
            <p:cNvSpPr/>
            <p:nvPr/>
          </p:nvSpPr>
          <p:spPr>
            <a:xfrm>
              <a:off x="607284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ff"/>
                  </a:solidFill>
                  <a:latin typeface="Comic Sans MS"/>
                </a:rPr>
                <a:t>Газообразно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Monotype Corsiva"/>
              </a:rPr>
              <a:t>Подтема: Процесс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2" name="Organization Chart 5"/>
          <p:cNvGrpSpPr/>
          <p:nvPr/>
        </p:nvGrpSpPr>
        <p:grpSpPr>
          <a:xfrm>
            <a:off x="685800" y="1828800"/>
            <a:ext cx="7695720" cy="3656520"/>
            <a:chOff x="685800" y="1828800"/>
            <a:chExt cx="7695720" cy="3656520"/>
          </a:xfrm>
        </p:grpSpPr>
        <p:cxnSp>
          <p:nvCxnSpPr>
            <p:cNvPr id="173" name="_s205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514120" y="2309400"/>
              <a:ext cx="731880" cy="2694240"/>
            </a:xfrm>
            <a:prstGeom prst="bentConnector3">
              <a:avLst>
                <a:gd name="adj1" fmla="val 207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3"/>
            <p:cNvCxnSpPr>
              <a:stCxn id="177" idx="0"/>
              <a:endCxn id="175" idx="2"/>
            </p:cNvCxnSpPr>
            <p:nvPr/>
          </p:nvCxnSpPr>
          <p:spPr>
            <a:xfrm flipV="1">
              <a:off x="4533480" y="3290760"/>
              <a:ext cx="2880" cy="73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2054"/>
            <p:cNvCxnSpPr>
              <a:stCxn id="179" idx="0"/>
              <a:endCxn id="175" idx="2"/>
            </p:cNvCxnSpPr>
            <p:nvPr/>
          </p:nvCxnSpPr>
          <p:spPr>
            <a:xfrm flipH="1" flipV="1" rot="5400000">
              <a:off x="2822040" y="2310840"/>
              <a:ext cx="731880" cy="2691720"/>
            </a:xfrm>
            <a:prstGeom prst="bentConnector3">
              <a:avLst>
                <a:gd name="adj1" fmla="val 207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5" name="_s2055"/>
            <p:cNvSpPr/>
            <p:nvPr/>
          </p:nvSpPr>
          <p:spPr>
            <a:xfrm>
              <a:off x="3379320" y="182880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Процессы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_s2056"/>
            <p:cNvSpPr/>
            <p:nvPr/>
          </p:nvSpPr>
          <p:spPr>
            <a:xfrm>
              <a:off x="68580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Испарение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_s2057"/>
            <p:cNvSpPr/>
            <p:nvPr/>
          </p:nvSpPr>
          <p:spPr>
            <a:xfrm>
              <a:off x="337932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Замерзан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_s2058"/>
            <p:cNvSpPr/>
            <p:nvPr/>
          </p:nvSpPr>
          <p:spPr>
            <a:xfrm>
              <a:off x="607284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Конденсация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Работа по плану как закрепление т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Monotype Corsiva"/>
              </a:rPr>
              <a:t>Почему морская вода солёна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Monotype Corsiva"/>
              </a:rPr>
              <a:t>Как очистить воду от нерастворимых в ней вещест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Monotype Corsiva"/>
              </a:rPr>
              <a:t>Можно ли фильтрованием сделать солёную воду пресно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Monotype Corsiva"/>
              </a:rPr>
              <a:t>Почему айсберги плавают в морской вод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Monotype Corsiva"/>
              </a:rPr>
              <a:t>Почему море не переполняется, приняв многие реки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1-02T10:42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