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5.png" ContentType="image/png"/>
  <Override PartName="/ppt/media/image11.gif" ContentType="image/gif"/>
  <Override PartName="/ppt/media/image14.jpeg" ContentType="image/jpeg"/>
  <Override PartName="/ppt/media/image2.png" ContentType="image/png"/>
  <Override PartName="/ppt/media/image3.gif" ContentType="image/gif"/>
  <Override PartName="/ppt/media/image12.png" ContentType="image/png"/>
  <Override PartName="/ppt/media/image1.jpeg" ContentType="image/jpeg"/>
  <Override PartName="/ppt/media/image4.gif" ContentType="image/gif"/>
  <Override PartName="/ppt/media/image5.jpeg" ContentType="image/jpeg"/>
  <Override PartName="/ppt/media/image7.gif" ContentType="image/gif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57BE-33D8-4822-99AD-CC9DCB83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1C4-1545-4057-A4C4-848269F2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3C2A-E8B6-426D-8A0D-ACF459F5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0F66-F572-469E-9F4B-2B4F2346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A41D-BD49-43E9-829A-22A13E49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A45A-765E-4BED-968B-CFF67A1E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F39D-1B3B-4D98-8C68-ED602CD9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7553-EBBE-4C9C-B0C1-8F801A9A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E001-A7C5-4E7D-A41D-2CE6042F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B2D2-434C-4934-8A7E-03ABAF5D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2C50-2D0A-4A80-B7B0-F4C37E07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6EB6-D337-4B95-BCC1-4C339FDC7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0F88-4C6A-4C02-8F80-D1E02C14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B721-4515-459D-927F-3A1B535A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4EE5-4FDB-4DED-87BE-89FE5DE2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1255-96F2-467C-9E1B-F7694FEB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DE89-EB5F-42DE-B3BF-0E612ECF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9B885-94A2-439E-8BC9-75658941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C565B-BCD0-4F0D-B3A3-DB73EBFF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1CEEB-0241-4F79-9B4C-E8CFC305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8DDA1-67DC-4EE3-9E32-932CF50F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8CB92-3F4E-41B6-BE6F-C200E1E4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2FD5-C9C8-4429-9B45-7C3E76A1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B83B5-2D9A-4B8B-B1D6-6580C96C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A752F-2812-4BF1-9088-B4BAEF66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BEC37-C347-4170-AB8C-3875E6C6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2E495-E748-4A33-8FD5-B0601D83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2C703-23CA-410F-8ED0-6C2792B0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D3EAC-0721-4AA7-8C26-683A713F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84F2B-6CCB-4B6A-B111-0015B93C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7343A-48FD-48D8-841E-92C1D930E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F7CC5-FFF4-4093-8E8C-D7064A13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CD19E-7C2F-419E-AA8C-D8D86006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A723-B73D-4C3F-9CFB-A0E56863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49C80-C2E8-4B4E-B43A-FB42BFF5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E6954-3C13-46C9-9F8E-53379CDD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08B18-5508-46E5-B116-9640EBC5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F9905-0D02-4F26-A40F-B2959B4C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1F77A-9815-497D-A605-DC308222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DA990-9419-4F3A-83E9-47348D62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E95ED-DEDA-47DD-854F-C21ECB1B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E22FB-F53C-4F50-896C-79BD7C1C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DAFED-3615-4A52-A32A-B0F110F4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15100-2A0E-4987-9110-63350F20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205B-E80F-48A9-8C18-CF2CEB38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03B63-AAD3-48CD-9CE5-D53473457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6FB76-B4A8-4FAB-A146-E421F248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4030C-909A-4083-B1AD-AEE8515E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B1C71-9606-4EC1-9253-04A1E48B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E3083-E7DC-4D6F-959D-4122863C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8DA85-8568-46B7-865D-743EF3FC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35CF3-36E7-41CD-BC5E-7B77E1BB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02AE4-ED3F-4E42-87B6-926E8A54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3E0EE-371B-4F21-B553-CDCEC48D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AB49F-61C1-4755-AD2D-2ED31E35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EF49-0C28-4412-A3CC-EC28D2CC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880EE-2C6D-42C4-B5C4-6F30F502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4BDA3-7E2F-49C8-8924-20BC1DF9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49025-CA47-4416-816A-DED64A6A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EFCCB-FDA8-4AA6-8E4C-BC0C9FAD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B98BE-675E-4940-AA09-494B1745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AF3A9-6D52-4B76-B4D7-17CE1B27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04432-9149-44E7-8097-4F2A18E1C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37260-E81C-4743-9A92-02763AD2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13CC9-53B6-4E10-9EF4-53EE277B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2EA8B-3DB7-469A-BB7F-D529325D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242-4981-4B60-B8D6-E8CBA68C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66697-AC10-4CAA-9B2B-06BAB1A7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F1F4F-BF95-4DC2-B57F-F8143F9D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F3459-9609-4EFC-8BDB-DBD921107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65623-0945-4BB1-93B8-0617BA8E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A141E-0A29-4539-BE59-004642B2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DEEA6-0411-48AC-96EF-CA29566D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64A56-68A3-421D-9F6B-D56916C1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D4055-9331-4806-9443-048F27CF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F761C-8562-4CED-9D29-F6345B2F3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0701B-621A-4B54-A5B7-40D0474D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19D-2E34-4919-85C1-761BF6C1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2A366-3E8B-412B-9BBF-54E8E0DD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039D7-938B-4E42-A105-03F7EC4C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3AAA6-F683-45C7-866E-4F719FAD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29FFF-5542-47C6-950D-97260671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DD4E0-8DB3-44F5-B082-4EE11F25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3EC9-D3AD-4A59-9538-8C1DA62B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31489f"/>
              </a:gs>
              <a:gs pos="100000">
                <a:srgbClr val="95a4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b4dcfa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b4dcf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C748-79A8-490E-BB90-262E29D517F7}" type="slidenum"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31489f"/>
              </a:gs>
              <a:gs pos="100000">
                <a:srgbClr val="95a4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b4dcfa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b4dcf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3401-21C5-426E-9FD6-3C2674A5A2D0}" type="slidenum"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31489f"/>
              </a:gs>
              <a:gs pos="100000">
                <a:srgbClr val="95a4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b4dcfa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b4dcf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EA9C-2B51-4FBA-94DB-05AED9E76C9A}" type="slidenum"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31489f"/>
              </a:gs>
              <a:gs pos="100000">
                <a:srgbClr val="95a4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b4dcfa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b4dcf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F228-863F-4086-8F17-E6C7795F486C}" type="slidenum"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31489f"/>
              </a:gs>
              <a:gs pos="100000">
                <a:srgbClr val="95a4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b4dcfa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b4dcf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A506-D001-45EF-A5AB-878D533F15DB}" type="slidenum"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31489f"/>
              </a:gs>
              <a:gs pos="100000">
                <a:srgbClr val="95a4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b4dcfa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b4dcf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0E9C-AF05-4A4F-8956-17440113CD09}" type="slidenum"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31489f"/>
              </a:gs>
              <a:gs pos="100000">
                <a:srgbClr val="95a4d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b4dcfa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b4dcf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4e67c8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1274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0A3E-7B20-416F-BA71-3B8DAF15285F}" type="slidenum">
              <a:rPr b="0" lang="ru-RU" sz="1000" spc="-1" strike="noStrike">
                <a:solidFill>
                  <a:srgbClr val="21274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3640" y="134136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Системно-деятельностный подход при обучении хими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6840" y="3900600"/>
            <a:ext cx="5257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Учитель химии </a:t>
            </a:r>
            <a:endParaRPr b="0" lang="en-US" sz="2000" spc="-1" strike="noStrike">
              <a:solidFill>
                <a:srgbClr val="212745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Родниковского УВК</a:t>
            </a:r>
            <a:endParaRPr b="0" lang="en-US" sz="2000" spc="-1" strike="noStrike">
              <a:solidFill>
                <a:srgbClr val="212745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ndara"/>
              </a:rPr>
              <a:t>Петрова С.В.</a:t>
            </a:r>
            <a:endParaRPr b="0" lang="en-US" sz="2000" spc="-1" strike="noStrike">
              <a:solidFill>
                <a:srgbClr val="212745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1"/>
          <p:cNvSpPr/>
          <p:nvPr/>
        </p:nvSpPr>
        <p:spPr>
          <a:xfrm>
            <a:off x="285840" y="785880"/>
            <a:ext cx="8643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Какой должна быть структура урока?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Как его подготовить?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Как добиться того, чтобы дети включились в деятельность, а не ждали, пока учитель им все расскажет?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6" name="Рисунок 3" descr="detia-708.gif"/>
          <p:cNvPicPr/>
          <p:nvPr/>
        </p:nvPicPr>
        <p:blipFill>
          <a:blip r:embed="rId1"/>
          <a:stretch/>
        </p:blipFill>
        <p:spPr>
          <a:xfrm>
            <a:off x="357120" y="3214800"/>
            <a:ext cx="2928960" cy="307188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4" descr="detia-745.gif"/>
          <p:cNvPicPr/>
          <p:nvPr/>
        </p:nvPicPr>
        <p:blipFill>
          <a:blip r:embed="rId2"/>
          <a:stretch/>
        </p:blipFill>
        <p:spPr>
          <a:xfrm>
            <a:off x="4452840" y="3643200"/>
            <a:ext cx="3262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1"/>
          <p:cNvSpPr/>
          <p:nvPr/>
        </p:nvSpPr>
        <p:spPr>
          <a:xfrm>
            <a:off x="214200" y="785880"/>
            <a:ext cx="835848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Этапы урока при системно-деятельностном подходе: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1 Вызов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обственно вызов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актуализация знаний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Candara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Осмыслени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остановка учебной задачи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открытие нового знания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оставление алгоритм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первичное закрепление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3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ndara"/>
              </a:rPr>
              <a:t>Рефлексия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амостоятельная работа -  самоконтроль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</a:rPr>
              <a:t>собственно рефлексия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9" name="Рисунок 2" descr="вопрос.jpg"/>
          <p:cNvPicPr/>
          <p:nvPr/>
        </p:nvPicPr>
        <p:blipFill>
          <a:blip r:embed="rId1"/>
          <a:stretch/>
        </p:blipFill>
        <p:spPr>
          <a:xfrm>
            <a:off x="5292720" y="1628640"/>
            <a:ext cx="37861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3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3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2000"/>
                                        <p:tgtEl>
                                          <p:spTgt spid="3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3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3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1"/>
          <p:cNvSpPr/>
          <p:nvPr/>
        </p:nvSpPr>
        <p:spPr>
          <a:xfrm>
            <a:off x="285840" y="1000080"/>
            <a:ext cx="85010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ndara"/>
                <a:ea typeface="Arial"/>
              </a:rPr>
              <a:t>Такая модель урока имеет ряд позитивных моментов: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использование различных способов деятельности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реализация всех дидактических принципов  ТРКМ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использование многих современных технологий, в том числе ИКТ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составление алгоритма действий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большая накопляемость оценок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зрелищные формы проведения урок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1" name="Рисунок 2" descr="компьютор.gif"/>
          <p:cNvPicPr/>
          <p:nvPr/>
        </p:nvPicPr>
        <p:blipFill>
          <a:blip r:embed="rId1"/>
          <a:stretch/>
        </p:blipFill>
        <p:spPr>
          <a:xfrm>
            <a:off x="5929200" y="3714840"/>
            <a:ext cx="3214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1"/>
          <p:cNvSpPr/>
          <p:nvPr/>
        </p:nvSpPr>
        <p:spPr>
          <a:xfrm>
            <a:off x="357120" y="928800"/>
            <a:ext cx="87868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В методике данного подхода предполагается, что тему урока учитель не сообщает, а используя различные методы и приемы, добивается от учащихся формулировки темы и проблемы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  <a:ea typeface="Arial"/>
              </a:rPr>
              <a:t>Это основная задача 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  <a:ea typeface="Arial"/>
              </a:rPr>
              <a:t>этапа урока «Вызов»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3" name="Рисунок 2" descr="komputeri.gif"/>
          <p:cNvPicPr/>
          <p:nvPr/>
        </p:nvPicPr>
        <p:blipFill>
          <a:blip r:embed="rId1"/>
          <a:stretch/>
        </p:blipFill>
        <p:spPr>
          <a:xfrm>
            <a:off x="5560920" y="2836800"/>
            <a:ext cx="350064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Рисунок 1" descr="лимон 3.jpg"/>
          <p:cNvPicPr/>
          <p:nvPr/>
        </p:nvPicPr>
        <p:blipFill>
          <a:blip r:embed="rId1"/>
          <a:stretch/>
        </p:blipFill>
        <p:spPr>
          <a:xfrm>
            <a:off x="3276720" y="1846440"/>
            <a:ext cx="5715000" cy="3848040"/>
          </a:xfrm>
          <a:prstGeom prst="rect">
            <a:avLst/>
          </a:prstGeom>
          <a:ln w="0">
            <a:noFill/>
          </a:ln>
        </p:spPr>
      </p:pic>
      <p:sp>
        <p:nvSpPr>
          <p:cNvPr id="375" name="TextBox 2"/>
          <p:cNvSpPr/>
          <p:nvPr/>
        </p:nvSpPr>
        <p:spPr>
          <a:xfrm>
            <a:off x="428760" y="5072040"/>
            <a:ext cx="835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  <a:ea typeface="Arial"/>
              </a:rPr>
              <a:t>Какие ассоциации вызывает у вас эта картинка?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6" name="TextBox 3"/>
          <p:cNvSpPr/>
          <p:nvPr/>
        </p:nvSpPr>
        <p:spPr>
          <a:xfrm>
            <a:off x="3348000" y="5857920"/>
            <a:ext cx="52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  <a:ea typeface="Arial"/>
              </a:rPr>
              <a:t>Почему лимон кислый?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7" name="TextBox 4"/>
          <p:cNvSpPr/>
          <p:nvPr/>
        </p:nvSpPr>
        <p:spPr>
          <a:xfrm>
            <a:off x="214200" y="785880"/>
            <a:ext cx="857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Попробуйте назвать тему нашего сегодняшнего урока.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8" name="TextBox 5"/>
          <p:cNvSpPr/>
          <p:nvPr/>
        </p:nvSpPr>
        <p:spPr>
          <a:xfrm>
            <a:off x="428760" y="227664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ndara"/>
                <a:ea typeface="Arial"/>
              </a:rPr>
              <a:t>КИСЛОТЫ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1"/>
          <p:cNvSpPr/>
          <p:nvPr/>
        </p:nvSpPr>
        <p:spPr>
          <a:xfrm>
            <a:off x="436680" y="1000080"/>
            <a:ext cx="79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Вставьте в текст пропущенные слова: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0" name="TextBox 3"/>
          <p:cNvSpPr/>
          <p:nvPr/>
        </p:nvSpPr>
        <p:spPr>
          <a:xfrm>
            <a:off x="357120" y="1643040"/>
            <a:ext cx="8501040" cy="54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ndara"/>
                <a:ea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Элемент находится в 3 периоде, 7 группе, главной подгруппе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Этот элемент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хлор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Порядковый номер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хлора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№ 17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В атоме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хлора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17 протонов и 17 электронов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На внешнем уровне у атома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хлора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7 электронов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Из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строения атома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следует, что элемент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хлор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типичный неметалл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Arial"/>
              </a:rPr>
              <a:t>6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Атом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хлора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образует простое вещество с формулой </a:t>
            </a: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Arial"/>
              </a:rPr>
              <a:t>Cl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ndara"/>
                <a:ea typeface="Arial"/>
              </a:rPr>
              <a:t>2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ndar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Arial"/>
              </a:rPr>
              <a:t>7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Вещество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хлор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по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физическим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свойствам – газ желто- зеленого цвета, ядовит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По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химическим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свойствам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хлор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активно окисляет многие металлы и неметаллы, реагирует со сложными веществами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ndara"/>
                <a:ea typeface="Arial"/>
              </a:rPr>
              <a:t>9 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Хлор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и его соединения 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применяют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для дезинфекции помещений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Тема урока: </a:t>
            </a:r>
            <a:r>
              <a:rPr b="0" lang="ru-RU" sz="2400" spc="-1" strike="noStrike">
                <a:solidFill>
                  <a:srgbClr val="c00000"/>
                </a:solidFill>
                <a:latin typeface="Candara"/>
                <a:ea typeface="Arial"/>
              </a:rPr>
              <a:t>Хлор; строение атома, физические и химические свойства, применение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1"/>
          <p:cNvSpPr/>
          <p:nvPr/>
        </p:nvSpPr>
        <p:spPr>
          <a:xfrm>
            <a:off x="357120" y="928800"/>
            <a:ext cx="87868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Можно поставить проблему с помощью эксперимента: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Опыт №1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Железо+ нитрат меди (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  <a:ea typeface="Arial"/>
              </a:rPr>
              <a:t>II)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Действие:                                     Наблюдение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Опыт №2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Цинк+ нитрат меди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  <a:ea typeface="Arial"/>
              </a:rPr>
              <a:t>(II) </a:t>
            </a: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Действие:                                      Наблюдение: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Что объединяет эти два опыта?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2" name="TextBox 2"/>
          <p:cNvSpPr/>
          <p:nvPr/>
        </p:nvSpPr>
        <p:spPr>
          <a:xfrm>
            <a:off x="1332000" y="5877000"/>
            <a:ext cx="742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Тема урока: « </a:t>
            </a:r>
            <a:r>
              <a:rPr b="0" i="1" lang="ru-RU" sz="2400" spc="-1" strike="noStrike">
                <a:solidFill>
                  <a:srgbClr val="c00000"/>
                </a:solidFill>
                <a:latin typeface="Candara"/>
                <a:ea typeface="Arial"/>
              </a:rPr>
              <a:t>Взаимодействие металлов с растворами солей</a:t>
            </a: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1989000"/>
            <a:ext cx="8229600" cy="359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Мысленный эксперимент</a:t>
            </a:r>
            <a:br>
              <a:rPr sz="32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е условия необходимо создать для взаимодействия кристаллических веществ: гидроксида калия 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ульфата меди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(II)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?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II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).</a:t>
            </a:r>
            <a:br>
              <a:rPr sz="32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Этап  - ОСМЫСЛЕ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1187280" y="2714760"/>
            <a:ext cx="66247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1"/>
          <p:cNvSpPr/>
          <p:nvPr/>
        </p:nvSpPr>
        <p:spPr>
          <a:xfrm>
            <a:off x="539640" y="260280"/>
            <a:ext cx="829476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Рассмотрите формулы кислот и найдите сходство между ними. Дайте определение кислот</a:t>
            </a:r>
            <a:r>
              <a:rPr b="1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87" name="Рисунок 2" descr="кислоты формулы и названия.jpg"/>
          <p:cNvPicPr/>
          <p:nvPr/>
        </p:nvPicPr>
        <p:blipFill>
          <a:blip r:embed="rId1"/>
          <a:stretch/>
        </p:blipFill>
        <p:spPr>
          <a:xfrm>
            <a:off x="425520" y="1225440"/>
            <a:ext cx="829296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1"/>
          <p:cNvSpPr/>
          <p:nvPr/>
        </p:nvSpPr>
        <p:spPr>
          <a:xfrm>
            <a:off x="1116000" y="1268280"/>
            <a:ext cx="74296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Candara"/>
                <a:ea typeface="Arial"/>
              </a:rPr>
              <a:t>«Школа не должна научить на всю жизнь, школа должна научить учиться всю жизнь»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Восточная мудрость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38" name="Рисунок 2" descr="школьники.jpg"/>
          <p:cNvPicPr/>
          <p:nvPr/>
        </p:nvPicPr>
        <p:blipFill>
          <a:blip r:embed="rId1"/>
          <a:stretch/>
        </p:blipFill>
        <p:spPr>
          <a:xfrm>
            <a:off x="2627280" y="3565440"/>
            <a:ext cx="392904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Box 1"/>
          <p:cNvSpPr/>
          <p:nvPr/>
        </p:nvSpPr>
        <p:spPr>
          <a:xfrm>
            <a:off x="611280" y="981000"/>
            <a:ext cx="8043840" cy="34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ndara"/>
                <a:ea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Рассмотрите формулы кислот и ответьте на вопрос: как можно распределить кислоты в группы по составу</a:t>
            </a:r>
            <a:r>
              <a:rPr b="0" i="1" lang="en-US" sz="2800" spc="-1" strike="noStrike">
                <a:solidFill>
                  <a:srgbClr val="000000"/>
                </a:solidFill>
                <a:latin typeface="Candar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Обратите внимание на то, сколько атомов водорода может быть в кислоте, на наличие в составе кислорода. Составьте схему классификации кислот по этим двум признакам</a:t>
            </a:r>
            <a:r>
              <a:rPr b="0" i="1" lang="ru-RU" sz="2500" spc="-1" strike="noStrike">
                <a:solidFill>
                  <a:srgbClr val="000000"/>
                </a:solidFill>
                <a:latin typeface="Candara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89" name="Рисунок 2" descr="химичка размешивает сахар с серной кислотойцй.gif"/>
          <p:cNvPicPr/>
          <p:nvPr/>
        </p:nvPicPr>
        <p:blipFill>
          <a:blip r:embed="rId1"/>
          <a:stretch/>
        </p:blipFill>
        <p:spPr>
          <a:xfrm>
            <a:off x="2390760" y="3645000"/>
            <a:ext cx="49896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1"/>
          <p:cNvSpPr/>
          <p:nvPr/>
        </p:nvSpPr>
        <p:spPr>
          <a:xfrm>
            <a:off x="2498760" y="317520"/>
            <a:ext cx="641520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Сравните схему с той, которую составили вы сами: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1" name="Овал 2"/>
          <p:cNvSpPr/>
          <p:nvPr/>
        </p:nvSpPr>
        <p:spPr>
          <a:xfrm>
            <a:off x="2822400" y="901800"/>
            <a:ext cx="4146840" cy="971280"/>
          </a:xfrm>
          <a:prstGeom prst="ellipse">
            <a:avLst/>
          </a:prstGeom>
          <a:solidFill>
            <a:srgbClr val="ff8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ndara"/>
              </a:rPr>
              <a:t>Кислоты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2" name="Овал 3"/>
          <p:cNvSpPr/>
          <p:nvPr/>
        </p:nvSpPr>
        <p:spPr>
          <a:xfrm>
            <a:off x="684360" y="2585880"/>
            <a:ext cx="3822480" cy="830520"/>
          </a:xfrm>
          <a:prstGeom prst="ellipse">
            <a:avLst/>
          </a:prstGeom>
          <a:solidFill>
            <a:srgbClr val="a7ea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ndara"/>
              </a:rPr>
              <a:t>По наличию атомов кислорода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3" name="Овал 4"/>
          <p:cNvSpPr/>
          <p:nvPr/>
        </p:nvSpPr>
        <p:spPr>
          <a:xfrm>
            <a:off x="4896000" y="2349360"/>
            <a:ext cx="3887640" cy="949320"/>
          </a:xfrm>
          <a:prstGeom prst="ellipse">
            <a:avLst/>
          </a:prstGeom>
          <a:solidFill>
            <a:srgbClr val="a7ea5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ndara"/>
              </a:rPr>
              <a:t>По количеству атомов водорода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4" name="Овал 5"/>
          <p:cNvSpPr/>
          <p:nvPr/>
        </p:nvSpPr>
        <p:spPr>
          <a:xfrm>
            <a:off x="214200" y="4429080"/>
            <a:ext cx="2857680" cy="8301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кислород-содержащие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5" name="Овал 6"/>
          <p:cNvSpPr/>
          <p:nvPr/>
        </p:nvSpPr>
        <p:spPr>
          <a:xfrm>
            <a:off x="2239920" y="5438880"/>
            <a:ext cx="3175200" cy="77616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бескислородные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6" name="Овал 7"/>
          <p:cNvSpPr/>
          <p:nvPr/>
        </p:nvSpPr>
        <p:spPr>
          <a:xfrm>
            <a:off x="2952720" y="4011480"/>
            <a:ext cx="3368880" cy="77796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ndara"/>
                <a:ea typeface="Arial"/>
              </a:rPr>
              <a:t>трехосновные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7" name="Овал 8"/>
          <p:cNvSpPr/>
          <p:nvPr/>
        </p:nvSpPr>
        <p:spPr>
          <a:xfrm>
            <a:off x="5349960" y="5567400"/>
            <a:ext cx="2916000" cy="110160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ndara"/>
                <a:ea typeface="Arial"/>
              </a:rPr>
              <a:t>двухосновные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8" name="Овал 9"/>
          <p:cNvSpPr/>
          <p:nvPr/>
        </p:nvSpPr>
        <p:spPr>
          <a:xfrm>
            <a:off x="5803920" y="4336920"/>
            <a:ext cx="3044880" cy="103680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ndara"/>
                <a:ea typeface="Arial"/>
              </a:rPr>
              <a:t>одноосновные</a:t>
            </a:r>
            <a:endParaRPr b="0" lang="en-US" sz="22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399" name="Прямая со стрелкой 11"/>
          <p:cNvCxnSpPr>
            <a:stCxn id="391" idx="3"/>
          </p:cNvCxnSpPr>
          <p:nvPr/>
        </p:nvCxnSpPr>
        <p:spPr>
          <a:xfrm flipH="1">
            <a:off x="2174400" y="1730520"/>
            <a:ext cx="1256400" cy="98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0" name="Прямая со стрелкой 15"/>
          <p:cNvCxnSpPr>
            <a:endCxn id="393" idx="0"/>
          </p:cNvCxnSpPr>
          <p:nvPr/>
        </p:nvCxnSpPr>
        <p:spPr>
          <a:xfrm>
            <a:off x="6190920" y="1744560"/>
            <a:ext cx="6498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1" name="Прямая со стрелкой 18"/>
          <p:cNvCxnSpPr/>
          <p:nvPr/>
        </p:nvCxnSpPr>
        <p:spPr>
          <a:xfrm flipH="1">
            <a:off x="1137600" y="3429000"/>
            <a:ext cx="903960" cy="11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2" name="Прямая со стрелкой 20"/>
          <p:cNvCxnSpPr>
            <a:endCxn id="395" idx="0"/>
          </p:cNvCxnSpPr>
          <p:nvPr/>
        </p:nvCxnSpPr>
        <p:spPr>
          <a:xfrm>
            <a:off x="3145320" y="3428640"/>
            <a:ext cx="680040" cy="201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3" name="Прямая со стрелкой 24"/>
          <p:cNvCxnSpPr>
            <a:endCxn id="398" idx="0"/>
          </p:cNvCxnSpPr>
          <p:nvPr/>
        </p:nvCxnSpPr>
        <p:spPr>
          <a:xfrm flipH="1">
            <a:off x="7326000" y="3298680"/>
            <a:ext cx="32400" cy="1038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4" name="Прямая со стрелкой 27"/>
          <p:cNvCxnSpPr/>
          <p:nvPr/>
        </p:nvCxnSpPr>
        <p:spPr>
          <a:xfrm>
            <a:off x="5673600" y="3234960"/>
            <a:ext cx="907200" cy="239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5" name="Прямая со стрелкой 30"/>
          <p:cNvCxnSpPr>
            <a:stCxn id="393" idx="3"/>
          </p:cNvCxnSpPr>
          <p:nvPr/>
        </p:nvCxnSpPr>
        <p:spPr>
          <a:xfrm flipH="1">
            <a:off x="4440960" y="3160800"/>
            <a:ext cx="1024920" cy="91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3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3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7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7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7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7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Рефлекс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1547640" y="2249640"/>
            <a:ext cx="6480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Рисунок 2" descr="картина.jpg"/>
          <p:cNvPicPr/>
          <p:nvPr/>
        </p:nvPicPr>
        <p:blipFill>
          <a:blip r:embed="rId1"/>
          <a:stretch/>
        </p:blipFill>
        <p:spPr>
          <a:xfrm>
            <a:off x="4067280" y="2535120"/>
            <a:ext cx="5076720" cy="3927600"/>
          </a:xfrm>
          <a:prstGeom prst="rect">
            <a:avLst/>
          </a:prstGeom>
          <a:ln w="0">
            <a:noFill/>
          </a:ln>
        </p:spPr>
      </p:pic>
      <p:sp>
        <p:nvSpPr>
          <p:cNvPr id="409" name="TextBox 1"/>
          <p:cNvSpPr/>
          <p:nvPr/>
        </p:nvSpPr>
        <p:spPr>
          <a:xfrm>
            <a:off x="468360" y="692280"/>
            <a:ext cx="61833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Сегодня на уроке я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-Научился…………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-Мне показалось важным……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-Я понял, что……….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-Я почувствовал, что……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Своей работой на уроке я…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-Доволен….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-Не совсем доволен…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-Я не доволен потому, что….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ndara"/>
                <a:ea typeface="Arial"/>
              </a:rPr>
              <a:t>Теперь я смогу…….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125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3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Box 1"/>
          <p:cNvSpPr/>
          <p:nvPr/>
        </p:nvSpPr>
        <p:spPr>
          <a:xfrm>
            <a:off x="428760" y="1000080"/>
            <a:ext cx="850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Синквейн- способ творческой рефлексии в виде «стихотворения», написанного по определенным правилам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1 строка – одно существительное;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2 строка – два прилагательных;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3 строка – три глагола;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4 строка – предложение;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5 строка – одно существительное, которое выражает суть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1" name="TextBox 2"/>
          <p:cNvSpPr/>
          <p:nvPr/>
        </p:nvSpPr>
        <p:spPr>
          <a:xfrm>
            <a:off x="2340000" y="4076640"/>
            <a:ext cx="8215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Например: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1 – Водород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2 – Бесцветный, легкий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3 – Реагирует, восстанавливает, сгорает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4 – В смеси с кислородом взрывоопасен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5 – Газ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8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8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8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8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8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8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8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1"/>
          <p:cNvSpPr/>
          <p:nvPr/>
        </p:nvSpPr>
        <p:spPr>
          <a:xfrm>
            <a:off x="714240" y="571680"/>
            <a:ext cx="714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Составление  кластера: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3" name="Овал 2"/>
          <p:cNvSpPr/>
          <p:nvPr/>
        </p:nvSpPr>
        <p:spPr>
          <a:xfrm>
            <a:off x="3286080" y="2786040"/>
            <a:ext cx="2928960" cy="1143000"/>
          </a:xfrm>
          <a:prstGeom prst="ellipse">
            <a:avLst/>
          </a:prstGeom>
          <a:solidFill>
            <a:srgbClr val="d85c00"/>
          </a:solidFill>
          <a:ln w="15840">
            <a:solidFill>
              <a:srgbClr val="2633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4" name="TextBox 3"/>
          <p:cNvSpPr/>
          <p:nvPr/>
        </p:nvSpPr>
        <p:spPr>
          <a:xfrm>
            <a:off x="3571920" y="307188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ndara"/>
                <a:ea typeface="Arial"/>
              </a:rPr>
              <a:t>кислоты</a:t>
            </a:r>
            <a:endParaRPr b="0" lang="en-US" sz="2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5" name="TextBox 4"/>
          <p:cNvSpPr/>
          <p:nvPr/>
        </p:nvSpPr>
        <p:spPr>
          <a:xfrm>
            <a:off x="3786120" y="200016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Классификация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кислот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6" name="TextBox 5"/>
          <p:cNvSpPr/>
          <p:nvPr/>
        </p:nvSpPr>
        <p:spPr>
          <a:xfrm>
            <a:off x="1500120" y="18572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По составу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7" name="TextBox 6"/>
          <p:cNvSpPr/>
          <p:nvPr/>
        </p:nvSpPr>
        <p:spPr>
          <a:xfrm>
            <a:off x="285840" y="1143000"/>
            <a:ext cx="150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кислородные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8" name="TextBox 7"/>
          <p:cNvSpPr/>
          <p:nvPr/>
        </p:nvSpPr>
        <p:spPr>
          <a:xfrm>
            <a:off x="2071800" y="1285920"/>
            <a:ext cx="192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ndara"/>
                <a:ea typeface="Arial"/>
              </a:rPr>
              <a:t>бескислородные</a:t>
            </a:r>
            <a:endParaRPr b="0" lang="en-US" sz="16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9" name="TextBox 8"/>
          <p:cNvSpPr/>
          <p:nvPr/>
        </p:nvSpPr>
        <p:spPr>
          <a:xfrm>
            <a:off x="6072120" y="2000160"/>
            <a:ext cx="242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По количеству атомов водорода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0" name="TextBox 9"/>
          <p:cNvSpPr/>
          <p:nvPr/>
        </p:nvSpPr>
        <p:spPr>
          <a:xfrm>
            <a:off x="4857840" y="100008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одноосновные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1" name="TextBox 10"/>
          <p:cNvSpPr/>
          <p:nvPr/>
        </p:nvSpPr>
        <p:spPr>
          <a:xfrm>
            <a:off x="6572160" y="1357200"/>
            <a:ext cx="17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двухосновные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2" name="TextBox 11"/>
          <p:cNvSpPr/>
          <p:nvPr/>
        </p:nvSpPr>
        <p:spPr>
          <a:xfrm>
            <a:off x="7215120" y="71424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трехосновные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423" name="Прямая со стрелкой 13"/>
          <p:cNvCxnSpPr>
            <a:stCxn id="413" idx="0"/>
          </p:cNvCxnSpPr>
          <p:nvPr/>
        </p:nvCxnSpPr>
        <p:spPr>
          <a:xfrm flipV="1">
            <a:off x="4750200" y="2356560"/>
            <a:ext cx="35640" cy="4294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24" name="Прямая со стрелкой 18"/>
          <p:cNvCxnSpPr>
            <a:stCxn id="415" idx="1"/>
          </p:cNvCxnSpPr>
          <p:nvPr/>
        </p:nvCxnSpPr>
        <p:spPr>
          <a:xfrm flipH="1" flipV="1">
            <a:off x="2428560" y="2142360"/>
            <a:ext cx="1357920" cy="18180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25" name="Прямая со стрелкой 21"/>
          <p:cNvCxnSpPr/>
          <p:nvPr/>
        </p:nvCxnSpPr>
        <p:spPr>
          <a:xfrm flipV="1">
            <a:off x="5714640" y="2071080"/>
            <a:ext cx="500760" cy="14364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26" name="Прямая со стрелкой 23"/>
          <p:cNvCxnSpPr>
            <a:endCxn id="417" idx="2"/>
          </p:cNvCxnSpPr>
          <p:nvPr/>
        </p:nvCxnSpPr>
        <p:spPr>
          <a:xfrm flipH="1" flipV="1">
            <a:off x="1034640" y="1480680"/>
            <a:ext cx="1037520" cy="4485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27" name="Прямая со стрелкой 25"/>
          <p:cNvCxnSpPr/>
          <p:nvPr/>
        </p:nvCxnSpPr>
        <p:spPr>
          <a:xfrm flipV="1">
            <a:off x="2286000" y="1571400"/>
            <a:ext cx="643320" cy="35784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28" name="Прямая со стрелкой 29"/>
          <p:cNvCxnSpPr/>
          <p:nvPr/>
        </p:nvCxnSpPr>
        <p:spPr>
          <a:xfrm flipH="1" flipV="1">
            <a:off x="5571360" y="1285200"/>
            <a:ext cx="1500840" cy="78660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29" name="Прямая со стрелкой 31"/>
          <p:cNvCxnSpPr/>
          <p:nvPr/>
        </p:nvCxnSpPr>
        <p:spPr>
          <a:xfrm flipV="1">
            <a:off x="7429680" y="999360"/>
            <a:ext cx="786240" cy="114372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30" name="Прямая со стрелкой 33"/>
          <p:cNvCxnSpPr/>
          <p:nvPr/>
        </p:nvCxnSpPr>
        <p:spPr>
          <a:xfrm flipV="1">
            <a:off x="7143840" y="1571040"/>
            <a:ext cx="72000" cy="5007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431" name="TextBox 34"/>
          <p:cNvSpPr/>
          <p:nvPr/>
        </p:nvSpPr>
        <p:spPr>
          <a:xfrm>
            <a:off x="3786120" y="457200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применение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2" name="TextBox 35"/>
          <p:cNvSpPr/>
          <p:nvPr/>
        </p:nvSpPr>
        <p:spPr>
          <a:xfrm>
            <a:off x="2071800" y="521496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В медицине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3" name="TextBox 36"/>
          <p:cNvSpPr/>
          <p:nvPr/>
        </p:nvSpPr>
        <p:spPr>
          <a:xfrm>
            <a:off x="3571920" y="5929200"/>
            <a:ext cx="235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В пищевой промышленности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34" name="TextBox 37"/>
          <p:cNvSpPr/>
          <p:nvPr/>
        </p:nvSpPr>
        <p:spPr>
          <a:xfrm>
            <a:off x="5857920" y="5286240"/>
            <a:ext cx="264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Приготовление силоса для животных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435" name="Прямая со стрелкой 39"/>
          <p:cNvCxnSpPr/>
          <p:nvPr/>
        </p:nvCxnSpPr>
        <p:spPr>
          <a:xfrm flipH="1">
            <a:off x="4500360" y="4000320"/>
            <a:ext cx="72000" cy="64332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36" name="Прямая со стрелкой 43"/>
          <p:cNvCxnSpPr/>
          <p:nvPr/>
        </p:nvCxnSpPr>
        <p:spPr>
          <a:xfrm flipH="1">
            <a:off x="2714040" y="4785120"/>
            <a:ext cx="1572120" cy="5007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37" name="Прямая со стрелкой 45"/>
          <p:cNvCxnSpPr/>
          <p:nvPr/>
        </p:nvCxnSpPr>
        <p:spPr>
          <a:xfrm flipH="1">
            <a:off x="4142880" y="4857480"/>
            <a:ext cx="215280" cy="114372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38" name="Прямая со стрелкой 47"/>
          <p:cNvCxnSpPr/>
          <p:nvPr/>
        </p:nvCxnSpPr>
        <p:spPr>
          <a:xfrm>
            <a:off x="4572000" y="4857480"/>
            <a:ext cx="2000880" cy="5007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439" name="TextBox 48"/>
          <p:cNvSpPr/>
          <p:nvPr/>
        </p:nvSpPr>
        <p:spPr>
          <a:xfrm>
            <a:off x="1285920" y="3214800"/>
            <a:ext cx="185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Нахождение в природе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0" name="TextBox 49"/>
          <p:cNvSpPr/>
          <p:nvPr/>
        </p:nvSpPr>
        <p:spPr>
          <a:xfrm>
            <a:off x="285840" y="235728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В организме животных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1" name="TextBox 50"/>
          <p:cNvSpPr/>
          <p:nvPr/>
        </p:nvSpPr>
        <p:spPr>
          <a:xfrm>
            <a:off x="357120" y="4500720"/>
            <a:ext cx="24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В организме человека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2" name="TextBox 51"/>
          <p:cNvSpPr/>
          <p:nvPr/>
        </p:nvSpPr>
        <p:spPr>
          <a:xfrm>
            <a:off x="0" y="328608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В растениях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443" name="Прямая со стрелкой 53"/>
          <p:cNvCxnSpPr>
            <a:endCxn id="440" idx="2"/>
          </p:cNvCxnSpPr>
          <p:nvPr/>
        </p:nvCxnSpPr>
        <p:spPr>
          <a:xfrm flipH="1" flipV="1">
            <a:off x="1428840" y="2665440"/>
            <a:ext cx="643320" cy="62100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44" name="Прямая со стрелкой 55"/>
          <p:cNvCxnSpPr>
            <a:endCxn id="442" idx="3"/>
          </p:cNvCxnSpPr>
          <p:nvPr/>
        </p:nvCxnSpPr>
        <p:spPr>
          <a:xfrm flipH="1" flipV="1">
            <a:off x="1213920" y="3439440"/>
            <a:ext cx="215280" cy="6084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45" name="Прямая со стрелкой 58"/>
          <p:cNvCxnSpPr/>
          <p:nvPr/>
        </p:nvCxnSpPr>
        <p:spPr>
          <a:xfrm flipH="1">
            <a:off x="1071360" y="3714480"/>
            <a:ext cx="786240" cy="8578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446" name="Прямая со стрелкой 60"/>
          <p:cNvCxnSpPr/>
          <p:nvPr/>
        </p:nvCxnSpPr>
        <p:spPr>
          <a:xfrm flipH="1" flipV="1">
            <a:off x="2642760" y="3357360"/>
            <a:ext cx="572400" cy="21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447" name="TextBox 61"/>
          <p:cNvSpPr/>
          <p:nvPr/>
        </p:nvSpPr>
        <p:spPr>
          <a:xfrm>
            <a:off x="6929280" y="3429000"/>
            <a:ext cx="171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ndara"/>
                <a:ea typeface="Arial"/>
              </a:rPr>
              <a:t>Что такое кислота</a:t>
            </a:r>
            <a:endParaRPr b="0" lang="en-US" sz="1400" spc="-1" strike="noStrike">
              <a:solidFill>
                <a:srgbClr val="000000"/>
              </a:solidFill>
              <a:latin typeface="Candara"/>
            </a:endParaRPr>
          </a:p>
        </p:txBody>
      </p:sp>
      <p:cxnSp>
        <p:nvCxnSpPr>
          <p:cNvPr id="448" name="Прямая со стрелкой 63"/>
          <p:cNvCxnSpPr>
            <a:stCxn id="413" idx="6"/>
          </p:cNvCxnSpPr>
          <p:nvPr/>
        </p:nvCxnSpPr>
        <p:spPr>
          <a:xfrm>
            <a:off x="6215040" y="3357720"/>
            <a:ext cx="1357920" cy="1432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1"/>
          <p:cNvSpPr/>
          <p:nvPr/>
        </p:nvSpPr>
        <p:spPr>
          <a:xfrm>
            <a:off x="611280" y="981000"/>
            <a:ext cx="8391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Изменения, вносимые в образовательный процесс оказывают огромное влияние на ученика: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повышается интерес к предмету;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растет успеваемость;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учащиеся могут проявить себя в новой роли;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вырабатывается устойчивый навык к самостоя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создается ситуация успеха;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ndara"/>
                <a:ea typeface="Arial"/>
              </a:rPr>
              <a:t>урок работает на конкретного ученика, так как он работает в темпе, который оптимален для него.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2000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4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4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2000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Рисунок 1" descr="химик проделывает опыт.jpg"/>
          <p:cNvPicPr/>
          <p:nvPr/>
        </p:nvPicPr>
        <p:blipFill>
          <a:blip r:embed="rId1"/>
          <a:stretch/>
        </p:blipFill>
        <p:spPr>
          <a:xfrm>
            <a:off x="1403280" y="1822320"/>
            <a:ext cx="6942240" cy="5035680"/>
          </a:xfrm>
          <a:prstGeom prst="rect">
            <a:avLst/>
          </a:prstGeom>
          <a:ln w="0">
            <a:noFill/>
          </a:ln>
        </p:spPr>
      </p:pic>
      <p:sp>
        <p:nvSpPr>
          <p:cNvPr id="451" name="TextBox 3"/>
          <p:cNvSpPr/>
          <p:nvPr/>
        </p:nvSpPr>
        <p:spPr>
          <a:xfrm>
            <a:off x="1347840" y="907920"/>
            <a:ext cx="6997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ndara"/>
                <a:ea typeface="Arial"/>
              </a:rPr>
              <a:t>Благодарю за внимание!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52" name="Picture 2" descr=""/>
          <p:cNvPicPr/>
          <p:nvPr/>
        </p:nvPicPr>
        <p:blipFill>
          <a:blip r:embed="rId2"/>
          <a:stretch/>
        </p:blipFill>
        <p:spPr>
          <a:xfrm>
            <a:off x="0" y="368280"/>
            <a:ext cx="23842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3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1181160" y="1628640"/>
            <a:ext cx="6769080" cy="49420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31828"/>
                </a:solidFill>
                <a:latin typeface="Candara"/>
              </a:rPr>
              <a:t>«МОДЕЛЬ ВЫПУСКНИКА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ОС   пункт 7:  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В основе стандарта лежит системно- деятельностный подход, который представляет: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и развитие качества личности, отвечающих требованиям информационного общества;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ход к стратегии социального проектирования и конструирования в системе образования на основе разработки содержания и технологий образования;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иентацию на результаты образования (развитие личности обучающихся на основе универсальных учебных действий), что означает умение учиться, т.е. способность ученика к саморазвитию путем сознательного и активного присвоения нового социального опыта.»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3141360"/>
            <a:ext cx="7772400" cy="1523880"/>
          </a:xfrm>
          <a:prstGeom prst="rect">
            <a:avLst/>
          </a:prstGeom>
          <a:solidFill>
            <a:srgbClr val="f78d7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31828"/>
                </a:solidFill>
                <a:latin typeface="Candara"/>
              </a:rPr>
              <a:t>ДЕЯТЕЛЬНОСТЬ = ЛИЧН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1773360"/>
            <a:ext cx="738972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Суть метода </a:t>
            </a:r>
            <a:endParaRPr b="0" lang="en-US" sz="2800" spc="-1" strike="noStrike">
              <a:solidFill>
                <a:srgbClr val="212745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системно-деятельностного подхода</a:t>
            </a:r>
            <a:endParaRPr b="0" lang="en-US" sz="2800" spc="-1" strike="noStrike">
              <a:solidFill>
                <a:srgbClr val="212745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19120" y="2565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ятельностного подхода является воспитание личности ребенка как субъекта жизнедеятельности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ыть субъекто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быть хозяином своей деятельности, ставить цели, решать задачи, отвечать за результат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Скругленный прямоугольник 2"/>
          <p:cNvSpPr/>
          <p:nvPr/>
        </p:nvSpPr>
        <p:spPr>
          <a:xfrm>
            <a:off x="785880" y="820800"/>
            <a:ext cx="7572240" cy="642960"/>
          </a:xfrm>
          <a:prstGeom prst="roundRect">
            <a:avLst>
              <a:gd name="adj" fmla="val 16667"/>
            </a:avLst>
          </a:prstGeom>
          <a:solidFill>
            <a:srgbClr val="edfbdc"/>
          </a:solidFill>
          <a:ln w="15840">
            <a:solidFill>
              <a:srgbClr val="2633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ndara"/>
              </a:rPr>
              <a:t>Системно - деятельностный подход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6" name="Прямоугольник 3"/>
          <p:cNvSpPr/>
          <p:nvPr/>
        </p:nvSpPr>
        <p:spPr>
          <a:xfrm>
            <a:off x="571680" y="1714680"/>
            <a:ext cx="8143560" cy="571320"/>
          </a:xfrm>
          <a:prstGeom prst="rect">
            <a:avLst/>
          </a:prstGeom>
          <a:solidFill>
            <a:srgbClr val="fcd9d3"/>
          </a:solidFill>
          <a:ln w="15840">
            <a:solidFill>
              <a:srgbClr val="2633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21a08"/>
                </a:solidFill>
                <a:latin typeface="Candara"/>
              </a:rPr>
              <a:t>Основной результат </a:t>
            </a:r>
            <a:r>
              <a:rPr b="0" i="1" lang="ru-RU" sz="1800" spc="-1" strike="noStrike">
                <a:solidFill>
                  <a:srgbClr val="821a08"/>
                </a:solidFill>
                <a:latin typeface="Candara"/>
              </a:rPr>
              <a:t>– развитие личности ребенка на основе учебной деятельности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7" name="TextBox 4"/>
          <p:cNvSpPr/>
          <p:nvPr/>
        </p:nvSpPr>
        <p:spPr>
          <a:xfrm>
            <a:off x="285840" y="263700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ndara"/>
                <a:ea typeface="Arial"/>
              </a:rPr>
              <a:t>Основная педагогическая задача- создание и организация условий, 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ndara"/>
                <a:ea typeface="Arial"/>
              </a:rPr>
              <a:t>инициирующих действие учащегося.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8" name="Стрелка вправо 5"/>
          <p:cNvSpPr/>
          <p:nvPr/>
        </p:nvSpPr>
        <p:spPr>
          <a:xfrm>
            <a:off x="606600" y="3282840"/>
            <a:ext cx="8216640" cy="9320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2f2f2"/>
          </a:solidFill>
          <a:ln w="15840">
            <a:solidFill>
              <a:srgbClr val="2633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31828"/>
                </a:solidFill>
                <a:latin typeface="Candara"/>
              </a:rPr>
              <a:t>Вектор смещения акцентов нового стандарта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9" name="Овал 7"/>
          <p:cNvSpPr/>
          <p:nvPr/>
        </p:nvSpPr>
        <p:spPr>
          <a:xfrm>
            <a:off x="1143000" y="4143240"/>
            <a:ext cx="1928880" cy="1928880"/>
          </a:xfrm>
          <a:prstGeom prst="ellipse">
            <a:avLst/>
          </a:prstGeom>
          <a:solidFill>
            <a:srgbClr val="81d31a"/>
          </a:solidFill>
          <a:ln w="15840">
            <a:solidFill>
              <a:srgbClr val="2633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0" name="TextBox 8"/>
          <p:cNvSpPr/>
          <p:nvPr/>
        </p:nvSpPr>
        <p:spPr>
          <a:xfrm>
            <a:off x="1500120" y="457200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Чему учить?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Обновление содержания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1" name="Овал 9"/>
          <p:cNvSpPr/>
          <p:nvPr/>
        </p:nvSpPr>
        <p:spPr>
          <a:xfrm>
            <a:off x="3571920" y="4214880"/>
            <a:ext cx="2000160" cy="1785960"/>
          </a:xfrm>
          <a:prstGeom prst="ellipse">
            <a:avLst/>
          </a:prstGeom>
          <a:solidFill>
            <a:srgbClr val="f78d7c"/>
          </a:solidFill>
          <a:ln w="15840">
            <a:solidFill>
              <a:srgbClr val="2633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2" name="TextBox 10"/>
          <p:cNvSpPr/>
          <p:nvPr/>
        </p:nvSpPr>
        <p:spPr>
          <a:xfrm>
            <a:off x="3786120" y="4429080"/>
            <a:ext cx="18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Ради чего учить?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Ценности образования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3" name="Овал 11"/>
          <p:cNvSpPr/>
          <p:nvPr/>
        </p:nvSpPr>
        <p:spPr>
          <a:xfrm>
            <a:off x="6357960" y="4357800"/>
            <a:ext cx="1857240" cy="1714320"/>
          </a:xfrm>
          <a:prstGeom prst="ellipse">
            <a:avLst/>
          </a:prstGeom>
          <a:solidFill>
            <a:srgbClr val="9ee2cf"/>
          </a:solidFill>
          <a:ln w="15840">
            <a:solidFill>
              <a:srgbClr val="2633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4" name="TextBox 12"/>
          <p:cNvSpPr/>
          <p:nvPr/>
        </p:nvSpPr>
        <p:spPr>
          <a:xfrm>
            <a:off x="6572160" y="4500720"/>
            <a:ext cx="15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Как учить?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ndara"/>
                <a:ea typeface="Arial"/>
              </a:rPr>
              <a:t>Обновление средств обучения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5" name="Прямоугольник 13"/>
          <p:cNvSpPr/>
          <p:nvPr/>
        </p:nvSpPr>
        <p:spPr>
          <a:xfrm>
            <a:off x="357120" y="6215040"/>
            <a:ext cx="8572680" cy="428760"/>
          </a:xfrm>
          <a:prstGeom prst="rect">
            <a:avLst/>
          </a:prstGeom>
          <a:solidFill>
            <a:srgbClr val="ffb37a"/>
          </a:solidFill>
          <a:ln w="15840">
            <a:solidFill>
              <a:srgbClr val="2633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ndara"/>
              </a:rPr>
              <a:t>Формирование универсальных учебных  действий</a:t>
            </a: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Овал 1"/>
          <p:cNvSpPr/>
          <p:nvPr/>
        </p:nvSpPr>
        <p:spPr>
          <a:xfrm>
            <a:off x="1214280" y="714240"/>
            <a:ext cx="6643800" cy="857520"/>
          </a:xfrm>
          <a:prstGeom prst="ellipse">
            <a:avLst/>
          </a:prstGeom>
          <a:solidFill>
            <a:srgbClr val="b8c2e9"/>
          </a:solidFill>
          <a:ln w="15840">
            <a:solidFill>
              <a:srgbClr val="2633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7" name="TextBox 2"/>
          <p:cNvSpPr/>
          <p:nvPr/>
        </p:nvSpPr>
        <p:spPr>
          <a:xfrm>
            <a:off x="1979640" y="789120"/>
            <a:ext cx="51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ndara"/>
                <a:ea typeface="Arial"/>
              </a:rPr>
              <a:t>Деятельностный подход: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ndara"/>
                <a:ea typeface="Arial"/>
              </a:rPr>
              <a:t>следствие для системы оценк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8" name="Прямоугольник 3"/>
          <p:cNvSpPr/>
          <p:nvPr/>
        </p:nvSpPr>
        <p:spPr>
          <a:xfrm>
            <a:off x="642960" y="1928880"/>
            <a:ext cx="7286760" cy="714240"/>
          </a:xfrm>
          <a:prstGeom prst="rect">
            <a:avLst/>
          </a:prstGeom>
          <a:solidFill>
            <a:srgbClr val="81d31a"/>
          </a:solidFill>
          <a:ln w="15840">
            <a:solidFill>
              <a:srgbClr val="2633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785880" y="200016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ndara"/>
                <a:ea typeface="Arial"/>
              </a:rPr>
              <a:t>Овладение системой универсальных  учебных действий 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ndara"/>
                <a:ea typeface="Arial"/>
              </a:rPr>
              <a:t>с изучаемым учебным материалом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0" name="Стрелка вниз 5"/>
          <p:cNvSpPr/>
          <p:nvPr/>
        </p:nvSpPr>
        <p:spPr>
          <a:xfrm>
            <a:off x="3132000" y="2708280"/>
            <a:ext cx="3071880" cy="2077920"/>
          </a:xfrm>
          <a:prstGeom prst="downArrow">
            <a:avLst>
              <a:gd name="adj1" fmla="val 50000"/>
              <a:gd name="adj2" fmla="val 56463"/>
            </a:avLst>
          </a:prstGeom>
          <a:solidFill>
            <a:srgbClr val="bfbfbf"/>
          </a:solidFill>
          <a:ln w="15840">
            <a:solidFill>
              <a:srgbClr val="2633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1" name="Прямоугольник 6"/>
          <p:cNvSpPr/>
          <p:nvPr/>
        </p:nvSpPr>
        <p:spPr>
          <a:xfrm>
            <a:off x="642960" y="4786200"/>
            <a:ext cx="7786800" cy="1071720"/>
          </a:xfrm>
          <a:prstGeom prst="rect">
            <a:avLst/>
          </a:prstGeom>
          <a:solidFill>
            <a:srgbClr val="f78d7c"/>
          </a:solidFill>
          <a:ln w="15840">
            <a:solidFill>
              <a:srgbClr val="2633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28800" y="5000760"/>
            <a:ext cx="721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ndara"/>
                <a:ea typeface="Arial"/>
              </a:rPr>
              <a:t>Способность к решению учебно – познавательных и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ndara"/>
                <a:ea typeface="Arial"/>
              </a:rPr>
              <a:t>учебно – практических задач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Принципы системно-деятельностного подход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68000" y="2421000"/>
            <a:ext cx="8064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ctr">
              <a:spcBef>
                <a:spcPts val="700"/>
              </a:spcBef>
              <a:buClr>
                <a:srgbClr val="4e67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Принцип деятельности</a:t>
            </a:r>
            <a:endParaRPr b="0" lang="en-US" sz="2800" spc="-1" strike="noStrike">
              <a:solidFill>
                <a:srgbClr val="212745"/>
              </a:solidFill>
              <a:latin typeface="Candara"/>
            </a:endParaRPr>
          </a:p>
          <a:p>
            <a:pPr marL="457200" indent="-457200" algn="ctr">
              <a:spcBef>
                <a:spcPts val="700"/>
              </a:spcBef>
              <a:buClr>
                <a:srgbClr val="4e67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Принцип непрерывности</a:t>
            </a:r>
            <a:endParaRPr b="0" lang="en-US" sz="2800" spc="-1" strike="noStrike">
              <a:solidFill>
                <a:srgbClr val="212745"/>
              </a:solidFill>
              <a:latin typeface="Candara"/>
            </a:endParaRPr>
          </a:p>
          <a:p>
            <a:pPr marL="457200" indent="-457200" algn="ctr">
              <a:spcBef>
                <a:spcPts val="700"/>
              </a:spcBef>
              <a:buClr>
                <a:srgbClr val="4e67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Принцип целостного представления о мире</a:t>
            </a:r>
            <a:endParaRPr b="0" lang="en-US" sz="2800" spc="-1" strike="noStrike">
              <a:solidFill>
                <a:srgbClr val="212745"/>
              </a:solidFill>
              <a:latin typeface="Candara"/>
            </a:endParaRPr>
          </a:p>
          <a:p>
            <a:pPr marL="457200" indent="-457200" algn="ctr">
              <a:spcBef>
                <a:spcPts val="700"/>
              </a:spcBef>
              <a:buClr>
                <a:srgbClr val="4e67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Принцип минимакса</a:t>
            </a:r>
            <a:endParaRPr b="0" lang="en-US" sz="2800" spc="-1" strike="noStrike">
              <a:solidFill>
                <a:srgbClr val="212745"/>
              </a:solidFill>
              <a:latin typeface="Candara"/>
            </a:endParaRPr>
          </a:p>
          <a:p>
            <a:pPr marL="457200" indent="-457200" algn="ctr">
              <a:spcBef>
                <a:spcPts val="700"/>
              </a:spcBef>
              <a:buClr>
                <a:srgbClr val="4e67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Принцип психологической комфортности</a:t>
            </a:r>
            <a:endParaRPr b="0" lang="en-US" sz="2800" spc="-1" strike="noStrike">
              <a:solidFill>
                <a:srgbClr val="212745"/>
              </a:solidFill>
              <a:latin typeface="Candara"/>
            </a:endParaRPr>
          </a:p>
          <a:p>
            <a:pPr marL="457200" indent="-457200" algn="ctr">
              <a:spcBef>
                <a:spcPts val="700"/>
              </a:spcBef>
              <a:buClr>
                <a:srgbClr val="4e67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Принцип вариативности</a:t>
            </a:r>
            <a:endParaRPr b="0" lang="en-US" sz="2800" spc="-1" strike="noStrike">
              <a:solidFill>
                <a:srgbClr val="212745"/>
              </a:solidFill>
              <a:latin typeface="Candara"/>
            </a:endParaRPr>
          </a:p>
          <a:p>
            <a:pPr marL="457200" indent="-457200" algn="ctr">
              <a:spcBef>
                <a:spcPts val="700"/>
              </a:spcBef>
              <a:buClr>
                <a:srgbClr val="4e67c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ndara"/>
              </a:rPr>
              <a:t>Принцип творчества</a:t>
            </a:r>
            <a:endParaRPr b="0" lang="en-US" sz="2800" spc="-1" strike="noStrike">
              <a:solidFill>
                <a:srgbClr val="212745"/>
              </a:solidFill>
              <a:latin typeface="Candara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Candara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Candara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Candara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Candara"/>
            </a:endParaRPr>
          </a:p>
          <a:p>
            <a:pPr marL="45720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12745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05:34:31Z</dcterms:created>
  <dc:creator>Admin</dc:creator>
  <dc:description/>
  <dc:language>en-US</dc:language>
  <cp:lastModifiedBy>Пользователь Windows</cp:lastModifiedBy>
  <dcterms:modified xsi:type="dcterms:W3CDTF">2017-01-02T17:05:43Z</dcterms:modified>
  <cp:revision>155</cp:revision>
  <dc:subject/>
  <dc:title>Системно-деятельностный подход при обучении химии</dc:title>
</cp:coreProperties>
</file>