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5.png" ContentType="image/png"/>
  <Override PartName="/ppt/media/image11.gif" ContentType="image/gif"/>
  <Override PartName="/ppt/media/image14.jpeg" ContentType="image/jpe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8DF-6105-4DCE-8BEC-A59F142E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46F-9F27-4929-8866-5E3B2664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C41-C26F-4380-8E40-2C02EA3B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235-674E-421C-86DB-79A187D3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93DC-7E9B-4430-9651-FC79AEDD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3201-C503-4A39-AD8E-7B71694D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34F-CF55-48ED-9A2A-B6E1C704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133F-D972-4505-8C51-BE3AFCD8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0B78-7BB0-48E3-8D39-F50847F8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A0C-9096-451E-A875-5EC217A5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527-A1CA-4F3B-8FA1-2D590EE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BE6-07A9-4C14-AC54-0E9DE10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FD46-E834-4224-A2B5-C79547E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094B-772D-4431-8485-E6C1020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66C-3960-4D13-8B88-D7787A5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077-A0F0-4478-BFB5-6DED1DA4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D5A-E7B8-47E4-9A21-96584AD2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BC60-28AC-41D0-9019-FAF18AD2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D27B-F556-4C35-B6AA-71B0062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30434-873A-4EB4-BC4A-A1E52E53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DDED-1951-41DE-87DE-0E6AFE84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CF4D-CC82-45A2-A3F4-668B44B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D44-1B4E-471B-B820-8964F946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40FE-26B2-4D7D-8AC5-54F2495F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B18D-151A-4556-A10C-B4BE9E0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DCC4-7591-47A8-B678-DA2CA58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A999-817A-4C2A-BDC4-66E945E4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A6CB-962F-4800-AFC7-A5A8CC48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A808A-2B33-4CDB-8C40-6449257C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2DEC-32ED-438B-96AA-A06A613A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181A-12F1-46DD-B4B7-9B4B8F5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2BF8-23B5-4671-9BD5-E230F83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C0E1-D406-42CB-A790-DA2C0E2A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65E-7152-44A7-8B82-A0126B7F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A872-514B-42E1-A79C-ED822372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1D78-1F4A-4DC0-9388-10127503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7269-0D9B-4CA8-8BDA-A95D7981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9964-A7B3-4F6F-8A8F-1FC09E2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6FC3-7E30-4354-94C2-40B7540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4BCA-4D68-444E-8E69-4D3B103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3173-CE2C-419C-B870-9467810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89D8-76CA-486D-938E-ADF6F83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F09A-E293-4AB4-BFF9-C585E067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2E6B-CC1B-4948-AA77-2C8E76B6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9E5-D796-4C8E-B30C-C6420A2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5322-90F0-4FC9-A083-CE92D047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6B16-77FB-4C4D-8E03-A2120A7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E7823-C2AC-4AF8-9F8F-00F3D683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F541C-5F93-4EFF-BB44-24C8193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EBCA-2DEC-40F6-83A6-83AABA0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F1EA-DD55-4440-817A-C591341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7ABEC-BF8E-4AB7-909F-1DA051F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A5D0-6B40-4A47-950E-C16C68B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1FE3-7026-4BE3-90AB-F1A43E7E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7A6A-CFF5-4091-A563-02CB4AFB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158-0526-4131-A6F5-919B9AA3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D79A8-C778-4359-BDB7-0958FFA3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BC70-01E8-4A10-81FA-30F109D0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A6F9-227F-41CA-827B-0298A43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D5F7-63FA-4A16-BF4C-0F19C1A6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DCB5-BA9D-4B87-A715-4D95C05D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3EF6-7614-4009-850B-FB9AC42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0E89E-41DF-4BFB-972E-CD2B939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BAC0-5C03-4476-BF95-2EC3B05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758F-6974-48EC-805D-0485BA0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D5F8-1701-4121-8E03-025F77D8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084-A77D-4624-A883-E20C52A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0A55-3464-4300-8CAA-F4D6ADC7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C9C1-B8F1-4120-BF7E-A5817CD1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0E24-1EFF-424D-B145-8FF8DBEC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0BAC-E1AA-412B-BDAE-E73EFC60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74E2-CE37-4631-A07C-AA98D49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4C4C3-AB78-4425-B6C4-755B263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16C00-FBE2-4432-971B-4172BDE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A1AF-6F55-479F-9524-DC3AC31D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1745-B0D8-4ECF-8674-13BB2417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7631D-1FDE-45AB-80E6-E4B8A2F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ABF9-A901-4B75-82E5-B388FBE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476F-421A-45FE-8739-72ACE53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C306-865C-441D-B37D-8C23BB5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409D-6898-4CB8-81AC-616F7DC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6513-33CF-4B35-BEFA-EB345434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B3E6-710F-4CAA-9EB3-3649ED8B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FC3-532B-4B1B-B130-265AE80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FDD-F45E-4E4B-8B20-451D0D3CF742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BCD-4470-407F-B5F8-59907A24C60A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b4dcf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b4dcf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2CB-C6AF-4E6F-9CF7-4A48299B80F7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95D-2441-40E5-84B0-6CED5507449C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11A-E63B-46B8-BE6E-BD3BCB68ED40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E5B4-235C-4141-9481-56BAFC5EA8C0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B45-0F1E-4E64-BCA8-E8E68C2D6AD6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истемно-деятельностный подход при обучении хим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Учитель химии 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Родниковского УВК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Петрова С.В.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285840" y="78588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ой должна быть структура урока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 его подготовить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 добиться того, чтобы дети включились в деятельность, а не ждали, пока учитель им все расскажет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6" name="Рисунок 3" descr="detia-708.gif"/>
          <p:cNvPicPr/>
          <p:nvPr/>
        </p:nvPicPr>
        <p:blipFill>
          <a:blip r:embed="rId1"/>
          <a:stretch/>
        </p:blipFill>
        <p:spPr>
          <a:xfrm>
            <a:off x="357120" y="321480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detia-745.gif"/>
          <p:cNvPicPr/>
          <p:nvPr/>
        </p:nvPicPr>
        <p:blipFill>
          <a:blip r:embed="rId2"/>
          <a:stretch/>
        </p:blipFill>
        <p:spPr>
          <a:xfrm>
            <a:off x="4452840" y="3643200"/>
            <a:ext cx="3262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214200" y="785880"/>
            <a:ext cx="83584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Этапы урока при системно-деятельностном подходе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1 Выз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бственно выз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ктуализация знан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смыслени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становка учебной задач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крытие нового знан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ставление алгорит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ервичное закреплени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амостоятельная работа -  самоконтрол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бственно рефлекс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9" name="Рисунок 2" descr="вопрос.jpg"/>
          <p:cNvPicPr/>
          <p:nvPr/>
        </p:nvPicPr>
        <p:blipFill>
          <a:blip r:embed="rId1"/>
          <a:stretch/>
        </p:blipFill>
        <p:spPr>
          <a:xfrm>
            <a:off x="5292720" y="16286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285840" y="1000080"/>
            <a:ext cx="8501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ndara"/>
                <a:ea typeface="Arial"/>
              </a:rPr>
              <a:t>Такая модель урока имеет ряд позитивных моментов: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спользование различных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еализация всех дидактических принципов  ТРКМ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спользование многих современных технологий, в том числе ИК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оставление алгоритма действ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большая накопляемость оценок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зрелищные формы проведения уро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1" name="Рисунок 2" descr="компьютор.gif"/>
          <p:cNvPicPr/>
          <p:nvPr/>
        </p:nvPicPr>
        <p:blipFill>
          <a:blip r:embed="rId1"/>
          <a:stretch/>
        </p:blipFill>
        <p:spPr>
          <a:xfrm>
            <a:off x="5929200" y="371484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357120" y="928800"/>
            <a:ext cx="87868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 методике данного подхода предполагается, что тему урока учитель не сообщает, а используя различные методы и приемы, добивается от учащихся формулировки темы и проблемы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Это основная задача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этапа урока «Вызов»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Рисунок 2" descr="komputeri.gif"/>
          <p:cNvPicPr/>
          <p:nvPr/>
        </p:nvPicPr>
        <p:blipFill>
          <a:blip r:embed="rId1"/>
          <a:stretch/>
        </p:blipFill>
        <p:spPr>
          <a:xfrm>
            <a:off x="5560920" y="2836800"/>
            <a:ext cx="35006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лимон 3.jpg"/>
          <p:cNvPicPr/>
          <p:nvPr/>
        </p:nvPicPr>
        <p:blipFill>
          <a:blip r:embed="rId1"/>
          <a:stretch/>
        </p:blipFill>
        <p:spPr>
          <a:xfrm>
            <a:off x="3276720" y="184644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428760" y="507204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Какие ассоциации вызывает у вас эта картинка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3348000" y="5857920"/>
            <a:ext cx="52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Почему лимон кислый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214200" y="7858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Попробуйте назвать тему нашего сегодняшнего урок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428760" y="22766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  <a:ea typeface="Arial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436680" y="10000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ставьте в текст пропущенные слов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357120" y="1643040"/>
            <a:ext cx="850104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Элемент находится в 3 периоде, 7 группе, главной подгрупп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Этот элемен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рядковый номер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№ 17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В атоме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17 протонов и 17 электронов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На внешнем уровне у атома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7 электронов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Из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троения атома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ледует, что элемен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типичный неметалл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Атом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образует простое вещество с формулой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  <a:ea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7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еществ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изическим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ойствам – газ желто- зеленого цвета, ядов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имическим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ойствам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активно окисляет многие металлы и неметаллы, реагирует со сложными веществам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и его соединения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применяют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для дезинфекции помещений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Тема урока: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  <a:ea typeface="Arial"/>
              </a:rPr>
              <a:t>Хлор; строение атома, физические и химические свойства, применени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357120" y="92880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Можно поставить проблему с помощью эксперимент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Железо+ нитрат меди (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II)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Действие:                                     Наблюде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пыт №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Цинк+ нитрат меди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(II)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Действие:                                      Наблюдение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Что объединяет эти два опыта?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1332000" y="587700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Тема урока: « </a:t>
            </a:r>
            <a:r>
              <a:rPr b="0" i="1" lang="ru-RU" sz="2400" spc="-1" strike="noStrike">
                <a:solidFill>
                  <a:srgbClr val="c00000"/>
                </a:solidFill>
                <a:latin typeface="Candara"/>
                <a:ea typeface="Arial"/>
              </a:rPr>
              <a:t>Взаимодействие металлов с растворами соле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35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сленный эксперимент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условия необходимо создать для взаимодействия кристаллических веществ: гидроксида калия 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льфата мед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(II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).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Этап  - ОСМЫСЛ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187280" y="2714760"/>
            <a:ext cx="66247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539640" y="260280"/>
            <a:ext cx="829476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ссмотрите формулы кислот и найдите сходство между ними. Дайте определение кислот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7" name="Рисунок 2" descr="кислоты формулы и названия.jpg"/>
          <p:cNvPicPr/>
          <p:nvPr/>
        </p:nvPicPr>
        <p:blipFill>
          <a:blip r:embed="rId1"/>
          <a:stretch/>
        </p:blipFill>
        <p:spPr>
          <a:xfrm>
            <a:off x="425520" y="1225440"/>
            <a:ext cx="8292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1116000" y="1268280"/>
            <a:ext cx="742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andara"/>
                <a:ea typeface="Arial"/>
              </a:rPr>
              <a:t>«Школа не должна научить на всю жизнь, школа должна научить учиться всю жизнь»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осточная мудр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2" descr="школьники.jpg"/>
          <p:cNvPicPr/>
          <p:nvPr/>
        </p:nvPicPr>
        <p:blipFill>
          <a:blip r:embed="rId1"/>
          <a:stretch/>
        </p:blipFill>
        <p:spPr>
          <a:xfrm>
            <a:off x="2627280" y="3565440"/>
            <a:ext cx="39290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611280" y="981000"/>
            <a:ext cx="804384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Рассмотрите формулы кислот и ответьте на вопрос: как можно распределить кислоты в группы по составу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братите внимание на то, сколько атомов водорода может быть в кислоте, на наличие в составе кислорода. Составьте схему классификации кислот по этим двум признакам</a:t>
            </a:r>
            <a:r>
              <a:rPr b="0" i="1" lang="ru-RU" sz="25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9" name="Рисунок 2" descr="химичка размешивает сахар с серной кислотойцй.gif"/>
          <p:cNvPicPr/>
          <p:nvPr/>
        </p:nvPicPr>
        <p:blipFill>
          <a:blip r:embed="rId1"/>
          <a:stretch/>
        </p:blipFill>
        <p:spPr>
          <a:xfrm>
            <a:off x="2390760" y="3645000"/>
            <a:ext cx="49896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498760" y="317520"/>
            <a:ext cx="64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равните схему с той, которую составили вы сами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ff8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a7ea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3" name="Овал 4"/>
          <p:cNvSpPr/>
          <p:nvPr/>
        </p:nvSpPr>
        <p:spPr>
          <a:xfrm>
            <a:off x="4896000" y="2349360"/>
            <a:ext cx="3887640" cy="949320"/>
          </a:xfrm>
          <a:prstGeom prst="ellipse">
            <a:avLst/>
          </a:prstGeom>
          <a:solidFill>
            <a:srgbClr val="a7ea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ислород-содержащи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Овал 6"/>
          <p:cNvSpPr/>
          <p:nvPr/>
        </p:nvSpPr>
        <p:spPr>
          <a:xfrm>
            <a:off x="2239920" y="5438880"/>
            <a:ext cx="317520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бескислородны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Овал 8"/>
          <p:cNvSpPr/>
          <p:nvPr/>
        </p:nvSpPr>
        <p:spPr>
          <a:xfrm>
            <a:off x="5349960" y="5567400"/>
            <a:ext cx="2916000" cy="11016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399" name="Прямая со стрелкой 11"/>
          <p:cNvCxnSpPr>
            <a:stCxn id="391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15"/>
          <p:cNvCxnSpPr>
            <a:endCxn id="393" idx="0"/>
          </p:cNvCxnSpPr>
          <p:nvPr/>
        </p:nvCxnSpPr>
        <p:spPr>
          <a:xfrm>
            <a:off x="6190920" y="1744560"/>
            <a:ext cx="6498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Прямая со стрелкой 20"/>
          <p:cNvCxnSpPr>
            <a:endCxn id="395" idx="0"/>
          </p:cNvCxnSpPr>
          <p:nvPr/>
        </p:nvCxnSpPr>
        <p:spPr>
          <a:xfrm>
            <a:off x="3145320" y="3428640"/>
            <a:ext cx="68004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24"/>
          <p:cNvCxnSpPr>
            <a:endCxn id="398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30"/>
          <p:cNvCxnSpPr>
            <a:stCxn id="393" idx="3"/>
          </p:cNvCxnSpPr>
          <p:nvPr/>
        </p:nvCxnSpPr>
        <p:spPr>
          <a:xfrm flipH="1">
            <a:off x="4440960" y="3160800"/>
            <a:ext cx="102492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7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7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7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547640" y="2249640"/>
            <a:ext cx="64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2" descr="картина.jpg"/>
          <p:cNvPicPr/>
          <p:nvPr/>
        </p:nvPicPr>
        <p:blipFill>
          <a:blip r:embed="rId1"/>
          <a:stretch/>
        </p:blipFill>
        <p:spPr>
          <a:xfrm>
            <a:off x="4067280" y="2535120"/>
            <a:ext cx="5076720" cy="39276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"/>
          <p:cNvSpPr/>
          <p:nvPr/>
        </p:nvSpPr>
        <p:spPr>
          <a:xfrm>
            <a:off x="468360" y="692280"/>
            <a:ext cx="61833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Сегодня на уроке 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Научился…………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Мне показалось важным…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понял, что……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почувствовал, что…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Своей работой на уроке я…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Доволен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Не совсем доволен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не доволен потому, что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Теперь я смогу…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1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3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428760" y="10000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инквейн- способ творческой рефлексии в виде «стихотворения», написанного по определенным правилам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1 строка – одно существительное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2 строка – два прилагательных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3 строка – три глагола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4 строка – предложение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5 строка – одно существительное, которое выражает суть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2340000" y="407664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1 – Водород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2 – Бесцветный, легк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3 – Реагирует, восстанавливает, сгорает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4 – В смеси с кислородом взрывоопасен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5 – Газ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8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>
            <a:off x="714240" y="571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Составление  кластер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3" name="Овал 2"/>
          <p:cNvSpPr/>
          <p:nvPr/>
        </p:nvSpPr>
        <p:spPr>
          <a:xfrm>
            <a:off x="3286080" y="2786040"/>
            <a:ext cx="2928960" cy="1143000"/>
          </a:xfrm>
          <a:prstGeom prst="ellipse">
            <a:avLst/>
          </a:prstGeom>
          <a:solidFill>
            <a:srgbClr val="d85c00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3571920" y="3071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3786120" y="20001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лассификация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ислот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1500120" y="1857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По составу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5840" y="114300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кислородны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071800" y="128592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бескислородны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6072120" y="20001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о количеству атомов водород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857840" y="10000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одно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572160" y="1357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двух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7215120" y="7142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трех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23" name="Прямая со стрелкой 13"/>
          <p:cNvCxnSpPr>
            <a:stCxn id="413" idx="0"/>
          </p:cNvCxnSpPr>
          <p:nvPr/>
        </p:nvCxnSpPr>
        <p:spPr>
          <a:xfrm flipV="1">
            <a:off x="4750200" y="2356560"/>
            <a:ext cx="35640" cy="4294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4" name="Прямая со стрелкой 18"/>
          <p:cNvCxnSpPr>
            <a:stCxn id="415" idx="1"/>
          </p:cNvCxnSpPr>
          <p:nvPr/>
        </p:nvCxnSpPr>
        <p:spPr>
          <a:xfrm flipH="1" flipV="1">
            <a:off x="2428560" y="2142360"/>
            <a:ext cx="1357920" cy="1818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5" name="Прямая со стрелкой 21"/>
          <p:cNvCxnSpPr/>
          <p:nvPr/>
        </p:nvCxnSpPr>
        <p:spPr>
          <a:xfrm flipV="1">
            <a:off x="5714640" y="2071080"/>
            <a:ext cx="500760" cy="1436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6" name="Прямая со стрелкой 23"/>
          <p:cNvCxnSpPr>
            <a:endCxn id="417" idx="2"/>
          </p:cNvCxnSpPr>
          <p:nvPr/>
        </p:nvCxnSpPr>
        <p:spPr>
          <a:xfrm flipH="1" flipV="1">
            <a:off x="1034640" y="1480680"/>
            <a:ext cx="1037520" cy="448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7" name="Прямая со стрелкой 25"/>
          <p:cNvCxnSpPr/>
          <p:nvPr/>
        </p:nvCxnSpPr>
        <p:spPr>
          <a:xfrm flipV="1">
            <a:off x="2286000" y="1571400"/>
            <a:ext cx="643320" cy="3578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8" name="Прямая со стрелкой 29"/>
          <p:cNvCxnSpPr/>
          <p:nvPr/>
        </p:nvCxnSpPr>
        <p:spPr>
          <a:xfrm flipH="1" flipV="1">
            <a:off x="5571360" y="1285200"/>
            <a:ext cx="1500840" cy="786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9" name="Прямая со стрелкой 31"/>
          <p:cNvCxnSpPr/>
          <p:nvPr/>
        </p:nvCxnSpPr>
        <p:spPr>
          <a:xfrm flipV="1">
            <a:off x="7429680" y="999360"/>
            <a:ext cx="786240" cy="1143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0" name="Прямая со стрелкой 33"/>
          <p:cNvCxnSpPr/>
          <p:nvPr/>
        </p:nvCxnSpPr>
        <p:spPr>
          <a:xfrm flipV="1">
            <a:off x="7143840" y="1571040"/>
            <a:ext cx="7200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31" name="TextBox 34"/>
          <p:cNvSpPr/>
          <p:nvPr/>
        </p:nvSpPr>
        <p:spPr>
          <a:xfrm>
            <a:off x="3786120" y="45720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рименени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2" name="TextBox 35"/>
          <p:cNvSpPr/>
          <p:nvPr/>
        </p:nvSpPr>
        <p:spPr>
          <a:xfrm>
            <a:off x="2071800" y="5214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медицин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3" name="TextBox 36"/>
          <p:cNvSpPr/>
          <p:nvPr/>
        </p:nvSpPr>
        <p:spPr>
          <a:xfrm>
            <a:off x="3571920" y="5929200"/>
            <a:ext cx="235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пищевой промышленност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4" name="TextBox 37"/>
          <p:cNvSpPr/>
          <p:nvPr/>
        </p:nvSpPr>
        <p:spPr>
          <a:xfrm>
            <a:off x="5857920" y="528624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риготовление силоса для животны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35" name="Прямая со стрелкой 39"/>
          <p:cNvCxnSpPr/>
          <p:nvPr/>
        </p:nvCxnSpPr>
        <p:spPr>
          <a:xfrm flipH="1">
            <a:off x="4500360" y="4000320"/>
            <a:ext cx="72000" cy="6433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6" name="Прямая со стрелкой 43"/>
          <p:cNvCxnSpPr/>
          <p:nvPr/>
        </p:nvCxnSpPr>
        <p:spPr>
          <a:xfrm flipH="1">
            <a:off x="2714040" y="4785120"/>
            <a:ext cx="157212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7" name="Прямая со стрелкой 45"/>
          <p:cNvCxnSpPr/>
          <p:nvPr/>
        </p:nvCxnSpPr>
        <p:spPr>
          <a:xfrm flipH="1">
            <a:off x="4142880" y="4857480"/>
            <a:ext cx="215280" cy="1143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8" name="Прямая со стрелкой 47"/>
          <p:cNvCxnSpPr/>
          <p:nvPr/>
        </p:nvCxnSpPr>
        <p:spPr>
          <a:xfrm>
            <a:off x="4572000" y="4857480"/>
            <a:ext cx="200088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39" name="TextBox 48"/>
          <p:cNvSpPr/>
          <p:nvPr/>
        </p:nvSpPr>
        <p:spPr>
          <a:xfrm>
            <a:off x="1285920" y="321480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Нахождение в природ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TextBox 49"/>
          <p:cNvSpPr/>
          <p:nvPr/>
        </p:nvSpPr>
        <p:spPr>
          <a:xfrm>
            <a:off x="285840" y="2357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организме животны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TextBox 50"/>
          <p:cNvSpPr/>
          <p:nvPr/>
        </p:nvSpPr>
        <p:spPr>
          <a:xfrm>
            <a:off x="357120" y="450072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организме человек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2" name="TextBox 51"/>
          <p:cNvSpPr/>
          <p:nvPr/>
        </p:nvSpPr>
        <p:spPr>
          <a:xfrm>
            <a:off x="0" y="328608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растения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43" name="Прямая со стрелкой 53"/>
          <p:cNvCxnSpPr>
            <a:endCxn id="440" idx="2"/>
          </p:cNvCxnSpPr>
          <p:nvPr/>
        </p:nvCxnSpPr>
        <p:spPr>
          <a:xfrm flipH="1" flipV="1">
            <a:off x="1428840" y="2665440"/>
            <a:ext cx="643320" cy="6210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4" name="Прямая со стрелкой 55"/>
          <p:cNvCxnSpPr>
            <a:endCxn id="442" idx="3"/>
          </p:cNvCxnSpPr>
          <p:nvPr/>
        </p:nvCxnSpPr>
        <p:spPr>
          <a:xfrm flipH="1" flipV="1">
            <a:off x="1213920" y="3439440"/>
            <a:ext cx="215280" cy="608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5" name="Прямая со стрелкой 58"/>
          <p:cNvCxnSpPr/>
          <p:nvPr/>
        </p:nvCxnSpPr>
        <p:spPr>
          <a:xfrm flipH="1">
            <a:off x="1071360" y="3714480"/>
            <a:ext cx="786240" cy="8578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6" name="Прямая со стрелкой 60"/>
          <p:cNvCxnSpPr/>
          <p:nvPr/>
        </p:nvCxnSpPr>
        <p:spPr>
          <a:xfrm flipH="1" flipV="1">
            <a:off x="2642760" y="3357360"/>
            <a:ext cx="572400" cy="21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47" name="TextBox 61"/>
          <p:cNvSpPr/>
          <p:nvPr/>
        </p:nvSpPr>
        <p:spPr>
          <a:xfrm>
            <a:off x="6929280" y="3429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Что такое кислот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48" name="Прямая со стрелкой 63"/>
          <p:cNvCxnSpPr>
            <a:stCxn id="413" idx="6"/>
          </p:cNvCxnSpPr>
          <p:nvPr/>
        </p:nvCxnSpPr>
        <p:spPr>
          <a:xfrm>
            <a:off x="6215040" y="3357720"/>
            <a:ext cx="1357920" cy="1432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611280" y="98100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зменения, вносимые в образовательный процесс оказывают огромное влияние на ученика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повышается интерес к предмету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стет успеваемость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учащиеся могут проявить себя в новой роли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ырабатывается устойчивый навык к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оздается ситуация успеха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урок работает на конкретного ученика, так как он работает в темпе, который оптимален для него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1" descr="химик проделывает опыт.jpg"/>
          <p:cNvPicPr/>
          <p:nvPr/>
        </p:nvPicPr>
        <p:blipFill>
          <a:blip r:embed="rId1"/>
          <a:stretch/>
        </p:blipFill>
        <p:spPr>
          <a:xfrm>
            <a:off x="1403280" y="1822320"/>
            <a:ext cx="6942240" cy="5035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3"/>
          <p:cNvSpPr/>
          <p:nvPr/>
        </p:nvSpPr>
        <p:spPr>
          <a:xfrm>
            <a:off x="1347840" y="907920"/>
            <a:ext cx="6997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0" y="368280"/>
            <a:ext cx="2384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181160" y="1628640"/>
            <a:ext cx="6769080" cy="49420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828"/>
                </a:solidFill>
                <a:latin typeface="Candara"/>
              </a:rPr>
              <a:t>«МОДЕЛЬ ВЫПУСКНИК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  пункт 7: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В основе стандарта лежит системно- деятельностный подход, который представляет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и развитие качества личности, отвечающих требованиям информационного общества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к стратегии социального проектирования и конструирования в системе образования на основе разработки содержания и технологий образова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ацию на результаты образования (развитие личности обучающихся на основе универсальных учебных действий), что означает умение учиться, т.е. способность ученика к саморазвитию путем сознательного и активного присвоения нового социального опыта.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523880"/>
          </a:xfrm>
          <a:prstGeom prst="rect">
            <a:avLst/>
          </a:prstGeom>
          <a:solidFill>
            <a:srgbClr val="f78d7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828"/>
                </a:solidFill>
                <a:latin typeface="Candara"/>
              </a:rPr>
              <a:t>ДЕЯТЕЛЬНОСТЬ = ЛИЧ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38972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уть метода 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истемно-деятельностного подход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9120" y="256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ного подхода является воспитание личности ребенка как субъекта жизнедеятельност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ть субъект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ыть хозяином своей деятельности, ставить цели, решать задачи, отвечать за результа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2"/>
          <p:cNvSpPr/>
          <p:nvPr/>
        </p:nvSpPr>
        <p:spPr>
          <a:xfrm>
            <a:off x="785880" y="820800"/>
            <a:ext cx="7572240" cy="642960"/>
          </a:xfrm>
          <a:prstGeom prst="roundRect">
            <a:avLst>
              <a:gd name="adj" fmla="val 16667"/>
            </a:avLst>
          </a:prstGeom>
          <a:solidFill>
            <a:srgbClr val="edfbd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Системно - 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571680" y="1714680"/>
            <a:ext cx="8143560" cy="571320"/>
          </a:xfrm>
          <a:prstGeom prst="rect">
            <a:avLst/>
          </a:prstGeom>
          <a:solidFill>
            <a:srgbClr val="fcd9d3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21a08"/>
                </a:solidFill>
                <a:latin typeface="Candara"/>
              </a:rPr>
              <a:t>Основной результат </a:t>
            </a:r>
            <a:r>
              <a:rPr b="0" i="1" lang="ru-RU" sz="1800" spc="-1" strike="noStrike">
                <a:solidFill>
                  <a:srgbClr val="821a08"/>
                </a:solidFill>
                <a:latin typeface="Candara"/>
              </a:rPr>
              <a:t>– развитие личности ребенка на основе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285840" y="2637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ndara"/>
                <a:ea typeface="Arial"/>
              </a:rPr>
              <a:t>Основная педагогическая задача- создание и организация условий,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ndara"/>
                <a:ea typeface="Arial"/>
              </a:rPr>
              <a:t>инициирующих действие учащегос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Стрелка вправо 5"/>
          <p:cNvSpPr/>
          <p:nvPr/>
        </p:nvSpPr>
        <p:spPr>
          <a:xfrm>
            <a:off x="606600" y="3282840"/>
            <a:ext cx="8216640" cy="932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2f2f2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1828"/>
                </a:solidFill>
                <a:latin typeface="Candara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Овал 7"/>
          <p:cNvSpPr/>
          <p:nvPr/>
        </p:nvSpPr>
        <p:spPr>
          <a:xfrm>
            <a:off x="1143000" y="4143240"/>
            <a:ext cx="1928880" cy="1928880"/>
          </a:xfrm>
          <a:prstGeom prst="ellipse">
            <a:avLst/>
          </a:prstGeom>
          <a:solidFill>
            <a:srgbClr val="81d31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1500120" y="4572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Чему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Обновление содержа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Овал 9"/>
          <p:cNvSpPr/>
          <p:nvPr/>
        </p:nvSpPr>
        <p:spPr>
          <a:xfrm>
            <a:off x="3571920" y="4214880"/>
            <a:ext cx="2000160" cy="1785960"/>
          </a:xfrm>
          <a:prstGeom prst="ellipse">
            <a:avLst/>
          </a:prstGeom>
          <a:solidFill>
            <a:srgbClr val="f78d7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786120" y="442908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Ради чего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Ценности образова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6357960" y="4357800"/>
            <a:ext cx="1857240" cy="1714320"/>
          </a:xfrm>
          <a:prstGeom prst="ellipse">
            <a:avLst/>
          </a:prstGeom>
          <a:solidFill>
            <a:srgbClr val="9ee2cf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6572160" y="450072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ак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Обновление средств обуче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Прямоугольник 13"/>
          <p:cNvSpPr/>
          <p:nvPr/>
        </p:nvSpPr>
        <p:spPr>
          <a:xfrm>
            <a:off x="357120" y="6215040"/>
            <a:ext cx="8572680" cy="428760"/>
          </a:xfrm>
          <a:prstGeom prst="rect">
            <a:avLst/>
          </a:prstGeom>
          <a:solidFill>
            <a:srgbClr val="ffb37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Формирование универсальных учебных  действий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Овал 1"/>
          <p:cNvSpPr/>
          <p:nvPr/>
        </p:nvSpPr>
        <p:spPr>
          <a:xfrm>
            <a:off x="1214280" y="714240"/>
            <a:ext cx="6643800" cy="857520"/>
          </a:xfrm>
          <a:prstGeom prst="ellipse">
            <a:avLst/>
          </a:prstGeom>
          <a:solidFill>
            <a:srgbClr val="b8c2e9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1979640" y="78912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Деятельностный подход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ледствие для системы оценк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642960" y="1928880"/>
            <a:ext cx="7286760" cy="714240"/>
          </a:xfrm>
          <a:prstGeom prst="rect">
            <a:avLst/>
          </a:prstGeom>
          <a:solidFill>
            <a:srgbClr val="81d31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785880" y="200016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Овладение системой универсальных  учебных действий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 изучаемым учебным материал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Стрелка вниз 5"/>
          <p:cNvSpPr/>
          <p:nvPr/>
        </p:nvSpPr>
        <p:spPr>
          <a:xfrm>
            <a:off x="3132000" y="2708280"/>
            <a:ext cx="3071880" cy="2077920"/>
          </a:xfrm>
          <a:prstGeom prst="downArrow">
            <a:avLst>
              <a:gd name="adj1" fmla="val 50000"/>
              <a:gd name="adj2" fmla="val 56463"/>
            </a:avLst>
          </a:prstGeom>
          <a:solidFill>
            <a:srgbClr val="bfbfbf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642960" y="4786200"/>
            <a:ext cx="7786800" cy="1071720"/>
          </a:xfrm>
          <a:prstGeom prst="rect">
            <a:avLst/>
          </a:prstGeom>
          <a:solidFill>
            <a:srgbClr val="f78d7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28800" y="500076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пособность к решению учебно – познавательных 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учебно – практических задач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инципы системно-деятельностного подход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064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деятель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непрерыв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целостного представления о мире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минимакс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вариатив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творчеств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5:34:31Z</dcterms:created>
  <dc:creator>Admin</dc:creator>
  <dc:description/>
  <dc:language>en-US</dc:language>
  <cp:lastModifiedBy>Пользователь Windows</cp:lastModifiedBy>
  <dcterms:modified xsi:type="dcterms:W3CDTF">2017-01-02T17:05:43Z</dcterms:modified>
  <cp:revision>155</cp:revision>
  <dc:subject/>
  <dc:title>Системно-деятельностный подход при обучении химии</dc:title>
</cp:coreProperties>
</file>