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1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F24-FD75-4184-B730-A310C4B1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6B7-B754-427F-8D55-E2218F45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1E5-0BDA-460B-88E6-028C9FDA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905-21F0-42E4-97E7-0847EA7E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525-8035-463E-B4CC-91018953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086-DB89-424D-81BA-C461D275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09E-771D-4F5E-9935-4F72DC04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517-5A1C-4993-95FA-892101A3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3DA-A6BF-485C-A8BD-7CC05CFF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621-DE6B-4A0B-88C8-37EFC38E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75A-C039-47BE-A234-738D38AE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301-3BED-4C8C-B70F-8CA5E555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A46E-9EA2-4D09-B0D5-079533E104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9"/>
          <p:cNvSpPr/>
          <p:nvPr/>
        </p:nvSpPr>
        <p:spPr>
          <a:xfrm>
            <a:off x="2340000" y="18900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Monotype Corsiva"/>
                <a:ea typeface="Arial"/>
              </a:rPr>
              <a:t>МОУ «ООШ № 9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4425840" y="4365720"/>
            <a:ext cx="47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Monotype Corsiva"/>
              </a:rPr>
              <a:t>Выполнила учащиеся 7 клас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Monotype Corsiva"/>
              </a:rPr>
              <a:t>Ермолаева 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Monotype Corsiva"/>
              </a:rPr>
              <a:t>учитель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Monotype Corsiva"/>
              </a:rPr>
              <a:t>Мугаллимова Наталья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1"/>
          <p:cNvSpPr/>
          <p:nvPr/>
        </p:nvSpPr>
        <p:spPr>
          <a:xfrm>
            <a:off x="2484360" y="5904000"/>
            <a:ext cx="37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г. Топ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201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059280" y="1989000"/>
            <a:ext cx="58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ВОРЧЕСКИЙ 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8" descr=""/>
          <p:cNvPicPr/>
          <p:nvPr/>
        </p:nvPicPr>
        <p:blipFill>
          <a:blip r:embed="rId2"/>
          <a:stretch/>
        </p:blipFill>
        <p:spPr>
          <a:xfrm>
            <a:off x="3322800" y="2603520"/>
            <a:ext cx="5705280" cy="11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1036800" y="1695600"/>
            <a:ext cx="240156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Материалы и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с и вода, палочка , мон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ы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шочек , клей момен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жницы , эмаль золот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а, пакет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training-naydise.1gb.ru/images/v_statji/topiarii/topiarii1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572080" y="2928960"/>
            <a:ext cx="3220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324000" y="414972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ка безопасности при работе с плоскогуб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гда не используйте плоскогубцы как молоток. Та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лоупотребления, скорее всего, приведут к поломке инструмен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ткусывайте закаленную проволоку только плоскогубцами, предназначенными для этой це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гда отрезайте проволоку под прямым углом. Никогда не водите плоскогубцами из стороны в сторону и не перегибайте проволоку туда и обратно от режущих кро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50920" y="9079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ти могут работать с термопистолетом только под присмотром взрослых, потому что он представляет повышенную опасность для ребенка: он работает от электрической сети и сильно нагревается. К сожалению, в неумелых руках, при небрежном обращении, работа с клеевым пистолетом может привести к порче вещей, ожогам и даже пожару. Предлагаем вашему вниманию правила обращения с термопистол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250920" y="270828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е оставлять без присмо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и работе термопистолет ставить на подставку, а не класть на 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аботать только исправным инстру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е прикасаться к кончику пистолета и трогать горячий к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 окончанию работы выключ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49cdc"/>
                </a:solidFill>
                <a:latin typeface="Calibri"/>
              </a:rPr>
              <a:t>         </a:t>
            </a:r>
            <a:r>
              <a:rPr b="0" lang="ru-RU" sz="4000" spc="-1" strike="noStrike">
                <a:solidFill>
                  <a:srgbClr val="660033"/>
                </a:solidFill>
                <a:latin typeface="Calibri"/>
              </a:rPr>
              <a:t>Экономическая оценка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чет себестоимости изде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0040" y="1143000"/>
          <a:ext cx="8001000" cy="3305160"/>
        </p:xfrm>
        <a:graphic>
          <a:graphicData uri="http://schemas.openxmlformats.org/drawingml/2006/table">
            <a:tbl>
              <a:tblPr/>
              <a:tblGrid>
                <a:gridCol w="2428920"/>
                <a:gridCol w="1000080"/>
                <a:gridCol w="785880"/>
                <a:gridCol w="1285920"/>
                <a:gridCol w="250020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д. 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на за ед. изм. в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 затрачено  в рубл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ньги (монетк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л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ей мо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ип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рш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а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нопластовый шар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2" name="Прямоугольник 4"/>
          <p:cNvSpPr/>
          <p:nvPr/>
        </p:nvSpPr>
        <p:spPr>
          <a:xfrm>
            <a:off x="468360" y="4221000"/>
            <a:ext cx="82868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ческая значимость проектной деятельности выражается в экономии семейного бюдж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агазинах города подобные изделия стоят примерно – 200,0 рублей. Значит, своим трудом можно сэкономить приблизительно – 34,0 руб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у сумму можно использовать для приобретения таких товаров, которые невозможно сделать сами, или на другие цели и желания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Экологическая 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76360" y="1197000"/>
            <a:ext cx="549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alibri"/>
              </a:rPr>
              <a:t>Моя поделка недорогая и красивая, может украсить любой интерь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alibri"/>
              </a:rPr>
              <a:t>Это дерево -  решит проблем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660033"/>
                </a:solidFill>
                <a:latin typeface="Calibri"/>
              </a:rPr>
              <a:t>куда деть устаревшую мелочь (можно использовать и стар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alibri"/>
              </a:rPr>
              <a:t>советские деньг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554040" y="1500120"/>
            <a:ext cx="2901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57240" y="-360"/>
            <a:ext cx="54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539640" y="582840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тература (список источников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тернет –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http://time-for-presents.ru/images/product_images/info_images/time-for-present_a0e7813e4bf5295592830b7f549a9819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42920" y="214200"/>
            <a:ext cx="2319120" cy="3000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http://moi-biser.nethouse.ru/static/img/0000/0004/6237/46237880.qb44or2jq4.W665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643120" y="1214280"/>
            <a:ext cx="178272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1785960" y="4214880"/>
            <a:ext cx="548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Monotype Corsiva"/>
              </a:rPr>
              <a:t>Творче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Monotype Corsiva"/>
              </a:rPr>
              <a:t>успех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0" descr="http://vastu-design.justclick.ru/media/content/vastu-design/%D0%94%D0%B5%D0%BD%D0%B5%D0%B6%D0%BD%D0%BE%D0%B5%20%D0%B4%D0%B5%D1%80%D0%B5%D0%B2%D0%BE.jpg"/>
          <p:cNvPicPr/>
          <p:nvPr/>
        </p:nvPicPr>
        <p:blipFill>
          <a:blip r:embed="rId3">
            <a:lum bright="10000"/>
          </a:blip>
          <a:stretch/>
        </p:blipFill>
        <p:spPr>
          <a:xfrm rot="573600">
            <a:off x="6730560" y="360360"/>
            <a:ext cx="1940040" cy="208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http://masterclassy.ru/uploads/posts/2014-12/1419405208_40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4714920" y="1285920"/>
            <a:ext cx="17859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268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3315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дея сделать самой  денежное дерево  пришла ко мне случайно. Долго не могла решить какой подарок подарить маме  на день рождения. Может, банально, но предпочтительнее был подарок, сделанный своими руками, к тому же денежное дерево сулит неслыханные богатства. И я взялась за работу. Это хороший подарок и талисман.  И что самое главное – он понравится как мужчинам, так и женщина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just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, как можно изготовить денежные деревья и цве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just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ть и изготовить подарок – сувенир для м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179280" y="189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Monotype Corsiva"/>
              </a:rPr>
              <a:t>Денежное дерево: несколько интересных фа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250920" y="836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познакомиться с денежным деревом ближе, прежде чем прибегать к его помо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денежное дерево"/>
          <p:cNvPicPr/>
          <p:nvPr/>
        </p:nvPicPr>
        <p:blipFill>
          <a:blip r:embed="rId1"/>
          <a:stretch/>
        </p:blipFill>
        <p:spPr>
          <a:xfrm>
            <a:off x="5718240" y="1189080"/>
            <a:ext cx="2998800" cy="23590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324000" y="1484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основные сведения о денежном дер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ен-шуй, его значении, разновид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ежное дерево давно стало основ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ом богатства в учении фен-шу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ток символизируют китайские мон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привлекать деньги, размещая в кварт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ные фонтанчики. Кто-то ставит на вид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крупную жабу с монеткой во 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решили привлечь благополучие с помощью денежного дерева, сажать живое растение вовсе не обязательно. Иногда люди искренне расстраиваются, что не могут позволить себе живую толстянку. У кого-то дома маленькие дети, кто-то не сумеет оградить растение от животных. Конечно, символическое дерево должно находиться в полной безопасности! Лучший вариант – сделать искусственное деревце и дополнить его соответствующими аксессуарами. Методика сохранит эффективнос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50920" y="260280"/>
            <a:ext cx="842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 несколько нюан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ущее дерево в любом случае будет обгонять по эффективности искусстве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хотите посадить живое растение, будьте готовы к максимально ответственному отношению к нему. Фен-шуй учит быть предельно внимательными к беззащитным растениям, животным. Вам понадобится отлично ухаживать за толстянкой. Она не капризна, но дерево надо регулярно поливать, следить за освещением, температурой воздуха, контролировать состояние рас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человек слишком впечатлителен, хочет на сто процентов оградить себя от беспокойства, ему стоит избрать для притягивания денег искусственное деревце. Оно точно не начнёт сохнуть и не погибнет. К сожалению, денежные деревья иногда засыхают, а на излишне эмоциональных приверженцев фен-шуй это производит тягостное впечатление. Особенно тяжёлый стресс испытывают люди, когда гибель растения совпадает с финансовыми потер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те здраво вашу психологическую устойч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трехлапая жаба фен-шуй деньги"/>
          <p:cNvPicPr/>
          <p:nvPr/>
        </p:nvPicPr>
        <p:blipFill>
          <a:blip r:embed="rId1"/>
          <a:stretch/>
        </p:blipFill>
        <p:spPr>
          <a:xfrm>
            <a:off x="5572080" y="450540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395280" y="2602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активизации зоны богатства с искусственным денежным деревом вам придётся использовать больше аксессу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, что можно иметь несколько денежных деревьев, брать и сажать новые, если старые начали болеть. Это будет своеобразным указанием на очередной источник дохода. Тогда неожиданное засыхание растения не станет причиной вашей депр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ичный вариант – иметь денежные деревья двух видов. Однако помните, что ставить их в одном помещении нельзя! Живое и искусственное деревья должны находиться в разных комна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денежное дерево своими руками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258920" y="3213000"/>
            <a:ext cx="2665440" cy="217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денежное дерево в доме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572000" y="306864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Box 1" descr=""/>
          <p:cNvPicPr/>
          <p:nvPr/>
        </p:nvPicPr>
        <p:blipFill>
          <a:blip r:embed="rId1"/>
          <a:stretch/>
        </p:blipFill>
        <p:spPr>
          <a:xfrm>
            <a:off x="822240" y="195120"/>
            <a:ext cx="7943760" cy="59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C:\Users\User\Desktop\денежное дерево\image (5).jpg"/>
          <p:cNvPicPr/>
          <p:nvPr/>
        </p:nvPicPr>
        <p:blipFill>
          <a:blip r:embed="rId2"/>
          <a:stretch/>
        </p:blipFill>
        <p:spPr>
          <a:xfrm>
            <a:off x="463680" y="755640"/>
            <a:ext cx="2219040" cy="1670040"/>
          </a:xfrm>
          <a:prstGeom prst="rect">
            <a:avLst/>
          </a:prstGeom>
          <a:ln w="0">
            <a:noFill/>
          </a:ln>
        </p:spPr>
      </p:pic>
      <p:grpSp>
        <p:nvGrpSpPr>
          <p:cNvPr id="62" name="Овал 11"/>
          <p:cNvGrpSpPr/>
          <p:nvPr/>
        </p:nvGrpSpPr>
        <p:grpSpPr>
          <a:xfrm>
            <a:off x="2755800" y="1609560"/>
            <a:ext cx="3492720" cy="1908360"/>
            <a:chOff x="2755800" y="1609560"/>
            <a:chExt cx="3492720" cy="1908360"/>
          </a:xfrm>
        </p:grpSpPr>
        <p:pic>
          <p:nvPicPr>
            <p:cNvPr id="63" name="Овал 11" descr=""/>
            <p:cNvPicPr/>
            <p:nvPr/>
          </p:nvPicPr>
          <p:blipFill>
            <a:blip r:embed="rId3"/>
            <a:stretch/>
          </p:blipFill>
          <p:spPr>
            <a:xfrm>
              <a:off x="2755800" y="1609560"/>
              <a:ext cx="349272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78160" y="1903320"/>
              <a:ext cx="244332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Выноска со стрелкой вверх 12"/>
          <p:cNvSpPr/>
          <p:nvPr/>
        </p:nvSpPr>
        <p:spPr>
          <a:xfrm rot="4660200">
            <a:off x="863640" y="2384280"/>
            <a:ext cx="1944720" cy="2881440"/>
          </a:xfrm>
          <a:prstGeom prst="upArrowCallout">
            <a:avLst>
              <a:gd name="adj1" fmla="val 25002"/>
              <a:gd name="adj2" fmla="val 25000"/>
              <a:gd name="adj3" fmla="val 25003"/>
              <a:gd name="adj4" fmla="val 52454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Выноска со стрелкой вверх 13"/>
          <p:cNvSpPr/>
          <p:nvPr/>
        </p:nvSpPr>
        <p:spPr>
          <a:xfrm flipH="1" rot="16842000">
            <a:off x="6023520" y="2412720"/>
            <a:ext cx="2179800" cy="2881440"/>
          </a:xfrm>
          <a:prstGeom prst="upArrowCallout">
            <a:avLst>
              <a:gd name="adj1" fmla="val 25002"/>
              <a:gd name="adj2" fmla="val 25000"/>
              <a:gd name="adj3" fmla="val 24999"/>
              <a:gd name="adj4" fmla="val 52454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носка со стрелкой вверх 14"/>
          <p:cNvSpPr/>
          <p:nvPr/>
        </p:nvSpPr>
        <p:spPr>
          <a:xfrm flipH="1">
            <a:off x="3276720" y="3645000"/>
            <a:ext cx="2303280" cy="2736720"/>
          </a:xfrm>
          <a:prstGeom prst="upArrowCallout">
            <a:avLst>
              <a:gd name="adj1" fmla="val 25002"/>
              <a:gd name="adj2" fmla="val 25000"/>
              <a:gd name="adj3" fmla="val 25001"/>
              <a:gd name="adj4" fmla="val 52454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5" descr=""/>
          <p:cNvPicPr/>
          <p:nvPr/>
        </p:nvPicPr>
        <p:blipFill>
          <a:blip r:embed="rId4"/>
          <a:stretch/>
        </p:blipFill>
        <p:spPr>
          <a:xfrm>
            <a:off x="2840040" y="1822320"/>
            <a:ext cx="3176640" cy="1298880"/>
          </a:xfrm>
          <a:prstGeom prst="rect">
            <a:avLst/>
          </a:prstGeom>
          <a:ln w="0">
            <a:noFill/>
          </a:ln>
        </p:spPr>
      </p:pic>
      <p:pic>
        <p:nvPicPr>
          <p:cNvPr id="69" name="Заголовок 1" descr=""/>
          <p:cNvPicPr/>
          <p:nvPr/>
        </p:nvPicPr>
        <p:blipFill>
          <a:blip r:embed="rId5"/>
          <a:stretch/>
        </p:blipFill>
        <p:spPr>
          <a:xfrm>
            <a:off x="-6480" y="4919760"/>
            <a:ext cx="1017720" cy="1036440"/>
          </a:xfrm>
          <a:prstGeom prst="rect">
            <a:avLst/>
          </a:prstGeom>
          <a:ln w="0">
            <a:noFill/>
          </a:ln>
        </p:spPr>
      </p:pic>
      <p:pic>
        <p:nvPicPr>
          <p:cNvPr id="70" name="Заголовок 1" descr=""/>
          <p:cNvPicPr/>
          <p:nvPr/>
        </p:nvPicPr>
        <p:blipFill>
          <a:blip r:embed="rId6"/>
          <a:stretch/>
        </p:blipFill>
        <p:spPr>
          <a:xfrm>
            <a:off x="2189160" y="5499000"/>
            <a:ext cx="1023840" cy="1030320"/>
          </a:xfrm>
          <a:prstGeom prst="rect">
            <a:avLst/>
          </a:prstGeom>
          <a:ln w="0">
            <a:noFill/>
          </a:ln>
        </p:spPr>
      </p:pic>
      <p:pic>
        <p:nvPicPr>
          <p:cNvPr id="71" name="Заголовок 1" descr=""/>
          <p:cNvPicPr/>
          <p:nvPr/>
        </p:nvPicPr>
        <p:blipFill>
          <a:blip r:embed="rId7"/>
          <a:stretch/>
        </p:blipFill>
        <p:spPr>
          <a:xfrm>
            <a:off x="6724800" y="5065560"/>
            <a:ext cx="1023840" cy="1036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http://el-lada.com/wp-content/uploads/2016/02/fin1.jpg"/>
          <p:cNvPicPr/>
          <p:nvPr/>
        </p:nvPicPr>
        <p:blipFill>
          <a:blip r:embed="rId8"/>
          <a:stretch/>
        </p:blipFill>
        <p:spPr>
          <a:xfrm>
            <a:off x="291960" y="2835360"/>
            <a:ext cx="2359080" cy="213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http://www.belvedor.com/images/product/1042861_a_big.jpg"/>
          <p:cNvPicPr/>
          <p:nvPr/>
        </p:nvPicPr>
        <p:blipFill>
          <a:blip r:embed="rId9">
            <a:lum bright="10000"/>
          </a:blip>
          <a:stretch/>
        </p:blipFill>
        <p:spPr>
          <a:xfrm>
            <a:off x="3564000" y="443700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http://www.kz.all.biz/img/kz/catalog/302709.jpeg"/>
          <p:cNvPicPr/>
          <p:nvPr/>
        </p:nvPicPr>
        <p:blipFill>
          <a:blip r:embed="rId10">
            <a:lum bright="10000"/>
          </a:blip>
          <a:stretch/>
        </p:blipFill>
        <p:spPr>
          <a:xfrm rot="595200">
            <a:off x="6894000" y="2941560"/>
            <a:ext cx="11923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ые деревья № 1,2, – красивые,  но я решила выбрать другой вариант, поэтому эти варианты мне – не подходят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№ 3 – то, что мне подходит для подарка для моей мамы, я думаю ей очень понравитс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1322280" y="609480"/>
            <a:ext cx="6712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749160" y="-6480"/>
            <a:ext cx="7785360" cy="332280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10"/>
          <p:cNvCxnSpPr>
            <a:endCxn id="79" idx="3"/>
          </p:cNvCxnSpPr>
          <p:nvPr/>
        </p:nvCxnSpPr>
        <p:spPr>
          <a:xfrm flipH="1" flipV="1">
            <a:off x="2666160" y="2806200"/>
            <a:ext cx="801000" cy="11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2"/>
          <p:cNvCxnSpPr/>
          <p:nvPr/>
        </p:nvCxnSpPr>
        <p:spPr>
          <a:xfrm flipH="1">
            <a:off x="2499840" y="3785040"/>
            <a:ext cx="128664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20"/>
          <p:cNvCxnSpPr/>
          <p:nvPr/>
        </p:nvCxnSpPr>
        <p:spPr>
          <a:xfrm flipH="1">
            <a:off x="3499920" y="4286160"/>
            <a:ext cx="5724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24"/>
          <p:cNvCxnSpPr/>
          <p:nvPr/>
        </p:nvCxnSpPr>
        <p:spPr>
          <a:xfrm>
            <a:off x="4999680" y="4357800"/>
            <a:ext cx="5720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34"/>
          <p:cNvCxnSpPr/>
          <p:nvPr/>
        </p:nvCxnSpPr>
        <p:spPr>
          <a:xfrm>
            <a:off x="5429160" y="4037040"/>
            <a:ext cx="100080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Прямоугольник 39"/>
          <p:cNvSpPr/>
          <p:nvPr/>
        </p:nvSpPr>
        <p:spPr>
          <a:xfrm>
            <a:off x="6572160" y="4214880"/>
            <a:ext cx="20718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ебесто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40"/>
          <p:cNvCxnSpPr/>
          <p:nvPr/>
        </p:nvCxnSpPr>
        <p:spPr>
          <a:xfrm flipV="1">
            <a:off x="5643720" y="2785680"/>
            <a:ext cx="7149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Прямоугольник 41"/>
          <p:cNvSpPr/>
          <p:nvPr/>
        </p:nvSpPr>
        <p:spPr>
          <a:xfrm>
            <a:off x="5286240" y="5143680"/>
            <a:ext cx="16430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2"/>
          <p:cNvSpPr/>
          <p:nvPr/>
        </p:nvSpPr>
        <p:spPr>
          <a:xfrm>
            <a:off x="1357200" y="5143680"/>
            <a:ext cx="257184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испосо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3"/>
          <p:cNvSpPr/>
          <p:nvPr/>
        </p:nvSpPr>
        <p:spPr>
          <a:xfrm>
            <a:off x="357120" y="3786120"/>
            <a:ext cx="2057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х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4"/>
          <p:cNvSpPr/>
          <p:nvPr/>
        </p:nvSpPr>
        <p:spPr>
          <a:xfrm>
            <a:off x="395280" y="2349360"/>
            <a:ext cx="22716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ехн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згот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8"/>
          <p:cNvSpPr/>
          <p:nvPr/>
        </p:nvSpPr>
        <p:spPr>
          <a:xfrm>
            <a:off x="6429240" y="2500200"/>
            <a:ext cx="2214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тре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6"/>
          <p:cNvSpPr/>
          <p:nvPr/>
        </p:nvSpPr>
        <p:spPr>
          <a:xfrm>
            <a:off x="3059280" y="2708280"/>
            <a:ext cx="3097080" cy="18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17" descr=""/>
          <p:cNvPicPr/>
          <p:nvPr/>
        </p:nvPicPr>
        <p:blipFill>
          <a:blip r:embed="rId2"/>
          <a:stretch/>
        </p:blipFill>
        <p:spPr>
          <a:xfrm>
            <a:off x="2908440" y="2955960"/>
            <a:ext cx="31813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6:47:11Z</dcterms:created>
  <dc:creator>WIN7XP</dc:creator>
  <dc:description/>
  <dc:language>en-US</dc:language>
  <cp:lastModifiedBy>Пользователь</cp:lastModifiedBy>
  <dcterms:modified xsi:type="dcterms:W3CDTF">2017-01-02T02:47:21Z</dcterms:modified>
  <cp:revision>164</cp:revision>
  <dc:subject/>
  <dc:title>Слайд 1</dc:title>
</cp:coreProperties>
</file>