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9.png" ContentType="image/png"/>
  <Override PartName="/ppt/media/image23.jpeg" ContentType="image/jpeg"/>
  <Override PartName="/ppt/media/image1.jpeg" ContentType="image/jpeg"/>
  <Override PartName="/ppt/media/image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99BE-8AD9-40F1-9B13-1392831C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2C0-A819-4925-B10F-54E77CD9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8AC1-000C-4241-9693-57E2B933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D8AC-60D9-4822-93C3-F0FE22AE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23CE-09D9-41BB-BE63-2043C5C7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57E0-AFC6-48F4-A1BD-499B5218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A9D1-E38F-4698-BA1D-28072D31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1A9A-3F63-4415-963E-2834AF88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D7DD-3672-400D-AA6C-8C3F157B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8911-B2BE-4B40-B949-4DA8338E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8285-49C1-4109-940C-664D347C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8B80-9005-412E-9658-5A156007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7BE2-E220-4692-99AD-27C8A66B18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9"/>
          <p:cNvSpPr/>
          <p:nvPr/>
        </p:nvSpPr>
        <p:spPr>
          <a:xfrm>
            <a:off x="2340000" y="18900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Monotype Corsiva"/>
                <a:ea typeface="Arial"/>
              </a:rPr>
              <a:t>МОУ «ООШ № 9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0"/>
          <p:cNvSpPr/>
          <p:nvPr/>
        </p:nvSpPr>
        <p:spPr>
          <a:xfrm>
            <a:off x="4425840" y="4365720"/>
            <a:ext cx="47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Monotype Corsiva"/>
              </a:rPr>
              <a:t>Выполнила учащиеся 7 класс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Monotype Corsiva"/>
              </a:rPr>
              <a:t>Ермолаева И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Monotype Corsiva"/>
              </a:rPr>
              <a:t>учитель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Monotype Corsiva"/>
              </a:rPr>
              <a:t>Мугаллимова Наталья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1"/>
          <p:cNvSpPr/>
          <p:nvPr/>
        </p:nvSpPr>
        <p:spPr>
          <a:xfrm>
            <a:off x="2484360" y="5904000"/>
            <a:ext cx="374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Monotype Corsiva"/>
              </a:rPr>
              <a:t>г. Топ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Monotype Corsiva"/>
              </a:rPr>
              <a:t>201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059280" y="1989000"/>
            <a:ext cx="58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ТВОРЧЕСКИЙ  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ПО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8" descr=""/>
          <p:cNvPicPr/>
          <p:nvPr/>
        </p:nvPicPr>
        <p:blipFill>
          <a:blip r:embed="rId2"/>
          <a:stretch/>
        </p:blipFill>
        <p:spPr>
          <a:xfrm>
            <a:off x="3322800" y="2603520"/>
            <a:ext cx="5705280" cy="110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>
            <a:off x="1036800" y="1695600"/>
            <a:ext cx="240156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Calibri"/>
              </a:rPr>
              <a:t>Материалы и инстру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риалы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пс и вода, палочка , моне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ы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шочек , клей момен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жницы , эмаль золот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а, пакети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99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http://training-naydise.1gb.ru/images/v_statji/topiarii/topiarii1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572080" y="2928960"/>
            <a:ext cx="3220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Заголовок 1"/>
          <p:cNvSpPr/>
          <p:nvPr/>
        </p:nvSpPr>
        <p:spPr>
          <a:xfrm>
            <a:off x="539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Calibri"/>
              </a:rPr>
              <a:t>Техника безопас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324000" y="4149720"/>
            <a:ext cx="67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хника безопасности при работе с плоскогуб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икогда не используйте плоскогубцы как молоток. Та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лоупотребления, скорее всего, приведут к поломке инструмент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Откусывайте закаленную проволоку только плоскогубцами, предназначенными для этой це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сегда отрезайте проволоку под прямым углом. Никогда не водите плоскогубцами из стороны в сторону и не перегибайте проволоку туда и обратно от режущих кром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250920" y="90792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ти могут работать с термопистолетом только под присмотром взрослых, потому что он представляет повышенную опасность для ребенка: он работает от электрической сети и сильно нагревается. К сожалению, в неумелых руках, при небрежном обращении, работа с клеевым пистолетом может привести к порче вещей, ожогам и даже пожару. Предлагаем вашему вниманию правила обращения с термопистоле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250920" y="270828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е оставлять без присмо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ри работе термопистолет ставить на подставку, а не класть на б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Работать только исправным инструме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е прикасаться к кончику пистолета и трогать горячий к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По окончанию работы выключ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49cdc"/>
                </a:solidFill>
                <a:latin typeface="Calibri"/>
              </a:rPr>
              <a:t>         </a:t>
            </a:r>
            <a:r>
              <a:rPr b="0" lang="ru-RU" sz="4000" spc="-1" strike="noStrike">
                <a:solidFill>
                  <a:srgbClr val="660033"/>
                </a:solidFill>
                <a:latin typeface="Calibri"/>
              </a:rPr>
              <a:t>Экономическая оценка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чет себестоимости издел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00040" y="1143000"/>
          <a:ext cx="8001000" cy="3305160"/>
        </p:xfrm>
        <a:graphic>
          <a:graphicData uri="http://schemas.openxmlformats.org/drawingml/2006/table">
            <a:tbl>
              <a:tblPr/>
              <a:tblGrid>
                <a:gridCol w="2428920"/>
                <a:gridCol w="1000080"/>
                <a:gridCol w="785880"/>
                <a:gridCol w="1285920"/>
                <a:gridCol w="250020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матери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-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ед. из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ена за ед. изм. в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го затрачено  в рубл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ньги (монетк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т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алоч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лей мом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ип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оршоч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а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енопластовый шар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0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2" name="Прямоугольник 4"/>
          <p:cNvSpPr/>
          <p:nvPr/>
        </p:nvSpPr>
        <p:spPr>
          <a:xfrm>
            <a:off x="468360" y="4221000"/>
            <a:ext cx="828684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Выв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ономическая значимость проектной деятельности выражается в экономии семейного бюдж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магазинах города подобные изделия стоят примерно – 200,0 рублей. Значит, своим трудом можно сэкономить приблизительно – 34,0 руб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у сумму можно использовать для приобретения таких товаров, которые невозможно сделать сами, или на другие цели и желания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Calibri"/>
              </a:rPr>
              <a:t>Экологическая оце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76360" y="1197000"/>
            <a:ext cx="549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alibri"/>
              </a:rPr>
              <a:t>Моя поделка недорогая и красивая, может украсить любой интерье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alibri"/>
              </a:rPr>
              <a:t>Это дерево -  решит проблему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660033"/>
                </a:solidFill>
                <a:latin typeface="Calibri"/>
              </a:rPr>
              <a:t>куда деть устаревшую мелочь (можно использовать и стар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33"/>
                </a:solidFill>
                <a:latin typeface="Calibri"/>
              </a:rPr>
              <a:t>советские деньги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554040" y="1500120"/>
            <a:ext cx="29019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57240" y="-360"/>
            <a:ext cx="54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539640" y="5828400"/>
            <a:ext cx="80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тература (список источников информ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NewRomanPSMT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нтернет –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http://time-for-presents.ru/images/product_images/info_images/time-for-present_a0e7813e4bf5295592830b7f549a9819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42920" y="214200"/>
            <a:ext cx="2319120" cy="3000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http://moi-biser.nethouse.ru/static/img/0000/0004/6237/46237880.qb44or2jq4.W665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643120" y="1214280"/>
            <a:ext cx="1782720" cy="2743200"/>
          </a:xfrm>
          <a:prstGeom prst="rect">
            <a:avLst/>
          </a:prstGeom>
          <a:ln w="0">
            <a:noFill/>
          </a:ln>
        </p:spPr>
      </p:pic>
      <p:sp>
        <p:nvSpPr>
          <p:cNvPr id="110" name="Заголовок 1"/>
          <p:cNvSpPr/>
          <p:nvPr/>
        </p:nvSpPr>
        <p:spPr>
          <a:xfrm>
            <a:off x="1785960" y="4214880"/>
            <a:ext cx="5483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Monotype Corsiva"/>
              </a:rPr>
              <a:t>Творчески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Monotype Corsiva"/>
              </a:rPr>
              <a:t>успехов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0" descr="http://vastu-design.justclick.ru/media/content/vastu-design/%D0%94%D0%B5%D0%BD%D0%B5%D0%B6%D0%BD%D0%BE%D0%B5%20%D0%B4%D0%B5%D1%80%D0%B5%D0%B2%D0%BE.jpg"/>
          <p:cNvPicPr/>
          <p:nvPr/>
        </p:nvPicPr>
        <p:blipFill>
          <a:blip r:embed="rId3">
            <a:lum bright="10000"/>
          </a:blip>
          <a:stretch/>
        </p:blipFill>
        <p:spPr>
          <a:xfrm rot="573600">
            <a:off x="6730560" y="360360"/>
            <a:ext cx="1940040" cy="2081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2" descr="http://masterclassy.ru/uploads/posts/2014-12/1419405208_40.jpg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4714920" y="1285920"/>
            <a:ext cx="178596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Calibri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268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3315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дея сделать самой  денежное дерево  пришла ко мне случайно. Долго не могла решить какой подарок подарить маме  на день рождения. Может, банально, но предпочтительнее был подарок, сделанный своими руками, к тому же денежное дерево сулит неслыханные богатства. И я взялась за работу. Это хороший подарок и талисман.  И что самое главное – он понравится как мужчинам, так и женщина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Calibri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libri"/>
              </a:rPr>
              <a:t>Ц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 algn="just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знать, как можно изготовить денежные деревья и цве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libri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 algn="just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работать и изготовить подарок – сувенир для ма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179280" y="189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Monotype Corsiva"/>
              </a:rPr>
              <a:t>Денежное дерево: несколько интересных фа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250920" y="83664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жно познакомиться с денежным деревом ближе, прежде чем прибегать к его помо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денежное дерево"/>
          <p:cNvPicPr/>
          <p:nvPr/>
        </p:nvPicPr>
        <p:blipFill>
          <a:blip r:embed="rId1"/>
          <a:stretch/>
        </p:blipFill>
        <p:spPr>
          <a:xfrm>
            <a:off x="5718240" y="1189080"/>
            <a:ext cx="2998800" cy="23590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324000" y="148428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основные сведения о денежном дере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фен-шуй, его значении, разновиднос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ежное дерево давно стало основ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мволом богатства в учении фен-шу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аток символизируют китайские монет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привлекать деньги, размещая в кварти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атюрные фонтанчики. Кто-то ставит на вид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сто крупную жабу с монеткой во р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решили привлечь благополучие с помощью денежного дерева, сажать живое растение вовсе не обязательно. Иногда люди искренне расстраиваются, что не могут позволить себе живую толстянку. У кого-то дома маленькие дети, кто-то не сумеет оградить растение от животных. Конечно, символическое дерево должно находиться в полной безопасности! Лучший вариант – сделать искусственное деревце и дополнить его соответствующими аксессуарами. Методика сохранит эффективнос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250920" y="260280"/>
            <a:ext cx="8424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ните несколько нюанс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ущее дерево в любом случае будет обгонять по эффективности искусствен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хотите посадить живое растение, будьте готовы к максимально ответственному отношению к нему. Фен-шуй учит быть предельно внимательными к беззащитным растениям, животным. Вам понадобится отлично ухаживать за толстянкой. Она не капризна, но дерево надо регулярно поливать, следить за освещением, температурой воздуха, контролировать состояние раст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человек слишком впечатлителен, хочет на сто процентов оградить себя от беспокойства, ему стоит избрать для притягивания денег искусственное деревце. Оно точно не начнёт сохнуть и не погибнет. К сожалению, денежные деревья иногда засыхают, а на излишне эмоциональных приверженцев фен-шуй это производит тягостное впечатление. Особенно тяжёлый стресс испытывают люди, когда гибель растения совпадает с финансовыми потер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ите здраво вашу психологическую устойчив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трехлапая жаба фен-шуй деньги"/>
          <p:cNvPicPr/>
          <p:nvPr/>
        </p:nvPicPr>
        <p:blipFill>
          <a:blip r:embed="rId1"/>
          <a:stretch/>
        </p:blipFill>
        <p:spPr>
          <a:xfrm>
            <a:off x="5572080" y="4505400"/>
            <a:ext cx="3200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395280" y="26028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активизации зоны богатства с искусственным денежным деревом вам придётся использовать больше аксессу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мните, что можно иметь несколько денежных деревьев, брать и сажать новые, если старые начали болеть. Это будет своеобразным указанием на очередной источник дохода. Тогда неожиданное засыхание растения не станет причиной вашей депре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личный вариант – иметь денежные деревья двух видов. Однако помните, что ставить их в одном помещении нельзя! Живое и искусственное деревья должны находиться в разных комна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денежное дерево своими руками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258920" y="3213000"/>
            <a:ext cx="2665440" cy="2170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денежное дерево в доме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572000" y="3068640"/>
            <a:ext cx="302436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extBox 1" descr=""/>
          <p:cNvPicPr/>
          <p:nvPr/>
        </p:nvPicPr>
        <p:blipFill>
          <a:blip r:embed="rId1"/>
          <a:stretch/>
        </p:blipFill>
        <p:spPr>
          <a:xfrm>
            <a:off x="822240" y="195120"/>
            <a:ext cx="7943760" cy="596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1" descr="C:\Users\User\Desktop\денежное дерево\image (5).jpg"/>
          <p:cNvPicPr/>
          <p:nvPr/>
        </p:nvPicPr>
        <p:blipFill>
          <a:blip r:embed="rId2"/>
          <a:stretch/>
        </p:blipFill>
        <p:spPr>
          <a:xfrm>
            <a:off x="463680" y="755640"/>
            <a:ext cx="2219040" cy="1670040"/>
          </a:xfrm>
          <a:prstGeom prst="rect">
            <a:avLst/>
          </a:prstGeom>
          <a:ln w="0">
            <a:noFill/>
          </a:ln>
        </p:spPr>
      </p:pic>
      <p:grpSp>
        <p:nvGrpSpPr>
          <p:cNvPr id="62" name="Овал 11"/>
          <p:cNvGrpSpPr/>
          <p:nvPr/>
        </p:nvGrpSpPr>
        <p:grpSpPr>
          <a:xfrm>
            <a:off x="2755800" y="1609560"/>
            <a:ext cx="3492720" cy="1908360"/>
            <a:chOff x="2755800" y="1609560"/>
            <a:chExt cx="3492720" cy="1908360"/>
          </a:xfrm>
        </p:grpSpPr>
        <p:pic>
          <p:nvPicPr>
            <p:cNvPr id="63" name="Овал 11" descr=""/>
            <p:cNvPicPr/>
            <p:nvPr/>
          </p:nvPicPr>
          <p:blipFill>
            <a:blip r:embed="rId3"/>
            <a:stretch/>
          </p:blipFill>
          <p:spPr>
            <a:xfrm>
              <a:off x="2755800" y="1609560"/>
              <a:ext cx="3492720" cy="19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278160" y="1903320"/>
              <a:ext cx="2443320" cy="13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Выноска со стрелкой вверх 12"/>
          <p:cNvSpPr/>
          <p:nvPr/>
        </p:nvSpPr>
        <p:spPr>
          <a:xfrm rot="4660200">
            <a:off x="863640" y="2384280"/>
            <a:ext cx="1944720" cy="2881440"/>
          </a:xfrm>
          <a:prstGeom prst="upArrowCallout">
            <a:avLst>
              <a:gd name="adj1" fmla="val 25002"/>
              <a:gd name="adj2" fmla="val 25000"/>
              <a:gd name="adj3" fmla="val 25003"/>
              <a:gd name="adj4" fmla="val 52454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Выноска со стрелкой вверх 13"/>
          <p:cNvSpPr/>
          <p:nvPr/>
        </p:nvSpPr>
        <p:spPr>
          <a:xfrm flipH="1" rot="16842000">
            <a:off x="6023520" y="2412720"/>
            <a:ext cx="2179800" cy="2881440"/>
          </a:xfrm>
          <a:prstGeom prst="upArrowCallout">
            <a:avLst>
              <a:gd name="adj1" fmla="val 25002"/>
              <a:gd name="adj2" fmla="val 25000"/>
              <a:gd name="adj3" fmla="val 24999"/>
              <a:gd name="adj4" fmla="val 52454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Выноска со стрелкой вверх 14"/>
          <p:cNvSpPr/>
          <p:nvPr/>
        </p:nvSpPr>
        <p:spPr>
          <a:xfrm flipH="1">
            <a:off x="3276720" y="3645000"/>
            <a:ext cx="2303280" cy="2736720"/>
          </a:xfrm>
          <a:prstGeom prst="upArrowCallout">
            <a:avLst>
              <a:gd name="adj1" fmla="val 25002"/>
              <a:gd name="adj2" fmla="val 25000"/>
              <a:gd name="adj3" fmla="val 25001"/>
              <a:gd name="adj4" fmla="val 52454"/>
            </a:avLst>
          </a:prstGeom>
          <a:solidFill>
            <a:srgbClr val="8064a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Прямоугольник 15" descr=""/>
          <p:cNvPicPr/>
          <p:nvPr/>
        </p:nvPicPr>
        <p:blipFill>
          <a:blip r:embed="rId4"/>
          <a:stretch/>
        </p:blipFill>
        <p:spPr>
          <a:xfrm>
            <a:off x="2840040" y="1822320"/>
            <a:ext cx="3176640" cy="1298880"/>
          </a:xfrm>
          <a:prstGeom prst="rect">
            <a:avLst/>
          </a:prstGeom>
          <a:ln w="0">
            <a:noFill/>
          </a:ln>
        </p:spPr>
      </p:pic>
      <p:pic>
        <p:nvPicPr>
          <p:cNvPr id="69" name="Заголовок 1" descr=""/>
          <p:cNvPicPr/>
          <p:nvPr/>
        </p:nvPicPr>
        <p:blipFill>
          <a:blip r:embed="rId5"/>
          <a:stretch/>
        </p:blipFill>
        <p:spPr>
          <a:xfrm>
            <a:off x="-6480" y="4919760"/>
            <a:ext cx="1017720" cy="1036440"/>
          </a:xfrm>
          <a:prstGeom prst="rect">
            <a:avLst/>
          </a:prstGeom>
          <a:ln w="0">
            <a:noFill/>
          </a:ln>
        </p:spPr>
      </p:pic>
      <p:pic>
        <p:nvPicPr>
          <p:cNvPr id="70" name="Заголовок 1" descr=""/>
          <p:cNvPicPr/>
          <p:nvPr/>
        </p:nvPicPr>
        <p:blipFill>
          <a:blip r:embed="rId6"/>
          <a:stretch/>
        </p:blipFill>
        <p:spPr>
          <a:xfrm>
            <a:off x="2189160" y="5499000"/>
            <a:ext cx="1023840" cy="1030320"/>
          </a:xfrm>
          <a:prstGeom prst="rect">
            <a:avLst/>
          </a:prstGeom>
          <a:ln w="0">
            <a:noFill/>
          </a:ln>
        </p:spPr>
      </p:pic>
      <p:pic>
        <p:nvPicPr>
          <p:cNvPr id="71" name="Заголовок 1" descr=""/>
          <p:cNvPicPr/>
          <p:nvPr/>
        </p:nvPicPr>
        <p:blipFill>
          <a:blip r:embed="rId7"/>
          <a:stretch/>
        </p:blipFill>
        <p:spPr>
          <a:xfrm>
            <a:off x="6724800" y="5065560"/>
            <a:ext cx="1023840" cy="1036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http://el-lada.com/wp-content/uploads/2016/02/fin1.jpg"/>
          <p:cNvPicPr/>
          <p:nvPr/>
        </p:nvPicPr>
        <p:blipFill>
          <a:blip r:embed="rId8"/>
          <a:stretch/>
        </p:blipFill>
        <p:spPr>
          <a:xfrm>
            <a:off x="291960" y="2835360"/>
            <a:ext cx="2359080" cy="2138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http://www.belvedor.com/images/product/1042861_a_big.jpg"/>
          <p:cNvPicPr/>
          <p:nvPr/>
        </p:nvPicPr>
        <p:blipFill>
          <a:blip r:embed="rId9">
            <a:lum bright="10000"/>
          </a:blip>
          <a:stretch/>
        </p:blipFill>
        <p:spPr>
          <a:xfrm>
            <a:off x="3564000" y="4437000"/>
            <a:ext cx="1724040" cy="1724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http://www.kz.all.biz/img/kz/catalog/302709.jpeg"/>
          <p:cNvPicPr/>
          <p:nvPr/>
        </p:nvPicPr>
        <p:blipFill>
          <a:blip r:embed="rId10">
            <a:lum bright="10000"/>
          </a:blip>
          <a:stretch/>
        </p:blipFill>
        <p:spPr>
          <a:xfrm rot="595200">
            <a:off x="6894000" y="2941560"/>
            <a:ext cx="11923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нежные деревья № 1,2, – красивые,  но я решила выбрать другой вариант, поэтому эти варианты мне – не подходят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№ 3 – то, что мне подходит для подарка для моей мамы, я думаю ей очень понравитс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Прямоугольник 3" descr=""/>
          <p:cNvPicPr/>
          <p:nvPr/>
        </p:nvPicPr>
        <p:blipFill>
          <a:blip r:embed="rId1"/>
          <a:stretch/>
        </p:blipFill>
        <p:spPr>
          <a:xfrm>
            <a:off x="1322280" y="609480"/>
            <a:ext cx="67122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749160" y="-6480"/>
            <a:ext cx="7785360" cy="3322800"/>
          </a:xfrm>
          <a:prstGeom prst="rect">
            <a:avLst/>
          </a:prstGeom>
          <a:ln w="0">
            <a:noFill/>
          </a:ln>
        </p:spPr>
      </p:pic>
      <p:cxnSp>
        <p:nvCxnSpPr>
          <p:cNvPr id="78" name="Прямая со стрелкой 10"/>
          <p:cNvCxnSpPr>
            <a:endCxn id="79" idx="3"/>
          </p:cNvCxnSpPr>
          <p:nvPr/>
        </p:nvCxnSpPr>
        <p:spPr>
          <a:xfrm flipH="1" flipV="1">
            <a:off x="2666160" y="2806200"/>
            <a:ext cx="801000" cy="11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2"/>
          <p:cNvCxnSpPr/>
          <p:nvPr/>
        </p:nvCxnSpPr>
        <p:spPr>
          <a:xfrm flipH="1">
            <a:off x="2499840" y="3785040"/>
            <a:ext cx="128664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20"/>
          <p:cNvCxnSpPr/>
          <p:nvPr/>
        </p:nvCxnSpPr>
        <p:spPr>
          <a:xfrm flipH="1">
            <a:off x="3499920" y="4286160"/>
            <a:ext cx="57240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24"/>
          <p:cNvCxnSpPr/>
          <p:nvPr/>
        </p:nvCxnSpPr>
        <p:spPr>
          <a:xfrm>
            <a:off x="4999680" y="4357800"/>
            <a:ext cx="57204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3" name="Прямая со стрелкой 34"/>
          <p:cNvCxnSpPr/>
          <p:nvPr/>
        </p:nvCxnSpPr>
        <p:spPr>
          <a:xfrm>
            <a:off x="5429160" y="4037040"/>
            <a:ext cx="1000800" cy="249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Прямоугольник 39"/>
          <p:cNvSpPr/>
          <p:nvPr/>
        </p:nvSpPr>
        <p:spPr>
          <a:xfrm>
            <a:off x="6572160" y="4214880"/>
            <a:ext cx="2071800" cy="5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ебесто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40"/>
          <p:cNvCxnSpPr/>
          <p:nvPr/>
        </p:nvCxnSpPr>
        <p:spPr>
          <a:xfrm flipV="1">
            <a:off x="5643720" y="2785680"/>
            <a:ext cx="71496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Прямоугольник 41"/>
          <p:cNvSpPr/>
          <p:nvPr/>
        </p:nvSpPr>
        <p:spPr>
          <a:xfrm>
            <a:off x="5286240" y="5143680"/>
            <a:ext cx="164304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Матери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2"/>
          <p:cNvSpPr/>
          <p:nvPr/>
        </p:nvSpPr>
        <p:spPr>
          <a:xfrm>
            <a:off x="1357200" y="5143680"/>
            <a:ext cx="257184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Инстр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риспосо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3"/>
          <p:cNvSpPr/>
          <p:nvPr/>
        </p:nvSpPr>
        <p:spPr>
          <a:xfrm>
            <a:off x="357120" y="3786120"/>
            <a:ext cx="2057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Ох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44"/>
          <p:cNvSpPr/>
          <p:nvPr/>
        </p:nvSpPr>
        <p:spPr>
          <a:xfrm>
            <a:off x="395280" y="2349360"/>
            <a:ext cx="22716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Технолог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изгото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8"/>
          <p:cNvSpPr/>
          <p:nvPr/>
        </p:nvSpPr>
        <p:spPr>
          <a:xfrm>
            <a:off x="6429240" y="2500200"/>
            <a:ext cx="22147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потре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16"/>
          <p:cNvSpPr/>
          <p:nvPr/>
        </p:nvSpPr>
        <p:spPr>
          <a:xfrm>
            <a:off x="3059280" y="2708280"/>
            <a:ext cx="3097080" cy="18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Прямоугольник 17" descr=""/>
          <p:cNvPicPr/>
          <p:nvPr/>
        </p:nvPicPr>
        <p:blipFill>
          <a:blip r:embed="rId2"/>
          <a:stretch/>
        </p:blipFill>
        <p:spPr>
          <a:xfrm>
            <a:off x="2908440" y="2955960"/>
            <a:ext cx="31813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6:47:11Z</dcterms:created>
  <dc:creator>WIN7XP</dc:creator>
  <dc:description/>
  <dc:language>en-US</dc:language>
  <cp:lastModifiedBy>Пользователь</cp:lastModifiedBy>
  <dcterms:modified xsi:type="dcterms:W3CDTF">2017-01-02T02:47:21Z</dcterms:modified>
  <cp:revision>164</cp:revision>
  <dc:subject/>
  <dc:title>Слайд 1</dc:title>
</cp:coreProperties>
</file>