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CCF0-868F-4F0D-8526-CAA1D2F6AD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5BBE-9B20-438F-B9AD-71170A42B5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4DD-B39D-4333-B11D-1C796A03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7DE1-C085-442D-94E5-535AE907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E0A-60D6-4E35-B526-ACDD2E5E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65C5-209E-43CE-86E1-7AD22602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8D8-D882-4BA3-94B0-C27BD2B3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EDC-3EE1-4E75-A207-D4295128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25D-7058-4852-84CC-52E03CDA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184B-FB71-417D-B41B-F94B143D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C4F-F3E9-42CC-A139-A95AF9D2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E8C-35E3-4CC7-A37D-366D1B34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319-ED06-48AA-B39D-A7E75463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D38-4859-4CC7-945F-A0787896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ACDA-358A-4A61-8EE6-73ABDA056C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2541600" y="1000080"/>
            <a:ext cx="5048280" cy="841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0" y="3357720"/>
            <a:ext cx="4248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  <a:ea typeface="Arial"/>
              </a:rPr>
              <a:t>Разработ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  <a:ea typeface="Arial"/>
              </a:rPr>
              <a:t>учащийся 8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  <a:ea typeface="Arial"/>
              </a:rPr>
              <a:t>Кудрявцева Мар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  <a:ea typeface="Arial"/>
              </a:rPr>
              <a:t>учитель ИЗО и тех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  <a:ea typeface="Arial"/>
              </a:rPr>
              <a:t>Мугаллимова Наталья Викто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дзаголовок 3"/>
          <p:cNvSpPr/>
          <p:nvPr/>
        </p:nvSpPr>
        <p:spPr>
          <a:xfrm>
            <a:off x="1692360" y="40464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  <a:ea typeface="Arial"/>
              </a:rPr>
              <a:t>МБОУ «ООШ № 9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5" descr=""/>
          <p:cNvPicPr/>
          <p:nvPr/>
        </p:nvPicPr>
        <p:blipFill>
          <a:blip r:embed="rId2"/>
          <a:stretch/>
        </p:blipFill>
        <p:spPr>
          <a:xfrm>
            <a:off x="1639800" y="1712880"/>
            <a:ext cx="6954840" cy="1463760"/>
          </a:xfrm>
          <a:prstGeom prst="rect">
            <a:avLst/>
          </a:prstGeom>
          <a:ln w="0">
            <a:noFill/>
          </a:ln>
        </p:spPr>
      </p:pic>
      <p:sp>
        <p:nvSpPr>
          <p:cNvPr id="52" name="Подзаголовок 3"/>
          <p:cNvSpPr/>
          <p:nvPr/>
        </p:nvSpPr>
        <p:spPr>
          <a:xfrm>
            <a:off x="4140360" y="602136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  <a:ea typeface="Arial"/>
              </a:rPr>
              <a:t>Г. Топки, 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C:\Users\Dima\Desktop\марина\P_20161212_110756.jpg"/>
          <p:cNvPicPr/>
          <p:nvPr/>
        </p:nvPicPr>
        <p:blipFill>
          <a:blip r:embed="rId3"/>
          <a:stretch/>
        </p:blipFill>
        <p:spPr>
          <a:xfrm>
            <a:off x="225360" y="2365200"/>
            <a:ext cx="32068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468360" y="1143360"/>
            <a:ext cx="820728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Цель</a:t>
            </a: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Calibri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моей работы явл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изготовление текстильного Петух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Перед собой я поставила следующие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дачи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Исследовать о  изготовлениях текстильных игр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зработать и выполнить про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Выбрать инструменты, приспособления, оборуд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оставить последовательность изготовления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 проекту изготовить символ года «Петя – Петуш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делать экономическое обоснование и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971640" y="549360"/>
            <a:ext cx="777708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Символ 2017 года - Пету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жители нашей планеты привыкли к тому, что каждый наступающий год соответствует определенному знаку Восточного календаря. Издавна было принято почитатель властителя года, преподносить ему всяческие подарки, и вообще, стараться уго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 люди, которые понравились «хозяину» получат от него благословение на целый год. Новый 2017 пройдет под эгидой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гненного Петуха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 яркая птица имеет непростой характер и привычки. Петух — это птица, которая отличается звонким голосом, ярким оперением и источает жизнерадостность. Этот символ знаменует начало чего-то нового, ведь петух один из первых просыпается на рассвете и оповещает людей о том, что наступил новый д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6:27:34Z</dcterms:created>
  <dc:creator>Ludmila</dc:creator>
  <dc:description/>
  <dc:language>en-US</dc:language>
  <cp:lastModifiedBy>Пользователь</cp:lastModifiedBy>
  <dcterms:modified xsi:type="dcterms:W3CDTF">2017-01-02T01:58:41Z</dcterms:modified>
  <cp:revision>48</cp:revision>
  <dc:subject/>
  <dc:title>Номинация «Волшебный сундучок»</dc:title>
</cp:coreProperties>
</file>