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2EA0-7054-40C5-91A7-B4215DA49A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F189-D622-41E5-B875-EFA775321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C24-EF41-4BB3-8C98-706C4050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F59-970E-48CF-AF2C-E4A0D498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670-8ED6-44D3-9ACD-3DFA9FC74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AD5-190A-4606-AF29-35F7160AB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F98-3FEE-4258-A5BA-803BFF5F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4D3-E7A7-4F49-BAA4-69F84FD12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B832-BCC2-45EF-9424-F1E3AF1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617-CC98-45E0-8A1D-AAE9BF41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2CB-8A96-4D0D-81DE-F049B467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BE7-6AFD-4C53-96A4-CCF696C6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17D-89B9-4ADA-8AC1-2CA33B3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861-FC60-48EC-905A-6C121480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8E73-DC51-43EF-AD53-DCBF310B9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1" descr=""/>
          <p:cNvPicPr/>
          <p:nvPr/>
        </p:nvPicPr>
        <p:blipFill>
          <a:blip r:embed="rId1"/>
          <a:stretch/>
        </p:blipFill>
        <p:spPr>
          <a:xfrm>
            <a:off x="2541600" y="1000080"/>
            <a:ext cx="5048280" cy="841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0" y="3357720"/>
            <a:ext cx="4248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Разработ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учащийся 8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Кудрявцева Ма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учитель ИЗО и технолог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Мугаллимова Наталья Виктор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одзаголовок 3"/>
          <p:cNvSpPr/>
          <p:nvPr/>
        </p:nvSpPr>
        <p:spPr>
          <a:xfrm>
            <a:off x="1692360" y="40464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МБОУ «ООШ № 9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Прямоугольник 5" descr=""/>
          <p:cNvPicPr/>
          <p:nvPr/>
        </p:nvPicPr>
        <p:blipFill>
          <a:blip r:embed="rId2"/>
          <a:stretch/>
        </p:blipFill>
        <p:spPr>
          <a:xfrm>
            <a:off x="1639800" y="1712880"/>
            <a:ext cx="6954840" cy="1463760"/>
          </a:xfrm>
          <a:prstGeom prst="rect">
            <a:avLst/>
          </a:prstGeom>
          <a:ln w="0">
            <a:noFill/>
          </a:ln>
        </p:spPr>
      </p:pic>
      <p:sp>
        <p:nvSpPr>
          <p:cNvPr id="52" name="Подзаголовок 3"/>
          <p:cNvSpPr/>
          <p:nvPr/>
        </p:nvSpPr>
        <p:spPr>
          <a:xfrm>
            <a:off x="4140360" y="602136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Arial"/>
                <a:ea typeface="Arial"/>
              </a:rPr>
              <a:t>Г. Топки, 201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C:\Users\Dima\Desktop\марина\P_20161212_110756.jpg"/>
          <p:cNvPicPr/>
          <p:nvPr/>
        </p:nvPicPr>
        <p:blipFill>
          <a:blip r:embed="rId3"/>
          <a:stretch/>
        </p:blipFill>
        <p:spPr>
          <a:xfrm>
            <a:off x="225360" y="2365200"/>
            <a:ext cx="32068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468360" y="1143360"/>
            <a:ext cx="820728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Calibri"/>
              </a:rPr>
              <a:t>Цель</a:t>
            </a:r>
            <a:r>
              <a:rPr b="1" lang="ru-RU" sz="3600" spc="-1" strike="noStrike">
                <a:solidFill>
                  <a:srgbClr val="262699"/>
                </a:solidFill>
                <a:latin typeface="Times New Roman"/>
                <a:ea typeface="Calibri"/>
              </a:rPr>
              <a:t>  </a:t>
            </a: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моей работы явл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изготовление текстильного Пету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еред собой я поставила следующи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дач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Исследовать о  изготовлениях текстильных игру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Разработать и выполнить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Выбрать инструменты, приспособления, оборуд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оставить последовательность изготовления издел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По проекту изготовить символ года «Петя – Петуш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Calibri"/>
              </a:rPr>
              <a:t>Сделать экономическое обоснование и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971640" y="549360"/>
            <a:ext cx="7777080" cy="58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Символ 2017 года - Пету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жители нашей планеты привыкли к тому, что каждый наступающий год соответствует определенному знаку Восточного календаря. Издавна было принято почитатель властителя года, преподносить ему всяческие подарки, и вообще, стараться угод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 люди, которые понравились «хозяину» получат от него благословение на целый год. Новый 2017 пройдет под эгидой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гненного Петуха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а яркая птица имеет непростой характер и привычки. Петух — это птица, которая отличается звонким голосом, ярким оперением и источает жизнерадостность. Этот символ знаменует начало чего-то нового, ведь петух один из первых просыпается на рассвете и оповещает людей о том, что наступил новый де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7T16:27:34Z</dcterms:created>
  <dc:creator>Ludmila</dc:creator>
  <dc:description/>
  <dc:language>en-US</dc:language>
  <cp:lastModifiedBy>Пользователь</cp:lastModifiedBy>
  <dcterms:modified xsi:type="dcterms:W3CDTF">2017-01-02T01:58:41Z</dcterms:modified>
  <cp:revision>48</cp:revision>
  <dc:subject/>
  <dc:title>Номинация «Волшебный сундучок»</dc:title>
</cp:coreProperties>
</file>