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8A5-7D60-41B5-989D-033DDC6B3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F5BE-D75F-4A9F-978E-0BC7C2EA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570-1BD8-446B-A87A-250158B34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3FB8-12D0-447D-8104-A137C5CB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BBF-F65F-43FD-8E87-C8CCB47B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CDD-D1FD-4084-B730-59B7AF78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7E2-A484-48BB-B5AE-47AC8FCE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C471-114B-48DA-9AD9-F53D9AE2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FFD0-43C2-47FC-8224-EF5E464F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6A7-15C5-4AF1-BAC6-91AB522D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523E-6FE4-47A9-B430-3CC6C717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3293-0CAA-4F97-AE65-06575455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7B30-ED21-4D97-9C93-B3036FC534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4" descr="0_787fd_4e3df06e_XXL.png"/>
          <p:cNvPicPr/>
          <p:nvPr/>
        </p:nvPicPr>
        <p:blipFill>
          <a:blip r:embed="rId1"/>
          <a:stretch/>
        </p:blipFill>
        <p:spPr>
          <a:xfrm>
            <a:off x="-1405080" y="-1611360"/>
            <a:ext cx="11981160" cy="100090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0_6d77b_98858d62_L.jpg"/>
          <p:cNvPicPr/>
          <p:nvPr/>
        </p:nvPicPr>
        <p:blipFill>
          <a:blip r:embed="rId2"/>
          <a:stretch/>
        </p:blipFill>
        <p:spPr>
          <a:xfrm rot="21153000">
            <a:off x="468000" y="2997000"/>
            <a:ext cx="2801880" cy="34066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0_6d781_a567d28a_L.jpg"/>
          <p:cNvPicPr/>
          <p:nvPr/>
        </p:nvPicPr>
        <p:blipFill>
          <a:blip r:embed="rId3"/>
          <a:stretch/>
        </p:blipFill>
        <p:spPr>
          <a:xfrm rot="1792200">
            <a:off x="1466640" y="766800"/>
            <a:ext cx="2217600" cy="28717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0_6d78d_98f8652_L.jpg"/>
          <p:cNvPicPr/>
          <p:nvPr/>
        </p:nvPicPr>
        <p:blipFill>
          <a:blip r:embed="rId4"/>
          <a:stretch/>
        </p:blipFill>
        <p:spPr>
          <a:xfrm rot="445200">
            <a:off x="3252600" y="2998440"/>
            <a:ext cx="3663720" cy="43369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8" descr="0_6d794_afa556ef_L.jpg"/>
          <p:cNvPicPr/>
          <p:nvPr/>
        </p:nvPicPr>
        <p:blipFill>
          <a:blip r:embed="rId5"/>
          <a:stretch/>
        </p:blipFill>
        <p:spPr>
          <a:xfrm rot="20218800">
            <a:off x="2844720" y="955440"/>
            <a:ext cx="2257560" cy="26715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4"/>
          <p:cNvSpPr/>
          <p:nvPr/>
        </p:nvSpPr>
        <p:spPr>
          <a:xfrm rot="1948800">
            <a:off x="1956960" y="2976480"/>
            <a:ext cx="18432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2" descr="FM-Ice-Princess-Element-58.png"/>
          <p:cNvPicPr/>
          <p:nvPr/>
        </p:nvPicPr>
        <p:blipFill>
          <a:blip r:embed="rId6"/>
          <a:srcRect l="0" t="37508" r="0" b="0"/>
          <a:stretch/>
        </p:blipFill>
        <p:spPr>
          <a:xfrm>
            <a:off x="5724360" y="189000"/>
            <a:ext cx="2600640" cy="36003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28" descr=""/>
          <p:cNvPicPr/>
          <p:nvPr/>
        </p:nvPicPr>
        <p:blipFill>
          <a:blip r:embed="rId7"/>
          <a:stretch/>
        </p:blipFill>
        <p:spPr>
          <a:xfrm>
            <a:off x="6761160" y="4791240"/>
            <a:ext cx="2120760" cy="10364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6" descr="FM-BT-NOV-Element-12.png"/>
          <p:cNvPicPr/>
          <p:nvPr/>
        </p:nvPicPr>
        <p:blipFill>
          <a:blip r:embed="rId8"/>
          <a:stretch/>
        </p:blipFill>
        <p:spPr>
          <a:xfrm rot="1656000">
            <a:off x="1292400" y="-339840"/>
            <a:ext cx="3801960" cy="3249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3"/>
          <p:cNvSpPr/>
          <p:nvPr/>
        </p:nvSpPr>
        <p:spPr>
          <a:xfrm rot="21213600">
            <a:off x="1366920" y="874800"/>
            <a:ext cx="19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Arial"/>
              </a:rPr>
              <a:t>Вариа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9"/>
          <p:cNvSpPr/>
          <p:nvPr/>
        </p:nvSpPr>
        <p:spPr>
          <a:xfrm rot="703200">
            <a:off x="3016080" y="9288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гр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Прямоугольник 21" descr=""/>
          <p:cNvPicPr/>
          <p:nvPr/>
        </p:nvPicPr>
        <p:blipFill>
          <a:blip r:embed="rId9"/>
          <a:stretch/>
        </p:blipFill>
        <p:spPr>
          <a:xfrm>
            <a:off x="1335240" y="1584360"/>
            <a:ext cx="1981080" cy="18352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2" descr=""/>
          <p:cNvPicPr/>
          <p:nvPr/>
        </p:nvPicPr>
        <p:blipFill>
          <a:blip r:embed="rId10"/>
          <a:stretch/>
        </p:blipFill>
        <p:spPr>
          <a:xfrm>
            <a:off x="3224160" y="1676520"/>
            <a:ext cx="1987560" cy="184140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16" descr=""/>
          <p:cNvPicPr/>
          <p:nvPr/>
        </p:nvPicPr>
        <p:blipFill>
          <a:blip r:embed="rId11"/>
          <a:stretch/>
        </p:blipFill>
        <p:spPr>
          <a:xfrm>
            <a:off x="6254640" y="878040"/>
            <a:ext cx="1633680" cy="1450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u.kanobu.ru/longreads/2015/12/1/7c9a950b-d629-4a94-bbef-5dc4807c6276.jpg"/>
          <p:cNvPicPr/>
          <p:nvPr/>
        </p:nvPicPr>
        <p:blipFill>
          <a:blip r:embed="rId12"/>
          <a:stretch/>
        </p:blipFill>
        <p:spPr>
          <a:xfrm>
            <a:off x="6797520" y="3279600"/>
            <a:ext cx="1859040" cy="1395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8" descr="http://cs2.livemaster.ru/storage/89/4c/e0893ce1ae5bf9586517bbe215y3--podarki-k-prazdnikam-simvol-2017-goda-petuh.jpg"/>
          <p:cNvPicPr/>
          <p:nvPr/>
        </p:nvPicPr>
        <p:blipFill>
          <a:blip r:embed="rId13"/>
          <a:stretch/>
        </p:blipFill>
        <p:spPr>
          <a:xfrm>
            <a:off x="3700440" y="3852720"/>
            <a:ext cx="2541600" cy="249264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19" descr=""/>
          <p:cNvPicPr/>
          <p:nvPr/>
        </p:nvPicPr>
        <p:blipFill>
          <a:blip r:embed="rId14"/>
          <a:stretch/>
        </p:blipFill>
        <p:spPr>
          <a:xfrm>
            <a:off x="3419640" y="5827680"/>
            <a:ext cx="3395520" cy="6033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0" descr=""/>
          <p:cNvPicPr/>
          <p:nvPr/>
        </p:nvPicPr>
        <p:blipFill>
          <a:blip r:embed="rId15"/>
          <a:stretch/>
        </p:blipFill>
        <p:spPr>
          <a:xfrm>
            <a:off x="804960" y="5443560"/>
            <a:ext cx="2182680" cy="103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http://cs2.livemaster.ru/storage/f6/04/103ffe8d6f0ff004b4f289d76e82--podarki-k-prazdnikam-petushok-tekstilnyj-aromatnyj.jpg"/>
          <p:cNvPicPr/>
          <p:nvPr/>
        </p:nvPicPr>
        <p:blipFill>
          <a:blip r:embed="rId16"/>
          <a:stretch/>
        </p:blipFill>
        <p:spPr>
          <a:xfrm>
            <a:off x="963720" y="3786120"/>
            <a:ext cx="1968480" cy="20052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3" descr=""/>
          <p:cNvPicPr/>
          <p:nvPr/>
        </p:nvPicPr>
        <p:blipFill>
          <a:blip r:embed="rId17"/>
          <a:stretch/>
        </p:blipFill>
        <p:spPr>
          <a:xfrm>
            <a:off x="5821200" y="2200320"/>
            <a:ext cx="247500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963720" y="176040"/>
            <a:ext cx="7783560" cy="1244880"/>
          </a:xfrm>
          <a:prstGeom prst="rect">
            <a:avLst/>
          </a:prstGeom>
          <a:ln w="0">
            <a:noFill/>
          </a:ln>
        </p:spPr>
      </p:pic>
      <p:cxnSp>
        <p:nvCxnSpPr>
          <p:cNvPr id="62" name="Прямая со стрелкой 10"/>
          <p:cNvCxnSpPr>
            <a:endCxn id="63" idx="3"/>
          </p:cNvCxnSpPr>
          <p:nvPr/>
        </p:nvCxnSpPr>
        <p:spPr>
          <a:xfrm flipH="1" flipV="1">
            <a:off x="2842920" y="2885400"/>
            <a:ext cx="800640" cy="114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12"/>
          <p:cNvCxnSpPr/>
          <p:nvPr/>
        </p:nvCxnSpPr>
        <p:spPr>
          <a:xfrm flipH="1">
            <a:off x="2499840" y="3785040"/>
            <a:ext cx="128664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20"/>
          <p:cNvCxnSpPr/>
          <p:nvPr/>
        </p:nvCxnSpPr>
        <p:spPr>
          <a:xfrm flipH="1">
            <a:off x="3499920" y="4286160"/>
            <a:ext cx="5724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24"/>
          <p:cNvCxnSpPr/>
          <p:nvPr/>
        </p:nvCxnSpPr>
        <p:spPr>
          <a:xfrm>
            <a:off x="4999680" y="4357800"/>
            <a:ext cx="5720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34"/>
          <p:cNvCxnSpPr/>
          <p:nvPr/>
        </p:nvCxnSpPr>
        <p:spPr>
          <a:xfrm>
            <a:off x="5429160" y="4037040"/>
            <a:ext cx="100080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рямоугольник 39"/>
          <p:cNvSpPr/>
          <p:nvPr/>
        </p:nvSpPr>
        <p:spPr>
          <a:xfrm>
            <a:off x="6572160" y="4214880"/>
            <a:ext cx="20718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ебесто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40"/>
          <p:cNvCxnSpPr/>
          <p:nvPr/>
        </p:nvCxnSpPr>
        <p:spPr>
          <a:xfrm flipV="1">
            <a:off x="5643720" y="2785680"/>
            <a:ext cx="7149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Прямоугольник 41"/>
          <p:cNvSpPr/>
          <p:nvPr/>
        </p:nvSpPr>
        <p:spPr>
          <a:xfrm>
            <a:off x="5286240" y="5143680"/>
            <a:ext cx="16430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42"/>
          <p:cNvSpPr/>
          <p:nvPr/>
        </p:nvSpPr>
        <p:spPr>
          <a:xfrm>
            <a:off x="1357200" y="5143680"/>
            <a:ext cx="257184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испосо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3"/>
          <p:cNvSpPr/>
          <p:nvPr/>
        </p:nvSpPr>
        <p:spPr>
          <a:xfrm>
            <a:off x="357120" y="3786120"/>
            <a:ext cx="2057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х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4"/>
          <p:cNvSpPr/>
          <p:nvPr/>
        </p:nvSpPr>
        <p:spPr>
          <a:xfrm>
            <a:off x="571680" y="2428920"/>
            <a:ext cx="22716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ехн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згот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8"/>
          <p:cNvSpPr/>
          <p:nvPr/>
        </p:nvSpPr>
        <p:spPr>
          <a:xfrm>
            <a:off x="6429240" y="2500200"/>
            <a:ext cx="2214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тре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6"/>
          <p:cNvSpPr/>
          <p:nvPr/>
        </p:nvSpPr>
        <p:spPr>
          <a:xfrm>
            <a:off x="3203640" y="1197000"/>
            <a:ext cx="2736720" cy="352728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18" descr=""/>
          <p:cNvPicPr/>
          <p:nvPr/>
        </p:nvPicPr>
        <p:blipFill>
          <a:blip r:embed="rId2"/>
          <a:stretch/>
        </p:blipFill>
        <p:spPr>
          <a:xfrm>
            <a:off x="3597120" y="3498840"/>
            <a:ext cx="2121120" cy="1036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avrorabtl.ru/wp-content/uploads/2016/08/Art.V001-Petushok-zolotoi%CC%86-grebeshok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3564000" y="1484280"/>
            <a:ext cx="20160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  <a:ea typeface="Arial"/>
              </a:rPr>
              <a:t>Материалы и инструменты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899640" y="1341360"/>
            <a:ext cx="7417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Кусочки джинсовой и х/б ткан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Синтепон для набивки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Фетр для гребешка и клю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роволока для нож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Нитки швейны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Пряж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Акриловые краски, пастель маслена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Игл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Швейная машин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Клеевой писто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Arial"/>
                <a:ea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944640" y="237960"/>
            <a:ext cx="7931160" cy="6829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826920" y="907920"/>
            <a:ext cx="80661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Иглы и булавк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Иглы хранить игольнице. Булавки хранить в коробке с плотно закрывающейся крышко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. Сломанную иглу не бросать, а класть в специально отведенную для этого коробк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. Знать количество иголок, булавок, взятых для работы. В конце работы проверить их налич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. Во время работы иголки и булавки вкалывать в игольницу, нельзя брать в рот, не вкалывать в одежду, мягкие предметы, не оставлять иголку в издел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. Не шить ржавой иглой. Она плохо проходит в ткань, оставляет пятна и может сломать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6. Скреплять ткань острыми концами булавок в направлении от себя, чтобы при движении рук вперед или в стороны не наколотьс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7. В конце занятия проверить, не остались ли в изделии булавки или игол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Ножниц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1. Ножницы хранить в определенном месте - рабочей коробк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2. Класть ножницы сомкнутыми лезвиями от работающего; передавая, держать их за сомкнутые лезв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3. Работать хорошо отрегулированными и заточенными ножниц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4. Не оставлять ножницы с раскрытыми лезви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5. Следить за движением и положением лезвий во время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6. Использовать ножницы только по назначени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27:34Z</dcterms:created>
  <dc:creator>Ludmila</dc:creator>
  <dc:description/>
  <dc:language>en-US</dc:language>
  <cp:lastModifiedBy>Пользователь</cp:lastModifiedBy>
  <dcterms:modified xsi:type="dcterms:W3CDTF">2017-01-02T02:02:18Z</dcterms:modified>
  <cp:revision>45</cp:revision>
  <dc:subject/>
  <dc:title>Номинация «Волшебный сундучок»</dc:title>
</cp:coreProperties>
</file>