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3A2-25EE-4EB9-8B34-D713F8C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ED3-4524-411B-8F42-3682404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876-530A-4351-BF78-73D9A58E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470-15DA-4A90-85C1-3E3E4F99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AF0-DBFE-4894-B014-F042471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4A9-20CD-4D92-AB20-74EC1AE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5B0-4A06-4F01-A050-3607D59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E4A-C4FA-4DDF-A03B-7B640F2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48E-B843-4A31-8A33-23C7A346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3A0-278F-4C64-A346-48BED3D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641-7A12-48BA-AFD3-AADD638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ACA-2D46-4C5C-A571-A2A5A8F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ED6-4C01-4E44-B674-ABA1EB101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_787fd_4e3df06e_XXL.png"/>
          <p:cNvPicPr/>
          <p:nvPr/>
        </p:nvPicPr>
        <p:blipFill>
          <a:blip r:embed="rId1"/>
          <a:stretch/>
        </p:blipFill>
        <p:spPr>
          <a:xfrm>
            <a:off x="-1405080" y="-1611360"/>
            <a:ext cx="11981160" cy="10009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0_6d77b_98858d62_L.jpg"/>
          <p:cNvPicPr/>
          <p:nvPr/>
        </p:nvPicPr>
        <p:blipFill>
          <a:blip r:embed="rId2"/>
          <a:stretch/>
        </p:blipFill>
        <p:spPr>
          <a:xfrm rot="21153000">
            <a:off x="468000" y="2997000"/>
            <a:ext cx="2801880" cy="3406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0_6d781_a567d28a_L.jpg"/>
          <p:cNvPicPr/>
          <p:nvPr/>
        </p:nvPicPr>
        <p:blipFill>
          <a:blip r:embed="rId3"/>
          <a:stretch/>
        </p:blipFill>
        <p:spPr>
          <a:xfrm rot="1792200">
            <a:off x="1466640" y="766800"/>
            <a:ext cx="2217600" cy="2871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0_6d78d_98f8652_L.jpg"/>
          <p:cNvPicPr/>
          <p:nvPr/>
        </p:nvPicPr>
        <p:blipFill>
          <a:blip r:embed="rId4"/>
          <a:stretch/>
        </p:blipFill>
        <p:spPr>
          <a:xfrm rot="445200">
            <a:off x="3252600" y="2998440"/>
            <a:ext cx="3663720" cy="4336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0_6d794_afa556ef_L.jpg"/>
          <p:cNvPicPr/>
          <p:nvPr/>
        </p:nvPicPr>
        <p:blipFill>
          <a:blip r:embed="rId5"/>
          <a:stretch/>
        </p:blipFill>
        <p:spPr>
          <a:xfrm rot="20218800">
            <a:off x="2844720" y="955440"/>
            <a:ext cx="2257560" cy="2671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4"/>
          <p:cNvSpPr/>
          <p:nvPr/>
        </p:nvSpPr>
        <p:spPr>
          <a:xfrm rot="1948800">
            <a:off x="1956960" y="2976480"/>
            <a:ext cx="18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2" descr="FM-Ice-Princess-Element-58.png"/>
          <p:cNvPicPr/>
          <p:nvPr/>
        </p:nvPicPr>
        <p:blipFill>
          <a:blip r:embed="rId6"/>
          <a:srcRect l="0" t="37508" r="0" b="0"/>
          <a:stretch/>
        </p:blipFill>
        <p:spPr>
          <a:xfrm>
            <a:off x="5724360" y="189000"/>
            <a:ext cx="260064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8" descr=""/>
          <p:cNvPicPr/>
          <p:nvPr/>
        </p:nvPicPr>
        <p:blipFill>
          <a:blip r:embed="rId7"/>
          <a:stretch/>
        </p:blipFill>
        <p:spPr>
          <a:xfrm>
            <a:off x="6761160" y="4791240"/>
            <a:ext cx="2120760" cy="1036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FM-BT-NOV-Element-12.png"/>
          <p:cNvPicPr/>
          <p:nvPr/>
        </p:nvPicPr>
        <p:blipFill>
          <a:blip r:embed="rId8"/>
          <a:stretch/>
        </p:blipFill>
        <p:spPr>
          <a:xfrm rot="1656000">
            <a:off x="1292400" y="-339840"/>
            <a:ext cx="3801960" cy="3249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3"/>
          <p:cNvSpPr/>
          <p:nvPr/>
        </p:nvSpPr>
        <p:spPr>
          <a:xfrm rot="21213600">
            <a:off x="1366920" y="8748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9"/>
          <p:cNvSpPr/>
          <p:nvPr/>
        </p:nvSpPr>
        <p:spPr>
          <a:xfrm rot="703200">
            <a:off x="3016080" y="928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1" descr=""/>
          <p:cNvPicPr/>
          <p:nvPr/>
        </p:nvPicPr>
        <p:blipFill>
          <a:blip r:embed="rId9"/>
          <a:stretch/>
        </p:blipFill>
        <p:spPr>
          <a:xfrm>
            <a:off x="1335240" y="1584360"/>
            <a:ext cx="1981080" cy="18352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2" descr=""/>
          <p:cNvPicPr/>
          <p:nvPr/>
        </p:nvPicPr>
        <p:blipFill>
          <a:blip r:embed="rId10"/>
          <a:stretch/>
        </p:blipFill>
        <p:spPr>
          <a:xfrm>
            <a:off x="3224160" y="1676520"/>
            <a:ext cx="198756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11"/>
          <a:stretch/>
        </p:blipFill>
        <p:spPr>
          <a:xfrm>
            <a:off x="6254640" y="878040"/>
            <a:ext cx="1633680" cy="1450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u.kanobu.ru/longreads/2015/12/1/7c9a950b-d629-4a94-bbef-5dc4807c6276.jpg"/>
          <p:cNvPicPr/>
          <p:nvPr/>
        </p:nvPicPr>
        <p:blipFill>
          <a:blip r:embed="rId12"/>
          <a:stretch/>
        </p:blipFill>
        <p:spPr>
          <a:xfrm>
            <a:off x="6797520" y="3279600"/>
            <a:ext cx="1859040" cy="139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http://cs2.livemaster.ru/storage/89/4c/e0893ce1ae5bf9586517bbe215y3--podarki-k-prazdnikam-simvol-2017-goda-petuh.jpg"/>
          <p:cNvPicPr/>
          <p:nvPr/>
        </p:nvPicPr>
        <p:blipFill>
          <a:blip r:embed="rId13"/>
          <a:stretch/>
        </p:blipFill>
        <p:spPr>
          <a:xfrm>
            <a:off x="3700440" y="3852720"/>
            <a:ext cx="2541600" cy="2492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9" descr=""/>
          <p:cNvPicPr/>
          <p:nvPr/>
        </p:nvPicPr>
        <p:blipFill>
          <a:blip r:embed="rId14"/>
          <a:stretch/>
        </p:blipFill>
        <p:spPr>
          <a:xfrm>
            <a:off x="3419640" y="5827680"/>
            <a:ext cx="339552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0" descr=""/>
          <p:cNvPicPr/>
          <p:nvPr/>
        </p:nvPicPr>
        <p:blipFill>
          <a:blip r:embed="rId15"/>
          <a:stretch/>
        </p:blipFill>
        <p:spPr>
          <a:xfrm>
            <a:off x="804960" y="5443560"/>
            <a:ext cx="2182680" cy="103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http://cs2.livemaster.ru/storage/f6/04/103ffe8d6f0ff004b4f289d76e82--podarki-k-prazdnikam-petushok-tekstilnyj-aromatnyj.jpg"/>
          <p:cNvPicPr/>
          <p:nvPr/>
        </p:nvPicPr>
        <p:blipFill>
          <a:blip r:embed="rId16"/>
          <a:stretch/>
        </p:blipFill>
        <p:spPr>
          <a:xfrm>
            <a:off x="963720" y="3786120"/>
            <a:ext cx="1968480" cy="20052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3" descr=""/>
          <p:cNvPicPr/>
          <p:nvPr/>
        </p:nvPicPr>
        <p:blipFill>
          <a:blip r:embed="rId17"/>
          <a:stretch/>
        </p:blipFill>
        <p:spPr>
          <a:xfrm>
            <a:off x="5821200" y="2200320"/>
            <a:ext cx="2475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963720" y="176040"/>
            <a:ext cx="77835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62" name="Прямая со стрелкой 10"/>
          <p:cNvCxnSpPr>
            <a:endCxn id="63" idx="3"/>
          </p:cNvCxnSpPr>
          <p:nvPr/>
        </p:nvCxnSpPr>
        <p:spPr>
          <a:xfrm flipH="1" flipV="1">
            <a:off x="2842920" y="2885400"/>
            <a:ext cx="80064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2"/>
          <p:cNvCxnSpPr/>
          <p:nvPr/>
        </p:nvCxnSpPr>
        <p:spPr>
          <a:xfrm flipH="1">
            <a:off x="2499840" y="3785040"/>
            <a:ext cx="1286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0"/>
          <p:cNvCxnSpPr/>
          <p:nvPr/>
        </p:nvCxnSpPr>
        <p:spPr>
          <a:xfrm flipH="1">
            <a:off x="3499920" y="4286160"/>
            <a:ext cx="572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/>
          <p:nvPr/>
        </p:nvCxnSpPr>
        <p:spPr>
          <a:xfrm>
            <a:off x="4999680" y="4357800"/>
            <a:ext cx="5720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34"/>
          <p:cNvCxnSpPr/>
          <p:nvPr/>
        </p:nvCxnSpPr>
        <p:spPr>
          <a:xfrm>
            <a:off x="5429160" y="4037040"/>
            <a:ext cx="10008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рямоугольник 39"/>
          <p:cNvSpPr/>
          <p:nvPr/>
        </p:nvSpPr>
        <p:spPr>
          <a:xfrm>
            <a:off x="6572160" y="4214880"/>
            <a:ext cx="20718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бе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40"/>
          <p:cNvCxnSpPr/>
          <p:nvPr/>
        </p:nvCxnSpPr>
        <p:spPr>
          <a:xfrm flipV="1">
            <a:off x="5643720" y="2785680"/>
            <a:ext cx="714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рямоугольник 41"/>
          <p:cNvSpPr/>
          <p:nvPr/>
        </p:nvSpPr>
        <p:spPr>
          <a:xfrm>
            <a:off x="5286240" y="5143680"/>
            <a:ext cx="16430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2"/>
          <p:cNvSpPr/>
          <p:nvPr/>
        </p:nvSpPr>
        <p:spPr>
          <a:xfrm>
            <a:off x="1357200" y="5143680"/>
            <a:ext cx="2571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спос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3"/>
          <p:cNvSpPr/>
          <p:nvPr/>
        </p:nvSpPr>
        <p:spPr>
          <a:xfrm>
            <a:off x="357120" y="3786120"/>
            <a:ext cx="2057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4"/>
          <p:cNvSpPr/>
          <p:nvPr/>
        </p:nvSpPr>
        <p:spPr>
          <a:xfrm>
            <a:off x="571680" y="2428920"/>
            <a:ext cx="22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8"/>
          <p:cNvSpPr/>
          <p:nvPr/>
        </p:nvSpPr>
        <p:spPr>
          <a:xfrm>
            <a:off x="6429240" y="2500200"/>
            <a:ext cx="2214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6"/>
          <p:cNvSpPr/>
          <p:nvPr/>
        </p:nvSpPr>
        <p:spPr>
          <a:xfrm>
            <a:off x="3203640" y="1197000"/>
            <a:ext cx="2736720" cy="35272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8" descr=""/>
          <p:cNvPicPr/>
          <p:nvPr/>
        </p:nvPicPr>
        <p:blipFill>
          <a:blip r:embed="rId2"/>
          <a:stretch/>
        </p:blipFill>
        <p:spPr>
          <a:xfrm>
            <a:off x="3597120" y="3498840"/>
            <a:ext cx="2121120" cy="103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avrorabtl.ru/wp-content/uploads/2016/08/Art.V001-Petushok-zolotoi%CC%86-grebeshok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564000" y="1484280"/>
            <a:ext cx="201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Материалы и инструмен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99640" y="1341360"/>
            <a:ext cx="741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усочки джинсовой и х/б тка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Синтепон для набив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Фетр для гребешка и клю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роволока для нож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Нитки швей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ря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Акриловые краски, пастель маслен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г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леевой писто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237960"/>
            <a:ext cx="7931160" cy="682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826920" y="907920"/>
            <a:ext cx="80661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Иглы и булав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глы хранить игольнице. Булавки хранить в коробке с плотно закрывающейся крышк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Сломанную иглу не бросать, а класть в специально отведенную для этого короб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Знать количество иголок, булавок, взятых для работы. В конце работы проверить их налич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Во время работы иголки и булавки вкалывать в игольницу, нельзя брать в рот, не вкалывать в одежду, мягкие предметы, не оставлять иголку в издел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Не шить ржавой иглой. Она плохо проходит в ткань, оставляет пятна и может сломать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Скреплять ткань острыми концами булавок в направлении от себя, чтобы при движении рук вперед или в стороны не наколоть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. В конце занятия проверить, не остались ли в изделии булавки или игол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ожн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Ножницы хранить в определенном месте - рабочей короб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Класть ножницы сомкнутыми лезвиями от работающего; передавая, держать их за сомкнутые лезв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Работать хорошо отрегулированными и заточенными ножниц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Не оставлять ножницы с раскрытыми лезви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Следить за движением и положением лезвий во время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Использовать ножницы только по назначени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2:02:18Z</dcterms:modified>
  <cp:revision>45</cp:revision>
  <dc:subject/>
  <dc:title>Номинация «Волшебный сундучок»</dc:title>
</cp:coreProperties>
</file>