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FF4B-15F5-415E-BA6B-76C542A752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F254-AA0A-463D-BF4D-DC724292E9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A820-5A32-4C72-AC7F-2DA1E9399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3B3-E430-47BE-B683-C1B1111AC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8EE-A3DE-48C1-920A-06B75F4B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426-FB25-4DA2-B439-A733F6F9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3D6-851F-4677-B0E8-EA96FFE8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ECE-F081-461F-B2B8-D54742D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EEB-4446-4160-AD46-2413962A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031-C585-43C3-89EA-D781831E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AC7-3EF2-47BD-B0A4-E640E6FA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1EA-F871-40AD-9575-4AE22F40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D93-D3D2-412A-8B9D-CC0F5D4A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B7C-F31D-4D48-91A1-ADFE1473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5C3-CAFA-42F7-8162-5D3337EA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2A8-7571-4635-AA7F-4773F24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1A7D-B72D-4C3E-B65E-D940D2D8E6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66238952_17.png"/>
          <p:cNvPicPr/>
          <p:nvPr/>
        </p:nvPicPr>
        <p:blipFill>
          <a:blip r:embed="rId1"/>
          <a:stretch/>
        </p:blipFill>
        <p:spPr>
          <a:xfrm rot="2397000">
            <a:off x="6490800" y="5413320"/>
            <a:ext cx="90972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1316160" y="189000"/>
            <a:ext cx="6516720" cy="92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Здравствуйте всем !!! фото 5"/>
          <p:cNvPicPr/>
          <p:nvPr/>
        </p:nvPicPr>
        <p:blipFill>
          <a:blip r:embed="rId3"/>
          <a:stretch/>
        </p:blipFill>
        <p:spPr>
          <a:xfrm>
            <a:off x="6227640" y="1557360"/>
            <a:ext cx="2521080" cy="3467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826920" y="1268280"/>
            <a:ext cx="54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й согласно деталей выкройки, с учетом припусков на ш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шив игрушки согласно технологической карте (творческий проек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зготовление туловища игр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зготовление головы игр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формление игр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тделочные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Здравствуйте всем !!! фото 35"/>
          <p:cNvPicPr/>
          <p:nvPr/>
        </p:nvPicPr>
        <p:blipFill>
          <a:blip r:embed="rId1"/>
          <a:stretch/>
        </p:blipFill>
        <p:spPr>
          <a:xfrm>
            <a:off x="755640" y="404640"/>
            <a:ext cx="2879640" cy="216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Здравствуйте всем !!! фото 36"/>
          <p:cNvPicPr/>
          <p:nvPr/>
        </p:nvPicPr>
        <p:blipFill>
          <a:blip r:embed="rId2"/>
          <a:stretch/>
        </p:blipFill>
        <p:spPr>
          <a:xfrm>
            <a:off x="3348000" y="1413000"/>
            <a:ext cx="2592360" cy="194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Здравствуйте всем !!! фото 39"/>
          <p:cNvPicPr/>
          <p:nvPr/>
        </p:nvPicPr>
        <p:blipFill>
          <a:blip r:embed="rId3"/>
          <a:stretch/>
        </p:blipFill>
        <p:spPr>
          <a:xfrm>
            <a:off x="5940360" y="69228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Здравствуйте всем !!! фото 42"/>
          <p:cNvPicPr/>
          <p:nvPr/>
        </p:nvPicPr>
        <p:blipFill>
          <a:blip r:embed="rId4"/>
          <a:stretch/>
        </p:blipFill>
        <p:spPr>
          <a:xfrm>
            <a:off x="6804000" y="364500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Здравствуйте всем !!! фото 16"/>
          <p:cNvPicPr/>
          <p:nvPr/>
        </p:nvPicPr>
        <p:blipFill>
          <a:blip r:embed="rId5"/>
          <a:stretch/>
        </p:blipFill>
        <p:spPr>
          <a:xfrm>
            <a:off x="539640" y="3068640"/>
            <a:ext cx="2160720" cy="162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Здравствуйте всем !!! фото 17"/>
          <p:cNvPicPr/>
          <p:nvPr/>
        </p:nvPicPr>
        <p:blipFill>
          <a:blip r:embed="rId6"/>
          <a:stretch/>
        </p:blipFill>
        <p:spPr>
          <a:xfrm>
            <a:off x="1403280" y="4581360"/>
            <a:ext cx="2259000" cy="1695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Здравствуйте всем !!! фото 25"/>
          <p:cNvPicPr/>
          <p:nvPr/>
        </p:nvPicPr>
        <p:blipFill>
          <a:blip r:embed="rId7"/>
          <a:stretch/>
        </p:blipFill>
        <p:spPr>
          <a:xfrm>
            <a:off x="3059280" y="3500280"/>
            <a:ext cx="2233440" cy="1676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Здравствуйте всем !!! фото 43"/>
          <p:cNvPicPr/>
          <p:nvPr/>
        </p:nvPicPr>
        <p:blipFill>
          <a:blip r:embed="rId8"/>
          <a:stretch/>
        </p:blipFill>
        <p:spPr>
          <a:xfrm>
            <a:off x="5003640" y="4076640"/>
            <a:ext cx="173052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3" descr=""/>
          <p:cNvPicPr/>
          <p:nvPr/>
        </p:nvPicPr>
        <p:blipFill>
          <a:blip r:embed="rId1"/>
          <a:stretch/>
        </p:blipFill>
        <p:spPr>
          <a:xfrm>
            <a:off x="1231920" y="5705640"/>
            <a:ext cx="5443560" cy="70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Dima\Desktop\марина\P_20161212_110705.jpg"/>
          <p:cNvPicPr/>
          <p:nvPr/>
        </p:nvPicPr>
        <p:blipFill>
          <a:blip r:embed="rId2"/>
          <a:stretch/>
        </p:blipFill>
        <p:spPr>
          <a:xfrm>
            <a:off x="1847880" y="201600"/>
            <a:ext cx="4278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Джинсовая ткать – 0 рубл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итец – 0 рубл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Синтепон – 0 рубл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Проволока –  0 рублей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Фетр – 0 рубл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Пряжа – 0 рубл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Акриловые краски и паетки «снежинки»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≈ 4 рубл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О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изготовление данной игрушки мною потрачено    примерно 4 рубля, всё остальное имелось дома в старых вещах (или куплено было  давно). 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42920" y="404640"/>
            <a:ext cx="74678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асчет стоимость из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кономическая и экологическая оценки проектируемого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0244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дя необходимые экономические расчеты, пришла к выводу: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зделие, выполненное мною, гораздо дешевле аналогов на рын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туральные хлопчатобумажные ткани для игрушки экологически безопасны. Правильное использование инструментов, швейной машины во время работы не принесли вреда моему здоров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4678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2637000"/>
            <a:ext cx="52563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работой я справилась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талась доволь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зультато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24000" y="3933720"/>
            <a:ext cx="5111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изготовления тряпичного Петуха доступен и интересен, помогает снимать стресс и получить удовольствие от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Dima\Desktop\марина\P_20161212_110838.jpg"/>
          <p:cNvPicPr/>
          <p:nvPr/>
        </p:nvPicPr>
        <p:blipFill>
          <a:blip r:embed="rId1"/>
          <a:stretch/>
        </p:blipFill>
        <p:spPr>
          <a:xfrm>
            <a:off x="5376960" y="1352520"/>
            <a:ext cx="32796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4" descr=""/>
          <p:cNvPicPr/>
          <p:nvPr/>
        </p:nvPicPr>
        <p:blipFill>
          <a:blip r:embed="rId1"/>
          <a:stretch/>
        </p:blipFill>
        <p:spPr>
          <a:xfrm>
            <a:off x="2262240" y="171360"/>
            <a:ext cx="8077320" cy="17366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4211640" y="206064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Год Петуха настав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Пусть кукарекнет 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Мы ищем двери наш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Пути к своим меч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И смело мы жел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Успехов, добр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Добро пусть побежд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К нему пути пр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539640" y="582840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а (список источников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тернет –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C:\Users\Dima\Desktop\марина\P_20161212_110756.jpg"/>
          <p:cNvPicPr/>
          <p:nvPr/>
        </p:nvPicPr>
        <p:blipFill>
          <a:blip r:embed="rId2"/>
          <a:stretch/>
        </p:blipFill>
        <p:spPr>
          <a:xfrm>
            <a:off x="438120" y="938160"/>
            <a:ext cx="37800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27:34Z</dcterms:created>
  <dc:creator>Ludmila</dc:creator>
  <dc:description/>
  <dc:language>en-US</dc:language>
  <cp:lastModifiedBy>Пользователь</cp:lastModifiedBy>
  <dcterms:modified xsi:type="dcterms:W3CDTF">2017-01-02T02:05:07Z</dcterms:modified>
  <cp:revision>46</cp:revision>
  <dc:subject/>
  <dc:title>Номинация «Волшебный сундучок»</dc:title>
</cp:coreProperties>
</file>