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3174-58BE-4A0D-AE91-060A8CF54C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79C4-B04C-472B-87DB-16A35BF65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A4E9-9F54-4A76-A87D-2381E98854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91EAE-34CF-4DAD-9692-E576C7876D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5BE-153C-465B-A6DA-D644DFA96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07DD-F07A-4153-B386-D0C95996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6C8-9DA5-45FE-A513-9015109A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27E0-6669-4384-A402-4E5CD49D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CC92-4073-4E9C-A3DC-713546D6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25B3-75B8-48F0-B85C-892D2C52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C48-5478-4E85-8960-4ED714AD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918-FEEB-4235-AEC0-AE20835E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AED-97F3-4BB0-82D8-40A566A5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97D0-A9F4-4BA6-96C9-77B4C80F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7104-6C8F-45EE-B193-76FA07194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69A-FE72-43BB-864E-7D0DE890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B50C-BA47-428F-92A3-19CF7B1DB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66238952_17.png"/>
          <p:cNvPicPr/>
          <p:nvPr/>
        </p:nvPicPr>
        <p:blipFill>
          <a:blip r:embed="rId1"/>
          <a:stretch/>
        </p:blipFill>
        <p:spPr>
          <a:xfrm rot="2397000">
            <a:off x="6490800" y="5413320"/>
            <a:ext cx="90972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2" descr=""/>
          <p:cNvPicPr/>
          <p:nvPr/>
        </p:nvPicPr>
        <p:blipFill>
          <a:blip r:embed="rId2"/>
          <a:stretch/>
        </p:blipFill>
        <p:spPr>
          <a:xfrm>
            <a:off x="1316160" y="189000"/>
            <a:ext cx="6516720" cy="920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Здравствуйте всем !!! фото 5"/>
          <p:cNvPicPr/>
          <p:nvPr/>
        </p:nvPicPr>
        <p:blipFill>
          <a:blip r:embed="rId3"/>
          <a:stretch/>
        </p:blipFill>
        <p:spPr>
          <a:xfrm>
            <a:off x="6227640" y="1557360"/>
            <a:ext cx="2521080" cy="3467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826920" y="1268280"/>
            <a:ext cx="5400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крой согласно деталей выкройки, с учетом припусков на ш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шив игрушки согласно технологической карте (творческий проект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зготовление туловища игр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Изготовление головы игр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формление игруш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тделочные элемен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1" descr="Здравствуйте всем !!! фото 35"/>
          <p:cNvPicPr/>
          <p:nvPr/>
        </p:nvPicPr>
        <p:blipFill>
          <a:blip r:embed="rId1"/>
          <a:stretch/>
        </p:blipFill>
        <p:spPr>
          <a:xfrm>
            <a:off x="755640" y="404640"/>
            <a:ext cx="2879640" cy="2162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Здравствуйте всем !!! фото 36"/>
          <p:cNvPicPr/>
          <p:nvPr/>
        </p:nvPicPr>
        <p:blipFill>
          <a:blip r:embed="rId2"/>
          <a:stretch/>
        </p:blipFill>
        <p:spPr>
          <a:xfrm>
            <a:off x="3348000" y="141300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Здравствуйте всем !!! фото 39"/>
          <p:cNvPicPr/>
          <p:nvPr/>
        </p:nvPicPr>
        <p:blipFill>
          <a:blip r:embed="rId3"/>
          <a:stretch/>
        </p:blipFill>
        <p:spPr>
          <a:xfrm>
            <a:off x="5940360" y="692280"/>
            <a:ext cx="2303640" cy="3073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Здравствуйте всем !!! фото 42"/>
          <p:cNvPicPr/>
          <p:nvPr/>
        </p:nvPicPr>
        <p:blipFill>
          <a:blip r:embed="rId4"/>
          <a:stretch/>
        </p:blipFill>
        <p:spPr>
          <a:xfrm>
            <a:off x="6804000" y="3645000"/>
            <a:ext cx="2089080" cy="156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Здравствуйте всем !!! фото 16"/>
          <p:cNvPicPr/>
          <p:nvPr/>
        </p:nvPicPr>
        <p:blipFill>
          <a:blip r:embed="rId5"/>
          <a:stretch/>
        </p:blipFill>
        <p:spPr>
          <a:xfrm>
            <a:off x="539640" y="3068640"/>
            <a:ext cx="2160720" cy="1622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Здравствуйте всем !!! фото 17"/>
          <p:cNvPicPr/>
          <p:nvPr/>
        </p:nvPicPr>
        <p:blipFill>
          <a:blip r:embed="rId6"/>
          <a:stretch/>
        </p:blipFill>
        <p:spPr>
          <a:xfrm>
            <a:off x="1403280" y="4581360"/>
            <a:ext cx="2259000" cy="1695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Здравствуйте всем !!! фото 25"/>
          <p:cNvPicPr/>
          <p:nvPr/>
        </p:nvPicPr>
        <p:blipFill>
          <a:blip r:embed="rId7"/>
          <a:stretch/>
        </p:blipFill>
        <p:spPr>
          <a:xfrm>
            <a:off x="3059280" y="3500280"/>
            <a:ext cx="2233440" cy="1676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Здравствуйте всем !!! фото 43"/>
          <p:cNvPicPr/>
          <p:nvPr/>
        </p:nvPicPr>
        <p:blipFill>
          <a:blip r:embed="rId8"/>
          <a:stretch/>
        </p:blipFill>
        <p:spPr>
          <a:xfrm>
            <a:off x="5003640" y="4076640"/>
            <a:ext cx="173052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3" descr=""/>
          <p:cNvPicPr/>
          <p:nvPr/>
        </p:nvPicPr>
        <p:blipFill>
          <a:blip r:embed="rId1"/>
          <a:stretch/>
        </p:blipFill>
        <p:spPr>
          <a:xfrm>
            <a:off x="1231920" y="5705640"/>
            <a:ext cx="5443560" cy="70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Users\Dima\Desktop\марина\P_20161212_110705.jpg"/>
          <p:cNvPicPr/>
          <p:nvPr/>
        </p:nvPicPr>
        <p:blipFill>
          <a:blip r:embed="rId2"/>
          <a:stretch/>
        </p:blipFill>
        <p:spPr>
          <a:xfrm>
            <a:off x="1847880" y="201600"/>
            <a:ext cx="4278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05264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Джинсовая ткать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итец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Синтепон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Проволока –  0 рублей; 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Фетр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. Пряжа – 0 рублей;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. Акриловые краски и паетки «снежинки» –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≈ 4 рубл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ТОГО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 изготовление данной игрушки мною потрачено    примерно 4 рубля, всё остальное имелось дома в старых вещах (или куплено было  давно). 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42920" y="404640"/>
            <a:ext cx="746784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Расчет стоимость из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Экономическая и экологическая оценки проектируемого издел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800244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дя необходимые экономические расчеты, пришла к выводу: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зделие, выполненное мною, гораздо дешевле аналогов на рынк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туральные хлопчатобумажные ткани для игрушки экологически безопасны. Правильное использование инструментов, швейной машины во время работы не принесли вреда моему здоровь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46784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Заключительный эта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2637000"/>
            <a:ext cx="52563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работой я справилась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талась доволь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зультатом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324000" y="3933720"/>
            <a:ext cx="511164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изготовления тряпичного Петуха доступен и интересен, помогает снимать стресс и получить удовольствие от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Dima\Desktop\марина\P_20161212_110838.jpg"/>
          <p:cNvPicPr/>
          <p:nvPr/>
        </p:nvPicPr>
        <p:blipFill>
          <a:blip r:embed="rId1"/>
          <a:stretch/>
        </p:blipFill>
        <p:spPr>
          <a:xfrm>
            <a:off x="5376960" y="1352520"/>
            <a:ext cx="32796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4" descr=""/>
          <p:cNvPicPr/>
          <p:nvPr/>
        </p:nvPicPr>
        <p:blipFill>
          <a:blip r:embed="rId1"/>
          <a:stretch/>
        </p:blipFill>
        <p:spPr>
          <a:xfrm>
            <a:off x="2262240" y="171360"/>
            <a:ext cx="8077320" cy="17366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4211640" y="206064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Год Петуха настав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Пусть кукарекнет н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Мы ищем двери наш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Пути к своим мечт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И смело мы жела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Успехов, добр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Добро пусть побежд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6600cc"/>
                </a:solidFill>
                <a:latin typeface="Calibri"/>
              </a:rPr>
              <a:t>К нему пути прос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539640" y="582840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а (список источников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тернет –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C:\Users\Dima\Desktop\марина\P_20161212_110756.jpg"/>
          <p:cNvPicPr/>
          <p:nvPr/>
        </p:nvPicPr>
        <p:blipFill>
          <a:blip r:embed="rId2"/>
          <a:stretch/>
        </p:blipFill>
        <p:spPr>
          <a:xfrm>
            <a:off x="438120" y="938160"/>
            <a:ext cx="3780000" cy="49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27:34Z</dcterms:created>
  <dc:creator>Ludmila</dc:creator>
  <dc:description/>
  <dc:language>en-US</dc:language>
  <cp:lastModifiedBy>Пользователь</cp:lastModifiedBy>
  <dcterms:modified xsi:type="dcterms:W3CDTF">2017-01-02T02:05:07Z</dcterms:modified>
  <cp:revision>46</cp:revision>
  <dc:subject/>
  <dc:title>Номинация «Волшебный сундучок»</dc:title>
</cp:coreProperties>
</file>