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20E-4D2D-429A-8D3B-6572703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3F7-0216-44B3-84D8-9114EBC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165-6E4E-47C2-B41A-B6E2A286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0A6-EE7A-418C-92E3-4A7B268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765-FA2D-46C4-8940-CAAFE947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3EA-D52C-412B-B753-94430D40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7FE-6EC1-4F8B-B7F0-ECB0B0E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8F1-6200-4C67-BA7F-A883F3D7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E0E-C74F-42DD-9E98-F31342F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2A7-01C6-4779-B207-DBF3752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FA6-BA80-4914-A545-76291F7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CC0-6F7E-47F8-8168-2626C3E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FFB-5C23-4543-BA68-6025D2E6D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108000" y="620640"/>
            <a:ext cx="4235400" cy="561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9440" y="115920"/>
            <a:ext cx="60465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 и</a:t>
            </a:r>
            <a:r>
              <a:rPr b="1" lang="en-US" sz="54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НИ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ДРЕВНЕЙ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ГРЕ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A00-248F-48DC-B36D-DE22C3951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287320" y="3230640"/>
            <a:ext cx="35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-покровитель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B0A9-5C67-415B-879C-4572DC6EC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5072400" y="3002040"/>
            <a:ext cx="361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мудр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ё священная птица –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8C5F-32BD-4A13-BC6A-6872C736D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216400" y="32306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красоты и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9BF5-D66A-482C-A131-AD87E2DCE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928400" y="3002040"/>
            <a:ext cx="393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и в честь эт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ли начало теа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0A9-BE14-4F8D-9355-6FA190999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926600" y="3002040"/>
            <a:ext cx="39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, который прик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метея к Кавказским г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F1BA-16CE-4A4E-BDC4-06DFC3C7A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782960" y="3002040"/>
            <a:ext cx="415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анник Зевса, покр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B8D-B80B-4FAB-B953-B090D9CBD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5435640" y="3230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question_pop_up_from_box_sm_nwm"/>
          <p:cNvPicPr/>
          <p:nvPr/>
        </p:nvPicPr>
        <p:blipFill>
          <a:blip r:embed="rId7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463B-647A-4E9C-9995-C79EF7BF0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6040" y="1211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ff"/>
                </a:solidFill>
                <a:latin typeface="Arial"/>
              </a:rPr>
              <a:t>М  О  Л  О  Д  Е  Ц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3" descr="boy26"/>
          <p:cNvPicPr/>
          <p:nvPr/>
        </p:nvPicPr>
        <p:blipFill>
          <a:blip r:embed="rId1"/>
          <a:stretch/>
        </p:blipFill>
        <p:spPr>
          <a:xfrm>
            <a:off x="3797280" y="256536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4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19D-7E05-4750-B0C5-71A4BC429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6040" y="11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ПРОБУЙ ЕЩЁ РАЗ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AG00317_"/>
          <p:cNvPicPr/>
          <p:nvPr/>
        </p:nvPicPr>
        <p:blipFill>
          <a:blip r:embed="rId1"/>
          <a:stretch/>
        </p:blipFill>
        <p:spPr>
          <a:xfrm>
            <a:off x="3797280" y="2421000"/>
            <a:ext cx="1549440" cy="1990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2931480" y="480996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НЕ ТОРОП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ДУМА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C330-E93B-4C60-A7F1-291E1E405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ГЕОГРАФИЧЕСКОЕ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960" y="1989000"/>
            <a:ext cx="49273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ция располо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о-Восточной Европ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е Балканског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легающих обла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I-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 н.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еческие племена рассел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веро-восточном Средиземномор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я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мешались с племенами, вторгшимися с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greece04"/>
          <p:cNvPicPr/>
          <p:nvPr/>
        </p:nvPicPr>
        <p:blipFill>
          <a:blip r:embed="rId1"/>
          <a:stretch/>
        </p:blipFill>
        <p:spPr>
          <a:xfrm>
            <a:off x="4927680" y="1557360"/>
            <a:ext cx="3917880" cy="4464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3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2A7-5AF0-43ED-A5E1-53AA32D3C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">
            <a:hlinkClick r:id="rId1" action="ppaction://hlinksldjump"/>
          </p:cNvPr>
          <p:cNvSpPr/>
          <p:nvPr/>
        </p:nvSpPr>
        <p:spPr>
          <a:xfrm>
            <a:off x="2538360" y="189000"/>
            <a:ext cx="3960720" cy="134460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ГЕОГРАФ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>
            <a:hlinkClick r:id="rId2" action="ppaction://hlinksldjump"/>
          </p:cNvPr>
          <p:cNvSpPr/>
          <p:nvPr/>
        </p:nvSpPr>
        <p:spPr>
          <a:xfrm>
            <a:off x="2303640" y="2100240"/>
            <a:ext cx="4429080" cy="11527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УСЛОВИЯ и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3" action="ppaction://hlinksldjump"/>
          </p:cNvPr>
          <p:cNvSpPr/>
          <p:nvPr/>
        </p:nvSpPr>
        <p:spPr>
          <a:xfrm>
            <a:off x="3235320" y="3819600"/>
            <a:ext cx="2565360" cy="108108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7"/>
          <p:cNvCxnSpPr>
            <a:stCxn id="44" idx="4"/>
            <a:endCxn id="45" idx="0"/>
          </p:cNvCxnSpPr>
          <p:nvPr/>
        </p:nvCxnSpPr>
        <p:spPr>
          <a:xfrm flipH="1">
            <a:off x="4517640" y="1552680"/>
            <a:ext cx="216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8" name="AutoShape 8"/>
          <p:cNvCxnSpPr>
            <a:stCxn id="45" idx="4"/>
            <a:endCxn id="46" idx="0"/>
          </p:cNvCxnSpPr>
          <p:nvPr/>
        </p:nvCxnSpPr>
        <p:spPr>
          <a:xfrm>
            <a:off x="4517640" y="3271320"/>
            <a:ext cx="108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9" name="Oval 9">
            <a:hlinkClick r:id="rId4" action="ppaction://hlinksldjump"/>
          </p:cNvPr>
          <p:cNvSpPr/>
          <p:nvPr/>
        </p:nvSpPr>
        <p:spPr>
          <a:xfrm>
            <a:off x="3235320" y="5468760"/>
            <a:ext cx="2565360" cy="10573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Б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0"/>
          <p:cNvCxnSpPr>
            <a:stCxn id="46" idx="4"/>
            <a:endCxn id="49" idx="0"/>
          </p:cNvCxnSpPr>
          <p:nvPr/>
        </p:nvCxnSpPr>
        <p:spPr>
          <a:xfrm>
            <a:off x="4517640" y="4919400"/>
            <a:ext cx="1080" cy="531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question_pop_up_from_box_sm_nw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6334200" y="3403440"/>
            <a:ext cx="232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ДЛЯ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НАЖ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ООТВЕТ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О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2D0-D251-4C47-8238-B017D4C0A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РОДНЫЕ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СЛОВИЯ и 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 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меренно-тёпл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природа – кра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нообр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е масс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сн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дуб, бу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каш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х росли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чнозелёны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пари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лавр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олеанд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ч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лись плодород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ребовали тщательной обрабо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79E-B933-4072-8D4B-4C3523F3E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СНОВНЫЕ ЗА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и занятиями греков в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XI-IX 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ных област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азведение коров, коз, овец, свин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вни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ращивание пшеницы, ячменя, винограда, оливо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грекам уже было известн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еле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оно было дорогим. Поэтому преобладал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ронз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уд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ки занимались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мес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оргов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морской. Но она еще не была регулярной из-за несовершенство кораблей и была тесно связана с морским разб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7DA7-4F9D-4008-9C5F-7AC4F2ED6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СНОВНЫЕ Б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их сказаниях —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иф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еки старались объяснить происхождение всего, что окружало человека: явления природы, отношения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ифах вымысел тесно переплетается с действительностью, благодаря чему есть возможность понять много фактов жизни давних г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и из богов они считали громовержц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ев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орской стихией «ведал»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сейд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гом солнца, который ездил в золотой колеснице по небу, был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ли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ме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а богиней плодородия, 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богом подземного царства. Лесных богов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ати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еки воображали в виде людей, которые обросли шерстью, с козлиными ногами и ушами. Родниковых богинь изображали в виде девчат и называл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нимф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лось, что боги не только руководят природой, но и хозяйственными занятиями. Так бог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иони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л людей выращивать виноград и делать вино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ф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ровительствовал кузнецам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рм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орговле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ртеми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хоте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полл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скусству. Богиней любви и красоты был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фрод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мудрости —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ф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сть богов греки строили храмы, устанавливали статуи, проводили религиозного праздника и обряды, которые состояли в принесении даров сверхъестественным силам (жертвопринош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3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EBAE-9911-459F-AC78-A1B22C383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189000"/>
          <a:ext cx="2808000" cy="3240000"/>
        </p:xfrm>
        <a:graphic>
          <a:graphicData uri="http://schemas.openxmlformats.org/drawingml/2006/table">
            <a:tbl>
              <a:tblPr/>
              <a:tblGrid>
                <a:gridCol w="326880"/>
                <a:gridCol w="353880"/>
                <a:gridCol w="354240"/>
                <a:gridCol w="353880"/>
                <a:gridCol w="353880"/>
                <a:gridCol w="354240"/>
                <a:gridCol w="355680"/>
                <a:gridCol w="3553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297"/>
          <p:cNvSpPr/>
          <p:nvPr/>
        </p:nvSpPr>
        <p:spPr>
          <a:xfrm>
            <a:off x="129240" y="3573360"/>
            <a:ext cx="88171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     Богиня-покровительница ох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     Герой, совершивший 12 подви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     Богиня любви и крас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    Город-государство на Пелопонн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    Женщина, из-за которой, по мнению древних греков, началась Троянск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    Чудовище, жившее на Кр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    Покровительница реки, рощи или горной долин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    Гора, где греки «поселили» своих главных б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    Дочь царя феаков в поэме Гомера «Одиссе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ссворд решён правильно, то по вертикали вы прочита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я предводителя греков-ахейцев в Троянск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0"/>
          <p:cNvSpPr/>
          <p:nvPr/>
        </p:nvSpPr>
        <p:spPr>
          <a:xfrm>
            <a:off x="6443640" y="1112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8000"/>
                </a:solidFill>
                <a:uFillTx/>
                <a:latin typeface="Book Antiqua"/>
              </a:rPr>
              <a:t>КРОССВОРД  ВЗЯТ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Уколова О.С.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преподавате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истории и обществознания МО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имназии № 210 «Корифей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. Екатерин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CCB3-B3FF-40AA-8B8F-D8C5BFC78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ЛИТЕРАТУРА ДЛЯ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ер Г.И. Задания и задачи по истории древнего мира. М.: Просвещение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ванов Н.Н. 300 вопросов и ответов о мифологии. Ярославль: Академия развития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мышанова З.А. Камышанов К.А. 300 вопросов и ответов по истории и культуре древнего мира. Ярославль: Академия развития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шенкова О.В. Короткова М.В. История для любознательных. М.: Дрофа, 1996. Ч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ирнов С.Г. Задачник по истории древнего мира. М.: МИРОС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208B-AFFB-4D81-9B47-89A37557F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Olympus2"/>
          <p:cNvPicPr/>
          <p:nvPr/>
        </p:nvPicPr>
        <p:blipFill>
          <a:blip r:embed="rId1"/>
          <a:stretch/>
        </p:blipFill>
        <p:spPr>
          <a:xfrm>
            <a:off x="324000" y="368280"/>
            <a:ext cx="4032000" cy="2692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2916360" y="36450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ГОРА ОЛИ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limp"/>
          <p:cNvPicPr/>
          <p:nvPr/>
        </p:nvPicPr>
        <p:blipFill>
          <a:blip r:embed="rId2"/>
          <a:stretch/>
        </p:blipFill>
        <p:spPr>
          <a:xfrm>
            <a:off x="4859280" y="368280"/>
            <a:ext cx="4032360" cy="27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60" name="AutoShape 6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27720" y="4405320"/>
            <a:ext cx="729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ки, как и другие народы, верили в существования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оображали их себе подобными люд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ильными и бессмертными, считая, что они жив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оре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лим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 Северной Гре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туда, по мнению греков, они правят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BD9-DB45-4791-9DAD-78145F646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1582560"/>
            <a:ext cx="9144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Century Gothic"/>
              </a:rPr>
              <a:t>ИНТЕРАКТИВНЫЙ ТЕСТ-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246204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РОЧИТАЙ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ЙДИТЕ ПРАВИЛЬНЫЙ, ПО-ВАШЕМУ,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ОДВЕДИТЕ КУРСОР “МЫШКИ” К СООТВЕТСТВУЮЩЕМУ РИСУ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КУРСОР ИЗМЕНИТ СВОЮ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ЖМИТЕ ЛЕВОЙ КНОПКОЙ “МЫШ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ЕСЛИ ВЫ ПРАВИЛЬНО ОТВЕТИЛИ – ПОЛУЧИТЕ НА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ЧТОБЫ ПЕРЕЙТИ К РИСУНКАМ ТЕСТА – НАЖМИТЕ КНО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84720" y="4508640"/>
            <a:ext cx="1151280" cy="18730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0E12-33DF-476A-9356-96C76BE7D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4930560" y="1125360"/>
            <a:ext cx="401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дом – подводный двор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он 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ую колес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белых лоша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лось, что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ывает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имвол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зуб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льф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5000-BEB5-4BE9-8F85-616E085CA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144760" y="3005280"/>
            <a:ext cx="369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овный греческий бог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богов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1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3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5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6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8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0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1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2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3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4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5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8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750-A2B5-4F9B-AEC8-EBE43C91D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13" name="Freeform 7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8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0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1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2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3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4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5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6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7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8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9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855680" y="1674720"/>
            <a:ext cx="433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ыка загробного ми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арства мерт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ревностно охранял мерт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ко разрешая вер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владел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агоценными кам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еталлам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B98-B782-4703-A472-C62A1A5A5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218560" y="32306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пруга верховн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9FF6-7BA0-42B4-B891-8FB50FFCA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435280" y="32306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ох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22:26:47Z</dcterms:created>
  <dc:creator>ХУДОБЕЦ Александр</dc:creator>
  <dc:description/>
  <dc:language>en-US</dc:language>
  <cp:lastModifiedBy>Юленька</cp:lastModifiedBy>
  <dcterms:modified xsi:type="dcterms:W3CDTF">2013-05-23T17:47:12Z</dcterms:modified>
  <cp:revision>25</cp:revision>
  <dc:subject/>
  <dc:title>БОГИ и БОГИНИ ДРЕВНЕЙ ГРЕЦИИ</dc:title>
</cp:coreProperties>
</file>