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7FB-56C5-40AD-9281-FC49124F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AC0A-1761-4F67-9DED-7F05E8CC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B77-243C-4B70-B610-BD157653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44B-1CE4-4656-A6E2-4E6996C2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2BB3-975E-49F5-81B5-12A5F6EA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505A-6DFE-4B14-A366-DEC49C51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77E-AD6B-4B76-AA5C-9AB440CA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7305-8930-4173-94A1-531F2BA2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1B06-657F-4478-8C31-291F1932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46E-4A6C-4125-A54B-88D93D2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2B0F-3A3D-42DA-9260-F9D9A50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3045-799F-4321-BD89-E89D8AD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3AD0-C61A-41F3-B1A5-920E94235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7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7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7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7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8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18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23.xml"/><Relationship Id="rId16" Type="http://schemas.openxmlformats.org/officeDocument/2006/relationships/image" Target="../media/image2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108000" y="620640"/>
            <a:ext cx="4235400" cy="5613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89440" y="115920"/>
            <a:ext cx="604656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 и</a:t>
            </a:r>
            <a:r>
              <a:rPr b="1" lang="en-US" sz="5400" spc="-1" strike="noStrike">
                <a:solidFill>
                  <a:srgbClr val="008000"/>
                </a:solidFill>
                <a:latin typeface="Century Gothic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БОГИНИ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ДРЕВНЕЙ</a:t>
            </a:r>
            <a:br>
              <a:rPr sz="5400"/>
            </a:br>
            <a:r>
              <a:rPr b="1" lang="ru-RU" sz="5400" spc="-1" strike="noStrike">
                <a:solidFill>
                  <a:srgbClr val="008000"/>
                </a:solidFill>
                <a:latin typeface="Century Gothic"/>
              </a:rPr>
              <a:t>ГРЕ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22C-1282-4090-8E85-DBE154927C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7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5287320" y="3230640"/>
            <a:ext cx="35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-покровитель искус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6BC3-3F72-4003-92FE-A6727FFF9B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5072400" y="3002040"/>
            <a:ext cx="3617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иня мудрост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ё священная птица – с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30C5-1BCA-4889-94FB-896B1DE480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1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5216400" y="3230640"/>
            <a:ext cx="33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иня красоты и люб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1C00-1856-4829-917E-1FF753D3C1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3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4928400" y="3002040"/>
            <a:ext cx="3938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здники в честь эт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ли начало теат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D965-822F-45C0-96B8-9F9898605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4926600" y="3002040"/>
            <a:ext cx="3972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, который прико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метея к Кавказским г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B6BE-9630-4E1F-88FC-0BF3E1414D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7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4782960" y="3002040"/>
            <a:ext cx="4156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анник Зевса, покро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1C01-C1D4-4A15-8745-4B227E5B5F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29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1"/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2"/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13"/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14"/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5"/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6"/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7"/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8"/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5435640" y="323064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3" descr="question_pop_up_from_box_sm_nwm"/>
          <p:cNvPicPr/>
          <p:nvPr/>
        </p:nvPicPr>
        <p:blipFill>
          <a:blip r:embed="rId7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64FF-3834-4384-82D1-C031F25A7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6040" y="12110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0066ff"/>
                </a:solidFill>
                <a:latin typeface="Arial"/>
              </a:rPr>
              <a:t>М  О  Л  О  Д  Е  Ц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7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3" descr="boy26"/>
          <p:cNvPicPr/>
          <p:nvPr/>
        </p:nvPicPr>
        <p:blipFill>
          <a:blip r:embed="rId1"/>
          <a:stretch/>
        </p:blipFill>
        <p:spPr>
          <a:xfrm>
            <a:off x="3797280" y="2565360"/>
            <a:ext cx="1549440" cy="174960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14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266" dur="500" fill="hold"/>
                                        <p:tgtEl>
                                          <p:spTgt spid="3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9710-5975-4A0F-BC16-33A669D31C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6040" y="1193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ПРОБУЙ ЕЩЁ РАЗ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AG00317_"/>
          <p:cNvPicPr/>
          <p:nvPr/>
        </p:nvPicPr>
        <p:blipFill>
          <a:blip r:embed="rId1"/>
          <a:stretch/>
        </p:blipFill>
        <p:spPr>
          <a:xfrm>
            <a:off x="3797280" y="2421000"/>
            <a:ext cx="1549440" cy="199080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2931480" y="4809960"/>
            <a:ext cx="329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НЕ ТОРОП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Arial"/>
              </a:rPr>
              <a:t>ПОДУМА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7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CFA5-F418-43E6-940F-40C2B735CF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ГЕОГРАФИЧЕСКОЕ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О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960" y="1989000"/>
            <a:ext cx="492732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ция располо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о-Восточной Европ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юге Балканского полуост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легающих облас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рубеж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I-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до н.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реческие племена рассели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веро-восточном Средиземноморь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II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тысячелетия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смешались с племенами, вторгшимися с сев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6" descr="greece04"/>
          <p:cNvPicPr/>
          <p:nvPr/>
        </p:nvPicPr>
        <p:blipFill>
          <a:blip r:embed="rId1"/>
          <a:stretch/>
        </p:blipFill>
        <p:spPr>
          <a:xfrm>
            <a:off x="4927680" y="1557360"/>
            <a:ext cx="3917880" cy="446400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3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7523-9A70-4E80-B96F-AB0C10758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4">
            <a:hlinkClick r:id="rId1" action="ppaction://hlinksldjump"/>
          </p:cNvPr>
          <p:cNvSpPr/>
          <p:nvPr/>
        </p:nvSpPr>
        <p:spPr>
          <a:xfrm>
            <a:off x="2538360" y="189000"/>
            <a:ext cx="3960720" cy="134460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ГЕОГРАФ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ПО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>
            <a:hlinkClick r:id="rId2" action="ppaction://hlinksldjump"/>
          </p:cNvPr>
          <p:cNvSpPr/>
          <p:nvPr/>
        </p:nvSpPr>
        <p:spPr>
          <a:xfrm>
            <a:off x="2303640" y="2100240"/>
            <a:ext cx="4429080" cy="11527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ПРИРОД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УСЛОВИЯ и КЛИ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6">
            <a:hlinkClick r:id="rId3" action="ppaction://hlinksldjump"/>
          </p:cNvPr>
          <p:cNvSpPr/>
          <p:nvPr/>
        </p:nvSpPr>
        <p:spPr>
          <a:xfrm>
            <a:off x="3235320" y="3819600"/>
            <a:ext cx="2565360" cy="108108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AutoShape 7"/>
          <p:cNvCxnSpPr>
            <a:stCxn id="44" idx="4"/>
            <a:endCxn id="45" idx="0"/>
          </p:cNvCxnSpPr>
          <p:nvPr/>
        </p:nvCxnSpPr>
        <p:spPr>
          <a:xfrm flipH="1">
            <a:off x="4517640" y="1552680"/>
            <a:ext cx="216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48" name="AutoShape 8"/>
          <p:cNvCxnSpPr>
            <a:stCxn id="45" idx="4"/>
            <a:endCxn id="46" idx="0"/>
          </p:cNvCxnSpPr>
          <p:nvPr/>
        </p:nvCxnSpPr>
        <p:spPr>
          <a:xfrm>
            <a:off x="4517640" y="3271320"/>
            <a:ext cx="1080" cy="5292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49" name="Oval 9">
            <a:hlinkClick r:id="rId4" action="ppaction://hlinksldjump"/>
          </p:cNvPr>
          <p:cNvSpPr/>
          <p:nvPr/>
        </p:nvSpPr>
        <p:spPr>
          <a:xfrm>
            <a:off x="3235320" y="5468760"/>
            <a:ext cx="2565360" cy="1057320"/>
          </a:xfrm>
          <a:prstGeom prst="ellipse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Bookman Old Style"/>
              </a:rPr>
              <a:t>Б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AutoShape 10"/>
          <p:cNvCxnSpPr>
            <a:stCxn id="46" idx="4"/>
            <a:endCxn id="49" idx="0"/>
          </p:cNvCxnSpPr>
          <p:nvPr/>
        </p:nvCxnSpPr>
        <p:spPr>
          <a:xfrm>
            <a:off x="4517640" y="4919400"/>
            <a:ext cx="1080" cy="531000"/>
          </a:xfrm>
          <a:prstGeom prst="straightConnector1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51" name="AutoShape 12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5" descr="question_pop_up_from_box_sm_nwm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6334200" y="3403440"/>
            <a:ext cx="2328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ДЛЯ</a:t>
            </a: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ПОЛ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НАЖМ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СООТВЕТСТВУ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Bookman Old Style"/>
              </a:rPr>
              <a:t>ОВ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6D5C-7A55-4E03-A091-154F55D0B4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ПРИРОДНЫЕ</a:t>
            </a:r>
            <a:br>
              <a:rPr sz="4000"/>
            </a:b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УСЛОВИЯ и КЛИМ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а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 –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умеренно-тёплы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природа – кра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знообраз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ые масс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к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преобладали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сосн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дуб, бук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кашта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до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х росли 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чнозелёные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парис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, лавр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олеанд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чв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ре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н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лись плодород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ребовали тщательной обработ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8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9DD6-65F0-40C9-B218-833AD43126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СНОВНЫЕ ЗАН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24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ыми занятиями греков в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XI-IX вв. до н.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рных областя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котоводст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разведение коров, коз, овец, свине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авнин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обладал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емледел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ращивание пшеницы, ячменя, винограда, оливок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т период грекам уже было известно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желез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оно было дорогим. Поэтому преобладал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мед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ронзов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уд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ки занимались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емесла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орговле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том числе и морской. Но она еще не была регулярной из-за несовершенство кораблей и была тесно связана с морским разбо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8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10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3DB8-83EC-49C8-BB38-159C64A233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Arial"/>
              </a:rPr>
              <a:t>ОСНОВНЫЕ Б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7928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воих сказаниях —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иф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еки старались объяснить происхождение всего, что окружало человека: явления природы, отношения между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ифах вымысел тесно переплетается с действительностью, благодаря чему есть возможность понять много фактов жизни давних гре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ыми из богов они считали громовержца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Зев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орской стихией «ведал»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Посейд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Богом солнца, который ездил в золотой колеснице по небу, был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елио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еме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ыла богиней плодородия, а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и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богом подземного царства. Лесных богов —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сати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греки воображали в виде людей, которые обросли шерстью, с козлиными ногами и ушами. Родниковых богинь изображали в виде девчат и называли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</a:rPr>
              <a:t>нимф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лось, что боги не только руководят природой, но и хозяйственными занятиями. Так бог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Дионис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ил людей выращивать виноград и делать вино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еф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кровительствовал кузнецам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Герме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торговле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ртеми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хоте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полло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искусству. Богиней любви и красоты была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фроди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мудрости —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Афи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честь богов греки строили храмы, устанавливали статуи, проводили религиозного праздника и обряды, которые состояли в принесении даров сверхъестественным силам (жертвоприношения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9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3">
            <a:hlinkClick r:id="" action="ppaction://hlinkshowjump?jump=previousslide"/>
          </p:cNvPr>
          <p:cNvSpPr/>
          <p:nvPr/>
        </p:nvSpPr>
        <p:spPr>
          <a:xfrm>
            <a:off x="5076720" y="6524640"/>
            <a:ext cx="2374920" cy="216000"/>
          </a:xfrm>
          <a:custGeom>
            <a:avLst/>
            <a:gdLst>
              <a:gd name="textAreaLeft" fmla="*/ 13680 w 2374920"/>
              <a:gd name="textAreaRight" fmla="*/ 2361240 w 237492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37133" h="21600">
                <a:moveTo>
                  <a:pt x="0" y="0"/>
                </a:moveTo>
                <a:lnTo>
                  <a:pt x="237133" y="0"/>
                </a:lnTo>
                <a:lnTo>
                  <a:pt x="237133" y="21600"/>
                </a:lnTo>
                <a:lnTo>
                  <a:pt x="0" y="21600"/>
                </a:lnTo>
                <a:close/>
              </a:path>
              <a:path fill="lightenLess" w="237133" h="21600">
                <a:moveTo>
                  <a:pt x="0" y="0"/>
                </a:moveTo>
                <a:lnTo>
                  <a:pt x="237133" y="0"/>
                </a:lnTo>
                <a:lnTo>
                  <a:pt x="235733" y="1400"/>
                </a:lnTo>
                <a:lnTo>
                  <a:pt x="1400" y="1400"/>
                </a:lnTo>
                <a:close/>
              </a:path>
              <a:path fill="darken" w="237133" h="21600">
                <a:moveTo>
                  <a:pt x="237133" y="0"/>
                </a:moveTo>
                <a:lnTo>
                  <a:pt x="237133" y="21600"/>
                </a:lnTo>
                <a:lnTo>
                  <a:pt x="235733" y="20200"/>
                </a:lnTo>
                <a:lnTo>
                  <a:pt x="235733" y="1400"/>
                </a:lnTo>
                <a:close/>
              </a:path>
              <a:path fill="darkenLess" w="237133" h="21600">
                <a:moveTo>
                  <a:pt x="2371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733" y="20200"/>
                </a:lnTo>
                <a:close/>
              </a:path>
              <a:path fill="lighten" w="2371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ОСЛЕДНИЙ ПОКАЗАННЫЙ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A532-F6EC-4E5B-9304-07A42F688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4360" y="189000"/>
          <a:ext cx="2808000" cy="3240000"/>
        </p:xfrm>
        <a:graphic>
          <a:graphicData uri="http://schemas.openxmlformats.org/drawingml/2006/table">
            <a:tbl>
              <a:tblPr/>
              <a:tblGrid>
                <a:gridCol w="326880"/>
                <a:gridCol w="353880"/>
                <a:gridCol w="354240"/>
                <a:gridCol w="353880"/>
                <a:gridCol w="353880"/>
                <a:gridCol w="354240"/>
                <a:gridCol w="355680"/>
                <a:gridCol w="355320"/>
              </a:tblGrid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Text Box 297"/>
          <p:cNvSpPr/>
          <p:nvPr/>
        </p:nvSpPr>
        <p:spPr>
          <a:xfrm>
            <a:off x="129240" y="3573360"/>
            <a:ext cx="881712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     Богиня-покровительница ох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     Герой, совершивший 12 подви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     Богиня любви и красот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     Город-государство на Пелопоннес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     Женщина, из-за которой, по мнению древних греков, началась Троянская вой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     Чудовище, жившее на Кр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.     Покровительница реки, рощи или горной долины в греческой мифоло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.     Гора, где греки «поселили» своих главных бо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9.     Дочь царя феаков в поэме Гомера «Одиссе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кроссворд решён правильно, то по вертикали вы прочитае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я предводителя греков-ахейцев в Троянской вой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20"/>
          <p:cNvSpPr/>
          <p:nvPr/>
        </p:nvSpPr>
        <p:spPr>
          <a:xfrm>
            <a:off x="6443640" y="11124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8000"/>
                </a:solidFill>
                <a:uFillTx/>
                <a:latin typeface="Book Antiqua"/>
              </a:rPr>
              <a:t>КРОССВОРД  ВЗЯТ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Уколова О.С.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преподавате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истории и обществознания МО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имназии № 210 «Корифей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ff"/>
                </a:solidFill>
                <a:latin typeface="Book Antiqua"/>
              </a:rPr>
              <a:t>г. Екатеринбур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C3C8-4EB1-4F51-8406-ED3126470D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ЛИТЕРАТУРА ДЛЯ УЧИТЕ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ахтина О.И. Задания для самостоятельной работы по истории древнего мира. М.: Просвещение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одер Г.И. Задания и задачи по истории древнего мира. М.: Просвещение,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ванов Н.Н. 300 вопросов и ответов о мифологии. Ярославль: Академия развития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мышанова З.А. Камышанов К.А. 300 вопросов и ответов по истории и культуре древнего мира. Ярославль: Академия развития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ишенкова О.В. Короткова М.В. История для любознательных. М.: Дрофа, 1996. Ч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мирнов С.Г. Задачник по истории древнего мира. М.: МИРОС, 1994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67BE-5444-4F4F-BA62-85B296651A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Olympus2"/>
          <p:cNvPicPr/>
          <p:nvPr/>
        </p:nvPicPr>
        <p:blipFill>
          <a:blip r:embed="rId1"/>
          <a:stretch/>
        </p:blipFill>
        <p:spPr>
          <a:xfrm>
            <a:off x="324000" y="368280"/>
            <a:ext cx="4032000" cy="26924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58" name="Text Box 4"/>
          <p:cNvSpPr/>
          <p:nvPr/>
        </p:nvSpPr>
        <p:spPr>
          <a:xfrm>
            <a:off x="2916360" y="364500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ГОРА ОЛИМ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Olimp"/>
          <p:cNvPicPr/>
          <p:nvPr/>
        </p:nvPicPr>
        <p:blipFill>
          <a:blip r:embed="rId2"/>
          <a:stretch/>
        </p:blipFill>
        <p:spPr>
          <a:xfrm>
            <a:off x="4859280" y="368280"/>
            <a:ext cx="4032360" cy="270036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60" name="AutoShape 6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7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8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927720" y="4405320"/>
            <a:ext cx="729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еки, как и другие народы, верили в существования б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и воображали их себе подобными людя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 сильными и бессмертными, считая, что они жив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горе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Олим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 Северной Гре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туда, по мнению греков, они правят ми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49E2-40E8-4936-842D-8ED9D074A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1582560"/>
            <a:ext cx="91440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Century Gothic"/>
              </a:rPr>
              <a:t>ИНТЕРАКТИВНЫЙ ТЕСТ-РИСУН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2462040"/>
            <a:ext cx="89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РОЧИТАЙТ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ЙДИТЕ ПРАВИЛЬНЫЙ, ПО-ВАШЕМУ, 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ПОДВЕДИТЕ КУРСОР “МЫШКИ” К СООТВЕТСТВУЮЩЕМУ РИСУ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КУРСОР ИЗМЕНИТ СВОЮ ФОР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НАЖМИТЕ ЛЕВОЙ КНОПКОЙ “МЫШК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ЕСЛИ ВЫ ПРАВИЛЬНО ОТВЕТИЛИ – ПОЛУЧИТЕ НАГ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Arial"/>
              </a:rPr>
              <a:t>ЧТОБЫ ПЕРЕЙТИ К РИСУНКАМ ТЕСТА – НАЖМИТЕ КНОП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084720" y="4508640"/>
            <a:ext cx="1151280" cy="1873080"/>
          </a:xfrm>
          <a:prstGeom prst="line">
            <a:avLst/>
          </a:prstGeom>
          <a:ln w="7632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7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E7F9-BD2E-4FF2-BDBC-8A078B74D3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7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4930560" y="1125360"/>
            <a:ext cx="4012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го дом – подводный двор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он держ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ую колесни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белых лоша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читалось, что 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ывает землетряс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Символы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резубец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льфи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5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6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7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8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D677-8F38-4631-8FF5-BC7810F876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144760" y="3005280"/>
            <a:ext cx="3693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ховный греческий бог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ец богов и лю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1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3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4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5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6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7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8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9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0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1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2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33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34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5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6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8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9756-462C-4738-822A-EA9A56304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13" name="Freeform 7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8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9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10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11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12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3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4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5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6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7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8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9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4855680" y="1674720"/>
            <a:ext cx="4338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дыка загробного ми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арства мертв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ревностно охранял мертвых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дко разрешая верну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 на зем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владел вс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рагоценными кам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металлами зем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1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2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3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5C57-96E9-4DF2-ABD6-2FCF99E96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3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5218560" y="3230640"/>
            <a:ext cx="33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пруга верховного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1EC0-1289-4327-809F-91D8A9AE90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"/>
          <p:cNvPicPr/>
          <p:nvPr/>
        </p:nvPicPr>
        <p:blipFill>
          <a:blip r:embed="rId1"/>
          <a:srcRect l="0" t="1075" r="0" b="25857"/>
          <a:stretch/>
        </p:blipFill>
        <p:spPr>
          <a:xfrm>
            <a:off x="-36360" y="0"/>
            <a:ext cx="5097240" cy="6757920"/>
          </a:xfrm>
          <a:prstGeom prst="rect">
            <a:avLst/>
          </a:prstGeom>
          <a:ln w="0">
            <a:noFill/>
          </a:ln>
        </p:spPr>
      </p:pic>
      <p:sp>
        <p:nvSpPr>
          <p:cNvPr id="153" name="Freeform 6">
            <a:hlinkClick r:id="rId2" action="ppaction://hlinksldjump"/>
          </p:cNvPr>
          <p:cNvSpPr/>
          <p:nvPr/>
        </p:nvSpPr>
        <p:spPr>
          <a:xfrm>
            <a:off x="3017880" y="352440"/>
            <a:ext cx="1590480" cy="19670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>
            <a:hlinkClick r:id="rId3" action="ppaction://hlinksldjump"/>
          </p:cNvPr>
          <p:cNvSpPr/>
          <p:nvPr/>
        </p:nvSpPr>
        <p:spPr>
          <a:xfrm>
            <a:off x="1333440" y="254160"/>
            <a:ext cx="2073240" cy="20383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">
            <a:hlinkClick r:id="rId4" action="ppaction://hlinksldjump"/>
          </p:cNvPr>
          <p:cNvSpPr/>
          <p:nvPr/>
        </p:nvSpPr>
        <p:spPr>
          <a:xfrm>
            <a:off x="614520" y="0"/>
            <a:ext cx="1185840" cy="2271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9">
            <a:hlinkClick r:id="rId5" action="ppaction://hlinksldjump"/>
          </p:cNvPr>
          <p:cNvSpPr/>
          <p:nvPr/>
        </p:nvSpPr>
        <p:spPr>
          <a:xfrm>
            <a:off x="299880" y="2620800"/>
            <a:ext cx="1086120" cy="17877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0">
            <a:hlinkClick r:id="rId6" action="ppaction://hlinksldjump"/>
          </p:cNvPr>
          <p:cNvSpPr/>
          <p:nvPr/>
        </p:nvSpPr>
        <p:spPr>
          <a:xfrm>
            <a:off x="1384200" y="2705040"/>
            <a:ext cx="1038240" cy="17161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">
            <a:hlinkClick r:id="rId7" action="ppaction://hlinksldjump"/>
          </p:cNvPr>
          <p:cNvSpPr/>
          <p:nvPr/>
        </p:nvSpPr>
        <p:spPr>
          <a:xfrm>
            <a:off x="2184480" y="2360520"/>
            <a:ext cx="920520" cy="20782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">
            <a:hlinkClick r:id="rId8" action="ppaction://hlinksldjump"/>
          </p:cNvPr>
          <p:cNvSpPr/>
          <p:nvPr/>
        </p:nvSpPr>
        <p:spPr>
          <a:xfrm>
            <a:off x="3029040" y="2330280"/>
            <a:ext cx="939600" cy="20829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3">
            <a:hlinkClick r:id="rId9" action="ppaction://hlinksldjump"/>
          </p:cNvPr>
          <p:cNvSpPr/>
          <p:nvPr/>
        </p:nvSpPr>
        <p:spPr>
          <a:xfrm>
            <a:off x="3898800" y="2622600"/>
            <a:ext cx="976320" cy="17906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4">
            <a:hlinkClick r:id="rId10" action="ppaction://hlinksldjump"/>
          </p:cNvPr>
          <p:cNvSpPr/>
          <p:nvPr/>
        </p:nvSpPr>
        <p:spPr>
          <a:xfrm>
            <a:off x="160200" y="4737240"/>
            <a:ext cx="938520" cy="183492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5">
            <a:hlinkClick r:id="rId11" action="ppaction://hlinksldjump"/>
          </p:cNvPr>
          <p:cNvSpPr/>
          <p:nvPr/>
        </p:nvSpPr>
        <p:spPr>
          <a:xfrm>
            <a:off x="1104840" y="4794120"/>
            <a:ext cx="946080" cy="185436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6">
            <a:hlinkClick r:id="rId12" action="ppaction://hlinksldjump"/>
          </p:cNvPr>
          <p:cNvSpPr/>
          <p:nvPr/>
        </p:nvSpPr>
        <p:spPr>
          <a:xfrm>
            <a:off x="2065320" y="4699080"/>
            <a:ext cx="1084320" cy="198288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7">
            <a:hlinkClick r:id="rId13" action="ppaction://hlinksldjump"/>
          </p:cNvPr>
          <p:cNvSpPr/>
          <p:nvPr/>
        </p:nvSpPr>
        <p:spPr>
          <a:xfrm>
            <a:off x="2990880" y="4610160"/>
            <a:ext cx="1012680" cy="193680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8">
            <a:hlinkClick r:id="rId14" action="ppaction://hlinksldjump"/>
          </p:cNvPr>
          <p:cNvSpPr/>
          <p:nvPr/>
        </p:nvSpPr>
        <p:spPr>
          <a:xfrm>
            <a:off x="3921120" y="4576680"/>
            <a:ext cx="966960" cy="2048040"/>
          </a:xfrm>
          <a:prstGeom prst="pie">
            <a:avLst/>
          </a:pr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5435280" y="3230640"/>
            <a:ext cx="195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гиня ох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0">
            <a:hlinkClick r:id="" action="ppaction://hlinkshowjump?jump=nextslide"/>
          </p:cNvPr>
          <p:cNvSpPr/>
          <p:nvPr/>
        </p:nvSpPr>
        <p:spPr>
          <a:xfrm>
            <a:off x="6659640" y="6524640"/>
            <a:ext cx="1152360" cy="216000"/>
          </a:xfrm>
          <a:custGeom>
            <a:avLst/>
            <a:gdLst>
              <a:gd name="textAreaLeft" fmla="*/ 13680 w 1152360"/>
              <a:gd name="textAreaRight" fmla="*/ 1138680 w 1152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15080" h="21600">
                <a:moveTo>
                  <a:pt x="0" y="0"/>
                </a:moveTo>
                <a:lnTo>
                  <a:pt x="115080" y="0"/>
                </a:lnTo>
                <a:lnTo>
                  <a:pt x="115080" y="21600"/>
                </a:lnTo>
                <a:lnTo>
                  <a:pt x="0" y="21600"/>
                </a:lnTo>
                <a:close/>
              </a:path>
              <a:path fill="lightenLess" w="115080" h="21600">
                <a:moveTo>
                  <a:pt x="0" y="0"/>
                </a:moveTo>
                <a:lnTo>
                  <a:pt x="115080" y="0"/>
                </a:lnTo>
                <a:lnTo>
                  <a:pt x="113680" y="1400"/>
                </a:lnTo>
                <a:lnTo>
                  <a:pt x="1400" y="1400"/>
                </a:lnTo>
                <a:close/>
              </a:path>
              <a:path fill="darken" w="115080" h="21600">
                <a:moveTo>
                  <a:pt x="115080" y="0"/>
                </a:moveTo>
                <a:lnTo>
                  <a:pt x="115080" y="21600"/>
                </a:lnTo>
                <a:lnTo>
                  <a:pt x="113680" y="20200"/>
                </a:lnTo>
                <a:lnTo>
                  <a:pt x="113680" y="1400"/>
                </a:lnTo>
                <a:close/>
              </a:path>
              <a:path fill="darkenLess" w="115080" h="21600">
                <a:moveTo>
                  <a:pt x="115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680" y="20200"/>
                </a:lnTo>
                <a:close/>
              </a:path>
              <a:path fill="lighten" w="115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СЛЕДУЮ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1">
            <a:hlinkClick r:id="" action="ppaction://hlinkshowjump?jump=endshow"/>
          </p:cNvPr>
          <p:cNvSpPr/>
          <p:nvPr/>
        </p:nvSpPr>
        <p:spPr>
          <a:xfrm>
            <a:off x="7883640" y="6524640"/>
            <a:ext cx="649080" cy="216000"/>
          </a:xfrm>
          <a:custGeom>
            <a:avLst/>
            <a:gdLst>
              <a:gd name="textAreaLeft" fmla="*/ 13680 w 649080"/>
              <a:gd name="textAreaRight" fmla="*/ 635400 w 6490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64836" h="21600">
                <a:moveTo>
                  <a:pt x="0" y="0"/>
                </a:moveTo>
                <a:lnTo>
                  <a:pt x="64836" y="0"/>
                </a:lnTo>
                <a:lnTo>
                  <a:pt x="64836" y="21600"/>
                </a:lnTo>
                <a:lnTo>
                  <a:pt x="0" y="21600"/>
                </a:lnTo>
                <a:close/>
              </a:path>
              <a:path fill="lightenLess" w="64836" h="21600">
                <a:moveTo>
                  <a:pt x="0" y="0"/>
                </a:moveTo>
                <a:lnTo>
                  <a:pt x="64836" y="0"/>
                </a:lnTo>
                <a:lnTo>
                  <a:pt x="63436" y="1400"/>
                </a:lnTo>
                <a:lnTo>
                  <a:pt x="1400" y="1400"/>
                </a:lnTo>
                <a:close/>
              </a:path>
              <a:path fill="darken" w="64836" h="21600">
                <a:moveTo>
                  <a:pt x="64836" y="0"/>
                </a:moveTo>
                <a:lnTo>
                  <a:pt x="64836" y="21600"/>
                </a:lnTo>
                <a:lnTo>
                  <a:pt x="63436" y="20200"/>
                </a:lnTo>
                <a:lnTo>
                  <a:pt x="63436" y="1400"/>
                </a:lnTo>
                <a:close/>
              </a:path>
              <a:path fill="darkenLess" w="64836" h="21600">
                <a:moveTo>
                  <a:pt x="648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436" y="20200"/>
                </a:lnTo>
                <a:close/>
              </a:path>
              <a:path fill="lighten" w="648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ВЫ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2">
            <a:hlinkClick r:id="" action="ppaction://hlinkshowjump?jump=previousslide"/>
          </p:cNvPr>
          <p:cNvSpPr/>
          <p:nvPr/>
        </p:nvSpPr>
        <p:spPr>
          <a:xfrm>
            <a:off x="5292720" y="6524640"/>
            <a:ext cx="1295280" cy="216000"/>
          </a:xfrm>
          <a:custGeom>
            <a:avLst/>
            <a:gdLst>
              <a:gd name="textAreaLeft" fmla="*/ 13680 w 1295280"/>
              <a:gd name="textAreaRight" fmla="*/ 1281600 w 1295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9348" h="21600">
                <a:moveTo>
                  <a:pt x="0" y="0"/>
                </a:moveTo>
                <a:lnTo>
                  <a:pt x="129348" y="0"/>
                </a:lnTo>
                <a:lnTo>
                  <a:pt x="129348" y="21600"/>
                </a:lnTo>
                <a:lnTo>
                  <a:pt x="0" y="21600"/>
                </a:lnTo>
                <a:close/>
              </a:path>
              <a:path fill="lightenLess" w="129348" h="21600">
                <a:moveTo>
                  <a:pt x="0" y="0"/>
                </a:moveTo>
                <a:lnTo>
                  <a:pt x="129348" y="0"/>
                </a:lnTo>
                <a:lnTo>
                  <a:pt x="127948" y="1400"/>
                </a:lnTo>
                <a:lnTo>
                  <a:pt x="1400" y="1400"/>
                </a:lnTo>
                <a:close/>
              </a:path>
              <a:path fill="darken" w="129348" h="21600">
                <a:moveTo>
                  <a:pt x="129348" y="0"/>
                </a:moveTo>
                <a:lnTo>
                  <a:pt x="129348" y="21600"/>
                </a:lnTo>
                <a:lnTo>
                  <a:pt x="127948" y="20200"/>
                </a:lnTo>
                <a:lnTo>
                  <a:pt x="127948" y="1400"/>
                </a:lnTo>
                <a:close/>
              </a:path>
              <a:path fill="darkenLess" w="129348" h="21600">
                <a:moveTo>
                  <a:pt x="129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7948" y="20200"/>
                </a:lnTo>
                <a:close/>
              </a:path>
              <a:path fill="lighten" w="129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>
              <a:alpha val="50000"/>
            </a:srgbClr>
          </a:solidFill>
          <a:ln w="3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ПРЕДЫДУЩ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3" descr="question_pop_up_from_box_sm_nwm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8172360" y="5380200"/>
            <a:ext cx="8575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7T22:26:47Z</dcterms:created>
  <dc:creator>ХУДОБЕЦ Александр</dc:creator>
  <dc:description/>
  <dc:language>en-US</dc:language>
  <cp:lastModifiedBy>Юленька</cp:lastModifiedBy>
  <dcterms:modified xsi:type="dcterms:W3CDTF">2013-05-23T17:47:12Z</dcterms:modified>
  <cp:revision>25</cp:revision>
  <dc:subject/>
  <dc:title>БОГИ и БОГИНИ ДРЕВНЕЙ ГРЕЦИИ</dc:title>
</cp:coreProperties>
</file>