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614-1166-4985-A0CE-7EE70336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C0F-A759-4CDA-AD62-F7BC7F13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833-9BDD-4596-AFCC-AB9CB743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EA5-9749-4C4C-9893-A1E970A6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5B9C-CB7B-4840-A2E9-AF87DA84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ED6A-DF31-4C86-AAF1-E5C692DB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F6D-D12B-4D31-AD5B-AB78BF61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B29-994A-468F-9333-79686C76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B498-2485-4F85-9F76-68BEB921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1D6-14D6-40CA-A71C-D6B6626E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4BB-6E98-4D80-8939-DE00C71D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A37-1447-4CD0-8789-3394897F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966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D7A1-74F7-4527-8865-1EECDF6118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1792440" y="1486080"/>
            <a:ext cx="8858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теллектуальная игра-виктор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я младших школьников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 ЗП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64480" y="5532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Педагог-психолог МБОУ ТСОШ № 3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Сивакова Виктория Александровна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/>
          <p:cNvSpPr/>
          <p:nvPr/>
        </p:nvSpPr>
        <p:spPr>
          <a:xfrm>
            <a:off x="3863880" y="22068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ктори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2063880" y="884160"/>
            <a:ext cx="7810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ли гулять Лягушонок, Цыплёнок, Мышонок, Муравей и Жучок. Пришли на речку. — Давайте купаться! — сказал Лягушонок и прыгнул в воду. — Мы не умеем плавать, — сказали Цыплёнок, Мышонок, Муравей и Жучок. — Ква-ха-ха! Ква-ха-ха! — засмеялся Лягушонок. — Куда же вы годитесь! — И так стал хохотать — чуть было не захлебнулся. Обиделись Цыплёнок, Мышонок, Муравей и Жучок. Стали думать. Думали-думали и придумали. Пошёл Цыплёнок и принёс листочек. Мышонок — ореховую скорлупку. Муравей соломинку притащил. А Жучок — верёвочку. И пошла работа: в скорлупку соломинку воткнули, листок верёвочкой привязали — и построили кораблик! Столкнули кораблик в воду. Сели на него и поплыли! Лягушонок голову из воды высунул, хотел ещё посмеяться, а кораблик уже далеко уплыл… И не догониш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8"/>
          <p:cNvSpPr/>
          <p:nvPr/>
        </p:nvSpPr>
        <p:spPr>
          <a:xfrm>
            <a:off x="7248600" y="2924280"/>
            <a:ext cx="2950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69920" y="329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1. О чём этот рассказ? Перескажи его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2. Кто из всех животных умел плавать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Мышонок           В) Лягушонок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Муравей              Г) Цыплёнок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3. Как животные строили кораблик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56240" y="2476080"/>
            <a:ext cx="393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4.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читай на картинке всех цыплят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17544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14960" y="2060280"/>
            <a:ext cx="474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5.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Помоги мышонку открыть все краники.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16752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638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и задачк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Жили – были пять мышат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 весёлых малышат!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ёл к ним в гости один соседский мышоно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читай, сколько стало мышат! (6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Жили – были пять мышат,                                                                                           Пять весёлых малышат!                                                                                                Пришли к ним в гости два соседских мышонка.                                                  Посчитай, сколько стало мышат! (7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1916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 отличия на картинках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416400" y="1052640"/>
            <a:ext cx="5813280" cy="58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колько и каких животных ты видишь на картинке?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782800" y="1700280"/>
            <a:ext cx="701856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3T14:14:07Z</dcterms:created>
  <dc:creator>RePack by Diakov</dc:creator>
  <dc:description/>
  <dc:language>en-US</dc:language>
  <cp:lastModifiedBy>RePack by Diakov</cp:lastModifiedBy>
  <dcterms:modified xsi:type="dcterms:W3CDTF">2017-01-03T19:11:13Z</dcterms:modified>
  <cp:revision>5</cp:revision>
  <dc:subject/>
  <dc:title>Презентация PowerPoint</dc:title>
</cp:coreProperties>
</file>