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49A-1433-4588-9B5E-396EE20D4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24F-B0C9-4136-93C9-9FF1379F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60EF3B-6659-4F27-9936-91EE455C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774A0-BAA8-4501-B37F-BFE2D7EC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2689A-EF1D-4778-81B2-50217CFA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97EEC4-46CE-41AE-A811-016718A9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17191-1165-4B98-A284-C0CA2EB1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6BDBF-446D-4B94-8AC7-C04FEB41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4F559-6463-42D4-A673-43458252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B4E50-A7C8-4A3E-8F89-189CEBCF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62225-77F3-4012-B460-376158CE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1F5F1-BF99-4DEF-A634-770E92AF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285-0D91-4F26-96A1-49F9FC7B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B0A99E-2370-48B2-8727-3D573CF3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57A53-3176-44C2-A6A6-37D13996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0FE97-7934-4BF1-892A-00B43BB9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DF037-3745-48C4-8A73-6FBC953B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545A9-C280-4466-8B55-B1B0299B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05625-7E7B-47F7-ADF6-43DA5526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A7294-35EF-49B1-B259-DFCD37A7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00F5A-A04C-4989-AF18-3A1C298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BEB228-7166-4293-A668-64744EB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42260-F96B-471B-85A7-EAE3DB5A9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ABF-02CE-42CB-8798-CF05767F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99BCA-35F9-40E2-BFDA-96C24979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4307CA-3882-4306-B5A4-A98FC6BB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7A5EB-750A-4229-9B32-96819495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B5BF7-A484-481F-89E2-7291A02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94637-B705-40CD-AE18-55988D77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EB9B9-C460-4E0E-BA9A-80E9E835B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56E5-0EBA-4AF0-8903-CEC2EB90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18D18-2A8B-4841-9F34-547DCD0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A905-6269-4EDA-B870-2E176A9B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877D6-23EA-438B-9D15-FE55909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11DD-CE2D-4D28-92EF-2F8E982B2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10C55-0F80-44A2-BBA6-572E734B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87939-510E-46AF-B138-4B5A9131B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7D626-FF26-49B4-90E6-B311B06D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E8217-3BAA-479F-B8AD-187946B3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A0413-5C5A-421F-8286-951F8F2A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7FA5FB-7625-4941-BDF0-4CE1A0D1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613DC-A5A2-4D62-9905-8D170126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9CD9B-FF8C-4885-B04B-67D027E2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C1498-D387-4800-9E08-41791ABF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B26A2-FECA-4832-ACB7-B40F8C9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8E8D-869D-4302-8A33-A3FBEEA3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4801C-CA43-4DED-B57B-D2D00C3E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5AF68-969A-44C5-BCE8-959D9A2A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ED38E-57B0-4DE4-A9F7-0EC989A3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009DC-F854-4B7C-B889-37DAC624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A6DC4-03F5-47A2-A10F-F7759042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337F72-A1E5-4834-B860-DD5F987A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7492C6-822B-44DE-9419-C656C1C4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742E5-DF20-49E9-82C8-49D6596F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DBCFD-6122-4F2E-B4DB-1B7AEE61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37BD3-80A7-4781-87E1-7314C933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7E5D-BC27-4162-81D9-F502C2F1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E966B-1405-46CC-9FD3-46BF2D21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03A219-A598-47C6-8431-BDB1311E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AFE6FD-4A3F-45D8-855D-92889CB9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E822A0-5616-4989-8B35-4EAA291A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565BA-14C4-40F5-8D37-61D21EB6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80549-6E4F-4A61-94C9-9E16D556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C836A-78C3-4C3D-B038-A357B902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60994-0450-4463-A14E-3CD52D54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EDC8C-CF54-4DE6-BB23-F0AB22B0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7B365-3A8D-4FE0-910E-7ECFF5BC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DAA6-6146-4DE5-9136-075B8A91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380FF-4BBB-431E-94FE-0337D737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A339E-EBD3-4917-959A-836E877E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BBB221-1326-415D-B4CA-56BB2730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6FF26-3047-497D-A06A-536328DA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129F4-16F5-4454-B681-1ED5F1F5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A31513-11D9-43C0-8674-094A28A0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9C1E17-D730-4FB1-9883-D1028A2D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20555D-46A8-4D81-A824-1856AA96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94CB2-DA7C-48D9-8CBF-724EC081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3D071-8E25-457C-AB8C-6A8611CB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562D-A2CE-4E66-81AA-7A7D5D95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53D6F-344A-4CDA-B915-AC4A121A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66626-AB62-42CC-991E-4516B18C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7D1525-8D6E-457A-A21C-00E4CDEC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BCBE3-2A1C-457D-BEC7-D511B06D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E0246-14B1-453D-8439-51EF3B6D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A4006-CC28-425B-87B4-AEF9F07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69D30-0943-4153-998D-0AF82FE3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FDFCD-9B79-4D9E-8477-D1AE7F31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DF8E5-43EE-4F96-A926-83F9CA4B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78AD53-FDE2-41D3-93B3-21BEFA2A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23E8-8E3F-4992-9B94-105ECD39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8AABCE-194F-41EC-81C0-B24EB43B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D733A-183B-4D19-86A2-09591A84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521D-F694-442D-B103-E56B8723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67A7-D710-4CA9-A365-FBCB2E43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2D4A-E9DF-42D2-AC04-0B3F141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DC5F-5D3C-42FF-BE56-717B28F3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B903-4B7F-4EAB-849E-943231D5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E804-4EE2-4E7A-BE06-B38829389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36EC-79A4-4495-BE1D-87700349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999F-93E7-4688-A381-EAF3323A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123F9-3BF6-43E7-B2C3-09BBD79E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0417-5974-47FB-B4E5-DB63473D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9CDF4-8BCB-4463-A2A0-6D68646E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7EE9-2079-424D-82C0-950B426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17210-623C-4D57-9410-C245E2D9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6D15-CDD0-441F-BBA7-22EDC2C2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2385-7FDD-448B-A848-8916162E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4D82-8041-4A75-9A44-B5563C7B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BFD05-4E97-4943-B88B-F45AB287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F1DF8-D03B-4C3C-B552-0627F022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5F95-A63A-4875-931C-7C9E7192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27E760-11B5-467B-8E9D-8EC0C9C5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DFC3D-FC1B-4239-A6AD-CC04BD98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C2E64-A08C-462B-9B6B-FD9945CF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B1C-E1A9-4BA3-BA77-49F4F115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884A-EA61-41FB-A561-964A5F6D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2BADB-1B65-45BE-B639-2B292525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C71E-FF9F-4C54-B50C-0C42BE84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C426-08A1-4B5E-BB17-A85EBAA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0CDE9-5321-4769-BB51-79FD63A9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0EF8-1875-4508-A8EB-E97ED913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30250-F660-4F0F-8549-8376D019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50624-F6DE-4C8D-A92D-163E4DEB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F4EFF-FB8A-4EAA-B40E-D4119DE8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13304-1C9A-43CB-9418-71D33D07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BAD4-0F0E-454C-95F3-01E2416A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A9E79-5018-449F-8C10-40624739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53A4A-FEA1-427E-AC77-FFA757FE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3C2BE-A60E-4D40-A14F-96CBAB41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37F1-97ED-4085-A236-1F5024A5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B4F54-6BAC-4C48-A53B-8D47FC44A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BDB1F-4D07-412A-B616-9A152B75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5B5AE-5D61-4CE3-A682-B24874F8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EDB8E-4C21-4EEB-9E19-C7F21731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012E-FC05-4775-B40A-DA8AA2EAB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938B-73FB-48AF-AF0F-8F2EBE99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81F-101C-4E4D-AF1B-8B6EF597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50B06-1FF1-4680-B6C3-931117A1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67AE0-F573-4281-BDA2-1F10DC96C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F3E27-29E9-4A00-9FF5-A1C22D9E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B369F-1024-4E9B-8EF5-04637042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7A465-6FDC-4FBB-8392-AD9C768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CEDBE-81EF-47F8-8E5C-E829641D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8294F-DFD7-46A2-A4BA-2F1CC2C3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88A81-93B9-4E5C-9463-E35F324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C3918-4D8A-42BD-8BDC-67A68E5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7C8D-7F33-430A-A068-A90C12A9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24B-C32E-49F5-B8ED-A17DAE0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6C21A-0848-4A27-9458-3694C97A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1A6E9-477C-464F-B2DD-6E128FDE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55457-B409-46A7-91F9-7AD66824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0DBF8-0912-4F1F-A8E9-24BD9C943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C6C8B-F69A-4008-BDBD-422F8BEE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68FE-5CC3-4634-BB16-9EA18C47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35822-05AF-4D2A-86EB-9A42562E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AED6C-580C-401A-A6E2-DE81502A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E86E0-675B-4CF4-9B82-A939A8C66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753EF-9B66-432C-9000-EB926594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2F30-1440-4752-9864-CC18A39D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452A-5928-449A-AC6F-411E1B18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7CF7A-6A14-45A2-90D7-0402267B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A831D-005E-4E71-930E-B0F715E4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9B970-D006-416B-BED1-441C5549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61F4C-AA58-4A95-94BB-1F63235AD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62F94-3FC2-47F9-A03F-BE43DC785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530B4-3C54-443E-939B-2A4E66DE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B100E-D7A1-4EB8-AF44-CC4BE279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6FD38-4670-4B63-B961-9830C79C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0C4DA-0A38-45EE-AE6A-016ABB3E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034B-109D-4631-854B-6D0470CD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9F65F-CEBC-4887-8C5A-5B01E85A7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3CEFE-D36C-4FA8-B980-66517DF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F06C3-E795-4306-AD7B-345A394A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B58FD-FEF7-4514-A38A-CFDCF4D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62F70-31B5-4D2D-86D9-8C94AB04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0140C-9357-4AA2-B875-B9D142EE6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3EE3B-EC04-487A-A1AA-7822D1D4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77FC96-F3DC-4453-8650-3F68AD91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7B577-7CB2-4749-9E7B-59849D8F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A016D-F92C-493E-B8A4-EDE483CE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A3F4-19D8-4C48-8CE5-D86DB0FF86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6420-74F1-4D58-A521-C5E0B70A5F8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73F6-A084-4CFF-9180-B167F6627C6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F861-CF30-4DEE-A736-2544FDD48C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9F5C-8276-4314-BCD2-B23AE50C40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4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4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5CEE-9A29-4E1F-975C-6B4E0685284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8F26-433F-4E1D-A6A0-AA8E5D24051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3B5-815C-4443-AB82-1AD35545859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7A60-CD49-4A14-BFCD-D55390D07F6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1185-4598-48AF-A6C3-42E33B0467F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53AC-E4FA-46C3-A991-EA5C9E5470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3A51-243D-4130-9017-FB03A5D733F8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AEF8-1BB8-455A-B260-A628076957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80AB-5AF3-4E37-9ABC-9C3F08BFBF6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4506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8BFC-4CBD-4985-9FD6-F13F771AEA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920" y="14032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4.1.      Понятие  дроб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85920" y="3249720"/>
            <a:ext cx="7796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5750a"/>
                </a:solidFill>
                <a:latin typeface="Tahoma"/>
              </a:rPr>
              <a:t>Дробь как результат деления </a:t>
            </a:r>
            <a:r>
              <a:rPr b="1" lang="ru-RU" sz="4000" spc="-1" strike="noStrike">
                <a:solidFill>
                  <a:srgbClr val="05750a"/>
                </a:solidFill>
                <a:latin typeface="Arial"/>
              </a:rPr>
              <a:t>натуральных</a:t>
            </a:r>
            <a:r>
              <a:rPr b="1" lang="ru-RU" sz="4000" spc="-1" strike="noStrike">
                <a:solidFill>
                  <a:srgbClr val="05750a"/>
                </a:solidFill>
                <a:latin typeface="Tahoma"/>
              </a:rPr>
              <a:t> чисе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4" name="Рисунок 4" descr=""/>
          <p:cNvPicPr/>
          <p:nvPr/>
        </p:nvPicPr>
        <p:blipFill>
          <a:blip r:embed="rId1"/>
          <a:stretch/>
        </p:blipFill>
        <p:spPr>
          <a:xfrm>
            <a:off x="6821640" y="0"/>
            <a:ext cx="2322360" cy="261936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5"/>
          <p:cNvSpPr/>
          <p:nvPr/>
        </p:nvSpPr>
        <p:spPr>
          <a:xfrm>
            <a:off x="250920" y="5589720"/>
            <a:ext cx="82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читель математики школы №9 г.Казан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рагузина Надежда Владимир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kar-nadin1@yandex.r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аким  числом  записать результат   вычисле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341280" y="1989000"/>
            <a:ext cx="82202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03" name="Группа 5"/>
          <p:cNvGrpSpPr/>
          <p:nvPr/>
        </p:nvGrpSpPr>
        <p:grpSpPr>
          <a:xfrm>
            <a:off x="3086280" y="3654360"/>
            <a:ext cx="4321080" cy="998280"/>
            <a:chOff x="3086280" y="3654360"/>
            <a:chExt cx="4321080" cy="998280"/>
          </a:xfrm>
        </p:grpSpPr>
        <p:sp>
          <p:nvSpPr>
            <p:cNvPr id="704" name="Line 5"/>
            <p:cNvSpPr/>
            <p:nvPr/>
          </p:nvSpPr>
          <p:spPr>
            <a:xfrm>
              <a:off x="3086280" y="4148280"/>
              <a:ext cx="432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Line 6"/>
            <p:cNvSpPr/>
            <p:nvPr/>
          </p:nvSpPr>
          <p:spPr>
            <a:xfrm>
              <a:off x="4525920" y="378900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AutoShape 7"/>
            <p:cNvSpPr/>
            <p:nvPr/>
          </p:nvSpPr>
          <p:spPr>
            <a:xfrm rot="16200000">
              <a:off x="5197680" y="2442960"/>
              <a:ext cx="98280" cy="432108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112680 h 4321080"/>
                <a:gd name="textAreaBottom" fmla="*/ 420840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>
              <a:off x="5965920" y="378900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AutoShape 11"/>
            <p:cNvSpPr/>
            <p:nvPr/>
          </p:nvSpPr>
          <p:spPr>
            <a:xfrm rot="5400000">
              <a:off x="3784680" y="2955600"/>
              <a:ext cx="44280" cy="1441440"/>
            </a:xfrm>
            <a:custGeom>
              <a:avLst/>
              <a:gdLst>
                <a:gd name="textAreaLeft" fmla="*/ 28440 w 44280"/>
                <a:gd name="textAreaRight" fmla="*/ 44640 w 44280"/>
                <a:gd name="textAreaTop" fmla="*/ 37440 h 1441440"/>
                <a:gd name="textAreaBottom" fmla="*/ 140400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09" name="Прямоугольник 11"/>
          <p:cNvSpPr/>
          <p:nvPr/>
        </p:nvSpPr>
        <p:spPr>
          <a:xfrm>
            <a:off x="6266520" y="0"/>
            <a:ext cx="325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ткроем ново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Прямоугольник 12"/>
          <p:cNvSpPr/>
          <p:nvPr/>
        </p:nvSpPr>
        <p:spPr>
          <a:xfrm>
            <a:off x="1062000" y="5138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1м  :   3 =  </a:t>
            </a:r>
            <a:r>
              <a:rPr b="0" lang="ru-RU" sz="6000" spc="-1" strike="noStrike">
                <a:solidFill>
                  <a:srgbClr val="ffc000"/>
                </a:solidFill>
                <a:latin typeface="Arial"/>
              </a:rPr>
              <a:t>    (м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1"/>
              <p:cNvSpPr txBox="1"/>
              <p:nvPr/>
            </p:nvSpPr>
            <p:spPr>
              <a:xfrm>
                <a:off x="4662360" y="4778280"/>
                <a:ext cx="662040" cy="18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11280" y="304560"/>
            <a:ext cx="79992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аким  числом  записали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результат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  деле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3" name="Прямоугольник 11"/>
          <p:cNvSpPr/>
          <p:nvPr/>
        </p:nvSpPr>
        <p:spPr>
          <a:xfrm>
            <a:off x="6266520" y="0"/>
            <a:ext cx="3252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ткроем ново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Object 1"/>
              <p:cNvSpPr txBox="1"/>
              <p:nvPr/>
            </p:nvSpPr>
            <p:spPr>
              <a:xfrm>
                <a:off x="880920" y="1719360"/>
                <a:ext cx="960480" cy="14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5" name="Прямоугольник 12"/>
          <p:cNvSpPr/>
          <p:nvPr/>
        </p:nvSpPr>
        <p:spPr>
          <a:xfrm>
            <a:off x="2473560" y="1854360"/>
            <a:ext cx="376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33"/>
                </a:solidFill>
                <a:latin typeface="Arial"/>
              </a:rPr>
              <a:t>= 1  :   3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Rectangle 7"/>
          <p:cNvSpPr/>
          <p:nvPr/>
        </p:nvSpPr>
        <p:spPr>
          <a:xfrm flipV="1" rot="10800000">
            <a:off x="341280" y="3333960"/>
            <a:ext cx="7516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В русском языке есть известное вам слово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треть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, которое используется, чтобы обозначить результат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деления целого на три равные части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Разрезав кусок на три равные части, мы получили три куска,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Calibri"/>
              </a:rPr>
              <a:t>длиною в треть метра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 каждый. В математике треть записывают в виде дроби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76320" cy="30492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8"/>
          <p:cNvSpPr/>
          <p:nvPr/>
        </p:nvSpPr>
        <p:spPr>
          <a:xfrm>
            <a:off x="4400640" y="15156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Calibri"/>
              </a:rPr>
              <a:t>»</a:t>
            </a:r>
            <a:r>
              <a:rPr b="0" lang="ru-RU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9" name="Object 9"/>
              <p:cNvSpPr txBox="1"/>
              <p:nvPr/>
            </p:nvSpPr>
            <p:spPr>
              <a:xfrm>
                <a:off x="8334360" y="5138640"/>
                <a:ext cx="80964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31640" y="22586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Обыкновенными  дробям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0" y="4014720"/>
            <a:ext cx="8640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робь – это число или  результат деления натуральных чис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4"/>
              <p:cNvSpPr txBox="1"/>
              <p:nvPr/>
            </p:nvSpPr>
            <p:spPr>
              <a:xfrm>
                <a:off x="3751200" y="279360"/>
                <a:ext cx="50133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а</m:t>
                              </m:r>
                            </m:num>
                            <m:den>
                              <m:r>
                                <m:t xml:space="preserve">в</m:t>
                              </m:r>
                            </m:den>
                          </m:f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4" name="TextBox 7"/>
          <p:cNvSpPr/>
          <p:nvPr/>
        </p:nvSpPr>
        <p:spPr>
          <a:xfrm>
            <a:off x="-1080" y="41436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сла вид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162000" y="1854360"/>
            <a:ext cx="86407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азыв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Rectangle 2"/>
          <p:cNvSpPr/>
          <p:nvPr/>
        </p:nvSpPr>
        <p:spPr>
          <a:xfrm>
            <a:off x="701640" y="3024360"/>
            <a:ext cx="777240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или  дробя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Прямоугольник 10"/>
          <p:cNvSpPr/>
          <p:nvPr/>
        </p:nvSpPr>
        <p:spPr>
          <a:xfrm>
            <a:off x="5277960" y="0"/>
            <a:ext cx="318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0920" y="1854000"/>
            <a:ext cx="8315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усок проволоки длиной 3 м разрезали на 7 равных частей.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066320" y="3203640"/>
            <a:ext cx="546444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3 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30" name="Group 69"/>
          <p:cNvGrpSpPr/>
          <p:nvPr/>
        </p:nvGrpSpPr>
        <p:grpSpPr>
          <a:xfrm>
            <a:off x="1511280" y="3564000"/>
            <a:ext cx="5041800" cy="953640"/>
            <a:chOff x="1511280" y="3564000"/>
            <a:chExt cx="5041800" cy="953640"/>
          </a:xfrm>
        </p:grpSpPr>
        <p:sp>
          <p:nvSpPr>
            <p:cNvPr id="731" name="Line 4"/>
            <p:cNvSpPr/>
            <p:nvPr/>
          </p:nvSpPr>
          <p:spPr>
            <a:xfrm>
              <a:off x="1511280" y="4013280"/>
              <a:ext cx="5041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Line 5"/>
            <p:cNvSpPr/>
            <p:nvPr/>
          </p:nvSpPr>
          <p:spPr>
            <a:xfrm>
              <a:off x="223200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AutoShape 6"/>
            <p:cNvSpPr/>
            <p:nvPr/>
          </p:nvSpPr>
          <p:spPr>
            <a:xfrm rot="16200000">
              <a:off x="4005000" y="1969560"/>
              <a:ext cx="98280" cy="499752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130320 h 4997520"/>
                <a:gd name="textAreaBottom" fmla="*/ 4867200 h 499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4" name="Line 7"/>
            <p:cNvSpPr/>
            <p:nvPr/>
          </p:nvSpPr>
          <p:spPr>
            <a:xfrm>
              <a:off x="439092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5" name="AutoShape 8"/>
            <p:cNvSpPr/>
            <p:nvPr/>
          </p:nvSpPr>
          <p:spPr>
            <a:xfrm flipV="1" rot="5400000">
              <a:off x="1849320" y="3225960"/>
              <a:ext cx="44640" cy="720720"/>
            </a:xfrm>
            <a:custGeom>
              <a:avLst/>
              <a:gdLst>
                <a:gd name="textAreaLeft" fmla="*/ 28440 w 44640"/>
                <a:gd name="textAreaRight" fmla="*/ 45000 w 44640"/>
                <a:gd name="textAreaTop" fmla="*/ 18720 h 720720"/>
                <a:gd name="textAreaBottom" fmla="*/ 70200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80"/>
                  </a:lnTo>
                  <a:cubicBezTo>
                    <a:pt x="10800" y="10280"/>
                    <a:pt x="5400" y="11180"/>
                    <a:pt x="0" y="11180"/>
                  </a:cubicBezTo>
                  <a:cubicBezTo>
                    <a:pt x="5400" y="11180"/>
                    <a:pt x="10800" y="12080"/>
                    <a:pt x="10800" y="1298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Line 9"/>
            <p:cNvSpPr/>
            <p:nvPr/>
          </p:nvSpPr>
          <p:spPr>
            <a:xfrm>
              <a:off x="511164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Line 10"/>
            <p:cNvSpPr/>
            <p:nvPr/>
          </p:nvSpPr>
          <p:spPr>
            <a:xfrm>
              <a:off x="367164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Line 11"/>
            <p:cNvSpPr/>
            <p:nvPr/>
          </p:nvSpPr>
          <p:spPr>
            <a:xfrm>
              <a:off x="295092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5832360" y="3743280"/>
              <a:ext cx="0" cy="57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40" name="Прямоугольник 15"/>
          <p:cNvSpPr/>
          <p:nvPr/>
        </p:nvSpPr>
        <p:spPr>
          <a:xfrm>
            <a:off x="5767560" y="189000"/>
            <a:ext cx="360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умаем и отвеча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15"/>
              <p:cNvSpPr txBox="1"/>
              <p:nvPr/>
            </p:nvSpPr>
            <p:spPr>
              <a:xfrm>
                <a:off x="1906560" y="5229360"/>
                <a:ext cx="254016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7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3" name="Заголовок 1"/>
          <p:cNvSpPr/>
          <p:nvPr/>
        </p:nvSpPr>
        <p:spPr>
          <a:xfrm>
            <a:off x="431640" y="368280"/>
            <a:ext cx="799956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Каким  числом  записать результат   вычисления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Прямоугольник 17"/>
          <p:cNvSpPr/>
          <p:nvPr/>
        </p:nvSpPr>
        <p:spPr>
          <a:xfrm>
            <a:off x="5841720" y="5724360"/>
            <a:ext cx="30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ина одно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05920" y="6379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усок проволоки длиной 3 м разрезали на 5 равных частей.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5560" y="1989000"/>
            <a:ext cx="7105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3 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на одной ча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т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метра длина одной ч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7" name="Group 31"/>
          <p:cNvGrpSpPr/>
          <p:nvPr/>
        </p:nvGrpSpPr>
        <p:grpSpPr>
          <a:xfrm>
            <a:off x="341280" y="2437560"/>
            <a:ext cx="7336800" cy="856080"/>
            <a:chOff x="341280" y="2437560"/>
            <a:chExt cx="7336800" cy="856080"/>
          </a:xfrm>
        </p:grpSpPr>
        <p:sp>
          <p:nvSpPr>
            <p:cNvPr id="748" name="AutoShape 8"/>
            <p:cNvSpPr/>
            <p:nvPr/>
          </p:nvSpPr>
          <p:spPr>
            <a:xfrm flipV="1" rot="5400000">
              <a:off x="1174680" y="1650600"/>
              <a:ext cx="45720" cy="1618920"/>
            </a:xfrm>
            <a:custGeom>
              <a:avLst/>
              <a:gdLst>
                <a:gd name="textAreaLeft" fmla="*/ 29160 w 45720"/>
                <a:gd name="textAreaRight" fmla="*/ 46080 w 45720"/>
                <a:gd name="textAreaTop" fmla="*/ 23760 h 1618920"/>
                <a:gd name="textAreaBottom" fmla="*/ 1595160 h 161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511"/>
                    <a:pt x="10800" y="1022"/>
                  </a:cubicBezTo>
                  <a:lnTo>
                    <a:pt x="10800" y="10158"/>
                  </a:lnTo>
                  <a:cubicBezTo>
                    <a:pt x="10800" y="10669"/>
                    <a:pt x="5400" y="11180"/>
                    <a:pt x="0" y="11180"/>
                  </a:cubicBezTo>
                  <a:cubicBezTo>
                    <a:pt x="5400" y="11180"/>
                    <a:pt x="10800" y="11691"/>
                    <a:pt x="10800" y="12202"/>
                  </a:cubicBezTo>
                  <a:lnTo>
                    <a:pt x="10800" y="20578"/>
                  </a:lnTo>
                  <a:cubicBezTo>
                    <a:pt x="10800" y="21089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30"/>
            <p:cNvGrpSpPr/>
            <p:nvPr/>
          </p:nvGrpSpPr>
          <p:grpSpPr>
            <a:xfrm>
              <a:off x="341280" y="2572920"/>
              <a:ext cx="7336800" cy="720720"/>
              <a:chOff x="341280" y="2572920"/>
              <a:chExt cx="7336800" cy="720720"/>
            </a:xfrm>
          </p:grpSpPr>
          <p:sp>
            <p:nvSpPr>
              <p:cNvPr id="750" name="Line 4"/>
              <p:cNvSpPr/>
              <p:nvPr/>
            </p:nvSpPr>
            <p:spPr>
              <a:xfrm>
                <a:off x="341280" y="2842920"/>
                <a:ext cx="7335000" cy="0"/>
              </a:xfrm>
              <a:prstGeom prst="line">
                <a:avLst/>
              </a:prstGeom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Line 5"/>
              <p:cNvSpPr/>
              <p:nvPr/>
            </p:nvSpPr>
            <p:spPr>
              <a:xfrm>
                <a:off x="196020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AutoShape 6"/>
              <p:cNvSpPr/>
              <p:nvPr/>
            </p:nvSpPr>
            <p:spPr>
              <a:xfrm rot="16200000">
                <a:off x="4010040" y="-374040"/>
                <a:ext cx="46080" cy="7290000"/>
              </a:xfrm>
              <a:custGeom>
                <a:avLst/>
                <a:gdLst>
                  <a:gd name="textAreaLeft" fmla="*/ 29520 w 46080"/>
                  <a:gd name="textAreaRight" fmla="*/ 46440 w 46080"/>
                  <a:gd name="textAreaTop" fmla="*/ 74880 h 7290000"/>
                  <a:gd name="textAreaBottom" fmla="*/ 7215120 h 7290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356"/>
                      <a:pt x="10800" y="711"/>
                    </a:cubicBezTo>
                    <a:lnTo>
                      <a:pt x="10800" y="9890"/>
                    </a:lnTo>
                    <a:cubicBezTo>
                      <a:pt x="10800" y="10246"/>
                      <a:pt x="5400" y="10601"/>
                      <a:pt x="0" y="10601"/>
                    </a:cubicBezTo>
                    <a:cubicBezTo>
                      <a:pt x="5400" y="10601"/>
                      <a:pt x="10800" y="10957"/>
                      <a:pt x="10800" y="11312"/>
                    </a:cubicBezTo>
                    <a:lnTo>
                      <a:pt x="10800" y="20889"/>
                    </a:lnTo>
                    <a:cubicBezTo>
                      <a:pt x="10800" y="21245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Line 7"/>
              <p:cNvSpPr/>
              <p:nvPr/>
            </p:nvSpPr>
            <p:spPr>
              <a:xfrm>
                <a:off x="4750920" y="2617560"/>
                <a:ext cx="0" cy="57456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4" name="Line 9"/>
              <p:cNvSpPr/>
              <p:nvPr/>
            </p:nvSpPr>
            <p:spPr>
              <a:xfrm>
                <a:off x="6147360" y="2617560"/>
                <a:ext cx="0" cy="57456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5" name="Line 10"/>
              <p:cNvSpPr/>
              <p:nvPr/>
            </p:nvSpPr>
            <p:spPr>
              <a:xfrm>
                <a:off x="38628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6" name="Line 11"/>
              <p:cNvSpPr/>
              <p:nvPr/>
            </p:nvSpPr>
            <p:spPr>
              <a:xfrm>
                <a:off x="340128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7" name="Line 12"/>
              <p:cNvSpPr/>
              <p:nvPr/>
            </p:nvSpPr>
            <p:spPr>
              <a:xfrm>
                <a:off x="7676280" y="2572920"/>
                <a:ext cx="0" cy="574920"/>
              </a:xfrm>
              <a:prstGeom prst="line">
                <a:avLst/>
              </a:prstGeom>
              <a:ln w="2844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58" name="Object 27"/>
              <p:cNvSpPr txBox="1"/>
              <p:nvPr/>
            </p:nvSpPr>
            <p:spPr>
              <a:xfrm>
                <a:off x="2141640" y="5875200"/>
                <a:ext cx="68904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9" name="Прямоугольник 31"/>
          <p:cNvSpPr/>
          <p:nvPr/>
        </p:nvSpPr>
        <p:spPr>
          <a:xfrm>
            <a:off x="6037560" y="189000"/>
            <a:ext cx="3603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умаем и отвечае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Object 23"/>
              <p:cNvSpPr txBox="1"/>
              <p:nvPr/>
            </p:nvSpPr>
            <p:spPr>
              <a:xfrm>
                <a:off x="611280" y="4464000"/>
                <a:ext cx="19922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t xml:space="preserve">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0" y="5936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Реши задачи:   1)                2)            ;                 3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Заголовок 1"/>
          <p:cNvSpPr/>
          <p:nvPr/>
        </p:nvSpPr>
        <p:spPr>
          <a:xfrm>
            <a:off x="0" y="185436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1. 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1кг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сахара нужно рассыпать поровну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  4 пакета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. Сколько   кг будет в каждом пакет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Заголовок 1"/>
          <p:cNvSpPr/>
          <p:nvPr/>
        </p:nvSpPr>
        <p:spPr>
          <a:xfrm>
            <a:off x="0" y="329400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2.    Буханку хлеб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весом 1кг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разрезали 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три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равные части. Сколько  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кг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будет весить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дна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часть,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две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част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Заголовок 1"/>
          <p:cNvSpPr/>
          <p:nvPr/>
        </p:nvSpPr>
        <p:spPr>
          <a:xfrm>
            <a:off x="0" y="509436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14440" indent="-514440">
              <a:buClr>
                <a:srgbClr val="eaeaea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Если отрезок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АВ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разделили ровно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пять раз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и дли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дной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части рав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2/5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дм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то длина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АВ =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5"/>
              <p:cNvSpPr txBox="1"/>
              <p:nvPr/>
            </p:nvSpPr>
            <p:spPr>
              <a:xfrm>
                <a:off x="3086280" y="593640"/>
                <a:ext cx="1004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7"/>
              <p:cNvSpPr txBox="1"/>
              <p:nvPr/>
            </p:nvSpPr>
            <p:spPr>
              <a:xfrm>
                <a:off x="4751280" y="684360"/>
                <a:ext cx="900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9"/>
              <p:cNvSpPr txBox="1"/>
              <p:nvPr/>
            </p:nvSpPr>
            <p:spPr>
              <a:xfrm>
                <a:off x="5921280" y="728640"/>
                <a:ext cx="101592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4" name="TextBox 17"/>
          <p:cNvSpPr/>
          <p:nvPr/>
        </p:nvSpPr>
        <p:spPr>
          <a:xfrm>
            <a:off x="7872120" y="863640"/>
            <a:ext cx="12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10д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Прямоугольник 18"/>
          <p:cNvSpPr/>
          <p:nvPr/>
        </p:nvSpPr>
        <p:spPr>
          <a:xfrm>
            <a:off x="-378720" y="0"/>
            <a:ext cx="77457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думай и отвечай…             не понимаешь – спрашивай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97000" y="323640"/>
            <a:ext cx="8480160" cy="17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1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	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3</a:t>
            </a:r>
            <a:r>
              <a:rPr b="1" lang="ru-RU" sz="4800" spc="-1" strike="noStrike">
                <a:solidFill>
                  <a:srgbClr val="ffc000"/>
                </a:solidFill>
                <a:latin typeface="Tahoma"/>
              </a:rPr>
              <a:t>	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26640" y="2033280"/>
            <a:ext cx="77598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 прочитать записанную дробь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Одна треть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 означает черта дроб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ействие дел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называется число, стоящее под чертой дроби? Что оно показыва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Знамена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Как называется число, стоящее над чертой дроби? Что оно показывает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Числит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Line 4"/>
          <p:cNvSpPr/>
          <p:nvPr/>
        </p:nvSpPr>
        <p:spPr>
          <a:xfrm>
            <a:off x="2816280" y="113364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Rectangle 2"/>
          <p:cNvSpPr/>
          <p:nvPr/>
        </p:nvSpPr>
        <p:spPr>
          <a:xfrm>
            <a:off x="385920" y="233280"/>
            <a:ext cx="84801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дна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1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- числитель</a:t>
            </a:r>
            <a:br>
              <a:rPr sz="4000"/>
            </a:b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третья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3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- знаменатель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Прямоугольник 7"/>
          <p:cNvSpPr/>
          <p:nvPr/>
        </p:nvSpPr>
        <p:spPr>
          <a:xfrm>
            <a:off x="6308640" y="189000"/>
            <a:ext cx="331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1000" fill="hold"/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7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71640" y="99864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Обыкновенными  дробям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3" name="Object 4"/>
              <p:cNvSpPr txBox="1"/>
              <p:nvPr/>
            </p:nvSpPr>
            <p:spPr>
              <a:xfrm>
                <a:off x="3732120" y="279360"/>
                <a:ext cx="505296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e>
                      </m:mr>
                    </m:m>
                    <m:m>
                      <m:mr>
                        <m:e/>
                        <m:e>
                          <m:f>
                            <m:num>
                              <m:r>
                                <m:t xml:space="preserve">а</m:t>
                              </m:r>
                            </m:num>
                            <m:den>
                              <m:r>
                                <m:t xml:space="preserve">в</m:t>
                              </m:r>
                            </m:den>
                          </m:f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4" name="TextBox 7"/>
          <p:cNvSpPr/>
          <p:nvPr/>
        </p:nvSpPr>
        <p:spPr>
          <a:xfrm>
            <a:off x="-1080" y="414360"/>
            <a:ext cx="32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исла вида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341280" y="954000"/>
            <a:ext cx="28544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называю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Прямоугольник 10"/>
          <p:cNvSpPr/>
          <p:nvPr/>
        </p:nvSpPr>
        <p:spPr>
          <a:xfrm>
            <a:off x="5277960" y="0"/>
            <a:ext cx="318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Прямоугольник 10"/>
          <p:cNvSpPr/>
          <p:nvPr/>
        </p:nvSpPr>
        <p:spPr>
          <a:xfrm>
            <a:off x="431640" y="1963800"/>
            <a:ext cx="871236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Tahoma"/>
              </a:rPr>
              <a:t>Правило записи обыкновенной дроби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ачала «…пишут число, показывающее,  сколько долей содержится в дроб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 ним проводят черт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д чертой ставят другое число, показывающее, на сколько равных долей разделена единица, от которой взята дробь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328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Частное от деления натуральных чисел можно записать в виде дроби.</a:t>
            </a:r>
            <a:br>
              <a:rPr sz="3500"/>
            </a:br>
            <a:br>
              <a:rPr sz="3500"/>
            </a:b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Числитель дроби  - это делимое,</a:t>
            </a:r>
            <a:br>
              <a:rPr sz="3500"/>
            </a:b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eaeaea"/>
                </a:solidFill>
                <a:latin typeface="Arial"/>
              </a:rPr>
              <a:t> а знаменатель – делитель.</a:t>
            </a:r>
            <a:endParaRPr b="1" lang="en-US" sz="35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75920" y="1898640"/>
            <a:ext cx="866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657360" y="324000"/>
          <a:ext cx="7738920" cy="1439640"/>
        </p:xfrm>
        <a:graphic>
          <a:graphicData uri="http://schemas.openxmlformats.org/drawingml/2006/table">
            <a:tbl>
              <a:tblPr/>
              <a:tblGrid>
                <a:gridCol w="1549440"/>
                <a:gridCol w="1546200"/>
                <a:gridCol w="1135080"/>
                <a:gridCol w="1958760"/>
                <a:gridCol w="1549440"/>
              </a:tblGrid>
              <a:tr h="72072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: 3 =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 : 7 =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1" name="Line 55"/>
          <p:cNvSpPr/>
          <p:nvPr/>
        </p:nvSpPr>
        <p:spPr>
          <a:xfrm>
            <a:off x="2546280" y="1089000"/>
            <a:ext cx="90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Line 56"/>
          <p:cNvSpPr/>
          <p:nvPr/>
        </p:nvSpPr>
        <p:spPr>
          <a:xfrm>
            <a:off x="7272360" y="1089000"/>
            <a:ext cx="900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Прямоугольник 28"/>
          <p:cNvSpPr/>
          <p:nvPr/>
        </p:nvSpPr>
        <p:spPr>
          <a:xfrm>
            <a:off x="5948280" y="0"/>
            <a:ext cx="331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162000" y="638280"/>
            <a:ext cx="871200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стное от деления натуральных чисел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можно записа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виде дроб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де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ислитель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делимое,  знаменатель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–делитель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95" name=""/>
          <p:cNvGraphicFramePr/>
          <p:nvPr/>
        </p:nvGraphicFramePr>
        <p:xfrm>
          <a:off x="5516640" y="2484360"/>
          <a:ext cx="798480" cy="1524240"/>
        </p:xfrm>
        <a:graphic>
          <a:graphicData uri="http://schemas.openxmlformats.org/drawingml/2006/table">
            <a:tbl>
              <a:tblPr/>
              <a:tblGrid>
                <a:gridCol w="7984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а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в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6" name="Line 22"/>
          <p:cNvSpPr/>
          <p:nvPr/>
        </p:nvSpPr>
        <p:spPr>
          <a:xfrm>
            <a:off x="5516640" y="3294000"/>
            <a:ext cx="855720" cy="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Прямоугольник 14"/>
          <p:cNvSpPr/>
          <p:nvPr/>
        </p:nvSpPr>
        <p:spPr>
          <a:xfrm>
            <a:off x="6312960" y="189000"/>
            <a:ext cx="3187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будем знать, чт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015560" y="-441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План урока №1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66280" y="819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вспомним  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овторим 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оразмышляем 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откроем новое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подумаем по новому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узнаем о ново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думаем и отвечае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</a:rPr>
              <a:t>находим часть от целог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ведем итог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пишем домашнее зад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08240" indent="-40824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юрприз от учител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836280" y="32364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Как прочитать дробь: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066320" y="2373480"/>
            <a:ext cx="7543800" cy="37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эм энны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эм деленное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допускается сокращение эм на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0" name=""/>
          <p:cNvGraphicFramePr/>
          <p:nvPr/>
        </p:nvGraphicFramePr>
        <p:xfrm>
          <a:off x="7721640" y="279360"/>
          <a:ext cx="1066680" cy="1523880"/>
        </p:xfrm>
        <a:graphic>
          <a:graphicData uri="http://schemas.openxmlformats.org/drawingml/2006/table">
            <a:tbl>
              <a:tblPr/>
              <a:tblGrid>
                <a:gridCol w="1066680"/>
              </a:tblGrid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1" name="Line 30"/>
          <p:cNvSpPr/>
          <p:nvPr/>
        </p:nvSpPr>
        <p:spPr>
          <a:xfrm>
            <a:off x="7677000" y="1089000"/>
            <a:ext cx="1081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2" name="AutoShape 37">
            <a:hlinkClick r:id="rId1" action="ppaction://hlinksldjump"/>
          </p:cNvPr>
          <p:cNvSpPr/>
          <p:nvPr/>
        </p:nvSpPr>
        <p:spPr>
          <a:xfrm>
            <a:off x="250920" y="6219720"/>
            <a:ext cx="450720" cy="405000"/>
          </a:xfrm>
          <a:custGeom>
            <a:avLst/>
            <a:gdLst>
              <a:gd name="textAreaLeft" fmla="*/ 25920 w 450720"/>
              <a:gd name="textAreaRight" fmla="*/ 424800 w 45072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12018" y="3837"/>
                </a:moveTo>
                <a:lnTo>
                  <a:pt x="14594" y="6448"/>
                </a:ln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lnTo>
                  <a:pt x="18981" y="10800"/>
                </a:lnTo>
                <a:lnTo>
                  <a:pt x="17327" y="10800"/>
                </a:lnTo>
                <a:lnTo>
                  <a:pt x="17327" y="17989"/>
                </a:lnTo>
                <a:lnTo>
                  <a:pt x="6709" y="17989"/>
                </a:lnTo>
                <a:lnTo>
                  <a:pt x="6709" y="10800"/>
                </a:lnTo>
                <a:lnTo>
                  <a:pt x="5055" y="10800"/>
                </a:lnTo>
                <a:close/>
              </a:path>
              <a:path fill="darkenLess" w="24036" h="21600">
                <a:moveTo>
                  <a:pt x="14594" y="6448"/>
                </a:moveTo>
                <a:lnTo>
                  <a:pt x="14594" y="4707"/>
                </a:lnTo>
                <a:lnTo>
                  <a:pt x="16370" y="4707"/>
                </a:lnTo>
                <a:lnTo>
                  <a:pt x="16370" y="8224"/>
                </a:lnTo>
                <a:close/>
              </a:path>
              <a:path fill="darkenLess" w="24036" h="21600">
                <a:moveTo>
                  <a:pt x="11096" y="14299"/>
                </a:moveTo>
                <a:lnTo>
                  <a:pt x="12941" y="14299"/>
                </a:lnTo>
                <a:lnTo>
                  <a:pt x="12941" y="17989"/>
                </a:lnTo>
                <a:lnTo>
                  <a:pt x="17327" y="17989"/>
                </a:lnTo>
                <a:lnTo>
                  <a:pt x="17327" y="10800"/>
                </a:lnTo>
                <a:lnTo>
                  <a:pt x="6709" y="10800"/>
                </a:lnTo>
                <a:lnTo>
                  <a:pt x="6709" y="17989"/>
                </a:lnTo>
                <a:lnTo>
                  <a:pt x="11096" y="17989"/>
                </a:ln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Прямоугольник 16"/>
          <p:cNvSpPr/>
          <p:nvPr/>
        </p:nvSpPr>
        <p:spPr>
          <a:xfrm>
            <a:off x="6262920" y="0"/>
            <a:ext cx="2803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будем зна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1000"/>
                                        <p:tgtEl>
                                          <p:spTgt spid="7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1000"/>
                                        <p:tgtEl>
                                          <p:spTgt spid="7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ЗАПОМНИ !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Object 2"/>
              <p:cNvSpPr txBox="1"/>
              <p:nvPr/>
            </p:nvSpPr>
            <p:spPr>
              <a:xfrm>
                <a:off x="250920" y="1224000"/>
                <a:ext cx="3582720" cy="15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6" name="Прямоугольник 5"/>
          <p:cNvSpPr/>
          <p:nvPr/>
        </p:nvSpPr>
        <p:spPr>
          <a:xfrm>
            <a:off x="4346640" y="113364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…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называют рациональными числами,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Georgia"/>
              </a:rPr>
              <a:t>обыкновенными   дробями</a:t>
            </a: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Georgia"/>
              </a:rPr>
              <a:t>   или короче   –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Georgia"/>
              </a:rPr>
              <a:t>дроб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Object 3"/>
              <p:cNvSpPr txBox="1"/>
              <p:nvPr/>
            </p:nvSpPr>
            <p:spPr>
              <a:xfrm>
                <a:off x="297000" y="3473280"/>
                <a:ext cx="1152360" cy="246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8" name="Прямоугольник 7"/>
          <p:cNvSpPr/>
          <p:nvPr/>
        </p:nvSpPr>
        <p:spPr>
          <a:xfrm>
            <a:off x="1467000" y="35640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abab"/>
                </a:solidFill>
                <a:latin typeface="Georgia"/>
              </a:rPr>
              <a:t>числител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abab"/>
                </a:solidFill>
                <a:latin typeface="Georgia"/>
              </a:rPr>
              <a:t>дробная чер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9" name="Прямоугольник 10"/>
          <p:cNvSpPr/>
          <p:nvPr/>
        </p:nvSpPr>
        <p:spPr>
          <a:xfrm>
            <a:off x="1692360" y="5049720"/>
            <a:ext cx="457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abab"/>
                </a:solidFill>
                <a:latin typeface="Georgia"/>
              </a:rPr>
              <a:t>знаменатель </a:t>
            </a:r>
            <a:r>
              <a:rPr b="1" i="1" lang="ru-RU" sz="1800" spc="-1" strike="noStrike">
                <a:solidFill>
                  <a:srgbClr val="ffabab"/>
                </a:solidFill>
                <a:latin typeface="Georgia"/>
              </a:rPr>
              <a:t>(на сколько разделили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Прямоугольник 11"/>
          <p:cNvSpPr/>
          <p:nvPr/>
        </p:nvSpPr>
        <p:spPr>
          <a:xfrm>
            <a:off x="1704960" y="5904000"/>
            <a:ext cx="74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abab"/>
                </a:solidFill>
                <a:uFillTx/>
                <a:latin typeface="Georgia"/>
              </a:rPr>
              <a:t>Знаменатель не равен нулю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/>
          </p:nvPr>
        </p:nvSpPr>
        <p:spPr>
          <a:xfrm>
            <a:off x="0" y="324000"/>
            <a:ext cx="8786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чтении дробей надо помнить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Tahoma"/>
              </a:rPr>
              <a:t>числитель дроби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количественное числительное женского рода, отвечает на вопрос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СКОЛЬКО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одна, две, восемь и т.д.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Tahoma"/>
              </a:rPr>
              <a:t>знаменател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порядковое числительное, отвечает на вопрос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АК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АКИХ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(седьмая, сотая, двести тридцатая и т.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пример: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одна пятая;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- две шест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12" name="Picture 7" descr=""/>
          <p:cNvPicPr/>
          <p:nvPr/>
        </p:nvPicPr>
        <p:blipFill>
          <a:blip r:embed="rId1"/>
          <a:stretch/>
        </p:blipFill>
        <p:spPr>
          <a:xfrm>
            <a:off x="6821640" y="4373640"/>
            <a:ext cx="342720" cy="73332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8" descr=""/>
          <p:cNvPicPr/>
          <p:nvPr/>
        </p:nvPicPr>
        <p:blipFill>
          <a:blip r:embed="rId2"/>
          <a:stretch/>
        </p:blipFill>
        <p:spPr>
          <a:xfrm>
            <a:off x="3132000" y="4464000"/>
            <a:ext cx="314640" cy="69552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5" descr="E:\Уч.года\karanda74.jpg"/>
          <p:cNvPicPr/>
          <p:nvPr/>
        </p:nvPicPr>
        <p:blipFill>
          <a:blip r:embed="rId3"/>
          <a:stretch/>
        </p:blipFill>
        <p:spPr>
          <a:xfrm>
            <a:off x="0" y="5411880"/>
            <a:ext cx="971640" cy="1028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5" name="Object 29"/>
              <p:cNvSpPr txBox="1"/>
              <p:nvPr/>
            </p:nvSpPr>
            <p:spPr>
              <a:xfrm>
                <a:off x="1428840" y="5429160"/>
                <a:ext cx="7286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ислитель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Знаменатель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СКОЛЬКО</m:t>
                        </m:r>
                        <m:r>
                          <m:t xml:space="preserve">?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КАКАЯ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илиКАКИХ</m:t>
                        </m:r>
                        <m:r>
                          <m:t xml:space="preserve">?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pull dir="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/>
          <p:cNvSpPr txBox="1"/>
          <p:nvPr/>
        </p:nvSpPr>
        <p:spPr>
          <a:xfrm>
            <a:off x="-360" y="0"/>
            <a:ext cx="7677000" cy="567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c000"/>
                </a:solidFill>
                <a:latin typeface="Tahoma"/>
                <a:ea typeface="Times New Roman"/>
              </a:rPr>
              <a:t>При чтении дробей надо помнить: числитель дроби – количественное числительное женского рода (одна, две, восемь и т.д.), а знаменатель – порядковое числительное (седьмая, сотая, двести тридцатая и т.д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Например:        одна седьма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  <a:ea typeface="Times New Roman"/>
              </a:rPr>
              <a:t>двести две тысяч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1"/>
              <p:cNvSpPr txBox="1"/>
              <p:nvPr/>
            </p:nvSpPr>
            <p:spPr>
              <a:xfrm>
                <a:off x="7093080" y="4554360"/>
                <a:ext cx="158904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9" name="Object 3"/>
              <p:cNvSpPr txBox="1"/>
              <p:nvPr/>
            </p:nvSpPr>
            <p:spPr>
              <a:xfrm>
                <a:off x="8172360" y="1179360"/>
                <a:ext cx="971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4"/>
          <p:cNvSpPr/>
          <p:nvPr/>
        </p:nvSpPr>
        <p:spPr>
          <a:xfrm>
            <a:off x="0" y="324000"/>
            <a:ext cx="846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Запиши цифрами шесть </a:t>
            </a:r>
            <a:r>
              <a:rPr b="0" lang="ru-RU" sz="4400" spc="-1" strike="noStrike" u="sng">
                <a:solidFill>
                  <a:srgbClr val="ffc000"/>
                </a:solidFill>
                <a:uFillTx/>
                <a:latin typeface="Tahoma"/>
              </a:rPr>
              <a:t>не натуральных  чисел</a:t>
            </a: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одна одиннадцата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ве тридцаты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евять десят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ять восьмы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две третьих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полов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1" name="Object 3"/>
              <p:cNvSpPr txBox="1"/>
              <p:nvPr/>
            </p:nvSpPr>
            <p:spPr>
              <a:xfrm>
                <a:off x="8213760" y="4297320"/>
                <a:ext cx="971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Object 3"/>
              <p:cNvSpPr txBox="1"/>
              <p:nvPr/>
            </p:nvSpPr>
            <p:spPr>
              <a:xfrm>
                <a:off x="7132680" y="4297320"/>
                <a:ext cx="890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Object 4"/>
              <p:cNvSpPr txBox="1"/>
              <p:nvPr/>
            </p:nvSpPr>
            <p:spPr>
              <a:xfrm>
                <a:off x="5697360" y="4297320"/>
                <a:ext cx="129564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4" name="Object 5"/>
              <p:cNvSpPr txBox="1"/>
              <p:nvPr/>
            </p:nvSpPr>
            <p:spPr>
              <a:xfrm>
                <a:off x="4076640" y="4297320"/>
                <a:ext cx="137628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Object 6"/>
              <p:cNvSpPr txBox="1"/>
              <p:nvPr/>
            </p:nvSpPr>
            <p:spPr>
              <a:xfrm>
                <a:off x="7875720" y="954000"/>
                <a:ext cx="1214280" cy="25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Object 7"/>
              <p:cNvSpPr txBox="1"/>
              <p:nvPr/>
            </p:nvSpPr>
            <p:spPr>
              <a:xfrm>
                <a:off x="6146640" y="1584360"/>
                <a:ext cx="1152720" cy="24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-351360"/>
            <a:ext cx="9144000" cy="329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 – это всегда </a:t>
            </a:r>
            <a:r>
              <a:rPr b="1" i="1" lang="ru-RU" sz="3200" spc="-1" strike="noStrike" u="sng">
                <a:solidFill>
                  <a:srgbClr val="ffc000"/>
                </a:solidFill>
                <a:uFillTx/>
                <a:latin typeface="Tahoma"/>
              </a:rPr>
              <a:t>часть от целого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. Если целое принять как площадь  занимаемой фигуры и разделить ее на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равные части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, то площадь выделенной части  можно записать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Ю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828" name="Picture 3" descr=""/>
          <p:cNvPicPr/>
          <p:nvPr/>
        </p:nvPicPr>
        <p:blipFill>
          <a:blip r:embed="rId1"/>
          <a:srcRect l="20982" t="29944" r="23646" b="20149"/>
          <a:stretch/>
        </p:blipFill>
        <p:spPr>
          <a:xfrm>
            <a:off x="0" y="2843280"/>
            <a:ext cx="2065320" cy="2160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4" descr=""/>
          <p:cNvPicPr/>
          <p:nvPr/>
        </p:nvPicPr>
        <p:blipFill>
          <a:blip r:embed="rId2"/>
          <a:srcRect l="21720" t="26617" r="22155" b="20149"/>
          <a:stretch/>
        </p:blipFill>
        <p:spPr>
          <a:xfrm>
            <a:off x="2232000" y="2889360"/>
            <a:ext cx="2005200" cy="207000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5" descr=""/>
          <p:cNvPicPr/>
          <p:nvPr/>
        </p:nvPicPr>
        <p:blipFill>
          <a:blip r:embed="rId3"/>
          <a:srcRect l="18100" t="24953" r="22155" b="21520"/>
          <a:stretch/>
        </p:blipFill>
        <p:spPr>
          <a:xfrm>
            <a:off x="4392720" y="2979720"/>
            <a:ext cx="2114280" cy="20620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6" descr=""/>
          <p:cNvPicPr/>
          <p:nvPr/>
        </p:nvPicPr>
        <p:blipFill>
          <a:blip r:embed="rId4"/>
          <a:srcRect l="18100" t="24953" r="20345" b="21813"/>
          <a:stretch/>
        </p:blipFill>
        <p:spPr>
          <a:xfrm>
            <a:off x="7088040" y="3024360"/>
            <a:ext cx="2055960" cy="1935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32" name="Object 7"/>
              <p:cNvSpPr txBox="1"/>
              <p:nvPr/>
            </p:nvSpPr>
            <p:spPr>
              <a:xfrm>
                <a:off x="522360" y="5143680"/>
                <a:ext cx="596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3" name="Object 8"/>
              <p:cNvSpPr txBox="1"/>
              <p:nvPr/>
            </p:nvSpPr>
            <p:spPr>
              <a:xfrm>
                <a:off x="2879640" y="5143680"/>
                <a:ext cx="6526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Object 9"/>
              <p:cNvSpPr txBox="1"/>
              <p:nvPr/>
            </p:nvSpPr>
            <p:spPr>
              <a:xfrm>
                <a:off x="5067360" y="5143680"/>
                <a:ext cx="596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5" name="Object 10"/>
              <p:cNvSpPr txBox="1"/>
              <p:nvPr/>
            </p:nvSpPr>
            <p:spPr>
              <a:xfrm>
                <a:off x="7812000" y="5143680"/>
                <a:ext cx="596880" cy="17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Заголовок 1"/>
          <p:cNvSpPr/>
          <p:nvPr/>
        </p:nvSpPr>
        <p:spPr>
          <a:xfrm>
            <a:off x="0" y="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 – это деление целого на равные части . Если целое принять за длину отрезка  и разделить его на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равные части</a:t>
            </a:r>
            <a:r>
              <a:rPr b="1" i="1" lang="ru-RU" sz="3200" spc="-1" strike="noStrike">
                <a:solidFill>
                  <a:srgbClr val="eaeaea"/>
                </a:solidFill>
                <a:latin typeface="Tahoma"/>
              </a:rPr>
              <a:t>, то длину выделенной части  можно записать </a:t>
            </a:r>
            <a:r>
              <a:rPr b="1" i="1" lang="ru-RU" sz="3200" spc="-1" strike="noStrike">
                <a:solidFill>
                  <a:srgbClr val="ffc000"/>
                </a:solidFill>
                <a:latin typeface="Tahoma"/>
              </a:rPr>
              <a:t>ДРОБЬ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37" name="Группа 17"/>
          <p:cNvGrpSpPr/>
          <p:nvPr/>
        </p:nvGrpSpPr>
        <p:grpSpPr>
          <a:xfrm>
            <a:off x="-119160" y="3249720"/>
            <a:ext cx="9263160" cy="2879640"/>
            <a:chOff x="-119160" y="3249720"/>
            <a:chExt cx="9263160" cy="2879640"/>
          </a:xfrm>
        </p:grpSpPr>
        <p:pic>
          <p:nvPicPr>
            <p:cNvPr id="838" name="Рисунок 23" descr=""/>
            <p:cNvPicPr/>
            <p:nvPr/>
          </p:nvPicPr>
          <p:blipFill>
            <a:blip r:embed="rId1"/>
            <a:stretch/>
          </p:blipFill>
          <p:spPr>
            <a:xfrm>
              <a:off x="-119160" y="3249720"/>
              <a:ext cx="9263160" cy="28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Прямая соединительная линия 8"/>
            <p:cNvSpPr/>
            <p:nvPr/>
          </p:nvSpPr>
          <p:spPr>
            <a:xfrm>
              <a:off x="15120" y="3529440"/>
              <a:ext cx="8372520" cy="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Прямая соединительная линия 9"/>
            <p:cNvSpPr/>
            <p:nvPr/>
          </p:nvSpPr>
          <p:spPr>
            <a:xfrm>
              <a:off x="15120" y="4108680"/>
              <a:ext cx="6308280" cy="4428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Прямая соединительная линия 10"/>
            <p:cNvSpPr/>
            <p:nvPr/>
          </p:nvSpPr>
          <p:spPr>
            <a:xfrm>
              <a:off x="15120" y="4777200"/>
              <a:ext cx="6308280" cy="8892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Прямая соединительная линия 11"/>
            <p:cNvSpPr/>
            <p:nvPr/>
          </p:nvSpPr>
          <p:spPr>
            <a:xfrm>
              <a:off x="15120" y="5668560"/>
              <a:ext cx="6308280" cy="0"/>
            </a:xfrm>
            <a:prstGeom prst="line">
              <a:avLst/>
            </a:prstGeom>
            <a:ln w="7632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Какая часть фигуры заштрихована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?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Запиши  дробью в своей тетради.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844" name="Picture 4" descr="Untitled-2"/>
          <p:cNvPicPr/>
          <p:nvPr/>
        </p:nvPicPr>
        <p:blipFill>
          <a:blip r:embed="rId1"/>
          <a:stretch/>
        </p:blipFill>
        <p:spPr>
          <a:xfrm>
            <a:off x="0" y="1673280"/>
            <a:ext cx="9433080" cy="265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5" name="Object 3"/>
              <p:cNvSpPr txBox="1"/>
              <p:nvPr/>
            </p:nvSpPr>
            <p:spPr>
              <a:xfrm>
                <a:off x="420840" y="4419720"/>
                <a:ext cx="7617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Object 3"/>
              <p:cNvSpPr txBox="1"/>
              <p:nvPr/>
            </p:nvSpPr>
            <p:spPr>
              <a:xfrm>
                <a:off x="2862360" y="4419720"/>
                <a:ext cx="83160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Object 4"/>
              <p:cNvSpPr txBox="1"/>
              <p:nvPr/>
            </p:nvSpPr>
            <p:spPr>
              <a:xfrm>
                <a:off x="5427720" y="4667400"/>
                <a:ext cx="83196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Object 5"/>
              <p:cNvSpPr txBox="1"/>
              <p:nvPr/>
            </p:nvSpPr>
            <p:spPr>
              <a:xfrm>
                <a:off x="7359480" y="4667400"/>
                <a:ext cx="1109880" cy="21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Группа 122"/>
          <p:cNvGrpSpPr/>
          <p:nvPr/>
        </p:nvGrpSpPr>
        <p:grpSpPr>
          <a:xfrm>
            <a:off x="5786280" y="3699000"/>
            <a:ext cx="2600640" cy="2819160"/>
            <a:chOff x="5786280" y="3699000"/>
            <a:chExt cx="2600640" cy="2819160"/>
          </a:xfrm>
        </p:grpSpPr>
        <p:pic>
          <p:nvPicPr>
            <p:cNvPr id="850" name="Picture 3" descr=""/>
            <p:cNvPicPr/>
            <p:nvPr/>
          </p:nvPicPr>
          <p:blipFill>
            <a:blip r:embed="rId1"/>
            <a:stretch/>
          </p:blipFill>
          <p:spPr>
            <a:xfrm>
              <a:off x="5786280" y="3699000"/>
              <a:ext cx="2600640" cy="28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Picture 4" descr=""/>
            <p:cNvPicPr/>
            <p:nvPr/>
          </p:nvPicPr>
          <p:blipFill>
            <a:blip r:embed="rId2"/>
            <a:srcRect l="0" t="0" r="0" b="45735"/>
            <a:stretch/>
          </p:blipFill>
          <p:spPr>
            <a:xfrm>
              <a:off x="5786280" y="3699000"/>
              <a:ext cx="2600640" cy="153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2" name="Picture 5" descr=""/>
            <p:cNvPicPr/>
            <p:nvPr/>
          </p:nvPicPr>
          <p:blipFill>
            <a:blip r:embed="rId3"/>
            <a:srcRect l="0" t="54277" r="49813" b="0"/>
            <a:stretch/>
          </p:blipFill>
          <p:spPr>
            <a:xfrm>
              <a:off x="5786280" y="5229000"/>
              <a:ext cx="1305360" cy="128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3" name="Нижний колонтитул 6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9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4" name="Прямоугольник 6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стное задание классу:  </a:t>
            </a:r>
            <a:r>
              <a:rPr b="0" i="1" lang="ru-RU" sz="2800" spc="-1" strike="noStrike">
                <a:solidFill>
                  <a:srgbClr val="ffabab"/>
                </a:solidFill>
                <a:latin typeface="Tahoma"/>
              </a:rPr>
              <a:t>На готовых рисунках закрашенная часть каждой фигуры обозначена дробью. 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Определите  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дробь записана </a:t>
            </a:r>
            <a:r>
              <a:rPr b="0" i="1" lang="ru-RU" sz="2800" spc="-1" strike="noStrike" u="sng">
                <a:solidFill>
                  <a:srgbClr val="ffc000"/>
                </a:solidFill>
                <a:uFillTx/>
                <a:latin typeface="Tahoma"/>
              </a:rPr>
              <a:t>верно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, или </a:t>
            </a:r>
            <a:r>
              <a:rPr b="0" i="1" lang="ru-RU" sz="2800" spc="-1" strike="noStrike" u="sng">
                <a:solidFill>
                  <a:srgbClr val="ffc000"/>
                </a:solidFill>
                <a:uFillTx/>
                <a:latin typeface="Tahoma"/>
              </a:rPr>
              <a:t>неверно</a:t>
            </a:r>
            <a:r>
              <a:rPr b="0" i="1" lang="ru-RU" sz="2800" spc="-1" strike="noStrike">
                <a:solidFill>
                  <a:srgbClr val="ffc000"/>
                </a:solidFill>
                <a:latin typeface="Tahoma"/>
              </a:rPr>
              <a:t>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55" name="Группа 65"/>
          <p:cNvGrpSpPr/>
          <p:nvPr/>
        </p:nvGrpSpPr>
        <p:grpSpPr>
          <a:xfrm>
            <a:off x="0" y="1763640"/>
            <a:ext cx="1665360" cy="1216080"/>
            <a:chOff x="0" y="1763640"/>
            <a:chExt cx="1665360" cy="1216080"/>
          </a:xfrm>
        </p:grpSpPr>
        <p:sp>
          <p:nvSpPr>
            <p:cNvPr id="856" name="Rectangle 14"/>
            <p:cNvSpPr/>
            <p:nvPr/>
          </p:nvSpPr>
          <p:spPr>
            <a:xfrm>
              <a:off x="0" y="176364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7" name="Rectangle 17"/>
            <p:cNvSpPr/>
            <p:nvPr/>
          </p:nvSpPr>
          <p:spPr>
            <a:xfrm>
              <a:off x="832680" y="176364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8" name="Rectangle 18"/>
            <p:cNvSpPr/>
            <p:nvPr/>
          </p:nvSpPr>
          <p:spPr>
            <a:xfrm>
              <a:off x="416160" y="176364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9" name="Rectangle 19"/>
            <p:cNvSpPr/>
            <p:nvPr/>
          </p:nvSpPr>
          <p:spPr>
            <a:xfrm>
              <a:off x="1249200" y="176364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0" name="Rectangle 20"/>
            <p:cNvSpPr/>
            <p:nvPr/>
          </p:nvSpPr>
          <p:spPr>
            <a:xfrm>
              <a:off x="416160" y="237168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1" name="Rectangle 21"/>
            <p:cNvSpPr/>
            <p:nvPr/>
          </p:nvSpPr>
          <p:spPr>
            <a:xfrm>
              <a:off x="0" y="237168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2" name="Rectangle 22"/>
            <p:cNvSpPr/>
            <p:nvPr/>
          </p:nvSpPr>
          <p:spPr>
            <a:xfrm>
              <a:off x="832680" y="2371680"/>
              <a:ext cx="416160" cy="6080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3" name="Rectangle 23"/>
            <p:cNvSpPr/>
            <p:nvPr/>
          </p:nvSpPr>
          <p:spPr>
            <a:xfrm>
              <a:off x="1249200" y="2371680"/>
              <a:ext cx="416160" cy="60804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64" name="Object 11"/>
              <p:cNvSpPr txBox="1"/>
              <p:nvPr/>
            </p:nvSpPr>
            <p:spPr>
              <a:xfrm>
                <a:off x="2097000" y="1763640"/>
                <a:ext cx="793800" cy="13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65" name="Группа 75"/>
          <p:cNvGrpSpPr/>
          <p:nvPr/>
        </p:nvGrpSpPr>
        <p:grpSpPr>
          <a:xfrm>
            <a:off x="0" y="3294000"/>
            <a:ext cx="1692360" cy="1349280"/>
            <a:chOff x="0" y="3294000"/>
            <a:chExt cx="1692360" cy="1349280"/>
          </a:xfrm>
        </p:grpSpPr>
        <p:sp>
          <p:nvSpPr>
            <p:cNvPr id="866" name="AutoShape 59"/>
            <p:cNvSpPr/>
            <p:nvPr/>
          </p:nvSpPr>
          <p:spPr>
            <a:xfrm>
              <a:off x="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7" name="AutoShape 60"/>
            <p:cNvSpPr/>
            <p:nvPr/>
          </p:nvSpPr>
          <p:spPr>
            <a:xfrm>
              <a:off x="56340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8" name="AutoShape 61"/>
            <p:cNvSpPr/>
            <p:nvPr/>
          </p:nvSpPr>
          <p:spPr>
            <a:xfrm>
              <a:off x="112680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9" name="AutoShape 62"/>
            <p:cNvSpPr/>
            <p:nvPr/>
          </p:nvSpPr>
          <p:spPr>
            <a:xfrm rot="10800000">
              <a:off x="28116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0" name="AutoShape 63"/>
            <p:cNvSpPr/>
            <p:nvPr/>
          </p:nvSpPr>
          <p:spPr>
            <a:xfrm rot="10800000">
              <a:off x="844920" y="396864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1" name="AutoShape 64"/>
            <p:cNvSpPr/>
            <p:nvPr/>
          </p:nvSpPr>
          <p:spPr>
            <a:xfrm>
              <a:off x="281520" y="329400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2" name="AutoShape 65"/>
            <p:cNvSpPr/>
            <p:nvPr/>
          </p:nvSpPr>
          <p:spPr>
            <a:xfrm>
              <a:off x="845280" y="329400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3" name="AutoShape 66"/>
            <p:cNvSpPr/>
            <p:nvPr/>
          </p:nvSpPr>
          <p:spPr>
            <a:xfrm rot="10800000">
              <a:off x="563040" y="3294000"/>
              <a:ext cx="565560" cy="6746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74" name="Object 12"/>
              <p:cNvSpPr txBox="1"/>
              <p:nvPr/>
            </p:nvSpPr>
            <p:spPr>
              <a:xfrm>
                <a:off x="1736640" y="3294000"/>
                <a:ext cx="76860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75" name="Группа 85"/>
          <p:cNvGrpSpPr/>
          <p:nvPr/>
        </p:nvGrpSpPr>
        <p:grpSpPr>
          <a:xfrm>
            <a:off x="3446640" y="1719000"/>
            <a:ext cx="1395360" cy="1305360"/>
            <a:chOff x="3446640" y="1719000"/>
            <a:chExt cx="1395360" cy="1305360"/>
          </a:xfrm>
        </p:grpSpPr>
        <p:sp>
          <p:nvSpPr>
            <p:cNvPr id="876" name="AutoShape 37"/>
            <p:cNvSpPr/>
            <p:nvPr/>
          </p:nvSpPr>
          <p:spPr>
            <a:xfrm>
              <a:off x="3446640" y="1719360"/>
              <a:ext cx="697680" cy="1305000"/>
            </a:xfrm>
            <a:prstGeom prst="rtTriangle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AutoShape 38"/>
            <p:cNvSpPr/>
            <p:nvPr/>
          </p:nvSpPr>
          <p:spPr>
            <a:xfrm rot="10800000">
              <a:off x="4144320" y="1719000"/>
              <a:ext cx="697680" cy="130500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AutoShape 39"/>
            <p:cNvSpPr/>
            <p:nvPr/>
          </p:nvSpPr>
          <p:spPr>
            <a:xfrm>
              <a:off x="4144320" y="1719360"/>
              <a:ext cx="697680" cy="1305000"/>
            </a:xfrm>
            <a:prstGeom prst="rtTriangle">
              <a:avLst/>
            </a:prstGeom>
            <a:solidFill>
              <a:srgbClr val="9900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AutoShape 40"/>
            <p:cNvSpPr/>
            <p:nvPr/>
          </p:nvSpPr>
          <p:spPr>
            <a:xfrm rot="10800000">
              <a:off x="3446640" y="1719000"/>
              <a:ext cx="697680" cy="1305000"/>
            </a:xfrm>
            <a:prstGeom prst="rtTriangle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0" name="Object 13"/>
              <p:cNvSpPr txBox="1"/>
              <p:nvPr/>
            </p:nvSpPr>
            <p:spPr>
              <a:xfrm>
                <a:off x="5157720" y="1628640"/>
                <a:ext cx="52884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1" name="Группа 91"/>
          <p:cNvGrpSpPr/>
          <p:nvPr/>
        </p:nvGrpSpPr>
        <p:grpSpPr>
          <a:xfrm>
            <a:off x="3131640" y="3429000"/>
            <a:ext cx="1311840" cy="1523880"/>
            <a:chOff x="3131640" y="3429000"/>
            <a:chExt cx="1311840" cy="1523880"/>
          </a:xfrm>
        </p:grpSpPr>
        <p:sp>
          <p:nvSpPr>
            <p:cNvPr id="882" name="AutoShape 67"/>
            <p:cNvSpPr/>
            <p:nvPr/>
          </p:nvSpPr>
          <p:spPr>
            <a:xfrm rot="5400000">
              <a:off x="3027240" y="3534120"/>
              <a:ext cx="1519920" cy="1309320"/>
            </a:xfrm>
            <a:prstGeom prst="flowChartCollate">
              <a:avLst/>
            </a:prstGeom>
            <a:solidFill>
              <a:srgbClr val="f25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3" name="AutoShape 68"/>
            <p:cNvSpPr/>
            <p:nvPr/>
          </p:nvSpPr>
          <p:spPr>
            <a:xfrm>
              <a:off x="3132000" y="4192920"/>
              <a:ext cx="1311480" cy="75996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AutoShape 69"/>
            <p:cNvSpPr/>
            <p:nvPr/>
          </p:nvSpPr>
          <p:spPr>
            <a:xfrm rot="10800000">
              <a:off x="3131640" y="3429720"/>
              <a:ext cx="1311480" cy="759960"/>
            </a:xfrm>
            <a:prstGeom prst="triangle">
              <a:avLst>
                <a:gd name="adj" fmla="val 50000"/>
              </a:avLst>
            </a:prstGeom>
            <a:solidFill>
              <a:srgbClr val="f2508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5" name="Object 14"/>
              <p:cNvSpPr txBox="1"/>
              <p:nvPr/>
            </p:nvSpPr>
            <p:spPr>
              <a:xfrm>
                <a:off x="4662360" y="3338640"/>
                <a:ext cx="569880" cy="18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86" name="Группа 96"/>
          <p:cNvGrpSpPr/>
          <p:nvPr/>
        </p:nvGrpSpPr>
        <p:grpSpPr>
          <a:xfrm>
            <a:off x="6102360" y="1719360"/>
            <a:ext cx="1800360" cy="1123920"/>
            <a:chOff x="6102360" y="1719360"/>
            <a:chExt cx="1800360" cy="1123920"/>
          </a:xfrm>
        </p:grpSpPr>
        <p:sp>
          <p:nvSpPr>
            <p:cNvPr id="887" name="Rectangle 43"/>
            <p:cNvSpPr/>
            <p:nvPr/>
          </p:nvSpPr>
          <p:spPr>
            <a:xfrm>
              <a:off x="6102360" y="1719360"/>
              <a:ext cx="600120" cy="1123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8" name="Rectangle 44"/>
            <p:cNvSpPr/>
            <p:nvPr/>
          </p:nvSpPr>
          <p:spPr>
            <a:xfrm>
              <a:off x="6702480" y="1719360"/>
              <a:ext cx="600120" cy="112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9" name="Rectangle 45"/>
            <p:cNvSpPr/>
            <p:nvPr/>
          </p:nvSpPr>
          <p:spPr>
            <a:xfrm>
              <a:off x="7302600" y="1719360"/>
              <a:ext cx="600120" cy="1123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0" name="Object 15"/>
              <p:cNvSpPr txBox="1"/>
              <p:nvPr/>
            </p:nvSpPr>
            <p:spPr>
              <a:xfrm>
                <a:off x="8263080" y="1538280"/>
                <a:ext cx="51264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1" name="Группа 102"/>
          <p:cNvGrpSpPr/>
          <p:nvPr/>
        </p:nvGrpSpPr>
        <p:grpSpPr>
          <a:xfrm>
            <a:off x="0" y="5184720"/>
            <a:ext cx="1915920" cy="1393920"/>
            <a:chOff x="0" y="5184720"/>
            <a:chExt cx="1915920" cy="1393920"/>
          </a:xfrm>
        </p:grpSpPr>
        <p:sp>
          <p:nvSpPr>
            <p:cNvPr id="892" name="Rectangle 15"/>
            <p:cNvSpPr/>
            <p:nvPr/>
          </p:nvSpPr>
          <p:spPr>
            <a:xfrm>
              <a:off x="957960" y="5184720"/>
              <a:ext cx="957960" cy="463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Rectangle 32"/>
            <p:cNvSpPr/>
            <p:nvPr/>
          </p:nvSpPr>
          <p:spPr>
            <a:xfrm>
              <a:off x="957960" y="5648400"/>
              <a:ext cx="957960" cy="463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Rectangle 33"/>
            <p:cNvSpPr/>
            <p:nvPr/>
          </p:nvSpPr>
          <p:spPr>
            <a:xfrm>
              <a:off x="0" y="5648400"/>
              <a:ext cx="957960" cy="463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Rectangle 34"/>
            <p:cNvSpPr/>
            <p:nvPr/>
          </p:nvSpPr>
          <p:spPr>
            <a:xfrm>
              <a:off x="0" y="6114960"/>
              <a:ext cx="957960" cy="463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Rectangle 35"/>
            <p:cNvSpPr/>
            <p:nvPr/>
          </p:nvSpPr>
          <p:spPr>
            <a:xfrm>
              <a:off x="0" y="5184720"/>
              <a:ext cx="957960" cy="46368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Rectangle 36"/>
            <p:cNvSpPr/>
            <p:nvPr/>
          </p:nvSpPr>
          <p:spPr>
            <a:xfrm>
              <a:off x="957960" y="6114960"/>
              <a:ext cx="957960" cy="4636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8" name="Object 17"/>
              <p:cNvSpPr txBox="1"/>
              <p:nvPr/>
            </p:nvSpPr>
            <p:spPr>
              <a:xfrm>
                <a:off x="2141640" y="5138640"/>
                <a:ext cx="5601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99" name="Группа 110"/>
          <p:cNvGrpSpPr/>
          <p:nvPr/>
        </p:nvGrpSpPr>
        <p:grpSpPr>
          <a:xfrm>
            <a:off x="3627360" y="5364000"/>
            <a:ext cx="1081080" cy="1244880"/>
            <a:chOff x="3627360" y="5364000"/>
            <a:chExt cx="1081080" cy="1244880"/>
          </a:xfrm>
        </p:grpSpPr>
        <p:sp>
          <p:nvSpPr>
            <p:cNvPr id="900" name="Rectangle 16"/>
            <p:cNvSpPr/>
            <p:nvPr/>
          </p:nvSpPr>
          <p:spPr>
            <a:xfrm>
              <a:off x="3627360" y="619452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1" name="Rectangle 24"/>
            <p:cNvSpPr/>
            <p:nvPr/>
          </p:nvSpPr>
          <p:spPr>
            <a:xfrm>
              <a:off x="3987720" y="536400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2" name="Rectangle 25"/>
            <p:cNvSpPr/>
            <p:nvPr/>
          </p:nvSpPr>
          <p:spPr>
            <a:xfrm>
              <a:off x="4348080" y="536400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3" name="Rectangle 26"/>
            <p:cNvSpPr/>
            <p:nvPr/>
          </p:nvSpPr>
          <p:spPr>
            <a:xfrm>
              <a:off x="3627360" y="536400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4" name="Rectangle 27"/>
            <p:cNvSpPr/>
            <p:nvPr/>
          </p:nvSpPr>
          <p:spPr>
            <a:xfrm>
              <a:off x="3627360" y="577836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5" name="Rectangle 28"/>
            <p:cNvSpPr/>
            <p:nvPr/>
          </p:nvSpPr>
          <p:spPr>
            <a:xfrm>
              <a:off x="3987720" y="577836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6" name="Rectangle 29"/>
            <p:cNvSpPr/>
            <p:nvPr/>
          </p:nvSpPr>
          <p:spPr>
            <a:xfrm>
              <a:off x="3987720" y="619452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7" name="Rectangle 30"/>
            <p:cNvSpPr/>
            <p:nvPr/>
          </p:nvSpPr>
          <p:spPr>
            <a:xfrm>
              <a:off x="4348080" y="5778360"/>
              <a:ext cx="360360" cy="414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8" name="Rectangle 31"/>
            <p:cNvSpPr/>
            <p:nvPr/>
          </p:nvSpPr>
          <p:spPr>
            <a:xfrm>
              <a:off x="4348080" y="6194520"/>
              <a:ext cx="360360" cy="414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9" name="Object 18"/>
              <p:cNvSpPr txBox="1"/>
              <p:nvPr/>
            </p:nvSpPr>
            <p:spPr>
              <a:xfrm>
                <a:off x="4932360" y="5338800"/>
                <a:ext cx="5382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0" name="Object 19"/>
              <p:cNvSpPr txBox="1"/>
              <p:nvPr/>
            </p:nvSpPr>
            <p:spPr>
              <a:xfrm>
                <a:off x="8217000" y="4419720"/>
                <a:ext cx="56988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1" name="Улыбающееся лицо 127"/>
          <p:cNvSpPr/>
          <p:nvPr/>
        </p:nvSpPr>
        <p:spPr>
          <a:xfrm>
            <a:off x="2637000" y="2033640"/>
            <a:ext cx="585720" cy="4507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Умножение 128"/>
          <p:cNvSpPr/>
          <p:nvPr/>
        </p:nvSpPr>
        <p:spPr>
          <a:xfrm>
            <a:off x="2276640" y="3699000"/>
            <a:ext cx="990360" cy="93636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Умножение 131"/>
          <p:cNvSpPr/>
          <p:nvPr/>
        </p:nvSpPr>
        <p:spPr>
          <a:xfrm>
            <a:off x="5246640" y="1989000"/>
            <a:ext cx="990720" cy="93672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Улыбающееся лицо 133"/>
          <p:cNvSpPr/>
          <p:nvPr/>
        </p:nvSpPr>
        <p:spPr>
          <a:xfrm>
            <a:off x="7542360" y="2664000"/>
            <a:ext cx="539640" cy="495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Улыбающееся лицо 134"/>
          <p:cNvSpPr/>
          <p:nvPr/>
        </p:nvSpPr>
        <p:spPr>
          <a:xfrm>
            <a:off x="2592360" y="5859360"/>
            <a:ext cx="809640" cy="540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Умножение 135"/>
          <p:cNvSpPr/>
          <p:nvPr/>
        </p:nvSpPr>
        <p:spPr>
          <a:xfrm>
            <a:off x="4751280" y="3833640"/>
            <a:ext cx="990720" cy="93672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Умножение 136"/>
          <p:cNvSpPr/>
          <p:nvPr/>
        </p:nvSpPr>
        <p:spPr>
          <a:xfrm>
            <a:off x="5111640" y="5634000"/>
            <a:ext cx="990720" cy="936720"/>
          </a:xfrm>
          <a:custGeom>
            <a:avLst/>
            <a:gdLst/>
            <a:ahLst/>
            <a:rect l="l" t="t" r="r" b="b"/>
            <a:pathLst>
              <a:path w="990600" h="936625">
                <a:moveTo>
                  <a:pt x="162243" y="304990"/>
                </a:moveTo>
                <a:lnTo>
                  <a:pt x="313592" y="144918"/>
                </a:lnTo>
                <a:lnTo>
                  <a:pt x="495300" y="316725"/>
                </a:lnTo>
                <a:lnTo>
                  <a:pt x="677008" y="144918"/>
                </a:lnTo>
                <a:lnTo>
                  <a:pt x="828357" y="304990"/>
                </a:lnTo>
                <a:lnTo>
                  <a:pt x="655623" y="468313"/>
                </a:lnTo>
                <a:lnTo>
                  <a:pt x="828357" y="631635"/>
                </a:lnTo>
                <a:lnTo>
                  <a:pt x="677008" y="791707"/>
                </a:lnTo>
                <a:lnTo>
                  <a:pt x="495300" y="619900"/>
                </a:lnTo>
                <a:lnTo>
                  <a:pt x="313592" y="791707"/>
                </a:lnTo>
                <a:lnTo>
                  <a:pt x="162243" y="631635"/>
                </a:lnTo>
                <a:lnTo>
                  <a:pt x="334977" y="468313"/>
                </a:lnTo>
                <a:lnTo>
                  <a:pt x="162243" y="30499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Улыбающееся лицо 138"/>
          <p:cNvSpPr/>
          <p:nvPr/>
        </p:nvSpPr>
        <p:spPr>
          <a:xfrm>
            <a:off x="7677000" y="3699000"/>
            <a:ext cx="540000" cy="495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0" dur="2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7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9" dur="2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25" dur="2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7" dur="2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-333360" y="-351000"/>
            <a:ext cx="47260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Был план урока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50560" y="772920"/>
            <a:ext cx="59418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вспомним 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вторим …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размышляем 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откроем новое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думаем по новому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узнаем о ново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думаем и отвечаем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находим часть от целого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ведем ито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пишем домашнее зад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юрприз от учите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1" name="Прямоугольник 3"/>
          <p:cNvSpPr/>
          <p:nvPr/>
        </p:nvSpPr>
        <p:spPr>
          <a:xfrm>
            <a:off x="4822920" y="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Подведи итог  уро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341280" y="5009400"/>
            <a:ext cx="880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Какую задачу решали на урок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Какое число нового вида мы получили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  <a:ea typeface="Times New Roman"/>
              </a:rPr>
              <a:t>Как вы думаете, что мы будем изучать на следующем уроке 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5560" y="593280"/>
            <a:ext cx="75438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Вычисли  удобным способом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920" y="1898640"/>
            <a:ext cx="48150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88 + 40 – 8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b8ff"/>
                </a:solidFill>
                <a:latin typeface="Arial"/>
              </a:rPr>
              <a:t>23</a:t>
            </a:r>
            <a:r>
              <a:rPr b="1" lang="en-US" sz="3600" spc="-1" strike="noStrike">
                <a:solidFill>
                  <a:srgbClr val="b8b8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  <a:ea typeface="Tahoma"/>
              </a:rPr>
              <a:t>16 + 16 </a:t>
            </a:r>
            <a:r>
              <a:rPr b="1" lang="en-US" sz="3600" spc="-1" strike="noStrike">
                <a:solidFill>
                  <a:srgbClr val="b8b8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  <a:ea typeface="Tahoma"/>
              </a:rPr>
              <a:t>77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79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22  -  69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984480" y="1943280"/>
            <a:ext cx="5159520" cy="35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= 88 – 8 + 40 = 1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8b8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</a:rPr>
              <a:t>= 16 </a:t>
            </a:r>
            <a:r>
              <a:rPr b="1" lang="en-US" sz="3600" spc="-1" strike="noStrike">
                <a:solidFill>
                  <a:srgbClr val="b8b8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b8b8ff"/>
                </a:solidFill>
                <a:latin typeface="Arial"/>
                <a:ea typeface="Tahoma"/>
              </a:rPr>
              <a:t>(23+77) = 16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= 22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Tahoma"/>
              </a:rPr>
              <a:t>·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Tahoma"/>
              </a:rPr>
              <a:t>(79 - 69) = 22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TextBox 6"/>
          <p:cNvSpPr/>
          <p:nvPr/>
        </p:nvSpPr>
        <p:spPr>
          <a:xfrm>
            <a:off x="6325560" y="189000"/>
            <a:ext cx="26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ahoma"/>
              </a:rPr>
              <a:t>Вспомним вмест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Прямоугольник 5"/>
          <p:cNvSpPr/>
          <p:nvPr/>
        </p:nvSpPr>
        <p:spPr>
          <a:xfrm>
            <a:off x="0" y="576900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Закончите предложение: « 120, 1600, 220 – это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57000" y="90792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Глава 4. Обыкновенные дроби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стр. 163-165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0" y="176364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. 4.1 прочитать,  понять, применить, запомнить,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Tahoma"/>
              </a:rPr>
              <a:t>Рассказать родителям об обыкновенных дробях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ть письменно  №№ 728- 729аб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TextBox 5"/>
          <p:cNvSpPr/>
          <p:nvPr/>
        </p:nvSpPr>
        <p:spPr>
          <a:xfrm>
            <a:off x="3966120" y="458640"/>
            <a:ext cx="33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ahoma"/>
              </a:rPr>
              <a:t>Домашнее зад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-360" y="637920"/>
            <a:ext cx="8937720" cy="10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Вкусное д</a:t>
            </a:r>
            <a:r>
              <a:rPr b="0" lang="ru-RU" sz="2400" spc="-1" strike="noStrike">
                <a:solidFill>
                  <a:srgbClr val="c00000"/>
                </a:solidFill>
                <a:latin typeface="Georgia"/>
              </a:rPr>
              <a:t>омашнее</a:t>
            </a: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 задание, которое выполни обязательно на этой недели и озвучь свой результат.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0" y="187488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1) Купи мандарин или апельсин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Раздели его на дольки, посчитай, сколько   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всего долек? Угости своих родных и не   забудь записать, какую  часть фрукта получил каждый, и какая часть досталась теб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2) Купи большую шоколадку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Раздели её на дольки, посчитай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сколько  всего долек?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    </a:t>
            </a:r>
            <a:r>
              <a:rPr b="1" lang="ru-RU" sz="2700" spc="-1" strike="noStrike">
                <a:solidFill>
                  <a:srgbClr val="ffff99"/>
                </a:solidFill>
                <a:latin typeface="Bookman Old Style"/>
              </a:rPr>
              <a:t>Угости своих родных и не забудь   записать, какую  часть шоколадки получил каждый, и какая часть досталась теб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8" name="Picture 2" descr="C:\Documents and Settings\Admin\Мои документы\Мои рисунки\41831-w.jpg"/>
          <p:cNvPicPr/>
          <p:nvPr/>
        </p:nvPicPr>
        <p:blipFill>
          <a:blip r:embed="rId1"/>
          <a:stretch/>
        </p:blipFill>
        <p:spPr>
          <a:xfrm>
            <a:off x="7000920" y="3924360"/>
            <a:ext cx="2143080" cy="1285920"/>
          </a:xfrm>
          <a:prstGeom prst="rect">
            <a:avLst/>
          </a:prstGeom>
          <a:ln w="0">
            <a:noFill/>
          </a:ln>
        </p:spPr>
      </p:pic>
      <p:sp>
        <p:nvSpPr>
          <p:cNvPr id="929" name="Нижний колонтитул 8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Прямоугольник 9"/>
          <p:cNvSpPr/>
          <p:nvPr/>
        </p:nvSpPr>
        <p:spPr>
          <a:xfrm>
            <a:off x="5640120" y="279360"/>
            <a:ext cx="37285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юрприз от учите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1" name="Улыбающееся лицо 11"/>
          <p:cNvSpPr/>
          <p:nvPr/>
        </p:nvSpPr>
        <p:spPr>
          <a:xfrm>
            <a:off x="5292720" y="0"/>
            <a:ext cx="853920" cy="66672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9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5" dur="2000"/>
                                        <p:tgtEl>
                                          <p:spTgt spid="9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0" dur="2000"/>
                                        <p:tgtEl>
                                          <p:spTgt spid="9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9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0" dur="2000"/>
                                        <p:tgtEl>
                                          <p:spTgt spid="9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99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Из истории дроб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96640" y="1981080"/>
            <a:ext cx="831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и появились в глубокой древности. При разделе добычи, при измерениях величин, да и в других похожих случаях, люди встретились с необходимостью ввести дроб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оби были нужны, чтобы выразить результат измерения длины, массы в случаях, когда единица измерения не укладывалась в измеряемой величине целое число раз. Тогда вводили новую, меньшую единицу измерения. Название этих новых единиц измерения и стали первыми названиями дроб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4" name="Прямоугольник 3"/>
          <p:cNvSpPr/>
          <p:nvPr/>
        </p:nvSpPr>
        <p:spPr>
          <a:xfrm>
            <a:off x="3353400" y="233280"/>
            <a:ext cx="5866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очитай  на перемене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1048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Реши задачу, в которой примени свое знание о  дробях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675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В коробке лежат 18 мяче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дна вторая часть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- </a:t>
            </a:r>
            <a:r>
              <a:rPr b="1" lang="ru-RU" sz="3600" spc="-1" strike="noStrike">
                <a:solidFill>
                  <a:srgbClr val="fca6b8"/>
                </a:solidFill>
                <a:latin typeface="Tahoma"/>
              </a:rPr>
              <a:t>красные </a:t>
            </a: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мячи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,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дна третья часть- 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желтые, 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а остальные </a:t>
            </a:r>
            <a:r>
              <a:rPr b="1" lang="ru-RU" sz="3600" spc="-1" strike="noStrike">
                <a:solidFill>
                  <a:srgbClr val="adadff"/>
                </a:solidFill>
                <a:latin typeface="Tahoma"/>
              </a:rPr>
              <a:t>синии</a:t>
            </a: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Tahoma"/>
              </a:rPr>
              <a:t>Сколько синих мячей в коробке</a:t>
            </a:r>
            <a:r>
              <a:rPr b="1" lang="en-US" sz="3600" spc="-1" strike="noStrike">
                <a:solidFill>
                  <a:srgbClr val="ffc000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7" name="TextBox 3"/>
          <p:cNvSpPr/>
          <p:nvPr/>
        </p:nvSpPr>
        <p:spPr>
          <a:xfrm>
            <a:off x="4996080" y="6488280"/>
            <a:ext cx="38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ополнительное устное зада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8" name="Picture 2" descr=""/>
          <p:cNvPicPr/>
          <p:nvPr/>
        </p:nvPicPr>
        <p:blipFill>
          <a:blip r:embed="rId1"/>
          <a:stretch/>
        </p:blipFill>
        <p:spPr>
          <a:xfrm>
            <a:off x="6081840" y="2438280"/>
            <a:ext cx="3062160" cy="8557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3" descr=""/>
          <p:cNvPicPr/>
          <p:nvPr/>
        </p:nvPicPr>
        <p:blipFill>
          <a:blip r:embed="rId2"/>
          <a:stretch/>
        </p:blipFill>
        <p:spPr>
          <a:xfrm>
            <a:off x="6058080" y="1089000"/>
            <a:ext cx="1541160" cy="1440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4" descr=""/>
          <p:cNvPicPr/>
          <p:nvPr/>
        </p:nvPicPr>
        <p:blipFill>
          <a:blip r:embed="rId3"/>
          <a:stretch/>
        </p:blipFill>
        <p:spPr>
          <a:xfrm>
            <a:off x="7477200" y="1089000"/>
            <a:ext cx="1666800" cy="1619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26640" y="-30672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Arial"/>
              </a:rPr>
              <a:t>Будет план урока №2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41280" y="863280"/>
            <a:ext cx="8802720" cy="59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читае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маем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сстановим и ответим…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верим д/з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умаем вместе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удем рассуждаем смело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ойдем тренировку визуально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пишем Д\З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ведем  итог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593280"/>
            <a:ext cx="9144000" cy="20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ыполни  действие письменно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в своей тетради, выразив значение числового выражения 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через</a:t>
            </a:r>
            <a:r>
              <a:rPr b="1" lang="ru-RU" sz="3200" spc="-1" strike="noStrike">
                <a:solidFill>
                  <a:srgbClr val="eaeaea"/>
                </a:solidFill>
                <a:latin typeface="Tahoma"/>
              </a:rPr>
              <a:t> неполное частное и остаток: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96640" y="2889000"/>
            <a:ext cx="3700440" cy="28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75 : 9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</a:rPr>
              <a:t>48 : 17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75 : 18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493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941280" y="2754360"/>
            <a:ext cx="5202360" cy="30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Tahoma"/>
              </a:rPr>
              <a:t>= 8(ост 3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= 2 (ост 14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b8ff"/>
                </a:solidFill>
                <a:latin typeface="Arial"/>
                <a:ea typeface="Tahoma"/>
              </a:rPr>
              <a:t>= 4 (ост 3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TextBox 7"/>
          <p:cNvSpPr/>
          <p:nvPr/>
        </p:nvSpPr>
        <p:spPr>
          <a:xfrm>
            <a:off x="6644520" y="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Tahoma"/>
              </a:rPr>
              <a:t>Повторим вместе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6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6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2303640"/>
            <a:ext cx="9144000" cy="18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Реши задачу устно.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боснуй свой способ решения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 на 2 равные части.  </a:t>
            </a:r>
            <a:br>
              <a:rPr sz="2800"/>
            </a:b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b8b8ff"/>
                </a:solidFill>
                <a:latin typeface="Arial"/>
              </a:rPr>
              <a:t>Какова длина одной части? </a:t>
            </a:r>
            <a:br>
              <a:rPr sz="3200"/>
            </a:br>
            <a:r>
              <a:rPr b="1" lang="ru-RU" sz="3200" spc="-1" strike="noStrike">
                <a:solidFill>
                  <a:srgbClr val="b8b8ff"/>
                </a:solidFill>
                <a:latin typeface="Arial"/>
              </a:rPr>
              <a:t>Вырази длину этой части проволоки в дециметрах. 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58" name="Прямоугольник 9"/>
          <p:cNvSpPr/>
          <p:nvPr/>
        </p:nvSpPr>
        <p:spPr>
          <a:xfrm>
            <a:off x="4694040" y="414360"/>
            <a:ext cx="46411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оразмышляем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  вместе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0" y="593280"/>
            <a:ext cx="9144000" cy="185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 на 2 равные части.   </a:t>
            </a:r>
            <a:r>
              <a:rPr b="1" lang="ru-RU" sz="2400" spc="-1" strike="noStrike">
                <a:solidFill>
                  <a:srgbClr val="b8b8ff"/>
                </a:solidFill>
                <a:latin typeface="Arial"/>
              </a:rPr>
              <a:t>Какова длина одной части? </a:t>
            </a:r>
            <a:br>
              <a:rPr sz="2400"/>
            </a:br>
            <a:r>
              <a:rPr b="1" lang="ru-RU" sz="2400" spc="-1" strike="noStrike">
                <a:solidFill>
                  <a:srgbClr val="b8b8ff"/>
                </a:solidFill>
                <a:latin typeface="Arial"/>
              </a:rPr>
              <a:t>Вырази длину этой части проволоки в дециметрах. </a:t>
            </a:r>
            <a:br>
              <a:rPr sz="2400"/>
            </a:b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201456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 = 10 дм,  тогда    10 : 2 = 5 (дм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  5 дм длина одной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1" name="Group 7"/>
          <p:cNvGrpSpPr/>
          <p:nvPr/>
        </p:nvGrpSpPr>
        <p:grpSpPr>
          <a:xfrm>
            <a:off x="927000" y="2168640"/>
            <a:ext cx="4968720" cy="503280"/>
            <a:chOff x="927000" y="2168640"/>
            <a:chExt cx="4968720" cy="503280"/>
          </a:xfrm>
        </p:grpSpPr>
        <p:sp>
          <p:nvSpPr>
            <p:cNvPr id="662" name="Line 4"/>
            <p:cNvSpPr/>
            <p:nvPr/>
          </p:nvSpPr>
          <p:spPr>
            <a:xfrm>
              <a:off x="927000" y="2455920"/>
              <a:ext cx="496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3" name="Line 6"/>
            <p:cNvSpPr/>
            <p:nvPr/>
          </p:nvSpPr>
          <p:spPr>
            <a:xfrm>
              <a:off x="3375000" y="2168640"/>
              <a:ext cx="0" cy="503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64" name="AutoShape 8"/>
          <p:cNvSpPr/>
          <p:nvPr/>
        </p:nvSpPr>
        <p:spPr>
          <a:xfrm rot="16200000">
            <a:off x="3384000" y="584640"/>
            <a:ext cx="215640" cy="5040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01"/>
                </a:lnTo>
                <a:cubicBezTo>
                  <a:pt x="10800" y="9701"/>
                  <a:pt x="5400" y="10601"/>
                  <a:pt x="0" y="10601"/>
                </a:cubicBezTo>
                <a:cubicBezTo>
                  <a:pt x="5400" y="10601"/>
                  <a:pt x="10800" y="11501"/>
                  <a:pt x="10800" y="1240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5" name="Прямоугольник 9"/>
          <p:cNvSpPr/>
          <p:nvPr/>
        </p:nvSpPr>
        <p:spPr>
          <a:xfrm>
            <a:off x="5472000" y="0"/>
            <a:ext cx="44355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оразмышляем  вместе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0560" y="458640"/>
            <a:ext cx="8219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97000" y="194292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68" name="Группа 12"/>
          <p:cNvGrpSpPr/>
          <p:nvPr/>
        </p:nvGrpSpPr>
        <p:grpSpPr>
          <a:xfrm>
            <a:off x="297000" y="2394000"/>
            <a:ext cx="6840360" cy="1260000"/>
            <a:chOff x="297000" y="2394000"/>
            <a:chExt cx="6840360" cy="1260000"/>
          </a:xfrm>
        </p:grpSpPr>
        <p:sp>
          <p:nvSpPr>
            <p:cNvPr id="669" name="Line 5"/>
            <p:cNvSpPr/>
            <p:nvPr/>
          </p:nvSpPr>
          <p:spPr>
            <a:xfrm>
              <a:off x="297000" y="3017160"/>
              <a:ext cx="6840360" cy="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0" name="Line 6"/>
            <p:cNvSpPr/>
            <p:nvPr/>
          </p:nvSpPr>
          <p:spPr>
            <a:xfrm>
              <a:off x="257616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1" name="AutoShape 7"/>
            <p:cNvSpPr/>
            <p:nvPr/>
          </p:nvSpPr>
          <p:spPr>
            <a:xfrm rot="16200000">
              <a:off x="3655080" y="171720"/>
              <a:ext cx="124200" cy="6840360"/>
            </a:xfrm>
            <a:custGeom>
              <a:avLst/>
              <a:gdLst>
                <a:gd name="textAreaLeft" fmla="*/ 79560 w 124200"/>
                <a:gd name="textAreaRight" fmla="*/ 124560 w 124200"/>
                <a:gd name="textAreaTop" fmla="*/ 178200 h 6840360"/>
                <a:gd name="textAreaBottom" fmla="*/ 6662160 h 68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2" name="Line 9"/>
            <p:cNvSpPr/>
            <p:nvPr/>
          </p:nvSpPr>
          <p:spPr>
            <a:xfrm>
              <a:off x="485568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3" name="AutoShape 11"/>
            <p:cNvSpPr/>
            <p:nvPr/>
          </p:nvSpPr>
          <p:spPr>
            <a:xfrm rot="5400000">
              <a:off x="1409760" y="1280880"/>
              <a:ext cx="55800" cy="2281680"/>
            </a:xfrm>
            <a:custGeom>
              <a:avLst/>
              <a:gdLst>
                <a:gd name="textAreaLeft" fmla="*/ 35640 w 55800"/>
                <a:gd name="textAreaRight" fmla="*/ 56160 w 55800"/>
                <a:gd name="textAreaTop" fmla="*/ 59400 h 2281680"/>
                <a:gd name="textAreaBottom" fmla="*/ 2222280 h 22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74" name="Rectangle 3"/>
          <p:cNvSpPr/>
          <p:nvPr/>
        </p:nvSpPr>
        <p:spPr>
          <a:xfrm>
            <a:off x="431640" y="2311560"/>
            <a:ext cx="822960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Прямоугольник 14"/>
          <p:cNvSpPr/>
          <p:nvPr/>
        </p:nvSpPr>
        <p:spPr>
          <a:xfrm>
            <a:off x="5146920" y="233280"/>
            <a:ext cx="421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оразмышляй в паре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Line 6"/>
          <p:cNvSpPr/>
          <p:nvPr/>
        </p:nvSpPr>
        <p:spPr>
          <a:xfrm>
            <a:off x="297000" y="266400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7093080" y="261936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TextBox 13"/>
          <p:cNvSpPr/>
          <p:nvPr/>
        </p:nvSpPr>
        <p:spPr>
          <a:xfrm>
            <a:off x="624600" y="5229360"/>
            <a:ext cx="60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судите решение в своей   п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560" y="458640"/>
            <a:ext cx="8219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1" lang="en-US" sz="3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297000" y="1942920"/>
            <a:ext cx="82296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81" name="Группа 12"/>
          <p:cNvGrpSpPr/>
          <p:nvPr/>
        </p:nvGrpSpPr>
        <p:grpSpPr>
          <a:xfrm>
            <a:off x="297000" y="2394000"/>
            <a:ext cx="6840360" cy="1260000"/>
            <a:chOff x="297000" y="2394000"/>
            <a:chExt cx="6840360" cy="1260000"/>
          </a:xfrm>
        </p:grpSpPr>
        <p:sp>
          <p:nvSpPr>
            <p:cNvPr id="682" name="Line 5"/>
            <p:cNvSpPr/>
            <p:nvPr/>
          </p:nvSpPr>
          <p:spPr>
            <a:xfrm>
              <a:off x="297000" y="3017160"/>
              <a:ext cx="6840360" cy="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3" name="Line 6"/>
            <p:cNvSpPr/>
            <p:nvPr/>
          </p:nvSpPr>
          <p:spPr>
            <a:xfrm>
              <a:off x="257616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4" name="AutoShape 7"/>
            <p:cNvSpPr/>
            <p:nvPr/>
          </p:nvSpPr>
          <p:spPr>
            <a:xfrm rot="16200000">
              <a:off x="3655080" y="171720"/>
              <a:ext cx="124200" cy="6840360"/>
            </a:xfrm>
            <a:custGeom>
              <a:avLst/>
              <a:gdLst>
                <a:gd name="textAreaLeft" fmla="*/ 79560 w 124200"/>
                <a:gd name="textAreaRight" fmla="*/ 124560 w 124200"/>
                <a:gd name="textAreaTop" fmla="*/ 178200 h 6840360"/>
                <a:gd name="textAreaBottom" fmla="*/ 6662160 h 684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5" name="Line 9"/>
            <p:cNvSpPr/>
            <p:nvPr/>
          </p:nvSpPr>
          <p:spPr>
            <a:xfrm>
              <a:off x="4855680" y="2564280"/>
              <a:ext cx="0" cy="725400"/>
            </a:xfrm>
            <a:prstGeom prst="line">
              <a:avLst/>
            </a:prstGeom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6" name="AutoShape 11"/>
            <p:cNvSpPr/>
            <p:nvPr/>
          </p:nvSpPr>
          <p:spPr>
            <a:xfrm rot="5400000">
              <a:off x="1409760" y="1280880"/>
              <a:ext cx="55800" cy="2281680"/>
            </a:xfrm>
            <a:custGeom>
              <a:avLst/>
              <a:gdLst>
                <a:gd name="textAreaLeft" fmla="*/ 35640 w 55800"/>
                <a:gd name="textAreaRight" fmla="*/ 56160 w 55800"/>
                <a:gd name="textAreaTop" fmla="*/ 59400 h 2281680"/>
                <a:gd name="textAreaBottom" fmla="*/ 2222280 h 228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87" name="Rectangle 3"/>
          <p:cNvSpPr/>
          <p:nvPr/>
        </p:nvSpPr>
        <p:spPr>
          <a:xfrm>
            <a:off x="431640" y="2311560"/>
            <a:ext cx="8229600" cy="45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м = 10 дм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  :  3 = 3 (ост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м = 100 см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00  : 3 = 33 (ост1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м = 1000 мм      1000 : 3 = 333 (ост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Прямоугольник 14"/>
          <p:cNvSpPr/>
          <p:nvPr/>
        </p:nvSpPr>
        <p:spPr>
          <a:xfrm>
            <a:off x="3480120" y="189000"/>
            <a:ext cx="4563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Поразмышляем   вместе 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Line 6"/>
          <p:cNvSpPr/>
          <p:nvPr/>
        </p:nvSpPr>
        <p:spPr>
          <a:xfrm>
            <a:off x="341280" y="270828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7182000" y="2708280"/>
            <a:ext cx="0" cy="725400"/>
          </a:xfrm>
          <a:prstGeom prst="line">
            <a:avLst/>
          </a:prstGeom>
          <a:ln w="63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22360" y="458640"/>
            <a:ext cx="79992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аким  числом  записать результат   вычисления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341280" y="2079720"/>
            <a:ext cx="822024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усок проволоки длиной 1 м разрезали на 3 равные части. </a:t>
            </a:r>
            <a:br>
              <a:rPr sz="3000"/>
            </a:br>
            <a:r>
              <a:rPr b="1" lang="ru-RU" sz="3000" spc="-1" strike="noStrike">
                <a:solidFill>
                  <a:srgbClr val="eaeaea"/>
                </a:solidFill>
                <a:latin typeface="Arial"/>
              </a:rPr>
              <a:t>Какова длина одной части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93" name="Группа 5"/>
          <p:cNvGrpSpPr/>
          <p:nvPr/>
        </p:nvGrpSpPr>
        <p:grpSpPr>
          <a:xfrm>
            <a:off x="3086280" y="3654360"/>
            <a:ext cx="4321080" cy="998280"/>
            <a:chOff x="3086280" y="3654360"/>
            <a:chExt cx="4321080" cy="998280"/>
          </a:xfrm>
        </p:grpSpPr>
        <p:sp>
          <p:nvSpPr>
            <p:cNvPr id="694" name="Line 5"/>
            <p:cNvSpPr/>
            <p:nvPr/>
          </p:nvSpPr>
          <p:spPr>
            <a:xfrm>
              <a:off x="3086280" y="4148280"/>
              <a:ext cx="43210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5" name="Line 6"/>
            <p:cNvSpPr/>
            <p:nvPr/>
          </p:nvSpPr>
          <p:spPr>
            <a:xfrm>
              <a:off x="4525920" y="3789000"/>
              <a:ext cx="0" cy="574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6" name="AutoShape 7"/>
            <p:cNvSpPr/>
            <p:nvPr/>
          </p:nvSpPr>
          <p:spPr>
            <a:xfrm rot="16200000">
              <a:off x="5197680" y="2442960"/>
              <a:ext cx="98280" cy="4321080"/>
            </a:xfrm>
            <a:custGeom>
              <a:avLst/>
              <a:gdLst>
                <a:gd name="textAreaLeft" fmla="*/ 63000 w 98280"/>
                <a:gd name="textAreaRight" fmla="*/ 98640 w 98280"/>
                <a:gd name="textAreaTop" fmla="*/ 112680 h 4321080"/>
                <a:gd name="textAreaBottom" fmla="*/ 4208400 h 432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801"/>
                  </a:lnTo>
                  <a:cubicBezTo>
                    <a:pt x="10800" y="9701"/>
                    <a:pt x="5400" y="10601"/>
                    <a:pt x="0" y="10601"/>
                  </a:cubicBezTo>
                  <a:cubicBezTo>
                    <a:pt x="5400" y="10601"/>
                    <a:pt x="10800" y="11501"/>
                    <a:pt x="10800" y="1240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7" name="Line 9"/>
            <p:cNvSpPr/>
            <p:nvPr/>
          </p:nvSpPr>
          <p:spPr>
            <a:xfrm>
              <a:off x="5965920" y="3789000"/>
              <a:ext cx="0" cy="574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8" name="AutoShape 11"/>
            <p:cNvSpPr/>
            <p:nvPr/>
          </p:nvSpPr>
          <p:spPr>
            <a:xfrm rot="5400000">
              <a:off x="3784680" y="2955600"/>
              <a:ext cx="44280" cy="1441440"/>
            </a:xfrm>
            <a:custGeom>
              <a:avLst/>
              <a:gdLst>
                <a:gd name="textAreaLeft" fmla="*/ 28440 w 44280"/>
                <a:gd name="textAreaRight" fmla="*/ 44640 w 44280"/>
                <a:gd name="textAreaTop" fmla="*/ 37440 h 1441440"/>
                <a:gd name="textAreaBottom" fmla="*/ 140400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56"/>
                  </a:lnTo>
                  <a:cubicBezTo>
                    <a:pt x="10800" y="10256"/>
                    <a:pt x="5400" y="11156"/>
                    <a:pt x="0" y="11156"/>
                  </a:cubicBezTo>
                  <a:cubicBezTo>
                    <a:pt x="5400" y="11156"/>
                    <a:pt x="10800" y="12056"/>
                    <a:pt x="10800" y="1295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699" name="Прямоугольник 11"/>
          <p:cNvSpPr/>
          <p:nvPr/>
        </p:nvSpPr>
        <p:spPr>
          <a:xfrm>
            <a:off x="4894200" y="189000"/>
            <a:ext cx="416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открой   новое  число 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Прямоугольник 12"/>
          <p:cNvSpPr/>
          <p:nvPr/>
        </p:nvSpPr>
        <p:spPr>
          <a:xfrm>
            <a:off x="1062000" y="513864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1м  :   3 =  </a:t>
            </a:r>
            <a:r>
              <a:rPr b="0" lang="ru-RU" sz="60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(м)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3T19:13:12Z</dcterms:created>
  <dc:creator>Kostik</dc:creator>
  <dc:description/>
  <dc:language>en-US</dc:language>
  <cp:lastModifiedBy>Леонид</cp:lastModifiedBy>
  <dcterms:modified xsi:type="dcterms:W3CDTF">2017-01-03T17:08:23Z</dcterms:modified>
  <cp:revision>147</cp:revision>
  <dc:subject/>
  <dc:title>Обыкновенные дроб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Карагузина НВ">
    <vt:lpwstr>понятие дроби</vt:lpwstr>
  </property>
</Properties>
</file>