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72A1-AF3A-478C-BC2E-678046D2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1FA-AB70-4C01-B20A-245CC8FE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5FDA3-510E-462E-86C1-D0B21222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4225D-22CB-4D7A-BAC5-BEDD7D4C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6B518-CF77-419C-B2B2-CEAB8395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9D1E3-7DD8-4ECD-8F34-1D81FCF1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475C0-56E8-45F0-A4BF-43ACE150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F265D-7830-4C79-A096-6C52A809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26EA6-70A1-41E9-8C1A-30FBB02D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222B7-C9AE-46E7-8241-55EAD392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EEF2F-B2A1-40D4-82B3-A077D627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6F40A-D784-4E03-9AE3-A7575BA7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75F-B99F-4C97-A86C-368DE496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46304-9C81-4EC4-997A-6B8489C6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234ED-F19E-49B6-B150-327F672E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A7380-9729-48E2-8A8C-BFCE3505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D2732-A438-42D2-94FB-4F68FE52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702F8-D65E-43C1-8EFE-FBB85C06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9E1D9-C31F-49D2-BAF5-260210CF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B19EB-8B3C-4469-BE24-F934888C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BD431-199C-4322-8417-121A1108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63891-58D8-49E4-BD10-4789F4A7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5999E-085D-4986-826D-88AFD542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C573-44F5-45E7-BA55-D16A88A0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1DED0-FFC3-46F2-931C-A8F63F16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455DE-2002-4028-969D-C7F0B95B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F426E-E131-477D-862E-E8DF0043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4347A-12F8-4E1A-979D-F80B5A56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B54D1-3EEC-440F-BD4B-7EBA3529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2A5DE-F519-492D-97CD-509C077A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9B001-855B-419A-8380-1CF3E914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010A6-B2FD-4A77-99C2-E349E330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7BD73-0468-4914-98A1-0E7433CF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054B8-1294-4D3C-B44F-B67D27D5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1EA5-2214-4639-A29A-08D629E2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F8B00-6D23-4D7A-8CF4-E86C2DFF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6932E-9190-4776-AD90-4A07A59D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5C07E-C8BA-4FD1-8ADF-36B1680B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8662E-C3BC-4F41-9F83-84F557F9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FD9FA-6D4E-4492-A5E5-074A82E4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42CCF-1C4C-4359-BD9B-9887F92D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40B5F-40A1-4D73-A9D4-87FA3CDE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C7ED6-F5D1-4DD6-AAA9-736A8B22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6E494-8CE4-4C32-B6FB-D155B0A1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9FF15-E0C7-47A5-9A6E-404AE099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478E-A152-464C-BD55-D3B9EADA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F6C35-7F67-4408-BB38-277E8509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DA9BF-1231-43A1-AFD1-CBDCCD56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0D2CD-1FEF-4C48-95D4-0016C3D6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B24CF-CDD0-45FE-B5E4-0A5D086E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81226-C537-48D2-BAF4-81FDF13E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016AA-4D51-416E-911A-EDB8E287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84024-8162-4E77-A2B6-764E16D9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1C7B1-FB1C-4E66-AF9B-C18EE3ED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735C0-FAA9-46FC-84D0-813C6373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5C0C9-FB08-4C34-B9B0-2E039781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8138-AD05-4C40-B3AF-A8FB2218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44EAB-0619-485E-A1BE-683F2A9F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F7DE5-24A1-4B29-B176-F1516514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1D206-F141-4CDE-AED5-3FEC19E9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97DB4-408F-42E1-8E52-C7124C0C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BFE6E-BA7A-4CFF-B4D7-F1F0E263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3D9C8-E601-413B-BFC1-A7229BA0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1C65E-B57E-4369-AC83-7D0D99AC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C596C1-D515-48CF-B7FB-ECBF2FD3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EE3D7-1F8C-4CB6-8361-38D3D98B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FCAEA-B173-489F-8D57-D1DE1E27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5416-3D45-4B01-9C1A-6A7E2C51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A29FCA-5375-45FB-BC43-B7B89F2D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E04E0-3CBB-4AA8-8A15-0A44BB98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9E5D59-017B-40CB-A272-1EFEE975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5C1877-FB62-4080-8E50-43653668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6F3F33-C65D-494B-A462-CEC08C3F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5DF921-8138-45C4-839E-76309FD4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0CBDE-0A34-4824-9A3A-014F9A77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8111D2-9C83-4819-92E3-C02D2F73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6936A9-A3A3-44DF-A3C7-A23C169E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0F6B70-C2AE-46CC-82AB-37D592F2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DADF-83C0-4350-A2A3-C681FEFD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4403F5-EC97-4D88-966B-12DCED85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578995-08FD-4C4A-9676-461753D4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B329C4-B49E-4A84-8021-BC553EF4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DC1F52-8E9F-4E10-9E06-670CDF22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6F5BD-DF9B-4F03-9109-DE385D6F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591C7-F36E-434E-AE84-B53B140B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330582-FD0D-4AA2-99F4-107C714E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914E88-7B32-442C-AF00-2D2C6C82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5FFF2A-1294-4C4A-A24B-DF5D5DCE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6C3978-6652-4DE2-AF55-D41474D9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CA2F-69B2-4091-A3D3-FC36F96F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198842-B241-4B54-A059-065D7814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816C-47EC-4F7F-9436-05496DF6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ED00-C249-45BD-ADBD-6C8B9CCE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FBC6-00EA-4640-8858-BA9F3001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9770-5913-43FE-873B-8BFB516D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49CA-E6A5-4414-A925-6C8A82AA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2CEA-5672-40FD-9902-4F9E786B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E8EB-1A4E-41DF-AE1A-8E648210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E23B6-377E-40F6-81A0-02386053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2C117-7334-4BCC-94CA-699854BB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8C95A-A47C-4EC5-A9A5-A74D7151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628B7-D165-4353-AA79-5075FF2C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75E0E-CEEE-4CA5-8DE3-2E666F69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C15C-5EFA-4130-80B2-5A96D0F5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10F94-33B7-461C-845E-8CD83D5C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857CC-01A7-4B73-AC90-F8FDB31E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4044E-5370-443E-9CF7-E01CF7A0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80446-D84F-4034-B098-22E52F98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AB07D-CD12-454F-882E-A58E9EF9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D5772-4751-4344-8DF2-E40F41F2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3231B-0364-45B9-AE43-7E9BD1B9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EAADD-45CC-4F82-86AF-742280B6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CA643-865E-41B4-B80F-8F3A9F91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B2B09-BD74-4A4D-829D-EEC3EC43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1DE-C03C-417A-BAE8-68559E58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8B020-9BB7-4BE5-A4D8-0F344C58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96C5C-0589-49BB-8ADC-C09BD95B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FE079-96A2-4BD6-B235-B9C90E1D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12400-F104-438E-84CC-591C2B0B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0BEC3-4CB2-405A-B21F-65430D7F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5A9EE-135E-43B7-AF68-C04F9BA5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F2CBD-D7B7-41B7-927C-B2F2D421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75C63-49E3-41EE-9483-72461E1B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0E0E3-BEF7-47EB-8F53-61E1A185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46387-9A76-45F9-9BA3-72A1476F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59E-AF9C-41ED-921A-83905601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7D209-52C9-42D5-AFD1-6921D8D4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F7742-7135-4161-8633-D439AEF3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289EA-076B-41A7-8736-4D851E6B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33788-CDCF-49A4-B2A8-8E110415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A0EFB-B3AE-404E-B266-AC02DE49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4E398-F259-4CE0-BC6B-604DA482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C4D9E-F96B-4F0C-B11F-62A45421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2BB97-2007-471F-945A-16A1790E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4291B-701A-442C-884D-400F7C2E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7FD35-E1FE-4560-A4C9-A291D65F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0A1F-0FC5-455C-9323-58C95AC1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F5D08-D76D-45DD-9EB8-8F994953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6D010-9764-42F7-9586-82949BF3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A89C2-A5E7-421E-AE0B-1E3372FE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15FC9-3640-413E-B0C1-38BC924D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CA327-5FDB-4194-9B2F-7C827382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CE93F-95A6-41DF-B208-250DED76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A3076-2BC5-4D67-B3C3-59D7EBEC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585C4-0225-4553-8CF6-B705B039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F171C-52F2-4CFF-8BD8-E4A4474B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E6332-33AF-43BD-899E-B8889900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7EC-7756-44BC-8C5E-DE43A5FE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8D10D-5202-4A50-A768-412A38F5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D9C86-72AB-4E4B-A80F-91A93326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EC69B-6F27-493F-9FE7-A204F750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84656-FE6A-4F5B-89D2-75F43EC9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CBD3C-96FB-45E9-BBBE-74ED8828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6D572-1CD6-4938-828D-F7C5FE90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E36EA-3B51-4FE2-9572-46D6FEEC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B3152-64AC-438E-A677-2D9EA0A7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E52E0-232B-4FF3-BFB1-E8CBB995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30FCA-2B80-4B52-A4FA-A8079F6D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E0D-C48B-4B7A-BCAC-CCA473A7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60BC9-AE61-4D68-9FEC-7B41D203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85349-A5C0-44B6-AAB1-6A70E68E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666D2-469B-4CBF-AB53-F3C68E13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AB404-4EAA-407F-A446-25238871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7CB4D-E13E-4168-B485-B38B3C03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D9E6F-0ECA-4517-89C8-EA555FE2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42E31-3BB3-484D-AA83-04A28A56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725D0-3696-4A06-B7BD-25710B6C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E6777-11EB-48B5-A57F-81123773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8A99F-E380-4AB4-B039-A8B298C2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CC48-D9EF-4E52-A4F7-8FFB8151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E9326-C3AB-452A-8A57-343826E5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11C50-C3E6-4E00-83B4-76CC4228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77B7E-CDBC-438A-9919-AEC820D3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F0D4A-18DD-4925-AFDE-578C531D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80DFA-6A85-482A-A06A-4F3D39F5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0B718-82DA-407C-8966-EE7556B8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5D137-7652-435D-A2EA-7A947E67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E3DA6-7BBF-40BB-8790-C792DE72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30076-CE07-4DE2-BB16-04C7131B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8E46E-68FD-49F0-80ED-DC2E0660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ABA8-E703-4FAF-AF0F-BE4E9B0477A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4287-B6FE-48BD-9BA9-9B1796F548F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3D8F-AADC-4D27-9410-DFB032A1BF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0973-BCBF-475E-8690-3D604C9CE97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26F7-E2E4-429C-97E3-700967E2564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86B5-9CE1-4C63-B513-F95B0DC6F96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812E-3A47-4301-9B79-750FAC7D476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D542-629E-44F4-9D7A-DB6FC28BB0E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8B89-2AEA-466F-9014-D365F615BFB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C0A9-0B2B-43D3-9968-16588539434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A196-2DDF-47E2-B4B6-E8FC7C31073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7EA0-909D-4811-8CD5-BC97658347D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E893-2CD6-46BC-A6B6-E91E877A473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EB14-8D2A-4354-9DDD-53B726EB2FF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7279-37D9-43F9-84FB-952C6F73E8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50920" y="1403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4.1.      Понятие  дроб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385920" y="3249720"/>
            <a:ext cx="7796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750a"/>
                </a:solidFill>
                <a:latin typeface="Tahoma"/>
              </a:rPr>
              <a:t>Дробь как результат деления </a:t>
            </a:r>
            <a:r>
              <a:rPr b="1" lang="ru-RU" sz="4000" spc="-1" strike="noStrike">
                <a:solidFill>
                  <a:srgbClr val="05750a"/>
                </a:solidFill>
                <a:latin typeface="Arial"/>
              </a:rPr>
              <a:t>натуральных</a:t>
            </a:r>
            <a:r>
              <a:rPr b="1" lang="ru-RU" sz="4000" spc="-1" strike="noStrike">
                <a:solidFill>
                  <a:srgbClr val="05750a"/>
                </a:solidFill>
                <a:latin typeface="Tahoma"/>
              </a:rPr>
              <a:t> чисе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4" name="Рисунок 4" descr=""/>
          <p:cNvPicPr/>
          <p:nvPr/>
        </p:nvPicPr>
        <p:blipFill>
          <a:blip r:embed="rId1"/>
          <a:stretch/>
        </p:blipFill>
        <p:spPr>
          <a:xfrm>
            <a:off x="6821640" y="0"/>
            <a:ext cx="2322360" cy="2619360"/>
          </a:xfrm>
          <a:prstGeom prst="rect">
            <a:avLst/>
          </a:prstGeom>
          <a:ln w="0">
            <a:noFill/>
          </a:ln>
        </p:spPr>
      </p:pic>
      <p:sp>
        <p:nvSpPr>
          <p:cNvPr id="645" name="Прямоугольник 5"/>
          <p:cNvSpPr/>
          <p:nvPr/>
        </p:nvSpPr>
        <p:spPr>
          <a:xfrm>
            <a:off x="250920" y="5589720"/>
            <a:ext cx="82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Учитель математики школы №9 г.Каза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рагузина Надежда Владимир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ar-nadin1@yandex.r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79992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аким  числом  записать результат   вычисления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341280" y="1989000"/>
            <a:ext cx="82202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Arial"/>
              </a:rPr>
              <a:t>Кусок проволоки длиной 1 м разрезали на 3 равные части. </a:t>
            </a:r>
            <a:br>
              <a:rPr sz="3000"/>
            </a:br>
            <a:r>
              <a:rPr b="1" lang="ru-RU" sz="3000" spc="-1" strike="noStrike">
                <a:solidFill>
                  <a:srgbClr val="eaeaea"/>
                </a:solidFill>
                <a:latin typeface="Arial"/>
              </a:rPr>
              <a:t>Какова длина одной части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03" name="Группа 5"/>
          <p:cNvGrpSpPr/>
          <p:nvPr/>
        </p:nvGrpSpPr>
        <p:grpSpPr>
          <a:xfrm>
            <a:off x="3086280" y="3654360"/>
            <a:ext cx="4321080" cy="998280"/>
            <a:chOff x="3086280" y="3654360"/>
            <a:chExt cx="4321080" cy="998280"/>
          </a:xfrm>
        </p:grpSpPr>
        <p:sp>
          <p:nvSpPr>
            <p:cNvPr id="704" name="Line 5"/>
            <p:cNvSpPr/>
            <p:nvPr/>
          </p:nvSpPr>
          <p:spPr>
            <a:xfrm>
              <a:off x="3086280" y="4148280"/>
              <a:ext cx="4321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Line 6"/>
            <p:cNvSpPr/>
            <p:nvPr/>
          </p:nvSpPr>
          <p:spPr>
            <a:xfrm>
              <a:off x="4525920" y="3789000"/>
              <a:ext cx="0" cy="57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AutoShape 7"/>
            <p:cNvSpPr/>
            <p:nvPr/>
          </p:nvSpPr>
          <p:spPr>
            <a:xfrm rot="16200000">
              <a:off x="5197680" y="2442960"/>
              <a:ext cx="98280" cy="4321080"/>
            </a:xfrm>
            <a:custGeom>
              <a:avLst/>
              <a:gdLst>
                <a:gd name="textAreaLeft" fmla="*/ 63000 w 98280"/>
                <a:gd name="textAreaRight" fmla="*/ 98640 w 98280"/>
                <a:gd name="textAreaTop" fmla="*/ 112680 h 4321080"/>
                <a:gd name="textAreaBottom" fmla="*/ 4208400 h 43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01"/>
                  </a:lnTo>
                  <a:cubicBezTo>
                    <a:pt x="10800" y="9701"/>
                    <a:pt x="5400" y="10601"/>
                    <a:pt x="0" y="10601"/>
                  </a:cubicBezTo>
                  <a:cubicBezTo>
                    <a:pt x="5400" y="10601"/>
                    <a:pt x="10800" y="11501"/>
                    <a:pt x="10800" y="1240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Line 9"/>
            <p:cNvSpPr/>
            <p:nvPr/>
          </p:nvSpPr>
          <p:spPr>
            <a:xfrm>
              <a:off x="5965920" y="3789000"/>
              <a:ext cx="0" cy="57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AutoShape 11"/>
            <p:cNvSpPr/>
            <p:nvPr/>
          </p:nvSpPr>
          <p:spPr>
            <a:xfrm rot="5400000">
              <a:off x="3784680" y="2955600"/>
              <a:ext cx="44280" cy="1441440"/>
            </a:xfrm>
            <a:custGeom>
              <a:avLst/>
              <a:gdLst>
                <a:gd name="textAreaLeft" fmla="*/ 28440 w 44280"/>
                <a:gd name="textAreaRight" fmla="*/ 44640 w 44280"/>
                <a:gd name="textAreaTop" fmla="*/ 37440 h 1441440"/>
                <a:gd name="textAreaBottom" fmla="*/ 1404000 h 14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56"/>
                  </a:lnTo>
                  <a:cubicBezTo>
                    <a:pt x="10800" y="10256"/>
                    <a:pt x="5400" y="11156"/>
                    <a:pt x="0" y="11156"/>
                  </a:cubicBezTo>
                  <a:cubicBezTo>
                    <a:pt x="5400" y="11156"/>
                    <a:pt x="10800" y="12056"/>
                    <a:pt x="10800" y="1295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09" name="Прямоугольник 11"/>
          <p:cNvSpPr/>
          <p:nvPr/>
        </p:nvSpPr>
        <p:spPr>
          <a:xfrm>
            <a:off x="6266520" y="0"/>
            <a:ext cx="3252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откроем новое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Прямоугольник 12"/>
          <p:cNvSpPr/>
          <p:nvPr/>
        </p:nvSpPr>
        <p:spPr>
          <a:xfrm>
            <a:off x="1062000" y="513864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1м  :   3 =  </a:t>
            </a:r>
            <a:r>
              <a:rPr b="0" lang="ru-RU" sz="6000" spc="-1" strike="noStrike">
                <a:solidFill>
                  <a:srgbClr val="ffc000"/>
                </a:solidFill>
                <a:latin typeface="Arial"/>
              </a:rPr>
              <a:t>    (м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Object 1"/>
              <p:cNvSpPr txBox="1"/>
              <p:nvPr/>
            </p:nvSpPr>
            <p:spPr>
              <a:xfrm>
                <a:off x="4662360" y="4778280"/>
                <a:ext cx="66204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79992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аким  числом  записали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результат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  деления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3" name="Прямоугольник 11"/>
          <p:cNvSpPr/>
          <p:nvPr/>
        </p:nvSpPr>
        <p:spPr>
          <a:xfrm>
            <a:off x="6266520" y="0"/>
            <a:ext cx="3252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откроем новое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Object 1"/>
              <p:cNvSpPr txBox="1"/>
              <p:nvPr/>
            </p:nvSpPr>
            <p:spPr>
              <a:xfrm>
                <a:off x="880920" y="1719360"/>
                <a:ext cx="9604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5" name="Прямоугольник 12"/>
          <p:cNvSpPr/>
          <p:nvPr/>
        </p:nvSpPr>
        <p:spPr>
          <a:xfrm>
            <a:off x="2473560" y="1854360"/>
            <a:ext cx="376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33"/>
                </a:solidFill>
                <a:latin typeface="Arial"/>
              </a:rPr>
              <a:t>= 1  :   3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Rectangle 7"/>
          <p:cNvSpPr/>
          <p:nvPr/>
        </p:nvSpPr>
        <p:spPr>
          <a:xfrm flipV="1" rot="10800000">
            <a:off x="341280" y="3333960"/>
            <a:ext cx="751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В русском языке есть известное вам слово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Calibri"/>
              </a:rPr>
              <a:t>треть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, которое используется, чтобы обозначить результат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Calibri"/>
              </a:rPr>
              <a:t>деления целого на три равные част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Разрезав кусок на три равные части, мы получили три куска,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Calibri"/>
              </a:rPr>
              <a:t>длиною в треть метра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 каждый. В математике треть записывают в виде дроб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76320" cy="30492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8"/>
          <p:cNvSpPr/>
          <p:nvPr/>
        </p:nvSpPr>
        <p:spPr>
          <a:xfrm>
            <a:off x="4400640" y="15156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Calibri"/>
              </a:rPr>
              <a:t>»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9"/>
              <p:cNvSpPr txBox="1"/>
              <p:nvPr/>
            </p:nvSpPr>
            <p:spPr>
              <a:xfrm>
                <a:off x="8334360" y="5138640"/>
                <a:ext cx="8096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31640" y="225864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Обыкновенными  дробям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0" y="4014720"/>
            <a:ext cx="8640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Дробь – это число или  результат деления натуральных чисе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Object 4"/>
              <p:cNvSpPr txBox="1"/>
              <p:nvPr/>
            </p:nvSpPr>
            <p:spPr>
              <a:xfrm>
                <a:off x="3751200" y="279360"/>
                <a:ext cx="501336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m>
                      <m:mr>
                        <m:e/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mr>
                    </m:m>
                    <m:m>
                      <m:mr>
                        <m:e/>
                        <m:e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mr>
                    </m:m>
                    <m:m>
                      <m:mr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</m:mr>
                    </m:m>
                    <m:m>
                      <m:mr>
                        <m:e/>
                        <m:e>
                          <m:f>
                            <m:num>
                              <m:r>
                                <m:t xml:space="preserve">а</m:t>
                              </m:r>
                            </m:num>
                            <m:den>
                              <m:r>
                                <m:t xml:space="preserve">в</m:t>
                              </m:r>
                            </m:den>
                          </m:f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TextBox 7"/>
          <p:cNvSpPr/>
          <p:nvPr/>
        </p:nvSpPr>
        <p:spPr>
          <a:xfrm>
            <a:off x="-1080" y="414360"/>
            <a:ext cx="32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исла вида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162000" y="1854360"/>
            <a:ext cx="86407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назыв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701640" y="3024360"/>
            <a:ext cx="77724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или  дробя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Прямоугольник 10"/>
          <p:cNvSpPr/>
          <p:nvPr/>
        </p:nvSpPr>
        <p:spPr>
          <a:xfrm>
            <a:off x="5277960" y="0"/>
            <a:ext cx="3187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будем знать, ч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0920" y="1854000"/>
            <a:ext cx="83152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Кусок проволоки длиной 3 м разрезали на 7 равных частей.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Какова длина одной части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066320" y="3203640"/>
            <a:ext cx="5464440" cy="28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 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0" name="Group 69"/>
          <p:cNvGrpSpPr/>
          <p:nvPr/>
        </p:nvGrpSpPr>
        <p:grpSpPr>
          <a:xfrm>
            <a:off x="1511280" y="3564000"/>
            <a:ext cx="5041800" cy="953640"/>
            <a:chOff x="1511280" y="3564000"/>
            <a:chExt cx="5041800" cy="953640"/>
          </a:xfrm>
        </p:grpSpPr>
        <p:sp>
          <p:nvSpPr>
            <p:cNvPr id="731" name="Line 4"/>
            <p:cNvSpPr/>
            <p:nvPr/>
          </p:nvSpPr>
          <p:spPr>
            <a:xfrm>
              <a:off x="1511280" y="4013280"/>
              <a:ext cx="504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Line 5"/>
            <p:cNvSpPr/>
            <p:nvPr/>
          </p:nvSpPr>
          <p:spPr>
            <a:xfrm>
              <a:off x="2232000" y="3743280"/>
              <a:ext cx="0" cy="57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3" name="AutoShape 6"/>
            <p:cNvSpPr/>
            <p:nvPr/>
          </p:nvSpPr>
          <p:spPr>
            <a:xfrm rot="16200000">
              <a:off x="4005000" y="1969560"/>
              <a:ext cx="98280" cy="4997520"/>
            </a:xfrm>
            <a:custGeom>
              <a:avLst/>
              <a:gdLst>
                <a:gd name="textAreaLeft" fmla="*/ 63000 w 98280"/>
                <a:gd name="textAreaRight" fmla="*/ 98640 w 98280"/>
                <a:gd name="textAreaTop" fmla="*/ 130320 h 4997520"/>
                <a:gd name="textAreaBottom" fmla="*/ 4867200 h 499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01"/>
                  </a:lnTo>
                  <a:cubicBezTo>
                    <a:pt x="10800" y="9701"/>
                    <a:pt x="5400" y="10601"/>
                    <a:pt x="0" y="10601"/>
                  </a:cubicBezTo>
                  <a:cubicBezTo>
                    <a:pt x="5400" y="10601"/>
                    <a:pt x="10800" y="11501"/>
                    <a:pt x="10800" y="1240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4" name="Line 7"/>
            <p:cNvSpPr/>
            <p:nvPr/>
          </p:nvSpPr>
          <p:spPr>
            <a:xfrm>
              <a:off x="4390920" y="3743280"/>
              <a:ext cx="0" cy="57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5" name="AutoShape 8"/>
            <p:cNvSpPr/>
            <p:nvPr/>
          </p:nvSpPr>
          <p:spPr>
            <a:xfrm flipV="1" rot="5400000">
              <a:off x="1849320" y="3225960"/>
              <a:ext cx="44640" cy="720720"/>
            </a:xfrm>
            <a:custGeom>
              <a:avLst/>
              <a:gdLst>
                <a:gd name="textAreaLeft" fmla="*/ 28440 w 44640"/>
                <a:gd name="textAreaRight" fmla="*/ 45000 w 4464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80"/>
                  </a:lnTo>
                  <a:cubicBezTo>
                    <a:pt x="10800" y="10280"/>
                    <a:pt x="5400" y="11180"/>
                    <a:pt x="0" y="11180"/>
                  </a:cubicBezTo>
                  <a:cubicBezTo>
                    <a:pt x="5400" y="11180"/>
                    <a:pt x="10800" y="12080"/>
                    <a:pt x="10800" y="1298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Line 9"/>
            <p:cNvSpPr/>
            <p:nvPr/>
          </p:nvSpPr>
          <p:spPr>
            <a:xfrm>
              <a:off x="5111640" y="3743280"/>
              <a:ext cx="0" cy="57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Line 10"/>
            <p:cNvSpPr/>
            <p:nvPr/>
          </p:nvSpPr>
          <p:spPr>
            <a:xfrm>
              <a:off x="3671640" y="3743280"/>
              <a:ext cx="0" cy="57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Line 11"/>
            <p:cNvSpPr/>
            <p:nvPr/>
          </p:nvSpPr>
          <p:spPr>
            <a:xfrm>
              <a:off x="2950920" y="3743280"/>
              <a:ext cx="0" cy="57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Line 12"/>
            <p:cNvSpPr/>
            <p:nvPr/>
          </p:nvSpPr>
          <p:spPr>
            <a:xfrm>
              <a:off x="5832360" y="3743280"/>
              <a:ext cx="0" cy="57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40" name="Прямоугольник 15"/>
          <p:cNvSpPr/>
          <p:nvPr/>
        </p:nvSpPr>
        <p:spPr>
          <a:xfrm>
            <a:off x="5767560" y="189000"/>
            <a:ext cx="3603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думаем и отвеча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Object 15"/>
              <p:cNvSpPr txBox="1"/>
              <p:nvPr/>
            </p:nvSpPr>
            <p:spPr>
              <a:xfrm>
                <a:off x="1906560" y="5229360"/>
                <a:ext cx="254016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:</m:t>
                    </m:r>
                    <m:r>
                      <m:t xml:space="preserve">7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(</m:t>
                    </m:r>
                    <m:r>
                      <m:t xml:space="preserve">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3" name="Заголовок 1"/>
          <p:cNvSpPr/>
          <p:nvPr/>
        </p:nvSpPr>
        <p:spPr>
          <a:xfrm>
            <a:off x="431640" y="368280"/>
            <a:ext cx="79995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Каким  числом  записать результат   вычисления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Прямоугольник 17"/>
          <p:cNvSpPr/>
          <p:nvPr/>
        </p:nvSpPr>
        <p:spPr>
          <a:xfrm>
            <a:off x="5841720" y="5724360"/>
            <a:ext cx="30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ина одной ч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05920" y="637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Кусок проволоки длиной 3 м разрезали на 5 равных частей.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Какова длина одной части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85560" y="1989000"/>
            <a:ext cx="71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 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ина одной ч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метра длина одной ча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7" name="Group 31"/>
          <p:cNvGrpSpPr/>
          <p:nvPr/>
        </p:nvGrpSpPr>
        <p:grpSpPr>
          <a:xfrm>
            <a:off x="341280" y="2437560"/>
            <a:ext cx="7336800" cy="856080"/>
            <a:chOff x="341280" y="2437560"/>
            <a:chExt cx="7336800" cy="856080"/>
          </a:xfrm>
        </p:grpSpPr>
        <p:sp>
          <p:nvSpPr>
            <p:cNvPr id="748" name="AutoShape 8"/>
            <p:cNvSpPr/>
            <p:nvPr/>
          </p:nvSpPr>
          <p:spPr>
            <a:xfrm flipV="1" rot="5400000">
              <a:off x="1174680" y="1650600"/>
              <a:ext cx="45720" cy="1618920"/>
            </a:xfrm>
            <a:custGeom>
              <a:avLst/>
              <a:gdLst>
                <a:gd name="textAreaLeft" fmla="*/ 29160 w 45720"/>
                <a:gd name="textAreaRight" fmla="*/ 46080 w 45720"/>
                <a:gd name="textAreaTop" fmla="*/ 23760 h 1618920"/>
                <a:gd name="textAreaBottom" fmla="*/ 1595160 h 16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11"/>
                    <a:pt x="10800" y="1022"/>
                  </a:cubicBezTo>
                  <a:lnTo>
                    <a:pt x="10800" y="10158"/>
                  </a:lnTo>
                  <a:cubicBezTo>
                    <a:pt x="10800" y="10669"/>
                    <a:pt x="5400" y="11180"/>
                    <a:pt x="0" y="11180"/>
                  </a:cubicBezTo>
                  <a:cubicBezTo>
                    <a:pt x="5400" y="11180"/>
                    <a:pt x="10800" y="11691"/>
                    <a:pt x="10800" y="12202"/>
                  </a:cubicBezTo>
                  <a:lnTo>
                    <a:pt x="10800" y="20578"/>
                  </a:lnTo>
                  <a:cubicBezTo>
                    <a:pt x="10800" y="21089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9" name="Group 30"/>
            <p:cNvGrpSpPr/>
            <p:nvPr/>
          </p:nvGrpSpPr>
          <p:grpSpPr>
            <a:xfrm>
              <a:off x="341280" y="2572920"/>
              <a:ext cx="7336800" cy="720720"/>
              <a:chOff x="341280" y="2572920"/>
              <a:chExt cx="7336800" cy="720720"/>
            </a:xfrm>
          </p:grpSpPr>
          <p:sp>
            <p:nvSpPr>
              <p:cNvPr id="750" name="Line 4"/>
              <p:cNvSpPr/>
              <p:nvPr/>
            </p:nvSpPr>
            <p:spPr>
              <a:xfrm>
                <a:off x="341280" y="2842920"/>
                <a:ext cx="7335000" cy="0"/>
              </a:xfrm>
              <a:prstGeom prst="line">
                <a:avLst/>
              </a:prstGeom>
              <a:ln w="381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Line 5"/>
              <p:cNvSpPr/>
              <p:nvPr/>
            </p:nvSpPr>
            <p:spPr>
              <a:xfrm>
                <a:off x="1960200" y="2572920"/>
                <a:ext cx="0" cy="574920"/>
              </a:xfrm>
              <a:prstGeom prst="line">
                <a:avLst/>
              </a:prstGeom>
              <a:ln w="284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2" name="AutoShape 6"/>
              <p:cNvSpPr/>
              <p:nvPr/>
            </p:nvSpPr>
            <p:spPr>
              <a:xfrm rot="16200000">
                <a:off x="4010040" y="-374040"/>
                <a:ext cx="46080" cy="7290000"/>
              </a:xfrm>
              <a:custGeom>
                <a:avLst/>
                <a:gdLst>
                  <a:gd name="textAreaLeft" fmla="*/ 29520 w 46080"/>
                  <a:gd name="textAreaRight" fmla="*/ 46440 w 46080"/>
                  <a:gd name="textAreaTop" fmla="*/ 74880 h 7290000"/>
                  <a:gd name="textAreaBottom" fmla="*/ 7215120 h 729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356"/>
                      <a:pt x="10800" y="711"/>
                    </a:cubicBezTo>
                    <a:lnTo>
                      <a:pt x="10800" y="9890"/>
                    </a:lnTo>
                    <a:cubicBezTo>
                      <a:pt x="10800" y="10246"/>
                      <a:pt x="5400" y="10601"/>
                      <a:pt x="0" y="10601"/>
                    </a:cubicBezTo>
                    <a:cubicBezTo>
                      <a:pt x="5400" y="10601"/>
                      <a:pt x="10800" y="10957"/>
                      <a:pt x="10800" y="11312"/>
                    </a:cubicBezTo>
                    <a:lnTo>
                      <a:pt x="10800" y="20889"/>
                    </a:lnTo>
                    <a:cubicBezTo>
                      <a:pt x="10800" y="21245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Line 7"/>
              <p:cNvSpPr/>
              <p:nvPr/>
            </p:nvSpPr>
            <p:spPr>
              <a:xfrm>
                <a:off x="4750920" y="2617560"/>
                <a:ext cx="0" cy="574560"/>
              </a:xfrm>
              <a:prstGeom prst="line">
                <a:avLst/>
              </a:prstGeom>
              <a:ln w="284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4" name="Line 9"/>
              <p:cNvSpPr/>
              <p:nvPr/>
            </p:nvSpPr>
            <p:spPr>
              <a:xfrm>
                <a:off x="6147360" y="2617560"/>
                <a:ext cx="0" cy="574560"/>
              </a:xfrm>
              <a:prstGeom prst="line">
                <a:avLst/>
              </a:prstGeom>
              <a:ln w="284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5" name="Line 10"/>
              <p:cNvSpPr/>
              <p:nvPr/>
            </p:nvSpPr>
            <p:spPr>
              <a:xfrm>
                <a:off x="386280" y="2572920"/>
                <a:ext cx="0" cy="574920"/>
              </a:xfrm>
              <a:prstGeom prst="line">
                <a:avLst/>
              </a:prstGeom>
              <a:ln w="284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6" name="Line 11"/>
              <p:cNvSpPr/>
              <p:nvPr/>
            </p:nvSpPr>
            <p:spPr>
              <a:xfrm>
                <a:off x="3401280" y="2572920"/>
                <a:ext cx="0" cy="574920"/>
              </a:xfrm>
              <a:prstGeom prst="line">
                <a:avLst/>
              </a:prstGeom>
              <a:ln w="284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7" name="Line 12"/>
              <p:cNvSpPr/>
              <p:nvPr/>
            </p:nvSpPr>
            <p:spPr>
              <a:xfrm>
                <a:off x="7676280" y="2572920"/>
                <a:ext cx="0" cy="574920"/>
              </a:xfrm>
              <a:prstGeom prst="line">
                <a:avLst/>
              </a:prstGeom>
              <a:ln w="284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58" name="Object 27"/>
              <p:cNvSpPr txBox="1"/>
              <p:nvPr/>
            </p:nvSpPr>
            <p:spPr>
              <a:xfrm>
                <a:off x="2141640" y="5875200"/>
                <a:ext cx="68904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Прямоугольник 31"/>
          <p:cNvSpPr/>
          <p:nvPr/>
        </p:nvSpPr>
        <p:spPr>
          <a:xfrm>
            <a:off x="6037560" y="189000"/>
            <a:ext cx="3603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думаем и отвеча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Object 23"/>
              <p:cNvSpPr txBox="1"/>
              <p:nvPr/>
            </p:nvSpPr>
            <p:spPr>
              <a:xfrm>
                <a:off x="611280" y="4464000"/>
                <a:ext cx="19922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: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t xml:space="preserve">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0" y="5936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еши задачи:   1)                2)            ;                 3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Заголовок 1"/>
          <p:cNvSpPr/>
          <p:nvPr/>
        </p:nvSpPr>
        <p:spPr>
          <a:xfrm>
            <a:off x="0" y="185436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1.   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1кг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сахара нужно рассыпать поровну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в  4 пакета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. Сколько   кг будет в каждом пакет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Заголовок 1"/>
          <p:cNvSpPr/>
          <p:nvPr/>
        </p:nvSpPr>
        <p:spPr>
          <a:xfrm>
            <a:off x="0" y="329400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2.    Буханку хлеба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весом 1кг 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разрезали на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три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равные части. Сколько  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кг 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будет весить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дна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часть,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две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ча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Заголовок 1"/>
          <p:cNvSpPr/>
          <p:nvPr/>
        </p:nvSpPr>
        <p:spPr>
          <a:xfrm>
            <a:off x="0" y="509436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buClr>
                <a:srgbClr val="eaeaea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Если отрезок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АВ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разделили ровно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пять раз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и длина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дной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части равна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2/5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дм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то длина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АВ =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5"/>
              <p:cNvSpPr txBox="1"/>
              <p:nvPr/>
            </p:nvSpPr>
            <p:spPr>
              <a:xfrm>
                <a:off x="3086280" y="593640"/>
                <a:ext cx="10047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7"/>
              <p:cNvSpPr txBox="1"/>
              <p:nvPr/>
            </p:nvSpPr>
            <p:spPr>
              <a:xfrm>
                <a:off x="4751280" y="684360"/>
                <a:ext cx="900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Object 9"/>
              <p:cNvSpPr txBox="1"/>
              <p:nvPr/>
            </p:nvSpPr>
            <p:spPr>
              <a:xfrm>
                <a:off x="5921280" y="728640"/>
                <a:ext cx="101592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4" name="TextBox 17"/>
          <p:cNvSpPr/>
          <p:nvPr/>
        </p:nvSpPr>
        <p:spPr>
          <a:xfrm>
            <a:off x="7872120" y="86364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0д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Прямоугольник 18"/>
          <p:cNvSpPr/>
          <p:nvPr/>
        </p:nvSpPr>
        <p:spPr>
          <a:xfrm>
            <a:off x="-378720" y="0"/>
            <a:ext cx="7745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думай и отвечай…             не понимаешь – спрашивай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97000" y="323640"/>
            <a:ext cx="848016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1</a:t>
            </a: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	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3</a:t>
            </a: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	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26640" y="2033280"/>
            <a:ext cx="7759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 прочитать записанную дробь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Одна треть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означает черта дроб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Действие де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ется число, стоящее под чертой дроби? Что оно показывае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Знамена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 называется число, стоящее над чертой дроби? Что оно показывает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Числител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Line 4"/>
          <p:cNvSpPr/>
          <p:nvPr/>
        </p:nvSpPr>
        <p:spPr>
          <a:xfrm>
            <a:off x="2816280" y="113364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Rectangle 2"/>
          <p:cNvSpPr/>
          <p:nvPr/>
        </p:nvSpPr>
        <p:spPr>
          <a:xfrm>
            <a:off x="385920" y="233280"/>
            <a:ext cx="848016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дна</a:t>
            </a: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- числитель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третья</a:t>
            </a: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- знаменател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Прямоугольник 7"/>
          <p:cNvSpPr/>
          <p:nvPr/>
        </p:nvSpPr>
        <p:spPr>
          <a:xfrm>
            <a:off x="6308640" y="189000"/>
            <a:ext cx="331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будем знать, ч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7" dur="50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71640" y="99864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Обыкновенными  дробям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Object 4"/>
              <p:cNvSpPr txBox="1"/>
              <p:nvPr/>
            </p:nvSpPr>
            <p:spPr>
              <a:xfrm>
                <a:off x="3732120" y="279360"/>
                <a:ext cx="505296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m>
                      <m:mr>
                        <m:e/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mr>
                    </m:m>
                    <m:m>
                      <m:mr>
                        <m:e/>
                        <m:e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mr>
                    </m:m>
                    <m:m>
                      <m:mr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</m:mr>
                    </m:m>
                    <m:m>
                      <m:mr>
                        <m:e/>
                        <m:e>
                          <m:f>
                            <m:num>
                              <m:r>
                                <m:t xml:space="preserve">а</m:t>
                              </m:r>
                            </m:num>
                            <m:den>
                              <m:r>
                                <m:t xml:space="preserve">в</m:t>
                              </m:r>
                            </m:den>
                          </m:f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4" name="TextBox 7"/>
          <p:cNvSpPr/>
          <p:nvPr/>
        </p:nvSpPr>
        <p:spPr>
          <a:xfrm>
            <a:off x="-1080" y="414360"/>
            <a:ext cx="32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исла вида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341280" y="954000"/>
            <a:ext cx="28544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назыв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Прямоугольник 10"/>
          <p:cNvSpPr/>
          <p:nvPr/>
        </p:nvSpPr>
        <p:spPr>
          <a:xfrm>
            <a:off x="5277960" y="0"/>
            <a:ext cx="3187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будем знать, ч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Прямоугольник 10"/>
          <p:cNvSpPr/>
          <p:nvPr/>
        </p:nvSpPr>
        <p:spPr>
          <a:xfrm>
            <a:off x="431640" y="1963800"/>
            <a:ext cx="871236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Правило записи обыкновенной дроби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ачала «…пишут число, показывающее,  сколько долей содержится в дроб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д ним проводят черту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д чертой ставят другое число, показывающее, на сколько равных долей разделена единица, от которой взята дроб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328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aeaea"/>
                </a:solidFill>
                <a:latin typeface="Arial"/>
              </a:rPr>
              <a:t>Частное от деления натуральных чисел можно записать в виде дроби.</a:t>
            </a:r>
            <a:br>
              <a:rPr sz="3500"/>
            </a:br>
            <a:br>
              <a:rPr sz="3500"/>
            </a:br>
            <a:r>
              <a:rPr b="1" lang="ru-RU" sz="3500" spc="-1" strike="noStrike">
                <a:solidFill>
                  <a:srgbClr val="eaeaea"/>
                </a:solidFill>
                <a:latin typeface="Arial"/>
              </a:rPr>
              <a:t>Числитель дроби  - это делимое,</a:t>
            </a:r>
            <a:br>
              <a:rPr sz="3500"/>
            </a:br>
            <a:r>
              <a:rPr b="1" lang="ru-RU" sz="3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eaeaea"/>
                </a:solidFill>
                <a:latin typeface="Arial"/>
              </a:rPr>
              <a:t> а знаменатель – делитель.</a:t>
            </a:r>
            <a:endParaRPr b="1" lang="en-US" sz="3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75920" y="1898640"/>
            <a:ext cx="8667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657360" y="324000"/>
          <a:ext cx="7738920" cy="1439640"/>
        </p:xfrm>
        <a:graphic>
          <a:graphicData uri="http://schemas.openxmlformats.org/drawingml/2006/table">
            <a:tbl>
              <a:tblPr/>
              <a:tblGrid>
                <a:gridCol w="1549440"/>
                <a:gridCol w="1546200"/>
                <a:gridCol w="1135080"/>
                <a:gridCol w="1958760"/>
                <a:gridCol w="1549440"/>
              </a:tblGrid>
              <a:tr h="720720"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: 3 =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: 7 =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1" name="Line 55"/>
          <p:cNvSpPr/>
          <p:nvPr/>
        </p:nvSpPr>
        <p:spPr>
          <a:xfrm>
            <a:off x="2546280" y="1089000"/>
            <a:ext cx="90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Line 56"/>
          <p:cNvSpPr/>
          <p:nvPr/>
        </p:nvSpPr>
        <p:spPr>
          <a:xfrm>
            <a:off x="7272360" y="1089000"/>
            <a:ext cx="900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Прямоугольник 28"/>
          <p:cNvSpPr/>
          <p:nvPr/>
        </p:nvSpPr>
        <p:spPr>
          <a:xfrm>
            <a:off x="5948280" y="0"/>
            <a:ext cx="331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будем знать, ч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162000" y="638280"/>
            <a:ext cx="87120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стное от деления натуральных чисел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можно записа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виде дроб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,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ислитель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–делимое,  знаменатель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–делител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5516640" y="2484360"/>
          <a:ext cx="798480" cy="1524240"/>
        </p:xfrm>
        <a:graphic>
          <a:graphicData uri="http://schemas.openxmlformats.org/drawingml/2006/table">
            <a:tbl>
              <a:tblPr/>
              <a:tblGrid>
                <a:gridCol w="798480"/>
              </a:tblGrid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в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6" name="Line 22"/>
          <p:cNvSpPr/>
          <p:nvPr/>
        </p:nvSpPr>
        <p:spPr>
          <a:xfrm>
            <a:off x="5516640" y="3294000"/>
            <a:ext cx="85572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Прямоугольник 14"/>
          <p:cNvSpPr/>
          <p:nvPr/>
        </p:nvSpPr>
        <p:spPr>
          <a:xfrm>
            <a:off x="6312960" y="189000"/>
            <a:ext cx="3187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будем знать, ч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15560" y="-441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План урока №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66280" y="81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вспомним  …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овторим …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оразмышляем …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откроем новое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одумаем по новому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узнаем о новом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думаем и отвечаем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находим часть от целого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ведем ито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пишем домашнее зада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юрприз от учител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836280" y="323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Как прочитать дробь: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2373480"/>
            <a:ext cx="75438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эм энных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эм деленное 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допускается сокращение эм 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7721640" y="279360"/>
          <a:ext cx="1066680" cy="15238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1" name="Line 30"/>
          <p:cNvSpPr/>
          <p:nvPr/>
        </p:nvSpPr>
        <p:spPr>
          <a:xfrm>
            <a:off x="7677000" y="1089000"/>
            <a:ext cx="108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AutoShape 37">
            <a:hlinkClick r:id="rId1" action="ppaction://hlinksldjump"/>
          </p:cNvPr>
          <p:cNvSpPr/>
          <p:nvPr/>
        </p:nvSpPr>
        <p:spPr>
          <a:xfrm>
            <a:off x="250920" y="6219720"/>
            <a:ext cx="450720" cy="405000"/>
          </a:xfrm>
          <a:custGeom>
            <a:avLst/>
            <a:gdLst>
              <a:gd name="textAreaLeft" fmla="*/ 25920 w 450720"/>
              <a:gd name="textAreaRight" fmla="*/ 424800 w 4507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6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6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Прямоугольник 16"/>
          <p:cNvSpPr/>
          <p:nvPr/>
        </p:nvSpPr>
        <p:spPr>
          <a:xfrm>
            <a:off x="6262920" y="0"/>
            <a:ext cx="2803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будем зн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1000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1000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Georgia"/>
              </a:rPr>
              <a:t>ЗАПОМНИ !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2"/>
              <p:cNvSpPr txBox="1"/>
              <p:nvPr/>
            </p:nvSpPr>
            <p:spPr>
              <a:xfrm>
                <a:off x="250920" y="1224000"/>
                <a:ext cx="3582720" cy="15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6" name="Прямоугольник 5"/>
          <p:cNvSpPr/>
          <p:nvPr/>
        </p:nvSpPr>
        <p:spPr>
          <a:xfrm>
            <a:off x="4346640" y="113364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называют рациональными числами,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Georgia"/>
              </a:rPr>
              <a:t>обыкновенными   дробями</a:t>
            </a: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или короче   –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Georgia"/>
              </a:rPr>
              <a:t>дроб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3"/>
              <p:cNvSpPr txBox="1"/>
              <p:nvPr/>
            </p:nvSpPr>
            <p:spPr>
              <a:xfrm>
                <a:off x="297000" y="3473280"/>
                <a:ext cx="1152360" cy="246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8" name="Прямоугольник 7"/>
          <p:cNvSpPr/>
          <p:nvPr/>
        </p:nvSpPr>
        <p:spPr>
          <a:xfrm>
            <a:off x="1467000" y="35640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abab"/>
                </a:solidFill>
                <a:latin typeface="Georgia"/>
              </a:rPr>
              <a:t>числи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abab"/>
                </a:solidFill>
                <a:latin typeface="Georgia"/>
              </a:rPr>
              <a:t>дробная чер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Прямоугольник 10"/>
          <p:cNvSpPr/>
          <p:nvPr/>
        </p:nvSpPr>
        <p:spPr>
          <a:xfrm>
            <a:off x="1692360" y="504972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abab"/>
                </a:solidFill>
                <a:latin typeface="Georgia"/>
              </a:rPr>
              <a:t>знаменатель </a:t>
            </a:r>
            <a:r>
              <a:rPr b="1" i="1" lang="ru-RU" sz="1800" spc="-1" strike="noStrike">
                <a:solidFill>
                  <a:srgbClr val="ffabab"/>
                </a:solidFill>
                <a:latin typeface="Georgia"/>
              </a:rPr>
              <a:t>(на сколько разделил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Прямоугольник 11"/>
          <p:cNvSpPr/>
          <p:nvPr/>
        </p:nvSpPr>
        <p:spPr>
          <a:xfrm>
            <a:off x="1704960" y="5904000"/>
            <a:ext cx="74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abab"/>
                </a:solidFill>
                <a:uFillTx/>
                <a:latin typeface="Georgia"/>
              </a:rPr>
              <a:t>Знаменатель не равен нулю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0" y="324000"/>
            <a:ext cx="8786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чтении дробей надо помнить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200" spc="-1" strike="noStrike" u="sng">
                <a:solidFill>
                  <a:srgbClr val="ffff99"/>
                </a:solidFill>
                <a:uFillTx/>
                <a:latin typeface="Tahoma"/>
              </a:rPr>
              <a:t>числитель дроби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количественное числительное женского рода, отвечает на вопрос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КОЛЬКО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дна, две, восемь и т.д.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200" spc="-1" strike="noStrike" u="sng">
                <a:solidFill>
                  <a:srgbClr val="ffff99"/>
                </a:solidFill>
                <a:uFillTx/>
                <a:latin typeface="Tahoma"/>
              </a:rPr>
              <a:t>знаменател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порядковое числительное, отвечает на вопрос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АКА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АКИ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седьмая, сотая, двести тридцатая и т.д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: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одна пятая;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- две шест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2" name="Picture 7" descr=""/>
          <p:cNvPicPr/>
          <p:nvPr/>
        </p:nvPicPr>
        <p:blipFill>
          <a:blip r:embed="rId1"/>
          <a:stretch/>
        </p:blipFill>
        <p:spPr>
          <a:xfrm>
            <a:off x="6821640" y="4373640"/>
            <a:ext cx="342720" cy="73332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8" descr=""/>
          <p:cNvPicPr/>
          <p:nvPr/>
        </p:nvPicPr>
        <p:blipFill>
          <a:blip r:embed="rId2"/>
          <a:stretch/>
        </p:blipFill>
        <p:spPr>
          <a:xfrm>
            <a:off x="3132000" y="4464000"/>
            <a:ext cx="314640" cy="69552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5" descr="E:\Уч.года\karanda74.jpg"/>
          <p:cNvPicPr/>
          <p:nvPr/>
        </p:nvPicPr>
        <p:blipFill>
          <a:blip r:embed="rId3"/>
          <a:stretch/>
        </p:blipFill>
        <p:spPr>
          <a:xfrm>
            <a:off x="0" y="5411880"/>
            <a:ext cx="971640" cy="1028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5" name="Object 29"/>
              <p:cNvSpPr txBox="1"/>
              <p:nvPr/>
            </p:nvSpPr>
            <p:spPr>
              <a:xfrm>
                <a:off x="1428840" y="5429160"/>
                <a:ext cx="7286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Числитель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Знаменатель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СКОЛЬКО</m:t>
                        </m:r>
                        <m:r>
                          <m:t xml:space="preserve">?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АКАЯ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илиКАКИХ</m:t>
                        </m:r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d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3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 txBox="1"/>
          <p:nvPr/>
        </p:nvSpPr>
        <p:spPr>
          <a:xfrm>
            <a:off x="-360" y="0"/>
            <a:ext cx="76770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c000"/>
                </a:solidFill>
                <a:latin typeface="Tahoma"/>
                <a:ea typeface="Times New Roman"/>
              </a:rPr>
              <a:t>При чтении дробей надо помнить: числитель дроби – количественное числительное женского рода (одна, две, восемь и т.д.), а знаменатель – порядковое числительное (седьмая, сотая, двести тридцатая и т.д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Например:        одна седьм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двести две тысяч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Object 1"/>
              <p:cNvSpPr txBox="1"/>
              <p:nvPr/>
            </p:nvSpPr>
            <p:spPr>
              <a:xfrm>
                <a:off x="7093080" y="4554360"/>
                <a:ext cx="158904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Object 3"/>
              <p:cNvSpPr txBox="1"/>
              <p:nvPr/>
            </p:nvSpPr>
            <p:spPr>
              <a:xfrm>
                <a:off x="8172360" y="1179360"/>
                <a:ext cx="97164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0" y="324000"/>
            <a:ext cx="8461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ahoma"/>
              </a:rPr>
              <a:t>Запиши цифрами шесть </a:t>
            </a:r>
            <a:r>
              <a:rPr b="0" lang="ru-RU" sz="4400" spc="-1" strike="noStrike" u="sng">
                <a:solidFill>
                  <a:srgbClr val="ffc000"/>
                </a:solidFill>
                <a:uFillTx/>
                <a:latin typeface="Tahoma"/>
              </a:rPr>
              <a:t>не натуральных  чисел</a:t>
            </a:r>
            <a:r>
              <a:rPr b="0" lang="ru-RU" sz="4400" spc="-1" strike="noStrike">
                <a:solidFill>
                  <a:srgbClr val="ffc0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одна одиннадцат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две тридцат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девять десят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ять восьм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две третьи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олови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Object 3"/>
              <p:cNvSpPr txBox="1"/>
              <p:nvPr/>
            </p:nvSpPr>
            <p:spPr>
              <a:xfrm>
                <a:off x="8213760" y="4297320"/>
                <a:ext cx="97164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Object 3"/>
              <p:cNvSpPr txBox="1"/>
              <p:nvPr/>
            </p:nvSpPr>
            <p:spPr>
              <a:xfrm>
                <a:off x="7132680" y="4297320"/>
                <a:ext cx="89064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Object 4"/>
              <p:cNvSpPr txBox="1"/>
              <p:nvPr/>
            </p:nvSpPr>
            <p:spPr>
              <a:xfrm>
                <a:off x="5697360" y="4297320"/>
                <a:ext cx="129564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Object 5"/>
              <p:cNvSpPr txBox="1"/>
              <p:nvPr/>
            </p:nvSpPr>
            <p:spPr>
              <a:xfrm>
                <a:off x="4076640" y="4297320"/>
                <a:ext cx="137628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Object 6"/>
              <p:cNvSpPr txBox="1"/>
              <p:nvPr/>
            </p:nvSpPr>
            <p:spPr>
              <a:xfrm>
                <a:off x="7875720" y="954000"/>
                <a:ext cx="121428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Object 7"/>
              <p:cNvSpPr txBox="1"/>
              <p:nvPr/>
            </p:nvSpPr>
            <p:spPr>
              <a:xfrm>
                <a:off x="6146640" y="1584360"/>
                <a:ext cx="1152720" cy="24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plit dir="in" orient="ver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-351360"/>
            <a:ext cx="9144000" cy="329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ahoma"/>
              </a:rPr>
              <a:t>Дробь</a:t>
            </a: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 – это всегда </a:t>
            </a:r>
            <a:r>
              <a:rPr b="1" i="1" lang="ru-RU" sz="3200" spc="-1" strike="noStrike" u="sng">
                <a:solidFill>
                  <a:srgbClr val="ffc000"/>
                </a:solidFill>
                <a:uFillTx/>
                <a:latin typeface="Tahoma"/>
              </a:rPr>
              <a:t>часть от целого</a:t>
            </a: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. Если целое принять как площадь  занимаемой фигуры и разделить ее на </a:t>
            </a:r>
            <a:r>
              <a:rPr b="1" i="1" lang="ru-RU" sz="3200" spc="-1" strike="noStrike">
                <a:solidFill>
                  <a:srgbClr val="ffc000"/>
                </a:solidFill>
                <a:latin typeface="Tahoma"/>
              </a:rPr>
              <a:t>равные части</a:t>
            </a: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, то площадь выделенной части  можно записать </a:t>
            </a:r>
            <a:r>
              <a:rPr b="1" i="1" lang="ru-RU" sz="3200" spc="-1" strike="noStrike">
                <a:solidFill>
                  <a:srgbClr val="ffc000"/>
                </a:solidFill>
                <a:latin typeface="Tahoma"/>
              </a:rPr>
              <a:t>ДРОБЬЮ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828" name="Picture 3" descr=""/>
          <p:cNvPicPr/>
          <p:nvPr/>
        </p:nvPicPr>
        <p:blipFill>
          <a:blip r:embed="rId1"/>
          <a:srcRect l="20982" t="29944" r="23646" b="20149"/>
          <a:stretch/>
        </p:blipFill>
        <p:spPr>
          <a:xfrm>
            <a:off x="0" y="2843280"/>
            <a:ext cx="2065320" cy="2160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4" descr=""/>
          <p:cNvPicPr/>
          <p:nvPr/>
        </p:nvPicPr>
        <p:blipFill>
          <a:blip r:embed="rId2"/>
          <a:srcRect l="21720" t="26617" r="22155" b="20149"/>
          <a:stretch/>
        </p:blipFill>
        <p:spPr>
          <a:xfrm>
            <a:off x="2232000" y="2889360"/>
            <a:ext cx="2005200" cy="207000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5" descr=""/>
          <p:cNvPicPr/>
          <p:nvPr/>
        </p:nvPicPr>
        <p:blipFill>
          <a:blip r:embed="rId3"/>
          <a:srcRect l="18100" t="24953" r="22155" b="21520"/>
          <a:stretch/>
        </p:blipFill>
        <p:spPr>
          <a:xfrm>
            <a:off x="4392720" y="2979720"/>
            <a:ext cx="2114280" cy="206208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6" descr=""/>
          <p:cNvPicPr/>
          <p:nvPr/>
        </p:nvPicPr>
        <p:blipFill>
          <a:blip r:embed="rId4"/>
          <a:srcRect l="18100" t="24953" r="20345" b="21813"/>
          <a:stretch/>
        </p:blipFill>
        <p:spPr>
          <a:xfrm>
            <a:off x="7088040" y="3024360"/>
            <a:ext cx="2055960" cy="193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2" name="Object 7"/>
              <p:cNvSpPr txBox="1"/>
              <p:nvPr/>
            </p:nvSpPr>
            <p:spPr>
              <a:xfrm>
                <a:off x="522360" y="5143680"/>
                <a:ext cx="5968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Object 8"/>
              <p:cNvSpPr txBox="1"/>
              <p:nvPr/>
            </p:nvSpPr>
            <p:spPr>
              <a:xfrm>
                <a:off x="2879640" y="5143680"/>
                <a:ext cx="6526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Object 9"/>
              <p:cNvSpPr txBox="1"/>
              <p:nvPr/>
            </p:nvSpPr>
            <p:spPr>
              <a:xfrm>
                <a:off x="5067360" y="5143680"/>
                <a:ext cx="5968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Object 10"/>
              <p:cNvSpPr txBox="1"/>
              <p:nvPr/>
            </p:nvSpPr>
            <p:spPr>
              <a:xfrm>
                <a:off x="7812000" y="5143680"/>
                <a:ext cx="5968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Заголовок 1"/>
          <p:cNvSpPr/>
          <p:nvPr/>
        </p:nvSpPr>
        <p:spPr>
          <a:xfrm>
            <a:off x="0" y="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ahoma"/>
              </a:rPr>
              <a:t>Дробь</a:t>
            </a: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 – это деление целого на равные части . Если целое принять за длину отрезка  и разделить его на </a:t>
            </a:r>
            <a:r>
              <a:rPr b="1" i="1" lang="ru-RU" sz="3200" spc="-1" strike="noStrike">
                <a:solidFill>
                  <a:srgbClr val="ffc000"/>
                </a:solidFill>
                <a:latin typeface="Tahoma"/>
              </a:rPr>
              <a:t>равные части</a:t>
            </a: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, то длину выделенной части  можно записать </a:t>
            </a:r>
            <a:r>
              <a:rPr b="1" i="1" lang="ru-RU" sz="3200" spc="-1" strike="noStrike">
                <a:solidFill>
                  <a:srgbClr val="ffc000"/>
                </a:solidFill>
                <a:latin typeface="Tahoma"/>
              </a:rPr>
              <a:t>ДРОБ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37" name="Группа 17"/>
          <p:cNvGrpSpPr/>
          <p:nvPr/>
        </p:nvGrpSpPr>
        <p:grpSpPr>
          <a:xfrm>
            <a:off x="-119160" y="3249720"/>
            <a:ext cx="9263160" cy="2879640"/>
            <a:chOff x="-119160" y="3249720"/>
            <a:chExt cx="9263160" cy="2879640"/>
          </a:xfrm>
        </p:grpSpPr>
        <p:pic>
          <p:nvPicPr>
            <p:cNvPr id="838" name="Рисунок 23" descr=""/>
            <p:cNvPicPr/>
            <p:nvPr/>
          </p:nvPicPr>
          <p:blipFill>
            <a:blip r:embed="rId1"/>
            <a:stretch/>
          </p:blipFill>
          <p:spPr>
            <a:xfrm>
              <a:off x="-119160" y="3249720"/>
              <a:ext cx="926316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Прямая соединительная линия 8"/>
            <p:cNvSpPr/>
            <p:nvPr/>
          </p:nvSpPr>
          <p:spPr>
            <a:xfrm>
              <a:off x="15120" y="3529440"/>
              <a:ext cx="8372520" cy="0"/>
            </a:xfrm>
            <a:prstGeom prst="line">
              <a:avLst/>
            </a:prstGeom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Прямая соединительная линия 9"/>
            <p:cNvSpPr/>
            <p:nvPr/>
          </p:nvSpPr>
          <p:spPr>
            <a:xfrm>
              <a:off x="15120" y="4108680"/>
              <a:ext cx="6308280" cy="44280"/>
            </a:xfrm>
            <a:prstGeom prst="line">
              <a:avLst/>
            </a:prstGeom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Прямая соединительная линия 10"/>
            <p:cNvSpPr/>
            <p:nvPr/>
          </p:nvSpPr>
          <p:spPr>
            <a:xfrm>
              <a:off x="15120" y="4777200"/>
              <a:ext cx="6308280" cy="88920"/>
            </a:xfrm>
            <a:prstGeom prst="line">
              <a:avLst/>
            </a:prstGeom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Прямая соединительная линия 11"/>
            <p:cNvSpPr/>
            <p:nvPr/>
          </p:nvSpPr>
          <p:spPr>
            <a:xfrm>
              <a:off x="15120" y="5668560"/>
              <a:ext cx="6308280" cy="0"/>
            </a:xfrm>
            <a:prstGeom prst="line">
              <a:avLst/>
            </a:prstGeom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Какая часть фигуры заштрихована</a:t>
            </a: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?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Запиши  дробью в своей тетради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844" name="Picture 4" descr="Untitled-2"/>
          <p:cNvPicPr/>
          <p:nvPr/>
        </p:nvPicPr>
        <p:blipFill>
          <a:blip r:embed="rId1"/>
          <a:stretch/>
        </p:blipFill>
        <p:spPr>
          <a:xfrm>
            <a:off x="0" y="1673280"/>
            <a:ext cx="9433080" cy="2655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5" name="Object 3"/>
              <p:cNvSpPr txBox="1"/>
              <p:nvPr/>
            </p:nvSpPr>
            <p:spPr>
              <a:xfrm>
                <a:off x="420840" y="4419720"/>
                <a:ext cx="76176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Object 3"/>
              <p:cNvSpPr txBox="1"/>
              <p:nvPr/>
            </p:nvSpPr>
            <p:spPr>
              <a:xfrm>
                <a:off x="2862360" y="4419720"/>
                <a:ext cx="83160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Object 4"/>
              <p:cNvSpPr txBox="1"/>
              <p:nvPr/>
            </p:nvSpPr>
            <p:spPr>
              <a:xfrm>
                <a:off x="5427720" y="4667400"/>
                <a:ext cx="83196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Object 5"/>
              <p:cNvSpPr txBox="1"/>
              <p:nvPr/>
            </p:nvSpPr>
            <p:spPr>
              <a:xfrm>
                <a:off x="7359480" y="4667400"/>
                <a:ext cx="11098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Группа 122"/>
          <p:cNvGrpSpPr/>
          <p:nvPr/>
        </p:nvGrpSpPr>
        <p:grpSpPr>
          <a:xfrm>
            <a:off x="5786280" y="3699000"/>
            <a:ext cx="2600640" cy="2819160"/>
            <a:chOff x="5786280" y="3699000"/>
            <a:chExt cx="2600640" cy="2819160"/>
          </a:xfrm>
        </p:grpSpPr>
        <p:pic>
          <p:nvPicPr>
            <p:cNvPr id="850" name="Picture 3" descr=""/>
            <p:cNvPicPr/>
            <p:nvPr/>
          </p:nvPicPr>
          <p:blipFill>
            <a:blip r:embed="rId1"/>
            <a:stretch/>
          </p:blipFill>
          <p:spPr>
            <a:xfrm>
              <a:off x="5786280" y="3699000"/>
              <a:ext cx="260064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Picture 4" descr=""/>
            <p:cNvPicPr/>
            <p:nvPr/>
          </p:nvPicPr>
          <p:blipFill>
            <a:blip r:embed="rId2"/>
            <a:srcRect l="0" t="0" r="0" b="45735"/>
            <a:stretch/>
          </p:blipFill>
          <p:spPr>
            <a:xfrm>
              <a:off x="5786280" y="3699000"/>
              <a:ext cx="2600640" cy="15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Picture 5" descr=""/>
            <p:cNvPicPr/>
            <p:nvPr/>
          </p:nvPicPr>
          <p:blipFill>
            <a:blip r:embed="rId3"/>
            <a:srcRect l="0" t="54277" r="49813" b="0"/>
            <a:stretch/>
          </p:blipFill>
          <p:spPr>
            <a:xfrm>
              <a:off x="5786280" y="5229000"/>
              <a:ext cx="1305360" cy="128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3" name="Нижний колонтитул 6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Прямоугольник 64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Устное задание классу:  </a:t>
            </a:r>
            <a:r>
              <a:rPr b="0" i="1" lang="ru-RU" sz="2800" spc="-1" strike="noStrike">
                <a:solidFill>
                  <a:srgbClr val="ffabab"/>
                </a:solidFill>
                <a:latin typeface="Tahoma"/>
              </a:rPr>
              <a:t>На готовых рисунках закрашенная часть каждой фигуры обозначена дробью. </a:t>
            </a:r>
            <a:r>
              <a:rPr b="0" i="1" lang="ru-RU" sz="2800" spc="-1" strike="noStrike">
                <a:solidFill>
                  <a:srgbClr val="ffc000"/>
                </a:solidFill>
                <a:latin typeface="Tahoma"/>
              </a:rPr>
              <a:t>Определите  </a:t>
            </a:r>
            <a:r>
              <a:rPr b="0" i="1" lang="ru-RU" sz="2800" spc="-1" strike="noStrike">
                <a:solidFill>
                  <a:srgbClr val="ffc000"/>
                </a:solidFill>
                <a:latin typeface="Tahoma"/>
              </a:rPr>
              <a:t>дробь записана </a:t>
            </a:r>
            <a:r>
              <a:rPr b="0" i="1" lang="ru-RU" sz="2800" spc="-1" strike="noStrike" u="sng">
                <a:solidFill>
                  <a:srgbClr val="ffc000"/>
                </a:solidFill>
                <a:uFillTx/>
                <a:latin typeface="Tahoma"/>
              </a:rPr>
              <a:t>верно</a:t>
            </a:r>
            <a:r>
              <a:rPr b="0" i="1" lang="ru-RU" sz="2800" spc="-1" strike="noStrike">
                <a:solidFill>
                  <a:srgbClr val="ffc000"/>
                </a:solidFill>
                <a:latin typeface="Tahoma"/>
              </a:rPr>
              <a:t>, или </a:t>
            </a:r>
            <a:r>
              <a:rPr b="0" i="1" lang="ru-RU" sz="2800" spc="-1" strike="noStrike" u="sng">
                <a:solidFill>
                  <a:srgbClr val="ffc000"/>
                </a:solidFill>
                <a:uFillTx/>
                <a:latin typeface="Tahoma"/>
              </a:rPr>
              <a:t>неверно</a:t>
            </a:r>
            <a:r>
              <a:rPr b="0" i="1" lang="ru-RU" sz="2800" spc="-1" strike="noStrike">
                <a:solidFill>
                  <a:srgbClr val="ffc000"/>
                </a:solidFill>
                <a:latin typeface="Tahoma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5" name="Группа 65"/>
          <p:cNvGrpSpPr/>
          <p:nvPr/>
        </p:nvGrpSpPr>
        <p:grpSpPr>
          <a:xfrm>
            <a:off x="0" y="1763640"/>
            <a:ext cx="1665360" cy="1216080"/>
            <a:chOff x="0" y="1763640"/>
            <a:chExt cx="1665360" cy="1216080"/>
          </a:xfrm>
        </p:grpSpPr>
        <p:sp>
          <p:nvSpPr>
            <p:cNvPr id="856" name="Rectangle 14"/>
            <p:cNvSpPr/>
            <p:nvPr/>
          </p:nvSpPr>
          <p:spPr>
            <a:xfrm>
              <a:off x="0" y="1763640"/>
              <a:ext cx="416160" cy="6080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7" name="Rectangle 17"/>
            <p:cNvSpPr/>
            <p:nvPr/>
          </p:nvSpPr>
          <p:spPr>
            <a:xfrm>
              <a:off x="832680" y="1763640"/>
              <a:ext cx="416160" cy="6080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8" name="Rectangle 18"/>
            <p:cNvSpPr/>
            <p:nvPr/>
          </p:nvSpPr>
          <p:spPr>
            <a:xfrm>
              <a:off x="416160" y="1763640"/>
              <a:ext cx="416160" cy="6080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9" name="Rectangle 19"/>
            <p:cNvSpPr/>
            <p:nvPr/>
          </p:nvSpPr>
          <p:spPr>
            <a:xfrm>
              <a:off x="1249200" y="1763640"/>
              <a:ext cx="416160" cy="6080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0" name="Rectangle 20"/>
            <p:cNvSpPr/>
            <p:nvPr/>
          </p:nvSpPr>
          <p:spPr>
            <a:xfrm>
              <a:off x="416160" y="2371680"/>
              <a:ext cx="416160" cy="6080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1" name="Rectangle 21"/>
            <p:cNvSpPr/>
            <p:nvPr/>
          </p:nvSpPr>
          <p:spPr>
            <a:xfrm>
              <a:off x="0" y="2371680"/>
              <a:ext cx="416160" cy="6080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2" name="Rectangle 22"/>
            <p:cNvSpPr/>
            <p:nvPr/>
          </p:nvSpPr>
          <p:spPr>
            <a:xfrm>
              <a:off x="832680" y="2371680"/>
              <a:ext cx="416160" cy="6080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3" name="Rectangle 23"/>
            <p:cNvSpPr/>
            <p:nvPr/>
          </p:nvSpPr>
          <p:spPr>
            <a:xfrm>
              <a:off x="1249200" y="2371680"/>
              <a:ext cx="416160" cy="6080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4" name="Object 11"/>
              <p:cNvSpPr txBox="1"/>
              <p:nvPr/>
            </p:nvSpPr>
            <p:spPr>
              <a:xfrm>
                <a:off x="2097000" y="1763640"/>
                <a:ext cx="7938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5" name="Группа 75"/>
          <p:cNvGrpSpPr/>
          <p:nvPr/>
        </p:nvGrpSpPr>
        <p:grpSpPr>
          <a:xfrm>
            <a:off x="0" y="3294000"/>
            <a:ext cx="1692360" cy="1349280"/>
            <a:chOff x="0" y="3294000"/>
            <a:chExt cx="1692360" cy="1349280"/>
          </a:xfrm>
        </p:grpSpPr>
        <p:sp>
          <p:nvSpPr>
            <p:cNvPr id="866" name="AutoShape 59"/>
            <p:cNvSpPr/>
            <p:nvPr/>
          </p:nvSpPr>
          <p:spPr>
            <a:xfrm>
              <a:off x="0" y="3968640"/>
              <a:ext cx="565560" cy="674640"/>
            </a:xfrm>
            <a:prstGeom prst="triangle">
              <a:avLst>
                <a:gd name="adj" fmla="val 50000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7" name="AutoShape 60"/>
            <p:cNvSpPr/>
            <p:nvPr/>
          </p:nvSpPr>
          <p:spPr>
            <a:xfrm>
              <a:off x="563400" y="3968640"/>
              <a:ext cx="565560" cy="674640"/>
            </a:xfrm>
            <a:prstGeom prst="triangle">
              <a:avLst>
                <a:gd name="adj" fmla="val 50000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8" name="AutoShape 61"/>
            <p:cNvSpPr/>
            <p:nvPr/>
          </p:nvSpPr>
          <p:spPr>
            <a:xfrm>
              <a:off x="1126800" y="3968640"/>
              <a:ext cx="565560" cy="674640"/>
            </a:xfrm>
            <a:prstGeom prst="triangle">
              <a:avLst>
                <a:gd name="adj" fmla="val 50000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9" name="AutoShape 62"/>
            <p:cNvSpPr/>
            <p:nvPr/>
          </p:nvSpPr>
          <p:spPr>
            <a:xfrm rot="10800000">
              <a:off x="281160" y="3968640"/>
              <a:ext cx="565560" cy="6746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0" name="AutoShape 63"/>
            <p:cNvSpPr/>
            <p:nvPr/>
          </p:nvSpPr>
          <p:spPr>
            <a:xfrm rot="10800000">
              <a:off x="844920" y="3968640"/>
              <a:ext cx="565560" cy="6746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1" name="AutoShape 64"/>
            <p:cNvSpPr/>
            <p:nvPr/>
          </p:nvSpPr>
          <p:spPr>
            <a:xfrm>
              <a:off x="281520" y="3294000"/>
              <a:ext cx="565560" cy="674640"/>
            </a:xfrm>
            <a:prstGeom prst="triangle">
              <a:avLst>
                <a:gd name="adj" fmla="val 50000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2" name="AutoShape 65"/>
            <p:cNvSpPr/>
            <p:nvPr/>
          </p:nvSpPr>
          <p:spPr>
            <a:xfrm>
              <a:off x="845280" y="3294000"/>
              <a:ext cx="565560" cy="674640"/>
            </a:xfrm>
            <a:prstGeom prst="triangle">
              <a:avLst>
                <a:gd name="adj" fmla="val 50000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3" name="AutoShape 66"/>
            <p:cNvSpPr/>
            <p:nvPr/>
          </p:nvSpPr>
          <p:spPr>
            <a:xfrm rot="10800000">
              <a:off x="563040" y="3294000"/>
              <a:ext cx="565560" cy="6746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4" name="Object 12"/>
              <p:cNvSpPr txBox="1"/>
              <p:nvPr/>
            </p:nvSpPr>
            <p:spPr>
              <a:xfrm>
                <a:off x="1736640" y="3294000"/>
                <a:ext cx="76860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75" name="Группа 85"/>
          <p:cNvGrpSpPr/>
          <p:nvPr/>
        </p:nvGrpSpPr>
        <p:grpSpPr>
          <a:xfrm>
            <a:off x="3446640" y="1719000"/>
            <a:ext cx="1395360" cy="1305360"/>
            <a:chOff x="3446640" y="1719000"/>
            <a:chExt cx="1395360" cy="1305360"/>
          </a:xfrm>
        </p:grpSpPr>
        <p:sp>
          <p:nvSpPr>
            <p:cNvPr id="876" name="AutoShape 37"/>
            <p:cNvSpPr/>
            <p:nvPr/>
          </p:nvSpPr>
          <p:spPr>
            <a:xfrm>
              <a:off x="3446640" y="1719360"/>
              <a:ext cx="697680" cy="1305000"/>
            </a:xfrm>
            <a:prstGeom prst="rtTriangle">
              <a:avLst/>
            </a:prstGeom>
            <a:solidFill>
              <a:srgbClr val="99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7" name="AutoShape 38"/>
            <p:cNvSpPr/>
            <p:nvPr/>
          </p:nvSpPr>
          <p:spPr>
            <a:xfrm rot="10800000">
              <a:off x="4144320" y="1719000"/>
              <a:ext cx="697680" cy="130500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AutoShape 39"/>
            <p:cNvSpPr/>
            <p:nvPr/>
          </p:nvSpPr>
          <p:spPr>
            <a:xfrm>
              <a:off x="4144320" y="1719360"/>
              <a:ext cx="697680" cy="1305000"/>
            </a:xfrm>
            <a:prstGeom prst="rtTriangle">
              <a:avLst/>
            </a:prstGeom>
            <a:solidFill>
              <a:srgbClr val="99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9" name="AutoShape 40"/>
            <p:cNvSpPr/>
            <p:nvPr/>
          </p:nvSpPr>
          <p:spPr>
            <a:xfrm rot="10800000">
              <a:off x="3446640" y="1719000"/>
              <a:ext cx="697680" cy="130500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0" name="Object 13"/>
              <p:cNvSpPr txBox="1"/>
              <p:nvPr/>
            </p:nvSpPr>
            <p:spPr>
              <a:xfrm>
                <a:off x="5157720" y="1628640"/>
                <a:ext cx="52884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81" name="Группа 91"/>
          <p:cNvGrpSpPr/>
          <p:nvPr/>
        </p:nvGrpSpPr>
        <p:grpSpPr>
          <a:xfrm>
            <a:off x="3131640" y="3429000"/>
            <a:ext cx="1311840" cy="1523880"/>
            <a:chOff x="3131640" y="3429000"/>
            <a:chExt cx="1311840" cy="1523880"/>
          </a:xfrm>
        </p:grpSpPr>
        <p:sp>
          <p:nvSpPr>
            <p:cNvPr id="882" name="AutoShape 67"/>
            <p:cNvSpPr/>
            <p:nvPr/>
          </p:nvSpPr>
          <p:spPr>
            <a:xfrm rot="5400000">
              <a:off x="3027240" y="3534120"/>
              <a:ext cx="1519920" cy="1309320"/>
            </a:xfrm>
            <a:prstGeom prst="flowChartCollate">
              <a:avLst/>
            </a:prstGeom>
            <a:solidFill>
              <a:srgbClr val="f25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3" name="AutoShape 68"/>
            <p:cNvSpPr/>
            <p:nvPr/>
          </p:nvSpPr>
          <p:spPr>
            <a:xfrm>
              <a:off x="3132000" y="4192920"/>
              <a:ext cx="1311480" cy="759960"/>
            </a:xfrm>
            <a:prstGeom prst="triangle">
              <a:avLst>
                <a:gd name="adj" fmla="val 50000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AutoShape 69"/>
            <p:cNvSpPr/>
            <p:nvPr/>
          </p:nvSpPr>
          <p:spPr>
            <a:xfrm rot="10800000">
              <a:off x="3131640" y="3429720"/>
              <a:ext cx="1311480" cy="759960"/>
            </a:xfrm>
            <a:prstGeom prst="triangle">
              <a:avLst>
                <a:gd name="adj" fmla="val 50000"/>
              </a:avLst>
            </a:prstGeom>
            <a:solidFill>
              <a:srgbClr val="f25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5" name="Object 14"/>
              <p:cNvSpPr txBox="1"/>
              <p:nvPr/>
            </p:nvSpPr>
            <p:spPr>
              <a:xfrm>
                <a:off x="4662360" y="3338640"/>
                <a:ext cx="569880" cy="18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86" name="Группа 96"/>
          <p:cNvGrpSpPr/>
          <p:nvPr/>
        </p:nvGrpSpPr>
        <p:grpSpPr>
          <a:xfrm>
            <a:off x="6102360" y="1719360"/>
            <a:ext cx="1800360" cy="1123920"/>
            <a:chOff x="6102360" y="1719360"/>
            <a:chExt cx="1800360" cy="1123920"/>
          </a:xfrm>
        </p:grpSpPr>
        <p:sp>
          <p:nvSpPr>
            <p:cNvPr id="887" name="Rectangle 43"/>
            <p:cNvSpPr/>
            <p:nvPr/>
          </p:nvSpPr>
          <p:spPr>
            <a:xfrm>
              <a:off x="6102360" y="1719360"/>
              <a:ext cx="600120" cy="1123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8" name="Rectangle 44"/>
            <p:cNvSpPr/>
            <p:nvPr/>
          </p:nvSpPr>
          <p:spPr>
            <a:xfrm>
              <a:off x="6702480" y="1719360"/>
              <a:ext cx="600120" cy="112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9" name="Rectangle 45"/>
            <p:cNvSpPr/>
            <p:nvPr/>
          </p:nvSpPr>
          <p:spPr>
            <a:xfrm>
              <a:off x="7302600" y="1719360"/>
              <a:ext cx="600120" cy="1123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0" name="Object 15"/>
              <p:cNvSpPr txBox="1"/>
              <p:nvPr/>
            </p:nvSpPr>
            <p:spPr>
              <a:xfrm>
                <a:off x="8263080" y="1538280"/>
                <a:ext cx="5126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91" name="Группа 102"/>
          <p:cNvGrpSpPr/>
          <p:nvPr/>
        </p:nvGrpSpPr>
        <p:grpSpPr>
          <a:xfrm>
            <a:off x="0" y="5184720"/>
            <a:ext cx="1915920" cy="1393920"/>
            <a:chOff x="0" y="5184720"/>
            <a:chExt cx="1915920" cy="1393920"/>
          </a:xfrm>
        </p:grpSpPr>
        <p:sp>
          <p:nvSpPr>
            <p:cNvPr id="892" name="Rectangle 15"/>
            <p:cNvSpPr/>
            <p:nvPr/>
          </p:nvSpPr>
          <p:spPr>
            <a:xfrm>
              <a:off x="957960" y="5184720"/>
              <a:ext cx="957960" cy="463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Rectangle 32"/>
            <p:cNvSpPr/>
            <p:nvPr/>
          </p:nvSpPr>
          <p:spPr>
            <a:xfrm>
              <a:off x="957960" y="5648400"/>
              <a:ext cx="957960" cy="463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Rectangle 33"/>
            <p:cNvSpPr/>
            <p:nvPr/>
          </p:nvSpPr>
          <p:spPr>
            <a:xfrm>
              <a:off x="0" y="5648400"/>
              <a:ext cx="957960" cy="463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Rectangle 34"/>
            <p:cNvSpPr/>
            <p:nvPr/>
          </p:nvSpPr>
          <p:spPr>
            <a:xfrm>
              <a:off x="0" y="6114960"/>
              <a:ext cx="957960" cy="463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6" name="Rectangle 35"/>
            <p:cNvSpPr/>
            <p:nvPr/>
          </p:nvSpPr>
          <p:spPr>
            <a:xfrm>
              <a:off x="0" y="5184720"/>
              <a:ext cx="957960" cy="463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Rectangle 36"/>
            <p:cNvSpPr/>
            <p:nvPr/>
          </p:nvSpPr>
          <p:spPr>
            <a:xfrm>
              <a:off x="957960" y="6114960"/>
              <a:ext cx="957960" cy="463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8" name="Object 17"/>
              <p:cNvSpPr txBox="1"/>
              <p:nvPr/>
            </p:nvSpPr>
            <p:spPr>
              <a:xfrm>
                <a:off x="2141640" y="5138640"/>
                <a:ext cx="56016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99" name="Группа 110"/>
          <p:cNvGrpSpPr/>
          <p:nvPr/>
        </p:nvGrpSpPr>
        <p:grpSpPr>
          <a:xfrm>
            <a:off x="3627360" y="5364000"/>
            <a:ext cx="1081080" cy="1244880"/>
            <a:chOff x="3627360" y="5364000"/>
            <a:chExt cx="1081080" cy="1244880"/>
          </a:xfrm>
        </p:grpSpPr>
        <p:sp>
          <p:nvSpPr>
            <p:cNvPr id="900" name="Rectangle 16"/>
            <p:cNvSpPr/>
            <p:nvPr/>
          </p:nvSpPr>
          <p:spPr>
            <a:xfrm>
              <a:off x="3627360" y="6194520"/>
              <a:ext cx="360360" cy="414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Rectangle 24"/>
            <p:cNvSpPr/>
            <p:nvPr/>
          </p:nvSpPr>
          <p:spPr>
            <a:xfrm>
              <a:off x="3987720" y="5364000"/>
              <a:ext cx="360360" cy="414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Rectangle 25"/>
            <p:cNvSpPr/>
            <p:nvPr/>
          </p:nvSpPr>
          <p:spPr>
            <a:xfrm>
              <a:off x="4348080" y="5364000"/>
              <a:ext cx="360360" cy="414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Rectangle 26"/>
            <p:cNvSpPr/>
            <p:nvPr/>
          </p:nvSpPr>
          <p:spPr>
            <a:xfrm>
              <a:off x="3627360" y="5364000"/>
              <a:ext cx="360360" cy="414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Rectangle 27"/>
            <p:cNvSpPr/>
            <p:nvPr/>
          </p:nvSpPr>
          <p:spPr>
            <a:xfrm>
              <a:off x="3627360" y="5778360"/>
              <a:ext cx="360360" cy="414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Rectangle 28"/>
            <p:cNvSpPr/>
            <p:nvPr/>
          </p:nvSpPr>
          <p:spPr>
            <a:xfrm>
              <a:off x="3987720" y="5778360"/>
              <a:ext cx="360360" cy="414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Rectangle 29"/>
            <p:cNvSpPr/>
            <p:nvPr/>
          </p:nvSpPr>
          <p:spPr>
            <a:xfrm>
              <a:off x="3987720" y="6194520"/>
              <a:ext cx="360360" cy="414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7" name="Rectangle 30"/>
            <p:cNvSpPr/>
            <p:nvPr/>
          </p:nvSpPr>
          <p:spPr>
            <a:xfrm>
              <a:off x="4348080" y="5778360"/>
              <a:ext cx="360360" cy="414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8" name="Rectangle 31"/>
            <p:cNvSpPr/>
            <p:nvPr/>
          </p:nvSpPr>
          <p:spPr>
            <a:xfrm>
              <a:off x="4348080" y="6194520"/>
              <a:ext cx="360360" cy="414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9" name="Object 18"/>
              <p:cNvSpPr txBox="1"/>
              <p:nvPr/>
            </p:nvSpPr>
            <p:spPr>
              <a:xfrm>
                <a:off x="4932360" y="5338800"/>
                <a:ext cx="53820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Object 19"/>
              <p:cNvSpPr txBox="1"/>
              <p:nvPr/>
            </p:nvSpPr>
            <p:spPr>
              <a:xfrm>
                <a:off x="8217000" y="4419720"/>
                <a:ext cx="56988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1" name="Улыбающееся лицо 127"/>
          <p:cNvSpPr/>
          <p:nvPr/>
        </p:nvSpPr>
        <p:spPr>
          <a:xfrm>
            <a:off x="2637000" y="2033640"/>
            <a:ext cx="585720" cy="4507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Умножение 128"/>
          <p:cNvSpPr/>
          <p:nvPr/>
        </p:nvSpPr>
        <p:spPr>
          <a:xfrm>
            <a:off x="2276640" y="3699000"/>
            <a:ext cx="990360" cy="936360"/>
          </a:xfrm>
          <a:custGeom>
            <a:avLst/>
            <a:gdLst/>
            <a:ahLst/>
            <a:rect l="l" t="t" r="r" b="b"/>
            <a:pathLst>
              <a:path w="990600" h="936625">
                <a:moveTo>
                  <a:pt x="162243" y="304990"/>
                </a:moveTo>
                <a:lnTo>
                  <a:pt x="313592" y="144918"/>
                </a:lnTo>
                <a:lnTo>
                  <a:pt x="495300" y="316725"/>
                </a:lnTo>
                <a:lnTo>
                  <a:pt x="677008" y="144918"/>
                </a:lnTo>
                <a:lnTo>
                  <a:pt x="828357" y="304990"/>
                </a:lnTo>
                <a:lnTo>
                  <a:pt x="655623" y="468313"/>
                </a:lnTo>
                <a:lnTo>
                  <a:pt x="828357" y="631635"/>
                </a:lnTo>
                <a:lnTo>
                  <a:pt x="677008" y="791707"/>
                </a:lnTo>
                <a:lnTo>
                  <a:pt x="495300" y="619900"/>
                </a:lnTo>
                <a:lnTo>
                  <a:pt x="313592" y="791707"/>
                </a:lnTo>
                <a:lnTo>
                  <a:pt x="162243" y="631635"/>
                </a:lnTo>
                <a:lnTo>
                  <a:pt x="334977" y="468313"/>
                </a:lnTo>
                <a:lnTo>
                  <a:pt x="162243" y="30499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Умножение 131"/>
          <p:cNvSpPr/>
          <p:nvPr/>
        </p:nvSpPr>
        <p:spPr>
          <a:xfrm>
            <a:off x="5246640" y="1989000"/>
            <a:ext cx="990720" cy="936720"/>
          </a:xfrm>
          <a:custGeom>
            <a:avLst/>
            <a:gdLst/>
            <a:ahLst/>
            <a:rect l="l" t="t" r="r" b="b"/>
            <a:pathLst>
              <a:path w="990600" h="936625">
                <a:moveTo>
                  <a:pt x="162243" y="304990"/>
                </a:moveTo>
                <a:lnTo>
                  <a:pt x="313592" y="144918"/>
                </a:lnTo>
                <a:lnTo>
                  <a:pt x="495300" y="316725"/>
                </a:lnTo>
                <a:lnTo>
                  <a:pt x="677008" y="144918"/>
                </a:lnTo>
                <a:lnTo>
                  <a:pt x="828357" y="304990"/>
                </a:lnTo>
                <a:lnTo>
                  <a:pt x="655623" y="468313"/>
                </a:lnTo>
                <a:lnTo>
                  <a:pt x="828357" y="631635"/>
                </a:lnTo>
                <a:lnTo>
                  <a:pt x="677008" y="791707"/>
                </a:lnTo>
                <a:lnTo>
                  <a:pt x="495300" y="619900"/>
                </a:lnTo>
                <a:lnTo>
                  <a:pt x="313592" y="791707"/>
                </a:lnTo>
                <a:lnTo>
                  <a:pt x="162243" y="631635"/>
                </a:lnTo>
                <a:lnTo>
                  <a:pt x="334977" y="468313"/>
                </a:lnTo>
                <a:lnTo>
                  <a:pt x="162243" y="30499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Улыбающееся лицо 133"/>
          <p:cNvSpPr/>
          <p:nvPr/>
        </p:nvSpPr>
        <p:spPr>
          <a:xfrm>
            <a:off x="7542360" y="2664000"/>
            <a:ext cx="539640" cy="495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Улыбающееся лицо 134"/>
          <p:cNvSpPr/>
          <p:nvPr/>
        </p:nvSpPr>
        <p:spPr>
          <a:xfrm>
            <a:off x="2592360" y="5859360"/>
            <a:ext cx="809640" cy="540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Умножение 135"/>
          <p:cNvSpPr/>
          <p:nvPr/>
        </p:nvSpPr>
        <p:spPr>
          <a:xfrm>
            <a:off x="4751280" y="3833640"/>
            <a:ext cx="990720" cy="936720"/>
          </a:xfrm>
          <a:custGeom>
            <a:avLst/>
            <a:gdLst/>
            <a:ahLst/>
            <a:rect l="l" t="t" r="r" b="b"/>
            <a:pathLst>
              <a:path w="990600" h="936625">
                <a:moveTo>
                  <a:pt x="162243" y="304990"/>
                </a:moveTo>
                <a:lnTo>
                  <a:pt x="313592" y="144918"/>
                </a:lnTo>
                <a:lnTo>
                  <a:pt x="495300" y="316725"/>
                </a:lnTo>
                <a:lnTo>
                  <a:pt x="677008" y="144918"/>
                </a:lnTo>
                <a:lnTo>
                  <a:pt x="828357" y="304990"/>
                </a:lnTo>
                <a:lnTo>
                  <a:pt x="655623" y="468313"/>
                </a:lnTo>
                <a:lnTo>
                  <a:pt x="828357" y="631635"/>
                </a:lnTo>
                <a:lnTo>
                  <a:pt x="677008" y="791707"/>
                </a:lnTo>
                <a:lnTo>
                  <a:pt x="495300" y="619900"/>
                </a:lnTo>
                <a:lnTo>
                  <a:pt x="313592" y="791707"/>
                </a:lnTo>
                <a:lnTo>
                  <a:pt x="162243" y="631635"/>
                </a:lnTo>
                <a:lnTo>
                  <a:pt x="334977" y="468313"/>
                </a:lnTo>
                <a:lnTo>
                  <a:pt x="162243" y="30499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Умножение 136"/>
          <p:cNvSpPr/>
          <p:nvPr/>
        </p:nvSpPr>
        <p:spPr>
          <a:xfrm>
            <a:off x="5111640" y="5634000"/>
            <a:ext cx="990720" cy="936720"/>
          </a:xfrm>
          <a:custGeom>
            <a:avLst/>
            <a:gdLst/>
            <a:ahLst/>
            <a:rect l="l" t="t" r="r" b="b"/>
            <a:pathLst>
              <a:path w="990600" h="936625">
                <a:moveTo>
                  <a:pt x="162243" y="304990"/>
                </a:moveTo>
                <a:lnTo>
                  <a:pt x="313592" y="144918"/>
                </a:lnTo>
                <a:lnTo>
                  <a:pt x="495300" y="316725"/>
                </a:lnTo>
                <a:lnTo>
                  <a:pt x="677008" y="144918"/>
                </a:lnTo>
                <a:lnTo>
                  <a:pt x="828357" y="304990"/>
                </a:lnTo>
                <a:lnTo>
                  <a:pt x="655623" y="468313"/>
                </a:lnTo>
                <a:lnTo>
                  <a:pt x="828357" y="631635"/>
                </a:lnTo>
                <a:lnTo>
                  <a:pt x="677008" y="791707"/>
                </a:lnTo>
                <a:lnTo>
                  <a:pt x="495300" y="619900"/>
                </a:lnTo>
                <a:lnTo>
                  <a:pt x="313592" y="791707"/>
                </a:lnTo>
                <a:lnTo>
                  <a:pt x="162243" y="631635"/>
                </a:lnTo>
                <a:lnTo>
                  <a:pt x="334977" y="468313"/>
                </a:lnTo>
                <a:lnTo>
                  <a:pt x="162243" y="30499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Улыбающееся лицо 138"/>
          <p:cNvSpPr/>
          <p:nvPr/>
        </p:nvSpPr>
        <p:spPr>
          <a:xfrm>
            <a:off x="7677000" y="3699000"/>
            <a:ext cx="540000" cy="495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30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9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6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25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7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-333360" y="-351000"/>
            <a:ext cx="4726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Был план урок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50560" y="772920"/>
            <a:ext cx="59418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вспомним  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вторим …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размышляем 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ткроем новое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думаем по новому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узнаем о новом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думаем и отвечаем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находим часть от целого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дведем ит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пишем домашнее зад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юрприз от учите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Прямоугольник 3"/>
          <p:cNvSpPr/>
          <p:nvPr/>
        </p:nvSpPr>
        <p:spPr>
          <a:xfrm>
            <a:off x="4822920" y="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одведи итог  уро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341280" y="5009400"/>
            <a:ext cx="880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  <a:ea typeface="Times New Roman"/>
              </a:rPr>
              <a:t>Какую задачу решали на урок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  <a:ea typeface="Times New Roman"/>
              </a:rPr>
              <a:t>Какое число нового вида мы получил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  <a:ea typeface="Times New Roman"/>
              </a:rPr>
              <a:t>Как вы думаете, что мы будем изучать на следующем уроке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5560" y="593280"/>
            <a:ext cx="754380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Вычисли  удобным способом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05920" y="1898640"/>
            <a:ext cx="48150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88 + 40 –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8b8ff"/>
                </a:solidFill>
                <a:latin typeface="Arial"/>
              </a:rPr>
              <a:t>23</a:t>
            </a:r>
            <a:r>
              <a:rPr b="1" lang="en-US" sz="3600" spc="-1" strike="noStrike">
                <a:solidFill>
                  <a:srgbClr val="b8b8ff"/>
                </a:solidFill>
                <a:latin typeface="Arial"/>
                <a:ea typeface="Tahoma"/>
              </a:rPr>
              <a:t>·</a:t>
            </a:r>
            <a:r>
              <a:rPr b="1" lang="ru-RU" sz="3600" spc="-1" strike="noStrike">
                <a:solidFill>
                  <a:srgbClr val="b8b8ff"/>
                </a:solidFill>
                <a:latin typeface="Arial"/>
                <a:ea typeface="Tahoma"/>
              </a:rPr>
              <a:t>16 + 16 </a:t>
            </a:r>
            <a:r>
              <a:rPr b="1" lang="en-US" sz="3600" spc="-1" strike="noStrike">
                <a:solidFill>
                  <a:srgbClr val="b8b8ff"/>
                </a:solidFill>
                <a:latin typeface="Arial"/>
                <a:ea typeface="Tahoma"/>
              </a:rPr>
              <a:t>·</a:t>
            </a:r>
            <a:r>
              <a:rPr b="1" lang="ru-RU" sz="3600" spc="-1" strike="noStrike">
                <a:solidFill>
                  <a:srgbClr val="b8b8ff"/>
                </a:solidFill>
                <a:latin typeface="Arial"/>
                <a:ea typeface="Tahoma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ahoma"/>
              </a:rPr>
              <a:t>79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ahoma"/>
              </a:rPr>
              <a:t>·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ahoma"/>
              </a:rPr>
              <a:t>22  -  69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ahoma"/>
              </a:rPr>
              <a:t>·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ahoma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984480" y="1943280"/>
            <a:ext cx="5159520" cy="35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 88 – 8 + 40 = 12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8b8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b8b8ff"/>
                </a:solidFill>
                <a:latin typeface="Arial"/>
              </a:rPr>
              <a:t>= 16 </a:t>
            </a:r>
            <a:r>
              <a:rPr b="1" lang="en-US" sz="3600" spc="-1" strike="noStrike">
                <a:solidFill>
                  <a:srgbClr val="b8b8ff"/>
                </a:solidFill>
                <a:latin typeface="Arial"/>
                <a:ea typeface="Tahoma"/>
              </a:rPr>
              <a:t>·</a:t>
            </a:r>
            <a:r>
              <a:rPr b="1" lang="ru-RU" sz="3600" spc="-1" strike="noStrike">
                <a:solidFill>
                  <a:srgbClr val="b8b8ff"/>
                </a:solidFill>
                <a:latin typeface="Arial"/>
                <a:ea typeface="Tahoma"/>
              </a:rPr>
              <a:t>(23+77) = 160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ahoma"/>
              </a:rPr>
              <a:t>= 22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ahoma"/>
              </a:rPr>
              <a:t>·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ahoma"/>
              </a:rPr>
              <a:t>(79 - 69) = 22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TextBox 6"/>
          <p:cNvSpPr/>
          <p:nvPr/>
        </p:nvSpPr>
        <p:spPr>
          <a:xfrm>
            <a:off x="6325560" y="18900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Вспомним вместе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Прямоугольник 5"/>
          <p:cNvSpPr/>
          <p:nvPr/>
        </p:nvSpPr>
        <p:spPr>
          <a:xfrm>
            <a:off x="0" y="5769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Закончите предложение: « 120, 1600, 220 – это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57000" y="90792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Глава 4. Обыкновенные дроби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стр. 163-165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0" y="1763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. 4.1 прочитать,  понять, применить, запомнить,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Рассказать родителям об обыкновенных дробя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ть письменно  №№ 728- 729аб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TextBox 5"/>
          <p:cNvSpPr/>
          <p:nvPr/>
        </p:nvSpPr>
        <p:spPr>
          <a:xfrm>
            <a:off x="3966120" y="458640"/>
            <a:ext cx="33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Домашнее зад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-360" y="637920"/>
            <a:ext cx="8937720" cy="10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Вкусное д</a:t>
            </a:r>
            <a:r>
              <a:rPr b="0" lang="ru-RU" sz="2400" spc="-1" strike="noStrike">
                <a:solidFill>
                  <a:srgbClr val="c00000"/>
                </a:solidFill>
                <a:latin typeface="Georgia"/>
              </a:rPr>
              <a:t>омашнее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задание, которое выполни обязательно на этой недели и озвучь свой результат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0" y="187488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1) Купи мандарин или апельсин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    </a:t>
            </a: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Раздели его на дольки, посчитай, сколько   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    </a:t>
            </a: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всего долек? Угости своих родных и не   забудь записать, какую  часть фрукта получил каждый, и какая часть досталась теб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2) Купи большую шоколадку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    </a:t>
            </a: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Раздели её на дольки, посчитай,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    </a:t>
            </a: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сколько  всего долек?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    </a:t>
            </a: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Угости своих родных и не забудь   записать, какую  часть шоколадки получил каждый, и какая часть досталась теб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8" name="Picture 2" descr="C:\Documents and Settings\Admin\Мои документы\Мои рисунки\41831-w.jpg"/>
          <p:cNvPicPr/>
          <p:nvPr/>
        </p:nvPicPr>
        <p:blipFill>
          <a:blip r:embed="rId1"/>
          <a:stretch/>
        </p:blipFill>
        <p:spPr>
          <a:xfrm>
            <a:off x="7000920" y="3924360"/>
            <a:ext cx="2143080" cy="1285920"/>
          </a:xfrm>
          <a:prstGeom prst="rect">
            <a:avLst/>
          </a:prstGeom>
          <a:ln w="0">
            <a:noFill/>
          </a:ln>
        </p:spPr>
      </p:pic>
      <p:sp>
        <p:nvSpPr>
          <p:cNvPr id="929" name="Нижний колонтитул 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Прямоугольник 9"/>
          <p:cNvSpPr/>
          <p:nvPr/>
        </p:nvSpPr>
        <p:spPr>
          <a:xfrm>
            <a:off x="5640120" y="279360"/>
            <a:ext cx="3728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юрприз от учите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Улыбающееся лицо 11"/>
          <p:cNvSpPr/>
          <p:nvPr/>
        </p:nvSpPr>
        <p:spPr>
          <a:xfrm>
            <a:off x="5292720" y="0"/>
            <a:ext cx="853920" cy="66672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0" dur="20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5" dur="2000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0" dur="2000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5" dur="2000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0" dur="2000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5" dur="2000"/>
                                        <p:tgtEl>
                                          <p:spTgt spid="9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0" dur="2000"/>
                                        <p:tgtEl>
                                          <p:spTgt spid="9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з истории дроб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96640" y="1981080"/>
            <a:ext cx="831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оби появились в глубокой древности. При разделе добычи, при измерениях величин, да и в других похожих случаях, люди встретились с необходимостью ввести дроб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оби были нужны, чтобы выразить результат измерения длины, массы в случаях, когда единица измерения не укладывалась в измеряемой величине целое число раз. Тогда вводили новую, меньшую единицу измерения. Название этих новых единиц измерения и стали первыми названиями дроб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Прямоугольник 3"/>
          <p:cNvSpPr/>
          <p:nvPr/>
        </p:nvSpPr>
        <p:spPr>
          <a:xfrm>
            <a:off x="3353400" y="233280"/>
            <a:ext cx="5866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очитай  на перемене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Реши задачу, в которой примени свое знание о  дробях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675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В коробке лежат 18 мяч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дна вторая часть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- </a:t>
            </a:r>
            <a:r>
              <a:rPr b="1" lang="ru-RU" sz="3600" spc="-1" strike="noStrike">
                <a:solidFill>
                  <a:srgbClr val="fca6b8"/>
                </a:solidFill>
                <a:latin typeface="Tahoma"/>
              </a:rPr>
              <a:t>красные </a:t>
            </a: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мячи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,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дна третья часть- 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желтые,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а остальные </a:t>
            </a:r>
            <a:r>
              <a:rPr b="1" lang="ru-RU" sz="3600" spc="-1" strike="noStrike">
                <a:solidFill>
                  <a:srgbClr val="adadff"/>
                </a:solidFill>
                <a:latin typeface="Tahoma"/>
              </a:rPr>
              <a:t>синии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Сколько синих мячей в коробке</a:t>
            </a: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TextBox 3"/>
          <p:cNvSpPr/>
          <p:nvPr/>
        </p:nvSpPr>
        <p:spPr>
          <a:xfrm>
            <a:off x="4996080" y="64882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полнительное устное зад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8" name="Picture 2" descr=""/>
          <p:cNvPicPr/>
          <p:nvPr/>
        </p:nvPicPr>
        <p:blipFill>
          <a:blip r:embed="rId1"/>
          <a:stretch/>
        </p:blipFill>
        <p:spPr>
          <a:xfrm>
            <a:off x="6081840" y="2438280"/>
            <a:ext cx="3062160" cy="8557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3" descr=""/>
          <p:cNvPicPr/>
          <p:nvPr/>
        </p:nvPicPr>
        <p:blipFill>
          <a:blip r:embed="rId2"/>
          <a:stretch/>
        </p:blipFill>
        <p:spPr>
          <a:xfrm>
            <a:off x="6058080" y="1089000"/>
            <a:ext cx="1541160" cy="14400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3"/>
          <a:stretch/>
        </p:blipFill>
        <p:spPr>
          <a:xfrm>
            <a:off x="7477200" y="1089000"/>
            <a:ext cx="1666800" cy="1619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26640" y="-3067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Будет план урока №2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41280" y="863280"/>
            <a:ext cx="8802720" cy="59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читаем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маем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сстановим и ответим…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верим д/з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маем вместе…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удем рассуждаем смело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йдем тренировку визуально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пишем Д\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ведем  итог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593280"/>
            <a:ext cx="9144000" cy="20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Выполни  действие письменно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в своей тетради, выразив значение числового выражения 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через</a:t>
            </a: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неполное частное и остаток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96640" y="2889000"/>
            <a:ext cx="370044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75 : 9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93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b8ff"/>
                </a:solidFill>
                <a:latin typeface="Arial"/>
              </a:rPr>
              <a:t>48 : 17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93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b8ff"/>
                </a:solidFill>
                <a:latin typeface="Arial"/>
                <a:ea typeface="Tahoma"/>
              </a:rPr>
              <a:t>75 : 18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93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8b8ff"/>
                </a:solidFill>
                <a:latin typeface="Arial"/>
                <a:ea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941280" y="2754360"/>
            <a:ext cx="520236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Tahoma"/>
              </a:rPr>
              <a:t>= 8(ост 3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b8ff"/>
                </a:solidFill>
                <a:latin typeface="Arial"/>
                <a:ea typeface="Tahoma"/>
              </a:rPr>
              <a:t>= 2 (ост 14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b8ff"/>
                </a:solidFill>
                <a:latin typeface="Arial"/>
                <a:ea typeface="Tahoma"/>
              </a:rPr>
              <a:t>= 4 (ост 3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TextBox 7"/>
          <p:cNvSpPr/>
          <p:nvPr/>
        </p:nvSpPr>
        <p:spPr>
          <a:xfrm>
            <a:off x="6644520" y="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Повторим вместе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2303640"/>
            <a:ext cx="9144000" cy="18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Реши задачу устно. </a:t>
            </a:r>
            <a:br>
              <a:rPr sz="2800"/>
            </a:b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Обоснуй свой способ решения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Кусок проволоки длиной 1 м разрезали  на 2 равные части.  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b8b8ff"/>
                </a:solidFill>
                <a:latin typeface="Arial"/>
              </a:rPr>
              <a:t>Какова длина одной части? </a:t>
            </a:r>
            <a:br>
              <a:rPr sz="3200"/>
            </a:br>
            <a:r>
              <a:rPr b="1" lang="ru-RU" sz="3200" spc="-1" strike="noStrike">
                <a:solidFill>
                  <a:srgbClr val="b8b8ff"/>
                </a:solidFill>
                <a:latin typeface="Arial"/>
              </a:rPr>
              <a:t>Вырази длину этой части проволоки в дециметрах.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8" name="Прямоугольник 9"/>
          <p:cNvSpPr/>
          <p:nvPr/>
        </p:nvSpPr>
        <p:spPr>
          <a:xfrm>
            <a:off x="4694040" y="414360"/>
            <a:ext cx="46411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оразмышляем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  вместе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593280"/>
            <a:ext cx="914400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Кусок проволоки длиной 1 м разрезали  на 2 равные части.   </a:t>
            </a:r>
            <a:r>
              <a:rPr b="1" lang="ru-RU" sz="2400" spc="-1" strike="noStrike">
                <a:solidFill>
                  <a:srgbClr val="b8b8ff"/>
                </a:solidFill>
                <a:latin typeface="Arial"/>
              </a:rPr>
              <a:t>Какова длина одной части? </a:t>
            </a:r>
            <a:br>
              <a:rPr sz="2400"/>
            </a:br>
            <a:r>
              <a:rPr b="1" lang="ru-RU" sz="2400" spc="-1" strike="noStrike">
                <a:solidFill>
                  <a:srgbClr val="b8b8ff"/>
                </a:solidFill>
                <a:latin typeface="Arial"/>
              </a:rPr>
              <a:t>Вырази длину этой части проволоки в дециметрах. 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2014560"/>
            <a:ext cx="86868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м = 10 дм,  тогда    10 : 2 = 5 (дм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 5 дм длина одной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61" name="Group 7"/>
          <p:cNvGrpSpPr/>
          <p:nvPr/>
        </p:nvGrpSpPr>
        <p:grpSpPr>
          <a:xfrm>
            <a:off x="927000" y="2168640"/>
            <a:ext cx="4968720" cy="503280"/>
            <a:chOff x="927000" y="2168640"/>
            <a:chExt cx="4968720" cy="503280"/>
          </a:xfrm>
        </p:grpSpPr>
        <p:sp>
          <p:nvSpPr>
            <p:cNvPr id="662" name="Line 4"/>
            <p:cNvSpPr/>
            <p:nvPr/>
          </p:nvSpPr>
          <p:spPr>
            <a:xfrm>
              <a:off x="927000" y="2455920"/>
              <a:ext cx="4968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Line 6"/>
            <p:cNvSpPr/>
            <p:nvPr/>
          </p:nvSpPr>
          <p:spPr>
            <a:xfrm>
              <a:off x="3375000" y="2168640"/>
              <a:ext cx="0" cy="50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4" name="AutoShape 8"/>
          <p:cNvSpPr/>
          <p:nvPr/>
        </p:nvSpPr>
        <p:spPr>
          <a:xfrm rot="16200000">
            <a:off x="3384000" y="584640"/>
            <a:ext cx="215640" cy="5040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131400 h 5040360"/>
              <a:gd name="textAreaBottom" fmla="*/ 49089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01"/>
                </a:lnTo>
                <a:cubicBezTo>
                  <a:pt x="10800" y="9701"/>
                  <a:pt x="5400" y="10601"/>
                  <a:pt x="0" y="10601"/>
                </a:cubicBezTo>
                <a:cubicBezTo>
                  <a:pt x="5400" y="10601"/>
                  <a:pt x="10800" y="11501"/>
                  <a:pt x="10800" y="1240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Прямоугольник 9"/>
          <p:cNvSpPr/>
          <p:nvPr/>
        </p:nvSpPr>
        <p:spPr>
          <a:xfrm>
            <a:off x="5472000" y="0"/>
            <a:ext cx="4435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Поразмышляем  вместе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0560" y="458640"/>
            <a:ext cx="8219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Arial"/>
              </a:rPr>
              <a:t>Кусок проволоки длиной 1 м разрезали на 3 равные части. </a:t>
            </a:r>
            <a:br>
              <a:rPr sz="3000"/>
            </a:br>
            <a:r>
              <a:rPr b="1" lang="ru-RU" sz="3000" spc="-1" strike="noStrike">
                <a:solidFill>
                  <a:srgbClr val="eaeaea"/>
                </a:solidFill>
                <a:latin typeface="Arial"/>
              </a:rPr>
              <a:t>Какова длина одной части?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97000" y="1942920"/>
            <a:ext cx="8229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68" name="Группа 12"/>
          <p:cNvGrpSpPr/>
          <p:nvPr/>
        </p:nvGrpSpPr>
        <p:grpSpPr>
          <a:xfrm>
            <a:off x="297000" y="2394000"/>
            <a:ext cx="6840360" cy="1260000"/>
            <a:chOff x="297000" y="2394000"/>
            <a:chExt cx="6840360" cy="1260000"/>
          </a:xfrm>
        </p:grpSpPr>
        <p:sp>
          <p:nvSpPr>
            <p:cNvPr id="669" name="Line 5"/>
            <p:cNvSpPr/>
            <p:nvPr/>
          </p:nvSpPr>
          <p:spPr>
            <a:xfrm>
              <a:off x="297000" y="3017160"/>
              <a:ext cx="6840360" cy="0"/>
            </a:xfrm>
            <a:prstGeom prst="line">
              <a:avLst/>
            </a:prstGeom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0" name="Line 6"/>
            <p:cNvSpPr/>
            <p:nvPr/>
          </p:nvSpPr>
          <p:spPr>
            <a:xfrm>
              <a:off x="2576160" y="2564280"/>
              <a:ext cx="0" cy="725400"/>
            </a:xfrm>
            <a:prstGeom prst="line">
              <a:avLst/>
            </a:prstGeom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1" name="AutoShape 7"/>
            <p:cNvSpPr/>
            <p:nvPr/>
          </p:nvSpPr>
          <p:spPr>
            <a:xfrm rot="16200000">
              <a:off x="3655080" y="171720"/>
              <a:ext cx="124200" cy="6840360"/>
            </a:xfrm>
            <a:custGeom>
              <a:avLst/>
              <a:gdLst>
                <a:gd name="textAreaLeft" fmla="*/ 79560 w 124200"/>
                <a:gd name="textAreaRight" fmla="*/ 124560 w 124200"/>
                <a:gd name="textAreaTop" fmla="*/ 178200 h 6840360"/>
                <a:gd name="textAreaBottom" fmla="*/ 6662160 h 684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01"/>
                  </a:lnTo>
                  <a:cubicBezTo>
                    <a:pt x="10800" y="9701"/>
                    <a:pt x="5400" y="10601"/>
                    <a:pt x="0" y="10601"/>
                  </a:cubicBezTo>
                  <a:cubicBezTo>
                    <a:pt x="5400" y="10601"/>
                    <a:pt x="10800" y="11501"/>
                    <a:pt x="10800" y="1240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4855680" y="2564280"/>
              <a:ext cx="0" cy="725400"/>
            </a:xfrm>
            <a:prstGeom prst="line">
              <a:avLst/>
            </a:prstGeom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AutoShape 11"/>
            <p:cNvSpPr/>
            <p:nvPr/>
          </p:nvSpPr>
          <p:spPr>
            <a:xfrm rot="5400000">
              <a:off x="1409760" y="1280880"/>
              <a:ext cx="55800" cy="2281680"/>
            </a:xfrm>
            <a:custGeom>
              <a:avLst/>
              <a:gdLst>
                <a:gd name="textAreaLeft" fmla="*/ 35640 w 55800"/>
                <a:gd name="textAreaRight" fmla="*/ 56160 w 55800"/>
                <a:gd name="textAreaTop" fmla="*/ 59400 h 2281680"/>
                <a:gd name="textAreaBottom" fmla="*/ 2222280 h 228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56"/>
                  </a:lnTo>
                  <a:cubicBezTo>
                    <a:pt x="10800" y="10256"/>
                    <a:pt x="5400" y="11156"/>
                    <a:pt x="0" y="11156"/>
                  </a:cubicBezTo>
                  <a:cubicBezTo>
                    <a:pt x="5400" y="11156"/>
                    <a:pt x="10800" y="12056"/>
                    <a:pt x="10800" y="1295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74" name="Rectangle 3"/>
          <p:cNvSpPr/>
          <p:nvPr/>
        </p:nvSpPr>
        <p:spPr>
          <a:xfrm>
            <a:off x="431640" y="2311560"/>
            <a:ext cx="822960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Прямоугольник 14"/>
          <p:cNvSpPr/>
          <p:nvPr/>
        </p:nvSpPr>
        <p:spPr>
          <a:xfrm>
            <a:off x="5146920" y="233280"/>
            <a:ext cx="421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Поразмышляй в паре 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Line 6"/>
          <p:cNvSpPr/>
          <p:nvPr/>
        </p:nvSpPr>
        <p:spPr>
          <a:xfrm>
            <a:off x="297000" y="2664000"/>
            <a:ext cx="0" cy="725400"/>
          </a:xfrm>
          <a:prstGeom prst="line">
            <a:avLst/>
          </a:prstGeom>
          <a:ln w="63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Line 6"/>
          <p:cNvSpPr/>
          <p:nvPr/>
        </p:nvSpPr>
        <p:spPr>
          <a:xfrm>
            <a:off x="7093080" y="2619360"/>
            <a:ext cx="0" cy="725400"/>
          </a:xfrm>
          <a:prstGeom prst="line">
            <a:avLst/>
          </a:prstGeom>
          <a:ln w="63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624600" y="5229360"/>
            <a:ext cx="60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судите решение в своей   п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560" y="458640"/>
            <a:ext cx="8219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Arial"/>
              </a:rPr>
              <a:t>Кусок проволоки длиной 1 м разрезали на 3 равные части. </a:t>
            </a:r>
            <a:br>
              <a:rPr sz="3000"/>
            </a:br>
            <a:r>
              <a:rPr b="1" lang="ru-RU" sz="3000" spc="-1" strike="noStrike">
                <a:solidFill>
                  <a:srgbClr val="eaeaea"/>
                </a:solidFill>
                <a:latin typeface="Arial"/>
              </a:rPr>
              <a:t>Какова длина одной части?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97000" y="1942920"/>
            <a:ext cx="8229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81" name="Группа 12"/>
          <p:cNvGrpSpPr/>
          <p:nvPr/>
        </p:nvGrpSpPr>
        <p:grpSpPr>
          <a:xfrm>
            <a:off x="297000" y="2394000"/>
            <a:ext cx="6840360" cy="1260000"/>
            <a:chOff x="297000" y="2394000"/>
            <a:chExt cx="6840360" cy="1260000"/>
          </a:xfrm>
        </p:grpSpPr>
        <p:sp>
          <p:nvSpPr>
            <p:cNvPr id="682" name="Line 5"/>
            <p:cNvSpPr/>
            <p:nvPr/>
          </p:nvSpPr>
          <p:spPr>
            <a:xfrm>
              <a:off x="297000" y="3017160"/>
              <a:ext cx="6840360" cy="0"/>
            </a:xfrm>
            <a:prstGeom prst="line">
              <a:avLst/>
            </a:prstGeom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3" name="Line 6"/>
            <p:cNvSpPr/>
            <p:nvPr/>
          </p:nvSpPr>
          <p:spPr>
            <a:xfrm>
              <a:off x="2576160" y="2564280"/>
              <a:ext cx="0" cy="725400"/>
            </a:xfrm>
            <a:prstGeom prst="line">
              <a:avLst/>
            </a:prstGeom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4" name="AutoShape 7"/>
            <p:cNvSpPr/>
            <p:nvPr/>
          </p:nvSpPr>
          <p:spPr>
            <a:xfrm rot="16200000">
              <a:off x="3655080" y="171720"/>
              <a:ext cx="124200" cy="6840360"/>
            </a:xfrm>
            <a:custGeom>
              <a:avLst/>
              <a:gdLst>
                <a:gd name="textAreaLeft" fmla="*/ 79560 w 124200"/>
                <a:gd name="textAreaRight" fmla="*/ 124560 w 124200"/>
                <a:gd name="textAreaTop" fmla="*/ 178200 h 6840360"/>
                <a:gd name="textAreaBottom" fmla="*/ 6662160 h 684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01"/>
                  </a:lnTo>
                  <a:cubicBezTo>
                    <a:pt x="10800" y="9701"/>
                    <a:pt x="5400" y="10601"/>
                    <a:pt x="0" y="10601"/>
                  </a:cubicBezTo>
                  <a:cubicBezTo>
                    <a:pt x="5400" y="10601"/>
                    <a:pt x="10800" y="11501"/>
                    <a:pt x="10800" y="1240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5" name="Line 9"/>
            <p:cNvSpPr/>
            <p:nvPr/>
          </p:nvSpPr>
          <p:spPr>
            <a:xfrm>
              <a:off x="4855680" y="2564280"/>
              <a:ext cx="0" cy="725400"/>
            </a:xfrm>
            <a:prstGeom prst="line">
              <a:avLst/>
            </a:prstGeom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6" name="AutoShape 11"/>
            <p:cNvSpPr/>
            <p:nvPr/>
          </p:nvSpPr>
          <p:spPr>
            <a:xfrm rot="5400000">
              <a:off x="1409760" y="1280880"/>
              <a:ext cx="55800" cy="2281680"/>
            </a:xfrm>
            <a:custGeom>
              <a:avLst/>
              <a:gdLst>
                <a:gd name="textAreaLeft" fmla="*/ 35640 w 55800"/>
                <a:gd name="textAreaRight" fmla="*/ 56160 w 55800"/>
                <a:gd name="textAreaTop" fmla="*/ 59400 h 2281680"/>
                <a:gd name="textAreaBottom" fmla="*/ 2222280 h 228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56"/>
                  </a:lnTo>
                  <a:cubicBezTo>
                    <a:pt x="10800" y="10256"/>
                    <a:pt x="5400" y="11156"/>
                    <a:pt x="0" y="11156"/>
                  </a:cubicBezTo>
                  <a:cubicBezTo>
                    <a:pt x="5400" y="11156"/>
                    <a:pt x="10800" y="12056"/>
                    <a:pt x="10800" y="1295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7" name="Rectangle 3"/>
          <p:cNvSpPr/>
          <p:nvPr/>
        </p:nvSpPr>
        <p:spPr>
          <a:xfrm>
            <a:off x="431640" y="2311560"/>
            <a:ext cx="822960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м = 10 дм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  :  3 = 3 (ост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м = 100 см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0  : 3 = 33 (ост1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м = 1000 мм      1000 : 3 = 333 (ост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Прямоугольник 14"/>
          <p:cNvSpPr/>
          <p:nvPr/>
        </p:nvSpPr>
        <p:spPr>
          <a:xfrm>
            <a:off x="3480120" y="189000"/>
            <a:ext cx="4563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Поразмышляем   вместе 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Line 6"/>
          <p:cNvSpPr/>
          <p:nvPr/>
        </p:nvSpPr>
        <p:spPr>
          <a:xfrm>
            <a:off x="341280" y="2708280"/>
            <a:ext cx="0" cy="725400"/>
          </a:xfrm>
          <a:prstGeom prst="line">
            <a:avLst/>
          </a:prstGeom>
          <a:ln w="63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Line 6"/>
          <p:cNvSpPr/>
          <p:nvPr/>
        </p:nvSpPr>
        <p:spPr>
          <a:xfrm>
            <a:off x="7182000" y="2708280"/>
            <a:ext cx="0" cy="725400"/>
          </a:xfrm>
          <a:prstGeom prst="line">
            <a:avLst/>
          </a:prstGeom>
          <a:ln w="63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22360" y="458640"/>
            <a:ext cx="7999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аким  числом  записать результат   вычисления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2" name="Rectangle 2"/>
          <p:cNvSpPr/>
          <p:nvPr/>
        </p:nvSpPr>
        <p:spPr>
          <a:xfrm>
            <a:off x="341280" y="2079720"/>
            <a:ext cx="822024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Arial"/>
              </a:rPr>
              <a:t>Кусок проволоки длиной 1 м разрезали на 3 равные части. </a:t>
            </a:r>
            <a:br>
              <a:rPr sz="3000"/>
            </a:br>
            <a:r>
              <a:rPr b="1" lang="ru-RU" sz="3000" spc="-1" strike="noStrike">
                <a:solidFill>
                  <a:srgbClr val="eaeaea"/>
                </a:solidFill>
                <a:latin typeface="Arial"/>
              </a:rPr>
              <a:t>Какова длина одной части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3" name="Группа 5"/>
          <p:cNvGrpSpPr/>
          <p:nvPr/>
        </p:nvGrpSpPr>
        <p:grpSpPr>
          <a:xfrm>
            <a:off x="3086280" y="3654360"/>
            <a:ext cx="4321080" cy="998280"/>
            <a:chOff x="3086280" y="3654360"/>
            <a:chExt cx="4321080" cy="998280"/>
          </a:xfrm>
        </p:grpSpPr>
        <p:sp>
          <p:nvSpPr>
            <p:cNvPr id="694" name="Line 5"/>
            <p:cNvSpPr/>
            <p:nvPr/>
          </p:nvSpPr>
          <p:spPr>
            <a:xfrm>
              <a:off x="3086280" y="4148280"/>
              <a:ext cx="432108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5" name="Line 6"/>
            <p:cNvSpPr/>
            <p:nvPr/>
          </p:nvSpPr>
          <p:spPr>
            <a:xfrm>
              <a:off x="4525920" y="3789000"/>
              <a:ext cx="0" cy="574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AutoShape 7"/>
            <p:cNvSpPr/>
            <p:nvPr/>
          </p:nvSpPr>
          <p:spPr>
            <a:xfrm rot="16200000">
              <a:off x="5197680" y="2442960"/>
              <a:ext cx="98280" cy="4321080"/>
            </a:xfrm>
            <a:custGeom>
              <a:avLst/>
              <a:gdLst>
                <a:gd name="textAreaLeft" fmla="*/ 63000 w 98280"/>
                <a:gd name="textAreaRight" fmla="*/ 98640 w 98280"/>
                <a:gd name="textAreaTop" fmla="*/ 112680 h 4321080"/>
                <a:gd name="textAreaBottom" fmla="*/ 4208400 h 43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01"/>
                  </a:lnTo>
                  <a:cubicBezTo>
                    <a:pt x="10800" y="9701"/>
                    <a:pt x="5400" y="10601"/>
                    <a:pt x="0" y="10601"/>
                  </a:cubicBezTo>
                  <a:cubicBezTo>
                    <a:pt x="5400" y="10601"/>
                    <a:pt x="10800" y="11501"/>
                    <a:pt x="10800" y="1240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7" name="Line 9"/>
            <p:cNvSpPr/>
            <p:nvPr/>
          </p:nvSpPr>
          <p:spPr>
            <a:xfrm>
              <a:off x="5965920" y="3789000"/>
              <a:ext cx="0" cy="574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8" name="AutoShape 11"/>
            <p:cNvSpPr/>
            <p:nvPr/>
          </p:nvSpPr>
          <p:spPr>
            <a:xfrm rot="5400000">
              <a:off x="3784680" y="2955600"/>
              <a:ext cx="44280" cy="1441440"/>
            </a:xfrm>
            <a:custGeom>
              <a:avLst/>
              <a:gdLst>
                <a:gd name="textAreaLeft" fmla="*/ 28440 w 44280"/>
                <a:gd name="textAreaRight" fmla="*/ 44640 w 44280"/>
                <a:gd name="textAreaTop" fmla="*/ 37440 h 1441440"/>
                <a:gd name="textAreaBottom" fmla="*/ 1404000 h 14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56"/>
                  </a:lnTo>
                  <a:cubicBezTo>
                    <a:pt x="10800" y="10256"/>
                    <a:pt x="5400" y="11156"/>
                    <a:pt x="0" y="11156"/>
                  </a:cubicBezTo>
                  <a:cubicBezTo>
                    <a:pt x="5400" y="11156"/>
                    <a:pt x="10800" y="12056"/>
                    <a:pt x="10800" y="1295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9" name="Прямоугольник 11"/>
          <p:cNvSpPr/>
          <p:nvPr/>
        </p:nvSpPr>
        <p:spPr>
          <a:xfrm>
            <a:off x="4894200" y="189000"/>
            <a:ext cx="4168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открой   новое  число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Прямоугольник 12"/>
          <p:cNvSpPr/>
          <p:nvPr/>
        </p:nvSpPr>
        <p:spPr>
          <a:xfrm>
            <a:off x="1062000" y="513864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1м  :   3 =  </a:t>
            </a:r>
            <a:r>
              <a:rPr b="0" lang="ru-RU" sz="6000" spc="-1" strike="noStrike">
                <a:solidFill>
                  <a:srgbClr val="ffc000"/>
                </a:solidFill>
                <a:latin typeface="Arial"/>
              </a:rPr>
              <a:t>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(м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9:13:12Z</dcterms:created>
  <dc:creator>Kostik</dc:creator>
  <dc:description/>
  <dc:language>en-US</dc:language>
  <cp:lastModifiedBy>Леонид</cp:lastModifiedBy>
  <dcterms:modified xsi:type="dcterms:W3CDTF">2017-01-03T17:08:23Z</dcterms:modified>
  <cp:revision>147</cp:revision>
  <dc:subject/>
  <dc:title>Обыкновенные дроб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Карагузина НВ">
    <vt:lpwstr>понятие дроби</vt:lpwstr>
  </property>
</Properties>
</file>