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B38-2439-445F-A4AB-A13726B3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A1A-2FCA-418F-9C40-A2D2F1CB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F969-F76D-46B5-9A6E-C5F79AE7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A7EA-8E0B-4D09-A5C8-D4BF3C84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12B-4E9D-49A2-8C2D-C733BC1C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FCF-162F-493A-94CC-BA57BACD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884A-9C61-4A70-B211-539FB2FE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073-92A6-466B-8BF4-8ED83D74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86F-714E-4748-BA76-29CE71C1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0C70-4FBB-4ABE-8A35-1C677B17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3AD-4388-45EE-B4FE-062F8F53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27D-4EC9-45BF-9332-9ED7302E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33B9-C581-43A3-AAED-74D8559E18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chugunova48.ucoz.com/shab_5.jpg"/>
          <p:cNvPicPr/>
          <p:nvPr/>
        </p:nvPicPr>
        <p:blipFill>
          <a:blip r:embed="rId1"/>
          <a:stretch/>
        </p:blipFill>
        <p:spPr>
          <a:xfrm>
            <a:off x="0" y="-9360"/>
            <a:ext cx="9156600" cy="686736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738360" y="360360"/>
            <a:ext cx="780228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"/>
          <p:cNvSpPr/>
          <p:nvPr/>
        </p:nvSpPr>
        <p:spPr>
          <a:xfrm>
            <a:off x="395280" y="54936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ры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ед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Д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ы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Ещ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924360" y="15588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3999240" y="692280"/>
            <a:ext cx="4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646160" y="31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4136760" y="31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359600" y="2349360"/>
            <a:ext cx="42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638240" y="47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4277880" y="4014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0"/>
          <p:cNvSpPr/>
          <p:nvPr/>
        </p:nvSpPr>
        <p:spPr>
          <a:xfrm>
            <a:off x="3785760" y="4005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539640" y="105264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Шёрстка у белька белая, пушистая, как заячья рукавичка. Только нос и глаза у него были чёрные. Белёк лежал и смотрел на мир круглыми, как бусины, глаз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539640" y="4076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глядит белёк? Опишите 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250920" y="5176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 ча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1"/>
          <p:cNvSpPr/>
          <p:nvPr/>
        </p:nvSpPr>
        <p:spPr>
          <a:xfrm>
            <a:off x="395280" y="549360"/>
            <a:ext cx="835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Ш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ст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уш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та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аяч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укави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Ч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ные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3989160" y="692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348080" y="155880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4751640" y="2349360"/>
            <a:ext cx="4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3854160" y="40068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4863600" y="3214800"/>
            <a:ext cx="6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ч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1"/>
          <p:cNvSpPr/>
          <p:nvPr/>
        </p:nvSpPr>
        <p:spPr>
          <a:xfrm>
            <a:off x="539640" y="112536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тром к бельку приплыла мать. Она покормила малыша молоком и опять уплыл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539640" y="364500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и когда приплыл к бель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сделала мать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250920" y="46836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 ча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1"/>
          <p:cNvSpPr/>
          <p:nvPr/>
        </p:nvSpPr>
        <p:spPr>
          <a:xfrm>
            <a:off x="395280" y="184140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лы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ми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430520" y="36669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3854160" y="3645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3782880" y="28544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3927240" y="199404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7060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1" descr=""/>
          <p:cNvPicPr/>
          <p:nvPr/>
        </p:nvPicPr>
        <p:blipFill>
          <a:blip r:embed="rId2"/>
          <a:stretch/>
        </p:blipFill>
        <p:spPr>
          <a:xfrm>
            <a:off x="109440" y="328680"/>
            <a:ext cx="8925120" cy="13176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250920" y="1197000"/>
            <a:ext cx="8642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 теперь, ребята, вста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Быстро руки вверх поднял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 стороны, вперёд, назад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вернулись вправо, вле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ихо сели, вновь за де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C:\Users\Omega Electronics\Desktop\Снимок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" descr=""/>
          <p:cNvPicPr/>
          <p:nvPr/>
        </p:nvPicPr>
        <p:blipFill>
          <a:blip r:embed="rId2"/>
          <a:stretch/>
        </p:blipFill>
        <p:spPr>
          <a:xfrm>
            <a:off x="334800" y="1627200"/>
            <a:ext cx="842508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Omega Electronics\Desktop\тюлень.JPG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tvoyaparallel.ru/wp-content/uploads/2015/03/tyulen.jpg"/>
          <p:cNvPicPr/>
          <p:nvPr/>
        </p:nvPicPr>
        <p:blipFill>
          <a:blip r:embed="rId1"/>
          <a:stretch/>
        </p:blipFill>
        <p:spPr>
          <a:xfrm>
            <a:off x="-17640" y="-12600"/>
            <a:ext cx="9161640" cy="68706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" descr=""/>
          <p:cNvPicPr/>
          <p:nvPr/>
        </p:nvPicPr>
        <p:blipFill>
          <a:blip r:embed="rId2"/>
          <a:stretch/>
        </p:blipFill>
        <p:spPr>
          <a:xfrm>
            <a:off x="-573120" y="-298440"/>
            <a:ext cx="607860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1"/>
          <p:cNvSpPr/>
          <p:nvPr/>
        </p:nvSpPr>
        <p:spPr>
          <a:xfrm>
            <a:off x="633240" y="1052640"/>
            <a:ext cx="7467840" cy="13129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юлен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морское ластоногое млекопитающе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633240" y="2766960"/>
            <a:ext cx="7467840" cy="1312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юлен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о неуклюжем, неповоротливом человек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0" y="3571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  <a:ea typeface="Arial"/>
              </a:rPr>
              <a:t>Тема урока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Прямоугольник 2" descr=""/>
          <p:cNvPicPr/>
          <p:nvPr/>
        </p:nvPicPr>
        <p:blipFill>
          <a:blip r:embed="rId2"/>
          <a:stretch/>
        </p:blipFill>
        <p:spPr>
          <a:xfrm>
            <a:off x="725400" y="1243080"/>
            <a:ext cx="769320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  <a:ea typeface="Arial"/>
              </a:rPr>
              <a:t>Подробное изложение -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24000" y="191628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изложение близкое к тексту, сохраняя стиль ав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"/>
          <p:cNvSpPr/>
          <p:nvPr/>
        </p:nvSpPr>
        <p:spPr>
          <a:xfrm>
            <a:off x="468360" y="1125360"/>
            <a:ext cx="813600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ьдина покрыта снегом. На снегу возле ледяной глыбы лежал белёк – детёныш тюленя. Плавал он еще плох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ёрстка у белька белая, пушистая, как заячья рукавичка. Только нос и глаза у него были чёрные. Белёк лежал и смотрел на мир круглыми, как бусины, глаз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тром к бельку приплыла мать. Она покормила малыша молоком и опять уплыл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С.Сахарн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539640" y="1268280"/>
            <a:ext cx="7848720" cy="402588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ьдина покрыта снегом. На снегу возле ледяной глыбы лежал белёк – детёныш тюленя. Плавал он еще плох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ёрстка у белька белая, пушистая, как заячья рукавичка. Только нос и глаза у него были чёрные. Белёк лежал и смотрел на мир круглыми, как бусины, глаз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ром к бельку приплыла мать. Она покормила малыша молоком и опять уплыл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С.Сахарн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extBox 2" descr=""/>
          <p:cNvPicPr/>
          <p:nvPr/>
        </p:nvPicPr>
        <p:blipFill>
          <a:blip r:embed="rId2"/>
          <a:stretch/>
        </p:blipFill>
        <p:spPr>
          <a:xfrm>
            <a:off x="920880" y="493560"/>
            <a:ext cx="65404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611280" y="105264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Льдина покрыта снегом. На снегу возле ледяной глыбы лежал белёк – детёныш тюленя. Плавал он еще плох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595440" y="3645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лежал белёк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о так называют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50920" y="5014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 ча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14:22:10Z</dcterms:created>
  <dc:creator>Omega Electronics</dc:creator>
  <dc:description/>
  <dc:language>en-US</dc:language>
  <cp:lastModifiedBy>Omega Electronics</cp:lastModifiedBy>
  <dcterms:modified xsi:type="dcterms:W3CDTF">2016-12-19T14:35:01Z</dcterms:modified>
  <cp:revision>12</cp:revision>
  <dc:subject/>
  <dc:title>Презентация PowerPoint</dc:title>
</cp:coreProperties>
</file>