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8E6-61E0-4DA0-A035-CB9545A4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43C-0F6F-44C4-A1BB-25F766D8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A34-DDE6-4029-A143-48832FDE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0F5-6E14-449E-9979-F2F95197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9C5-D066-4935-A999-00F06F2E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714-CD05-4D12-8BCB-A1922A24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D5D-0B1B-42B2-BD66-0AABDE16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BA8-E144-479B-9E57-517FCD86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7E2-9795-47D7-9BFB-53F2B1DE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F94-55D0-4313-9507-40370CD3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A4A-87B2-4419-9B5D-05FB873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0AD-F4EF-400C-B6B5-D3041B0A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B1D7-ED9D-4EFF-918E-2FE2D60571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hugunova48.ucoz.com/shab_5.jpg"/>
          <p:cNvPicPr/>
          <p:nvPr/>
        </p:nvPicPr>
        <p:blipFill>
          <a:blip r:embed="rId1"/>
          <a:stretch/>
        </p:blipFill>
        <p:spPr>
          <a:xfrm>
            <a:off x="0" y="-9360"/>
            <a:ext cx="91566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738360" y="360360"/>
            <a:ext cx="78022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395280" y="5493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ы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ед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ы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щ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24360" y="15588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999240" y="69228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646160" y="31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136760" y="31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359600" y="23493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638240" y="47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277880" y="4014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3785760" y="40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539640" y="1052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ёрстка у белька белая, пушистая, как заячья рукавичка. Только нос и глаза у него были чёрные. Белёк лежал и смотрел на мир круглыми, как бусины, глаз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539640" y="407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глядит белёк? Опиши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250920" y="5176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395280" y="54936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с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уш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яч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укави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ные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989160" y="692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348080" y="155880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4751640" y="234936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854160" y="4006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863600" y="3214800"/>
            <a:ext cx="6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539640" y="112536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тром к бельку приплыла мать. Она покормила малыша молоком и опять уплыл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539640" y="364500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и когда приплыл к бель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делала м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250920" y="468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395280" y="184140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ы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ми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430520" y="3666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854160" y="36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782880" y="2854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927240" y="19940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" descr=""/>
          <p:cNvPicPr/>
          <p:nvPr/>
        </p:nvPicPr>
        <p:blipFill>
          <a:blip r:embed="rId2"/>
          <a:stretch/>
        </p:blipFill>
        <p:spPr>
          <a:xfrm>
            <a:off x="109440" y="328680"/>
            <a:ext cx="8925120" cy="1317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50920" y="1197000"/>
            <a:ext cx="864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 теперь, ребята, вста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ыстро руки вверх подня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стороны, вперёд, наза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рнулись вправо, вле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хо сели, вновь за д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Omega Electronics\Desktop\Снимок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" descr=""/>
          <p:cNvPicPr/>
          <p:nvPr/>
        </p:nvPicPr>
        <p:blipFill>
          <a:blip r:embed="rId2"/>
          <a:stretch/>
        </p:blipFill>
        <p:spPr>
          <a:xfrm>
            <a:off x="334800" y="1627200"/>
            <a:ext cx="8425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Omega Electronics\Desktop\тюлень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tvoyaparallel.ru/wp-content/uploads/2015/03/tyulen.jpg"/>
          <p:cNvPicPr/>
          <p:nvPr/>
        </p:nvPicPr>
        <p:blipFill>
          <a:blip r:embed="rId1"/>
          <a:stretch/>
        </p:blipFill>
        <p:spPr>
          <a:xfrm>
            <a:off x="-17640" y="-1260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" descr=""/>
          <p:cNvPicPr/>
          <p:nvPr/>
        </p:nvPicPr>
        <p:blipFill>
          <a:blip r:embed="rId2"/>
          <a:stretch/>
        </p:blipFill>
        <p:spPr>
          <a:xfrm>
            <a:off x="-573120" y="-298440"/>
            <a:ext cx="6078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633240" y="1052640"/>
            <a:ext cx="7467840" cy="1312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юле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морское ластоногое млекопитающе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633240" y="2766960"/>
            <a:ext cx="7467840" cy="1312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юле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о неуклюжем, неповоротливом человек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0" y="35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725400" y="1243080"/>
            <a:ext cx="76932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Подробное изложение -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1916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ложение близкое к тексту, сохраняя стиль ав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468360" y="1125360"/>
            <a:ext cx="81360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ьдина покрыта снегом. На снегу возле ледяной глыбы лежал белёк – детёныш тюленя. Плавал он еще плох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ёрстка у белька белая, пушистая, как заячья рукавичка. Только нос и глаза у него были чёрные. Белёк лежал и смотрел на мир круглыми, как бусины, глаз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ром к бельку приплыла мать. Она покормила малыша молоком и опять уплыл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.Сахарн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539640" y="1268280"/>
            <a:ext cx="7848720" cy="40258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дина покрыта снегом. На снегу возле ледяной глыбы лежал белёк – детёныш тюленя. Плавал он еще плох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ёрстка у белька белая, пушистая, как заячья рукавичка. Только нос и глаза у него были чёрные. Белёк лежал и смотрел на мир круглыми, как бусины, глаз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к бельку приплыла мать. Она покормила малыша молоком и опять уплы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.Сахарн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Box 2" descr=""/>
          <p:cNvPicPr/>
          <p:nvPr/>
        </p:nvPicPr>
        <p:blipFill>
          <a:blip r:embed="rId2"/>
          <a:stretch/>
        </p:blipFill>
        <p:spPr>
          <a:xfrm>
            <a:off x="920880" y="493560"/>
            <a:ext cx="65404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611280" y="105264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ьдина покрыта снегом. На снегу возле ледяной глыбы лежал белёк – детёныш тюленя. Плавал он еще плох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595440" y="3645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лежал белёк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так называю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50920" y="5014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4:22:10Z</dcterms:created>
  <dc:creator>Omega Electronics</dc:creator>
  <dc:description/>
  <dc:language>en-US</dc:language>
  <cp:lastModifiedBy>Omega Electronics</cp:lastModifiedBy>
  <dcterms:modified xsi:type="dcterms:W3CDTF">2016-12-19T14:35:01Z</dcterms:modified>
  <cp:revision>12</cp:revision>
  <dc:subject/>
  <dc:title>Презентация PowerPoint</dc:title>
</cp:coreProperties>
</file>