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gif" ContentType="image/gif"/>
  <Override PartName="/ppt/media/image7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025-67A4-44A6-8643-43285CCC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0E2-49F9-4BFA-9B94-4DE3E6C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498-CA71-4B68-BC1F-F0C5A9B5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6B4-B2B1-40FC-8E6C-B94F402F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69CC-4193-4E25-819E-50BF87AB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175-AF22-474C-B0F3-5EE74C85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AFF-E12E-4124-943A-E3796763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9E5E-1D68-443C-9D56-0414FB1B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F7B6-088C-4C3D-A166-AE7EB3C1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E77-D256-4580-A173-E9F4B9A5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8CA-89D0-4387-B763-A56761E4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5E5-4DD4-4237-B774-178173F7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F192-614F-4100-981F-6B8057D19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 flipH="1">
            <a:off x="1692360" y="260280"/>
            <a:ext cx="518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интакси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трелка вниз 5"/>
          <p:cNvSpPr/>
          <p:nvPr/>
        </p:nvSpPr>
        <p:spPr>
          <a:xfrm>
            <a:off x="4284720" y="1268280"/>
            <a:ext cx="484200" cy="720720"/>
          </a:xfrm>
          <a:prstGeom prst="down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771640" y="2103480"/>
            <a:ext cx="342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Текс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трелка вниз 7"/>
          <p:cNvSpPr/>
          <p:nvPr/>
        </p:nvSpPr>
        <p:spPr>
          <a:xfrm>
            <a:off x="4284720" y="3027240"/>
            <a:ext cx="484200" cy="48924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1979640" y="371628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ловосочет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трелка вниз 9"/>
          <p:cNvSpPr/>
          <p:nvPr/>
        </p:nvSpPr>
        <p:spPr>
          <a:xfrm>
            <a:off x="4257720" y="4640400"/>
            <a:ext cx="628560" cy="628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340000" y="5661000"/>
            <a:ext cx="40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0" y="74124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ово или группа слов, которые выражают законченную мысль. Имеет грамматическую основу- это подлежащее и сказуемое. Грамматическая основа предложения может состоять из двух главных членов: подлежащего и сказуемого  (Ветер дует.), но может состоять из одного главного  члена ( Вечер. Стемнело быстр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конце предложения обычно ставится точка, вопросительный или восклицательны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3708360" y="4762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843280" y="554040"/>
            <a:ext cx="454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дложение — э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Чем может быть выражено подлежаще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Ветер унёс лодку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в море.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Я не приду к обе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Отец с сыном 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пошли на рыбалк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6"/>
          <p:cNvSpPr/>
          <p:nvPr/>
        </p:nvSpPr>
        <p:spPr>
          <a:xfrm>
            <a:off x="468360" y="259092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468360" y="4191120"/>
            <a:ext cx="6094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900000" y="5819760"/>
            <a:ext cx="28195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684360" y="1600200"/>
            <a:ext cx="543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68360" y="32004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154160" y="4724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ительное в им. падеж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ительно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cc"/>
                </a:solidFill>
                <a:latin typeface="Times New Roman"/>
              </a:rPr>
              <a:t>Чем может быть выражено сказуемо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4382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50560" y="2438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Мы живём на Земл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Земля – наш д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Times New Roman"/>
              </a:rPr>
              <a:t>Она прекрас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7"/>
          <p:cNvSpPr/>
          <p:nvPr/>
        </p:nvSpPr>
        <p:spPr>
          <a:xfrm>
            <a:off x="971640" y="321300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971640" y="3048120"/>
            <a:ext cx="137160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2987640" y="4343400"/>
            <a:ext cx="762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2987640" y="4456080"/>
            <a:ext cx="76212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>
            <a:off x="1352520" y="5877000"/>
            <a:ext cx="19810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1387440" y="5692680"/>
            <a:ext cx="198108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11280" y="1981080"/>
            <a:ext cx="70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 делае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476360" y="4648320"/>
            <a:ext cx="61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Како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2843280" y="33526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Что так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Глагол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уществи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илага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Числительны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609480" y="1371600"/>
            <a:ext cx="81536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культминутк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4" name="Picture 5" descr="мышка"/>
          <p:cNvPicPr/>
          <p:nvPr/>
        </p:nvPicPr>
        <p:blipFill>
          <a:blip r:embed="rId1"/>
          <a:stretch/>
        </p:blipFill>
        <p:spPr>
          <a:xfrm>
            <a:off x="3505320" y="3733920"/>
            <a:ext cx="2332080" cy="2590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54080" y="549360"/>
            <a:ext cx="9018360" cy="5850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 flipH="1">
            <a:off x="467640" y="549360"/>
            <a:ext cx="84963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калось. На закате догорала заря. За лесом её не было видно, но всюду чувствовалась борьба света с тьмою. Ночные тени успели прокрасться в лес и закутали в сумрак высокие кроны деревьев. Между ветвями деревьев виднелись звёзды и острые рога полумесяц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ало. Костёр догорал, над рекою повис туман. Сквозь него неясно были видны горы. Весёлые голоса, шутки, смех, разносились далеко по долин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857240" y="214200"/>
            <a:ext cx="5715000" cy="5814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Выборочное списы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Волна 3"/>
          <p:cNvSpPr/>
          <p:nvPr/>
        </p:nvSpPr>
        <p:spPr>
          <a:xfrm>
            <a:off x="357120" y="1071720"/>
            <a:ext cx="1928880" cy="928440"/>
          </a:xfrm>
          <a:custGeom>
            <a:avLst/>
            <a:gdLst>
              <a:gd name="textAreaLeft" fmla="*/ 0 w 1928880"/>
              <a:gd name="textAreaRight" fmla="*/ 1929240 w 192888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во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олна 4"/>
          <p:cNvSpPr/>
          <p:nvPr/>
        </p:nvSpPr>
        <p:spPr>
          <a:xfrm>
            <a:off x="6500880" y="1143000"/>
            <a:ext cx="1928880" cy="928800"/>
          </a:xfrm>
          <a:custGeom>
            <a:avLst/>
            <a:gdLst>
              <a:gd name="textAreaLeft" fmla="*/ 0 w 1928880"/>
              <a:gd name="textAreaRight" fmla="*/ 1929240 w 1928880"/>
              <a:gd name="textAreaTop" fmla="*/ 232200 h 928800"/>
              <a:gd name="textAreaBottom" fmla="*/ 6966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зай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олна 5"/>
          <p:cNvSpPr/>
          <p:nvPr/>
        </p:nvSpPr>
        <p:spPr>
          <a:xfrm>
            <a:off x="3357720" y="1071720"/>
            <a:ext cx="1928520" cy="928440"/>
          </a:xfrm>
          <a:custGeom>
            <a:avLst/>
            <a:gdLst>
              <a:gd name="textAreaLeft" fmla="*/ 0 w 1928520"/>
              <a:gd name="textAreaRight" fmla="*/ 1928880 w 1928520"/>
              <a:gd name="textAreaTop" fmla="*/ 232200 h 928440"/>
              <a:gd name="textAreaBottom" fmla="*/ 6966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 ли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14200" y="3929040"/>
            <a:ext cx="864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мой волки выходят на охоту даже днём. Зимой заяц легко передвигается. Охотится лиса в сумерках или ночью. Широкие лапы не дают ему провалиться в снег. Волки хорошо чувствуют запахи и слышат слабые звуки. Белая окраска шерсти делает его незаметным на фоне снега. Уничтожая мышей, лиса приносит поль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7" descr="6226.gif"/>
          <p:cNvPicPr/>
          <p:nvPr/>
        </p:nvPicPr>
        <p:blipFill>
          <a:blip r:embed="rId1"/>
          <a:stretch/>
        </p:blipFill>
        <p:spPr>
          <a:xfrm>
            <a:off x="285840" y="1928880"/>
            <a:ext cx="2009520" cy="15001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8" descr="5970.gif"/>
          <p:cNvPicPr/>
          <p:nvPr/>
        </p:nvPicPr>
        <p:blipFill>
          <a:blip r:embed="rId2"/>
          <a:stretch/>
        </p:blipFill>
        <p:spPr>
          <a:xfrm flipH="1">
            <a:off x="7143840" y="2286000"/>
            <a:ext cx="1357200" cy="85716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9" descr="6185.gif"/>
          <p:cNvPicPr/>
          <p:nvPr/>
        </p:nvPicPr>
        <p:blipFill>
          <a:blip r:embed="rId3"/>
          <a:stretch/>
        </p:blipFill>
        <p:spPr>
          <a:xfrm>
            <a:off x="2857680" y="2357280"/>
            <a:ext cx="3786120" cy="95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133880" y="1020600"/>
            <a:ext cx="5010120" cy="58374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152280" y="3747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на уроке мы узна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8200" y="1628640"/>
            <a:ext cx="3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"/>
          <p:cNvSpPr/>
          <p:nvPr/>
        </p:nvSpPr>
        <p:spPr>
          <a:xfrm>
            <a:off x="538200" y="2637000"/>
            <a:ext cx="47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538200" y="3659040"/>
            <a:ext cx="5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38200" y="4869000"/>
            <a:ext cx="42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08000" y="812880"/>
            <a:ext cx="88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 </a:t>
            </a:r>
            <a:r>
              <a:rPr b="0" lang="ru-RU" sz="32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несколько предложений, связанных друг с другом по смыслу и грамма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4140360" y="26370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http://www.chitalnya.ru/upload2/398/463522030506283072.jpg"/>
          <p:cNvPicPr/>
          <p:nvPr/>
        </p:nvPicPr>
        <p:blipFill>
          <a:blip r:embed="rId1"/>
          <a:stretch/>
        </p:blipFill>
        <p:spPr>
          <a:xfrm>
            <a:off x="2336760" y="1873080"/>
            <a:ext cx="4397400" cy="498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3276720" y="-355680"/>
            <a:ext cx="375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a6a6a"/>
                </a:solidFill>
                <a:latin typeface="Times New Roman"/>
                <a:ea typeface="Times New Roman"/>
              </a:rPr>
              <a:t>Текст</a:t>
            </a:r>
            <a:r>
              <a:rPr b="0" lang="ru-RU" sz="4000" spc="-1" strike="noStrike">
                <a:solidFill>
                  <a:srgbClr val="545454"/>
                </a:solidFill>
                <a:latin typeface="Times New Roman"/>
                <a:ea typeface="Times New Roman"/>
              </a:rPr>
              <a:t> – </a:t>
            </a:r>
            <a:r>
              <a:rPr b="1" lang="ru-RU" sz="4000" spc="-1" strike="noStrike">
                <a:solidFill>
                  <a:srgbClr val="6a6a6a"/>
                </a:solidFill>
                <a:latin typeface="Times New Roman"/>
                <a:ea typeface="Times New Roman"/>
              </a:rPr>
              <a:t>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Картинки по запросу картинки ученики в школе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84360" y="507528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/з.Упражнение 144- подготовиться к сжатому изложе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b17.ru/foto/uploaded/ab21adaa7f9ab90ef908e1d0781cf836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7975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154080" y="5493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оволен (довольна )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4859280" y="1284120"/>
            <a:ext cx="32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6659640" y="2457360"/>
            <a:ext cx="21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468360" y="11592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думаю, что наш класс дружный. Во-первых, мы вместе ходим в походы и на экскурсии. Во-вторых, всегда помогаем друг другу. В– третьих, все дружно участвуем в соревновани-ях, в трудовых делах, вместе озеленяем школу. В общем, я считаю, что мы дружные ребята! А вы как дум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 flipH="1">
            <a:off x="610560" y="2205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раска опёнка осеннего желтовато-серая. Она может быть и грязно-коричневой, а к середине шляпки — более темной. Ножка тонкая, плотная, у шляпки белая, к основанию серая, иногда коричнева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611280" y="3860640"/>
            <a:ext cx="79930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долгожданная 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 затянул пруд ледком.    Ребята размели каток. У всех готовы коньки. Мальчишки ловко и легко скользят по льду. Радостно звучат детские голос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мчаться по гладкому льд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Картинки по запросу опенок"/>
          <p:cNvPicPr/>
          <p:nvPr/>
        </p:nvPicPr>
        <p:blipFill>
          <a:blip r:embed="rId1"/>
          <a:stretch/>
        </p:blipFill>
        <p:spPr>
          <a:xfrm>
            <a:off x="2781360" y="2924280"/>
            <a:ext cx="396252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24000" y="1268280"/>
            <a:ext cx="741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ёнок, опята-  съедобный  гриб (баллы гомбэ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08000" y="62064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или несколько слов, связанных между собой по смыслу и грам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30120" y="1916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является словосочета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108000" y="2502000"/>
            <a:ext cx="8424720" cy="45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подлежащего и сказуем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светит солнц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однородных член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цветы и трав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4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▪ </a:t>
            </a: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сочетание предлога и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☀</a:t>
            </a:r>
            <a:r>
              <a:rPr b="1" i="1" lang="ru-RU" sz="2800" spc="-1" strike="noStrike">
                <a:solidFill>
                  <a:srgbClr val="00b050"/>
                </a:solidFill>
                <a:latin typeface="Constantia"/>
              </a:rPr>
              <a:t>у колод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1908000" y="404640"/>
            <a:ext cx="490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сочетание — эт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get-wallpapers.ru/img/picture/Jan/05/a49eec85c081e2804e35049e8458066f/8.jpg"/>
          <p:cNvPicPr/>
          <p:nvPr/>
        </p:nvPicPr>
        <p:blipFill>
          <a:blip r:embed="rId1"/>
          <a:srcRect l="0" t="0" r="0" b="12448"/>
          <a:stretch/>
        </p:blipFill>
        <p:spPr>
          <a:xfrm>
            <a:off x="3851280" y="0"/>
            <a:ext cx="528336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0" y="266760"/>
            <a:ext cx="385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  клено-вые листья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 застилали зем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250920" y="641520"/>
            <a:ext cx="62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т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619280" y="1103400"/>
            <a:ext cx="53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еновые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556000" y="1494000"/>
            <a:ext cx="409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застил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3635280" y="1835280"/>
            <a:ext cx="367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илали зем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Умножение 5"/>
          <p:cNvSpPr/>
          <p:nvPr/>
        </p:nvSpPr>
        <p:spPr>
          <a:xfrm>
            <a:off x="2050920" y="438120"/>
            <a:ext cx="252720" cy="380880"/>
          </a:xfrm>
          <a:custGeom>
            <a:avLst/>
            <a:gdLst/>
            <a:ahLst/>
            <a:rect l="l" t="t" r="r" b="b"/>
            <a:pathLst>
              <a:path w="252413" h="381000">
                <a:moveTo>
                  <a:pt x="35877" y="107901"/>
                </a:moveTo>
                <a:lnTo>
                  <a:pt x="85369" y="75113"/>
                </a:lnTo>
                <a:lnTo>
                  <a:pt x="126207" y="136754"/>
                </a:lnTo>
                <a:lnTo>
                  <a:pt x="167044" y="75113"/>
                </a:lnTo>
                <a:lnTo>
                  <a:pt x="216536" y="107901"/>
                </a:lnTo>
                <a:lnTo>
                  <a:pt x="161814" y="190500"/>
                </a:lnTo>
                <a:lnTo>
                  <a:pt x="216536" y="273099"/>
                </a:lnTo>
                <a:lnTo>
                  <a:pt x="167044" y="305887"/>
                </a:lnTo>
                <a:lnTo>
                  <a:pt x="126207" y="244246"/>
                </a:lnTo>
                <a:lnTo>
                  <a:pt x="85369" y="305887"/>
                </a:lnTo>
                <a:lnTo>
                  <a:pt x="35877" y="273099"/>
                </a:lnTo>
                <a:lnTo>
                  <a:pt x="90599" y="190500"/>
                </a:lnTo>
                <a:lnTo>
                  <a:pt x="35877" y="10790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множение 7"/>
          <p:cNvSpPr/>
          <p:nvPr/>
        </p:nvSpPr>
        <p:spPr>
          <a:xfrm>
            <a:off x="3635280" y="1206360"/>
            <a:ext cx="346320" cy="495360"/>
          </a:xfrm>
          <a:custGeom>
            <a:avLst/>
            <a:gdLst/>
            <a:ahLst/>
            <a:rect l="l" t="t" r="r" b="b"/>
            <a:pathLst>
              <a:path w="346075" h="495300">
                <a:moveTo>
                  <a:pt x="49757" y="142269"/>
                </a:moveTo>
                <a:lnTo>
                  <a:pt x="116480" y="95648"/>
                </a:lnTo>
                <a:lnTo>
                  <a:pt x="173038" y="176593"/>
                </a:lnTo>
                <a:lnTo>
                  <a:pt x="229595" y="95648"/>
                </a:lnTo>
                <a:lnTo>
                  <a:pt x="296318" y="142269"/>
                </a:lnTo>
                <a:lnTo>
                  <a:pt x="222686" y="247650"/>
                </a:lnTo>
                <a:lnTo>
                  <a:pt x="296318" y="353031"/>
                </a:lnTo>
                <a:lnTo>
                  <a:pt x="229595" y="399652"/>
                </a:lnTo>
                <a:lnTo>
                  <a:pt x="173038" y="318707"/>
                </a:lnTo>
                <a:lnTo>
                  <a:pt x="116480" y="399652"/>
                </a:lnTo>
                <a:lnTo>
                  <a:pt x="49757" y="353031"/>
                </a:lnTo>
                <a:lnTo>
                  <a:pt x="123389" y="247650"/>
                </a:lnTo>
                <a:lnTo>
                  <a:pt x="49757" y="14226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Умножение 8"/>
          <p:cNvSpPr/>
          <p:nvPr/>
        </p:nvSpPr>
        <p:spPr>
          <a:xfrm>
            <a:off x="4788000" y="2057400"/>
            <a:ext cx="315720" cy="507960"/>
          </a:xfrm>
          <a:custGeom>
            <a:avLst/>
            <a:gdLst/>
            <a:ahLst/>
            <a:rect l="l" t="t" r="r" b="b"/>
            <a:pathLst>
              <a:path w="315913" h="508000">
                <a:moveTo>
                  <a:pt x="44326" y="141628"/>
                </a:moveTo>
                <a:lnTo>
                  <a:pt x="107423" y="102390"/>
                </a:lnTo>
                <a:lnTo>
                  <a:pt x="157957" y="183650"/>
                </a:lnTo>
                <a:lnTo>
                  <a:pt x="208490" y="102390"/>
                </a:lnTo>
                <a:lnTo>
                  <a:pt x="271587" y="141628"/>
                </a:lnTo>
                <a:lnTo>
                  <a:pt x="201706" y="254000"/>
                </a:lnTo>
                <a:lnTo>
                  <a:pt x="271587" y="366372"/>
                </a:lnTo>
                <a:lnTo>
                  <a:pt x="208490" y="405610"/>
                </a:lnTo>
                <a:lnTo>
                  <a:pt x="157957" y="324350"/>
                </a:lnTo>
                <a:lnTo>
                  <a:pt x="107423" y="405610"/>
                </a:lnTo>
                <a:lnTo>
                  <a:pt x="44326" y="366372"/>
                </a:lnTo>
                <a:lnTo>
                  <a:pt x="114207" y="254000"/>
                </a:lnTo>
                <a:lnTo>
                  <a:pt x="44326" y="14162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Умножение 9"/>
          <p:cNvSpPr/>
          <p:nvPr/>
        </p:nvSpPr>
        <p:spPr>
          <a:xfrm>
            <a:off x="6353280" y="2879640"/>
            <a:ext cx="293760" cy="405000"/>
          </a:xfrm>
          <a:custGeom>
            <a:avLst/>
            <a:gdLst/>
            <a:ahLst/>
            <a:rect l="l" t="t" r="r" b="b"/>
            <a:pathLst>
              <a:path w="293688" h="404813">
                <a:moveTo>
                  <a:pt x="42581" y="117507"/>
                </a:moveTo>
                <a:lnTo>
                  <a:pt x="98492" y="76944"/>
                </a:lnTo>
                <a:lnTo>
                  <a:pt x="146844" y="143592"/>
                </a:lnTo>
                <a:lnTo>
                  <a:pt x="195196" y="76944"/>
                </a:lnTo>
                <a:lnTo>
                  <a:pt x="251107" y="117507"/>
                </a:lnTo>
                <a:lnTo>
                  <a:pt x="189514" y="202407"/>
                </a:lnTo>
                <a:lnTo>
                  <a:pt x="251107" y="287306"/>
                </a:lnTo>
                <a:lnTo>
                  <a:pt x="195196" y="327869"/>
                </a:lnTo>
                <a:lnTo>
                  <a:pt x="146844" y="261221"/>
                </a:lnTo>
                <a:lnTo>
                  <a:pt x="98492" y="327869"/>
                </a:lnTo>
                <a:lnTo>
                  <a:pt x="42581" y="287306"/>
                </a:lnTo>
                <a:lnTo>
                  <a:pt x="104174" y="202407"/>
                </a:lnTo>
                <a:lnTo>
                  <a:pt x="42581" y="11750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108000" y="189000"/>
            <a:ext cx="4248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ья разноцветные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ая осень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ршащий ковёр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4211640" y="189000"/>
            <a:ext cx="493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е листья ложатся под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золотая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ногами пестреет шуршащий ковё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539640" y="1228680"/>
            <a:ext cx="80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Тема урока:  </a:t>
            </a: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редложение. Грамматическая основа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556000" y="3352680"/>
            <a:ext cx="3767040" cy="321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9:02:37Z</dcterms:created>
  <dc:creator>user</dc:creator>
  <dc:description/>
  <dc:language>en-US</dc:language>
  <cp:lastModifiedBy>Admin</cp:lastModifiedBy>
  <dcterms:modified xsi:type="dcterms:W3CDTF">2016-10-20T07:50:17Z</dcterms:modified>
  <cp:revision>85</cp:revision>
  <dc:subject/>
  <dc:title>Слайд 1</dc:title>
</cp:coreProperties>
</file>