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gif" ContentType="image/gif"/>
  <Override PartName="/ppt/media/image7.wmf" ContentType="image/x-wmf"/>
  <Override PartName="/ppt/media/image8.gif" ContentType="image/gif"/>
  <Override PartName="/ppt/media/image9.gif" ContentType="image/gif"/>
  <Override PartName="/ppt/media/image10.gif" ContentType="image/gif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0D61-0070-4D6A-98F2-3D993EF03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FEAD-61FE-4398-B76B-0048A582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1244-C4AE-42E2-8285-988CCEE3B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CFFB-49F8-49D3-84E8-D4F8D9371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672D-FB1D-4776-90B7-9E1AE08E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21F7-11A0-48BC-B084-23289847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4F4E-3D82-4789-8D16-96F5549C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24BA-D9C8-4A2C-AA7E-4DE98B4F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194B-659D-41E7-8FE3-D770019D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1431-1B4D-4FA3-81B8-FF31CD7F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70B5-FABE-456E-A184-89134793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2FF2-38F2-4723-959A-2CD1ED23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4758-AC97-47F2-B072-A322161C51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 flipH="1">
            <a:off x="1692360" y="260280"/>
            <a:ext cx="518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Monotype Corsiva"/>
              </a:rPr>
              <a:t>Синтакси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Стрелка вниз 5"/>
          <p:cNvSpPr/>
          <p:nvPr/>
        </p:nvSpPr>
        <p:spPr>
          <a:xfrm>
            <a:off x="4284720" y="1268280"/>
            <a:ext cx="484200" cy="72072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2771640" y="2103480"/>
            <a:ext cx="342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Текс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трелка вниз 7"/>
          <p:cNvSpPr/>
          <p:nvPr/>
        </p:nvSpPr>
        <p:spPr>
          <a:xfrm>
            <a:off x="4284720" y="3027240"/>
            <a:ext cx="484200" cy="489240"/>
          </a:xfrm>
          <a:prstGeom prst="downArrow">
            <a:avLst>
              <a:gd name="adj1" fmla="val 50000"/>
              <a:gd name="adj2" fmla="val 5002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1979640" y="3716280"/>
            <a:ext cx="518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Словосочетани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трелка вниз 9"/>
          <p:cNvSpPr/>
          <p:nvPr/>
        </p:nvSpPr>
        <p:spPr>
          <a:xfrm>
            <a:off x="4257720" y="4640400"/>
            <a:ext cx="628560" cy="628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2340000" y="5661000"/>
            <a:ext cx="400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Предлож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0" y="74124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ово или группа слов, которые выражают законченную мысль. Имеет грамматическую основу- это подлежащее и сказуемое. Грамматическая основа предложения может состоять из двух главных членов: подлежащего и сказуемого  (Ветер дует.), но может состоять из одного главного  члена ( Вечер. Стемнело быстр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конце предложения обычно ставится точка, вопросительный или восклицательный зна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3708360" y="4762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2843280" y="554040"/>
            <a:ext cx="454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едложение — э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cc"/>
                </a:solidFill>
                <a:latin typeface="Times New Roman"/>
              </a:rPr>
              <a:t>Чем может быть выражено подлежащее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cc"/>
                </a:solidFill>
                <a:latin typeface="Times New Roman"/>
              </a:rPr>
              <a:t>Ветер унёс лодку </a:t>
            </a:r>
            <a:r>
              <a:rPr b="0" i="1" lang="ru-RU" sz="36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i="1" lang="ru-RU" sz="3600" spc="-1" strike="noStrike">
                <a:solidFill>
                  <a:srgbClr val="0000cc"/>
                </a:solidFill>
                <a:latin typeface="Times New Roman"/>
              </a:rPr>
              <a:t>в море.</a:t>
            </a:r>
            <a:r>
              <a:rPr b="0" i="1" lang="ru-RU" sz="36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3600" spc="-1" strike="noStrike">
                <a:solidFill>
                  <a:srgbClr val="0000cc"/>
                </a:solidFill>
                <a:latin typeface="Times New Roman"/>
              </a:rPr>
              <a:t>Я не приду к обед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3600" spc="-1" strike="noStrike">
                <a:solidFill>
                  <a:srgbClr val="0000cc"/>
                </a:solidFill>
                <a:latin typeface="Times New Roman"/>
              </a:rPr>
              <a:t>Отец с сыном </a:t>
            </a:r>
            <a:r>
              <a:rPr b="0" i="1" lang="ru-RU" sz="36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i="1" lang="ru-RU" sz="3600" spc="-1" strike="noStrike">
                <a:solidFill>
                  <a:srgbClr val="0000cc"/>
                </a:solidFill>
                <a:latin typeface="Times New Roman"/>
              </a:rPr>
              <a:t>пошли на рыбалк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Line 6"/>
          <p:cNvSpPr/>
          <p:nvPr/>
        </p:nvSpPr>
        <p:spPr>
          <a:xfrm>
            <a:off x="468360" y="2590920"/>
            <a:ext cx="13716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7"/>
          <p:cNvSpPr/>
          <p:nvPr/>
        </p:nvSpPr>
        <p:spPr>
          <a:xfrm>
            <a:off x="468360" y="4191120"/>
            <a:ext cx="60948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9"/>
          <p:cNvSpPr/>
          <p:nvPr/>
        </p:nvSpPr>
        <p:spPr>
          <a:xfrm>
            <a:off x="900000" y="5819760"/>
            <a:ext cx="281952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684360" y="1600200"/>
            <a:ext cx="543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Ч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468360" y="320040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К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1154160" y="472428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К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ительное в им. падеж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имени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сочет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ительно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ver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cc"/>
                </a:solidFill>
                <a:latin typeface="Times New Roman"/>
              </a:rPr>
              <a:t>Чем может быть выражено сказуемое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24382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50560" y="24382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cc"/>
                </a:solidFill>
                <a:latin typeface="Times New Roman"/>
              </a:rPr>
              <a:t>Мы живём на Земл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cc"/>
                </a:solidFill>
                <a:latin typeface="Times New Roman"/>
              </a:rPr>
              <a:t>Земля – наш до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cc"/>
                </a:solidFill>
                <a:latin typeface="Times New Roman"/>
              </a:rPr>
              <a:t>Она прекрасн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Line 7"/>
          <p:cNvSpPr/>
          <p:nvPr/>
        </p:nvSpPr>
        <p:spPr>
          <a:xfrm>
            <a:off x="971640" y="3213000"/>
            <a:ext cx="13716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"/>
          <p:cNvSpPr/>
          <p:nvPr/>
        </p:nvSpPr>
        <p:spPr>
          <a:xfrm>
            <a:off x="971640" y="3048120"/>
            <a:ext cx="13716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9"/>
          <p:cNvSpPr/>
          <p:nvPr/>
        </p:nvSpPr>
        <p:spPr>
          <a:xfrm>
            <a:off x="2987640" y="4343400"/>
            <a:ext cx="76212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0"/>
          <p:cNvSpPr/>
          <p:nvPr/>
        </p:nvSpPr>
        <p:spPr>
          <a:xfrm>
            <a:off x="2987640" y="4456080"/>
            <a:ext cx="76212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1"/>
          <p:cNvSpPr/>
          <p:nvPr/>
        </p:nvSpPr>
        <p:spPr>
          <a:xfrm>
            <a:off x="1352520" y="5877000"/>
            <a:ext cx="198108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"/>
          <p:cNvSpPr/>
          <p:nvPr/>
        </p:nvSpPr>
        <p:spPr>
          <a:xfrm>
            <a:off x="1387440" y="5692680"/>
            <a:ext cx="198108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611280" y="1981080"/>
            <a:ext cx="70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Что дела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1476360" y="4648320"/>
            <a:ext cx="61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Како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2843280" y="335268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Что так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Глагол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Существительны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рилагательны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Числительны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4"/>
          <p:cNvSpPr txBox="1"/>
          <p:nvPr/>
        </p:nvSpPr>
        <p:spPr>
          <a:xfrm>
            <a:off x="609480" y="1371600"/>
            <a:ext cx="81536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Физкультминутк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4" name="Picture 5" descr="мышка"/>
          <p:cNvPicPr/>
          <p:nvPr/>
        </p:nvPicPr>
        <p:blipFill>
          <a:blip r:embed="rId1"/>
          <a:stretch/>
        </p:blipFill>
        <p:spPr>
          <a:xfrm>
            <a:off x="3505320" y="3733920"/>
            <a:ext cx="2332080" cy="2590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54080" y="549360"/>
            <a:ext cx="9018360" cy="5850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2"/>
          <p:cNvSpPr/>
          <p:nvPr/>
        </p:nvSpPr>
        <p:spPr>
          <a:xfrm flipH="1">
            <a:off x="467640" y="549360"/>
            <a:ext cx="8496360" cy="57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ркалось. На закате догорала заря. За лесом её не было видно, но всюду чувствовалась борьба света с тьмою. Ночные тени успели прокрасться в лес и закутали в сумрак высокие кроны деревьев. Между ветвями деревьев виднелись звёзды и острые рога полумесяц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ало. Костёр догорал, над рекою повис туман. Сквозь него неясно были видны горы. Весёлые голоса, шутки, смех, разносились далеко по долин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1857240" y="214200"/>
            <a:ext cx="5715000" cy="5814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 Antiqua"/>
              </a:rPr>
              <a:t>Выборочное списы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Волна 3"/>
          <p:cNvSpPr/>
          <p:nvPr/>
        </p:nvSpPr>
        <p:spPr>
          <a:xfrm>
            <a:off x="357120" y="1071720"/>
            <a:ext cx="1928880" cy="928440"/>
          </a:xfrm>
          <a:custGeom>
            <a:avLst/>
            <a:gdLst>
              <a:gd name="textAreaLeft" fmla="*/ 0 w 1928880"/>
              <a:gd name="textAreaRight" fmla="*/ 1929240 w 1928880"/>
              <a:gd name="textAreaTop" fmla="*/ 232200 h 928440"/>
              <a:gd name="textAreaBottom" fmla="*/ 6966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 вол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Волна 4"/>
          <p:cNvSpPr/>
          <p:nvPr/>
        </p:nvSpPr>
        <p:spPr>
          <a:xfrm>
            <a:off x="6500880" y="1143000"/>
            <a:ext cx="1928880" cy="928800"/>
          </a:xfrm>
          <a:custGeom>
            <a:avLst/>
            <a:gdLst>
              <a:gd name="textAreaLeft" fmla="*/ 0 w 1928880"/>
              <a:gd name="textAreaRight" fmla="*/ 1929240 w 1928880"/>
              <a:gd name="textAreaTop" fmla="*/ 232200 h 928800"/>
              <a:gd name="textAreaBottom" fmla="*/ 696600 h 9288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 зай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Волна 5"/>
          <p:cNvSpPr/>
          <p:nvPr/>
        </p:nvSpPr>
        <p:spPr>
          <a:xfrm>
            <a:off x="3357720" y="1071720"/>
            <a:ext cx="1928520" cy="928440"/>
          </a:xfrm>
          <a:custGeom>
            <a:avLst/>
            <a:gdLst>
              <a:gd name="textAreaLeft" fmla="*/ 0 w 1928520"/>
              <a:gd name="textAreaRight" fmla="*/ 1928880 w 1928520"/>
              <a:gd name="textAreaTop" fmla="*/ 232200 h 928440"/>
              <a:gd name="textAreaBottom" fmla="*/ 6966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 ли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214200" y="3929040"/>
            <a:ext cx="8643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имой волки выходят на охоту даже днём. Зимой заяц легко передвигается. Охотится лиса в сумерках или ночью. Широкие лапы не дают ему провалиться в снег. Волки хорошо чувствуют запахи и слышат слабые звуки. Белая окраска шерсти делает его незаметным на фоне снега. Уничтожая мышей, лиса приносит поль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7" descr="6226.gif"/>
          <p:cNvPicPr/>
          <p:nvPr/>
        </p:nvPicPr>
        <p:blipFill>
          <a:blip r:embed="rId1"/>
          <a:stretch/>
        </p:blipFill>
        <p:spPr>
          <a:xfrm>
            <a:off x="285840" y="1928880"/>
            <a:ext cx="2009520" cy="150012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8" descr="5970.gif"/>
          <p:cNvPicPr/>
          <p:nvPr/>
        </p:nvPicPr>
        <p:blipFill>
          <a:blip r:embed="rId2"/>
          <a:stretch/>
        </p:blipFill>
        <p:spPr>
          <a:xfrm flipH="1">
            <a:off x="7143840" y="2286000"/>
            <a:ext cx="1357200" cy="85716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9" descr="6185.gif"/>
          <p:cNvPicPr/>
          <p:nvPr/>
        </p:nvPicPr>
        <p:blipFill>
          <a:blip r:embed="rId3"/>
          <a:stretch/>
        </p:blipFill>
        <p:spPr>
          <a:xfrm>
            <a:off x="2857680" y="2357280"/>
            <a:ext cx="3786120" cy="9590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4133880" y="1020600"/>
            <a:ext cx="5010120" cy="58374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2"/>
          <p:cNvSpPr/>
          <p:nvPr/>
        </p:nvSpPr>
        <p:spPr>
          <a:xfrm>
            <a:off x="152280" y="37476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на уроке мы узнал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538200" y="1628640"/>
            <a:ext cx="32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538200" y="2637000"/>
            <a:ext cx="47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538200" y="3659040"/>
            <a:ext cx="51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538200" y="4869000"/>
            <a:ext cx="42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108000" y="812880"/>
            <a:ext cx="88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54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545454"/>
                </a:solidFill>
                <a:latin typeface="Times New Roman"/>
                <a:ea typeface="Times New Roman"/>
              </a:rPr>
              <a:t>несколько предложений, связанных друг с другом по смыслу и грамматичес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4140360" y="26370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http://www.chitalnya.ru/upload2/398/463522030506283072.jpg"/>
          <p:cNvPicPr/>
          <p:nvPr/>
        </p:nvPicPr>
        <p:blipFill>
          <a:blip r:embed="rId1"/>
          <a:stretch/>
        </p:blipFill>
        <p:spPr>
          <a:xfrm>
            <a:off x="2336760" y="1873080"/>
            <a:ext cx="4397400" cy="49849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5"/>
          <p:cNvSpPr/>
          <p:nvPr/>
        </p:nvSpPr>
        <p:spPr>
          <a:xfrm>
            <a:off x="3276720" y="-355680"/>
            <a:ext cx="375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a6a6a"/>
                </a:solidFill>
                <a:latin typeface="Times New Roman"/>
                <a:ea typeface="Times New Roman"/>
              </a:rPr>
              <a:t>Текст</a:t>
            </a:r>
            <a:r>
              <a:rPr b="0" lang="ru-RU" sz="4000" spc="-1" strike="noStrike">
                <a:solidFill>
                  <a:srgbClr val="545454"/>
                </a:solidFill>
                <a:latin typeface="Times New Roman"/>
                <a:ea typeface="Times New Roman"/>
              </a:rPr>
              <a:t> – </a:t>
            </a:r>
            <a:r>
              <a:rPr b="1" lang="ru-RU" sz="4000" spc="-1" strike="noStrike">
                <a:solidFill>
                  <a:srgbClr val="6a6a6a"/>
                </a:solidFill>
                <a:latin typeface="Times New Roman"/>
                <a:ea typeface="Times New Roman"/>
              </a:rPr>
              <a:t>э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Картинки по запросу картинки ученики в школе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450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1"/>
          <p:cNvSpPr/>
          <p:nvPr/>
        </p:nvSpPr>
        <p:spPr>
          <a:xfrm>
            <a:off x="684360" y="507528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/з.Упражнение 144- подготовиться к сжатому изложени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http://www.b17.ru/foto/uploaded/ab21adaa7f9ab90ef908e1d0781cf836.jpg"/>
          <p:cNvPicPr/>
          <p:nvPr/>
        </p:nvPicPr>
        <p:blipFill>
          <a:blip r:embed="rId1"/>
          <a:stretch/>
        </p:blipFill>
        <p:spPr>
          <a:xfrm>
            <a:off x="0" y="0"/>
            <a:ext cx="9217080" cy="6797520"/>
          </a:xfrm>
          <a:prstGeom prst="rect">
            <a:avLst/>
          </a:prstGeom>
          <a:ln w="0">
            <a:noFill/>
          </a:ln>
        </p:spPr>
      </p:pic>
      <p:sp>
        <p:nvSpPr>
          <p:cNvPr id="124" name="TextBox 1"/>
          <p:cNvSpPr/>
          <p:nvPr/>
        </p:nvSpPr>
        <p:spPr>
          <a:xfrm>
            <a:off x="154080" y="54936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доволен (довольна ) собой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4859280" y="1284120"/>
            <a:ext cx="324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у ч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6659640" y="2457360"/>
            <a:ext cx="211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2"/>
          <p:cNvSpPr/>
          <p:nvPr/>
        </p:nvSpPr>
        <p:spPr>
          <a:xfrm>
            <a:off x="468360" y="115920"/>
            <a:ext cx="835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думаю, что наш класс дружный. Во-первых, мы вместе ходим в походы и на экскурсии. Во-вторых, всегда помогаем друг другу. В– третьих, все дружно участвуем в соревновани-ях, в трудовых делах, вместе озеленяем школу. В общем, я считаю, что мы дружные ребята! А вы как думае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 flipH="1">
            <a:off x="610560" y="2205000"/>
            <a:ext cx="79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аска опёнка осеннего желтовато-серая. Она может быть и грязно-коричневой, а к середине шляпки — более темной. Ножка тонкая, плотная, у шляпки белая, к основанию серая, иногда коричнева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611280" y="3860640"/>
            <a:ext cx="79930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упила долгожданная з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оз затянул пруд ледком.    Ребята размели каток. У всех готовы коньки. Мальчишки ловко и легко скользят по льду. Радостно звучат детские голо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о мчаться по гладкому льд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Картинки по запросу опенок"/>
          <p:cNvPicPr/>
          <p:nvPr/>
        </p:nvPicPr>
        <p:blipFill>
          <a:blip r:embed="rId1"/>
          <a:stretch/>
        </p:blipFill>
        <p:spPr>
          <a:xfrm>
            <a:off x="2781360" y="2924280"/>
            <a:ext cx="3962520" cy="352908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324000" y="1268280"/>
            <a:ext cx="741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ёнок, опята-  съедобный  гриб (баллы гомбэ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3"/>
          <p:cNvSpPr/>
          <p:nvPr/>
        </p:nvSpPr>
        <p:spPr>
          <a:xfrm>
            <a:off x="108000" y="620640"/>
            <a:ext cx="908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или несколько слов, связанных между собой по смыслу и грамматичес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330120" y="191628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является словосочетани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7"/>
          <p:cNvSpPr/>
          <p:nvPr/>
        </p:nvSpPr>
        <p:spPr>
          <a:xfrm>
            <a:off x="108000" y="2502000"/>
            <a:ext cx="8424720" cy="45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сочетание подлежащего и сказуем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onstantia"/>
              </a:rPr>
              <a:t>☀</a:t>
            </a:r>
            <a:r>
              <a:rPr b="1" i="1" lang="ru-RU" sz="2800" spc="-1" strike="noStrike">
                <a:solidFill>
                  <a:srgbClr val="00b050"/>
                </a:solidFill>
                <a:latin typeface="Constantia"/>
              </a:rPr>
              <a:t>светит солнц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▪ </a:t>
            </a: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сочетание однородных член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onstantia"/>
              </a:rPr>
              <a:t>☀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800" spc="-1" strike="noStrike">
                <a:solidFill>
                  <a:srgbClr val="00b050"/>
                </a:solidFill>
                <a:latin typeface="Constantia"/>
              </a:rPr>
              <a:t>цветы и трав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▪ </a:t>
            </a: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сочетание предлога и сл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onstantia"/>
              </a:rPr>
              <a:t>☀</a:t>
            </a:r>
            <a:r>
              <a:rPr b="1" i="1" lang="ru-RU" sz="2800" spc="-1" strike="noStrike">
                <a:solidFill>
                  <a:srgbClr val="00b050"/>
                </a:solidFill>
                <a:latin typeface="Constantia"/>
              </a:rPr>
              <a:t>у колод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1908000" y="404640"/>
            <a:ext cx="49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сочетание — э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get-wallpapers.ru/img/picture/Jan/05/a49eec85c081e2804e35049e8458066f/8.jpg"/>
          <p:cNvPicPr/>
          <p:nvPr/>
        </p:nvPicPr>
        <p:blipFill>
          <a:blip r:embed="rId1"/>
          <a:srcRect l="0" t="0" r="0" b="12448"/>
          <a:stretch/>
        </p:blipFill>
        <p:spPr>
          <a:xfrm>
            <a:off x="3851280" y="0"/>
            <a:ext cx="528336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0" y="266760"/>
            <a:ext cx="3851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тые  клено-вые листья 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хо  застилали земл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250920" y="64152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т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ь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1619280" y="1103400"/>
            <a:ext cx="533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еновые лист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2556000" y="1494000"/>
            <a:ext cx="409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хо застил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3635280" y="1835280"/>
            <a:ext cx="367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илали зем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Умножение 5"/>
          <p:cNvSpPr/>
          <p:nvPr/>
        </p:nvSpPr>
        <p:spPr>
          <a:xfrm>
            <a:off x="2050920" y="438120"/>
            <a:ext cx="252720" cy="380880"/>
          </a:xfrm>
          <a:custGeom>
            <a:avLst/>
            <a:gdLst/>
            <a:ahLst/>
            <a:rect l="l" t="t" r="r" b="b"/>
            <a:pathLst>
              <a:path w="252413" h="381000">
                <a:moveTo>
                  <a:pt x="35877" y="107901"/>
                </a:moveTo>
                <a:lnTo>
                  <a:pt x="85369" y="75113"/>
                </a:lnTo>
                <a:lnTo>
                  <a:pt x="126207" y="136754"/>
                </a:lnTo>
                <a:lnTo>
                  <a:pt x="167044" y="75113"/>
                </a:lnTo>
                <a:lnTo>
                  <a:pt x="216536" y="107901"/>
                </a:lnTo>
                <a:lnTo>
                  <a:pt x="161814" y="190500"/>
                </a:lnTo>
                <a:lnTo>
                  <a:pt x="216536" y="273099"/>
                </a:lnTo>
                <a:lnTo>
                  <a:pt x="167044" y="305887"/>
                </a:lnTo>
                <a:lnTo>
                  <a:pt x="126207" y="244246"/>
                </a:lnTo>
                <a:lnTo>
                  <a:pt x="85369" y="305887"/>
                </a:lnTo>
                <a:lnTo>
                  <a:pt x="35877" y="273099"/>
                </a:lnTo>
                <a:lnTo>
                  <a:pt x="90599" y="190500"/>
                </a:lnTo>
                <a:lnTo>
                  <a:pt x="35877" y="10790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Умножение 7"/>
          <p:cNvSpPr/>
          <p:nvPr/>
        </p:nvSpPr>
        <p:spPr>
          <a:xfrm>
            <a:off x="3635280" y="1206360"/>
            <a:ext cx="346320" cy="495360"/>
          </a:xfrm>
          <a:custGeom>
            <a:avLst/>
            <a:gdLst/>
            <a:ahLst/>
            <a:rect l="l" t="t" r="r" b="b"/>
            <a:pathLst>
              <a:path w="346075" h="495300">
                <a:moveTo>
                  <a:pt x="49757" y="142269"/>
                </a:moveTo>
                <a:lnTo>
                  <a:pt x="116480" y="95648"/>
                </a:lnTo>
                <a:lnTo>
                  <a:pt x="173038" y="176593"/>
                </a:lnTo>
                <a:lnTo>
                  <a:pt x="229595" y="95648"/>
                </a:lnTo>
                <a:lnTo>
                  <a:pt x="296318" y="142269"/>
                </a:lnTo>
                <a:lnTo>
                  <a:pt x="222686" y="247650"/>
                </a:lnTo>
                <a:lnTo>
                  <a:pt x="296318" y="353031"/>
                </a:lnTo>
                <a:lnTo>
                  <a:pt x="229595" y="399652"/>
                </a:lnTo>
                <a:lnTo>
                  <a:pt x="173038" y="318707"/>
                </a:lnTo>
                <a:lnTo>
                  <a:pt x="116480" y="399652"/>
                </a:lnTo>
                <a:lnTo>
                  <a:pt x="49757" y="353031"/>
                </a:lnTo>
                <a:lnTo>
                  <a:pt x="123389" y="247650"/>
                </a:lnTo>
                <a:lnTo>
                  <a:pt x="49757" y="14226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Умножение 8"/>
          <p:cNvSpPr/>
          <p:nvPr/>
        </p:nvSpPr>
        <p:spPr>
          <a:xfrm>
            <a:off x="4788000" y="2057400"/>
            <a:ext cx="315720" cy="507960"/>
          </a:xfrm>
          <a:custGeom>
            <a:avLst/>
            <a:gdLst/>
            <a:ahLst/>
            <a:rect l="l" t="t" r="r" b="b"/>
            <a:pathLst>
              <a:path w="315913" h="508000">
                <a:moveTo>
                  <a:pt x="44326" y="141628"/>
                </a:moveTo>
                <a:lnTo>
                  <a:pt x="107423" y="102390"/>
                </a:lnTo>
                <a:lnTo>
                  <a:pt x="157957" y="183650"/>
                </a:lnTo>
                <a:lnTo>
                  <a:pt x="208490" y="102390"/>
                </a:lnTo>
                <a:lnTo>
                  <a:pt x="271587" y="141628"/>
                </a:lnTo>
                <a:lnTo>
                  <a:pt x="201706" y="254000"/>
                </a:lnTo>
                <a:lnTo>
                  <a:pt x="271587" y="366372"/>
                </a:lnTo>
                <a:lnTo>
                  <a:pt x="208490" y="405610"/>
                </a:lnTo>
                <a:lnTo>
                  <a:pt x="157957" y="324350"/>
                </a:lnTo>
                <a:lnTo>
                  <a:pt x="107423" y="405610"/>
                </a:lnTo>
                <a:lnTo>
                  <a:pt x="44326" y="366372"/>
                </a:lnTo>
                <a:lnTo>
                  <a:pt x="114207" y="254000"/>
                </a:lnTo>
                <a:lnTo>
                  <a:pt x="44326" y="14162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Умножение 9"/>
          <p:cNvSpPr/>
          <p:nvPr/>
        </p:nvSpPr>
        <p:spPr>
          <a:xfrm>
            <a:off x="6353280" y="2879640"/>
            <a:ext cx="293760" cy="405000"/>
          </a:xfrm>
          <a:custGeom>
            <a:avLst/>
            <a:gdLst/>
            <a:ahLst/>
            <a:rect l="l" t="t" r="r" b="b"/>
            <a:pathLst>
              <a:path w="293688" h="404813">
                <a:moveTo>
                  <a:pt x="42581" y="117507"/>
                </a:moveTo>
                <a:lnTo>
                  <a:pt x="98492" y="76944"/>
                </a:lnTo>
                <a:lnTo>
                  <a:pt x="146844" y="143592"/>
                </a:lnTo>
                <a:lnTo>
                  <a:pt x="195196" y="76944"/>
                </a:lnTo>
                <a:lnTo>
                  <a:pt x="251107" y="117507"/>
                </a:lnTo>
                <a:lnTo>
                  <a:pt x="189514" y="202407"/>
                </a:lnTo>
                <a:lnTo>
                  <a:pt x="251107" y="287306"/>
                </a:lnTo>
                <a:lnTo>
                  <a:pt x="195196" y="327869"/>
                </a:lnTo>
                <a:lnTo>
                  <a:pt x="146844" y="261221"/>
                </a:lnTo>
                <a:lnTo>
                  <a:pt x="98492" y="327869"/>
                </a:lnTo>
                <a:lnTo>
                  <a:pt x="42581" y="287306"/>
                </a:lnTo>
                <a:lnTo>
                  <a:pt x="104174" y="202407"/>
                </a:lnTo>
                <a:lnTo>
                  <a:pt x="42581" y="1175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108000" y="189000"/>
            <a:ext cx="4248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ья разноцветные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отая осень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ршащий ковёр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4211640" y="189000"/>
            <a:ext cx="4932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цветные листья ложатся под н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упила золотая ос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ногами пестреет шуршащий ковё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539640" y="1228680"/>
            <a:ext cx="806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Тема урока: 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Предложение. Грамматическая основа предлож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2556000" y="3352680"/>
            <a:ext cx="3767040" cy="3216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9:02:37Z</dcterms:created>
  <dc:creator>user</dc:creator>
  <dc:description/>
  <dc:language>en-US</dc:language>
  <cp:lastModifiedBy>Admin</cp:lastModifiedBy>
  <dcterms:modified xsi:type="dcterms:W3CDTF">2016-10-20T07:50:17Z</dcterms:modified>
  <cp:revision>85</cp:revision>
  <dc:subject/>
  <dc:title>Слайд 1</dc:title>
</cp:coreProperties>
</file>