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1.jpeg" ContentType="image/jpeg"/>
  <Override PartName="/ppt/media/image47.png" ContentType="image/png"/>
  <Override PartName="/ppt/media/image4.gif" ContentType="image/gif"/>
  <Override PartName="/ppt/media/image33.jpeg" ContentType="image/jpe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53.png" ContentType="image/png"/>
  <Override PartName="/ppt/media/image31.jpeg" ContentType="image/jpeg"/>
  <Override PartName="/ppt/media/image30.png" ContentType="image/png"/>
  <Override PartName="/ppt/media/image10.jpeg" ContentType="image/jpeg"/>
  <Override PartName="/ppt/media/image49.png" ContentType="image/png"/>
  <Override PartName="/ppt/media/image12.png" ContentType="image/png"/>
  <Override PartName="/ppt/media/image54.jpeg" ContentType="image/jpeg"/>
  <Override PartName="/ppt/media/image13.png" ContentType="image/png"/>
  <Override PartName="/ppt/media/image4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7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E3B-07EC-47BE-9EA7-606D8E0F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4B0-79F3-40EA-8A2C-376B7F45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6C4-A494-4DB7-AF5E-8C7AC7FA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209-79A6-453E-9DF2-42149D16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136-A232-4B47-BB2A-5B59F4A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EFB-4827-4D41-9C3C-BAB74196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AAE-3897-4D2C-AB01-2062AB3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7D9-C014-4961-B7B8-C4E22FC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698-C35F-4825-B077-E648E34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E94-06D5-49AB-BD12-BB69B5E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1DC-2F2E-412E-8833-BE83CD8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EE5-CF5A-45A6-B07F-2FF241AD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805-CC87-4877-A501-645C0A15E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осударственное бюджет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ентр образования №1420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ЮВАО г. Москвы</a:t>
            </a:r>
            <a:br>
              <a:rPr sz="1800"/>
            </a:br>
            <a:br>
              <a:rPr sz="1800"/>
            </a:b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«Возникновение чис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8360" y="2349000"/>
            <a:ext cx="32400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ект 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еник 2 «Л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мянцев Лео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ошн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ариса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&amp;Kcy;&amp;acy;&amp;kcy; &amp;pcy;&amp;ocy;&amp;yacy;&amp;vcy;&amp;icy;&amp;lcy;&amp;icy;&amp;scy;&amp;softcy; &amp;tscy;&amp;icy;&amp;fcy;&amp;rcy;&amp;ycy;"/>
          <p:cNvPicPr/>
          <p:nvPr/>
        </p:nvPicPr>
        <p:blipFill>
          <a:blip r:embed="rId1"/>
          <a:stretch/>
        </p:blipFill>
        <p:spPr>
          <a:xfrm>
            <a:off x="755640" y="2421000"/>
            <a:ext cx="410544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й Гре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81440" cy="24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059280" y="5516640"/>
            <a:ext cx="942840" cy="5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5148360" y="5084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-  число 503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5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ерта отличает число от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Школа в древней Греции Путешествия во времени"/>
          <p:cNvPicPr/>
          <p:nvPr/>
        </p:nvPicPr>
        <p:blipFill>
          <a:blip r:embed="rId3"/>
          <a:stretch/>
        </p:blipFill>
        <p:spPr>
          <a:xfrm>
            <a:off x="5219640" y="1844640"/>
            <a:ext cx="3311640" cy="2685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468360" y="1548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У древних греков вместо цифр использовались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5364000" y="544500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5364000" y="5661000"/>
            <a:ext cx="228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го Кит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3552840" cy="213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Азартные игры в китай - Поймай удачу за хвост!"/>
          <p:cNvPicPr/>
          <p:nvPr/>
        </p:nvPicPr>
        <p:blipFill>
          <a:blip r:embed="rId2"/>
          <a:stretch/>
        </p:blipFill>
        <p:spPr>
          <a:xfrm>
            <a:off x="5580000" y="1628640"/>
            <a:ext cx="300204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979640" y="4797360"/>
            <a:ext cx="561960" cy="1247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2843280" y="5300640"/>
            <a:ext cx="438120" cy="21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3564000" y="5300640"/>
            <a:ext cx="952560" cy="276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5076720" y="471492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- число 2 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две тыся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девять сот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три деся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етыре 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900000" y="1341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Китайцы использо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десятичную систему сч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27612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7"/>
          <a:stretch/>
        </p:blipFill>
        <p:spPr>
          <a:xfrm>
            <a:off x="5292720" y="5300640"/>
            <a:ext cx="257040" cy="27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"/>
          <p:cNvPicPr/>
          <p:nvPr/>
        </p:nvPicPr>
        <p:blipFill>
          <a:blip r:embed="rId8"/>
          <a:stretch/>
        </p:blipFill>
        <p:spPr>
          <a:xfrm>
            <a:off x="5292720" y="5589720"/>
            <a:ext cx="209520" cy="25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"/>
          <p:cNvPicPr/>
          <p:nvPr/>
        </p:nvPicPr>
        <p:blipFill>
          <a:blip r:embed="rId9"/>
          <a:stretch/>
        </p:blipFill>
        <p:spPr>
          <a:xfrm>
            <a:off x="5292720" y="5877000"/>
            <a:ext cx="29520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го Ри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2160720" cy="3295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716360" y="155664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Мы и сейчас пользуемся иногда римскими циф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56724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1619280" y="5300640"/>
            <a:ext cx="904680" cy="10508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2987640" y="5300640"/>
            <a:ext cx="944640" cy="10810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133" name="Rectangle 25"/>
          <p:cNvSpPr/>
          <p:nvPr/>
        </p:nvSpPr>
        <p:spPr>
          <a:xfrm>
            <a:off x="4716360" y="530028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Если внимательно рассмотреть,  римские циф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хожи на паль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в Древней Рус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824360" cy="21524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4858" t="16482" r="23427" b="26099"/>
          <a:stretch/>
        </p:blipFill>
        <p:spPr>
          <a:xfrm>
            <a:off x="2411280" y="1628640"/>
            <a:ext cx="360360" cy="258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2988000" y="155664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ти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5580000" y="2205000"/>
            <a:ext cx="193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Цифры в Древней Руси имели полное сходство с греческой записью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7667640" y="2276640"/>
            <a:ext cx="849240" cy="15840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140" name="Picture 9" descr="_3MO118MXP"/>
          <p:cNvPicPr/>
          <p:nvPr/>
        </p:nvPicPr>
        <p:blipFill>
          <a:blip r:embed="rId4"/>
          <a:stretch/>
        </p:blipFill>
        <p:spPr>
          <a:xfrm>
            <a:off x="971640" y="5013360"/>
            <a:ext cx="382896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5940360" y="4581360"/>
            <a:ext cx="25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аши современные цифры пришли к нам из Индии через арабские страны, поэтому их и называют арабск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– числа правят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Люди научились считать 25-30 тысяч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начала люди считали на пальцах рук, а если не хватало, то считали и пальцы на но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зднее при счете  использовали камешки, числа обозначали  узелками, черточками и зарубками на деревянных бир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Запоминать большие числа было трудно, поэтому у разных народов появляются условные знаки для обозначения чисел -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рудно себе представить, как жил бы современный человек без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 числами человек сталкивается  повсеместно. Получается, что числа возникли в древности и сопровождают нашу жизнь повсюду и сейч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1. Депман И.Я. Мир чисел. – Л.: Дет. Лит., 1982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2. Бурау И.Я. Загадки мира чисел. – Д.: Сталкер, 199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3. Депман И.Я., Виленкин Н.Я. За страницами учебника математики. – М.: Просвещение, 198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4. Энциклопедия для детей.  Математика. – М.: Аванта +, 200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5. Познавательный журнал «Детская  энциклопедия. Нескучные чис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   №</a:t>
            </a: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10-2012». – М.: ООО «Журнал «Детская энциклопедия», 2012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6.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u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ели и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060280"/>
            <a:ext cx="5759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исследовать историю возникновения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ыяснить как люди научились с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292280"/>
            <a:ext cx="8207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найти и изучить информацию о возникновении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- узнать как возникали цифры у разных народ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- провести анкетирование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первобытных люд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13716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76720" y="3141000"/>
            <a:ext cx="54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исло «один», потому, что Солнце на небе     всегда 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26[1]"/>
          <p:cNvPicPr/>
          <p:nvPr/>
        </p:nvPicPr>
        <p:blipFill>
          <a:blip r:embed="rId2"/>
          <a:stretch/>
        </p:blipFill>
        <p:spPr>
          <a:xfrm>
            <a:off x="826920" y="4581360"/>
            <a:ext cx="2001960" cy="712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3203640" y="4508280"/>
            <a:ext cx="55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исло «два» связано с предметами, встречающимися попарно – глаза, руки, крылья,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95280" y="566064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У некоторых племен долгое время не было других чис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кроме «один» и «два». Все, что шло после двух, называлось «много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95280" y="1628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История возникновения чисел зародилась еще в доисторические времена 25-30 тысяч лет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первобыт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39640" y="2276640"/>
            <a:ext cx="165600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6920" y="1557000"/>
            <a:ext cx="4825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ревние люди добывали себе пищу главным образом охотой. Чтобы добыча не ушла, её надо было окружить, ну вот хотя бы так: пять человек справа, семь сзади, четыре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ождь первобытного племени, показывал числа на пальцах р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Люди начинали учиться считать, пользуясь собственной пятернё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1692000" cy="230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468360" y="5157720"/>
            <a:ext cx="718920" cy="139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1692360" y="5157720"/>
            <a:ext cx="718920" cy="139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2771640" y="5157720"/>
            <a:ext cx="72072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6"/>
          <a:stretch/>
        </p:blipFill>
        <p:spPr>
          <a:xfrm>
            <a:off x="3995640" y="5157720"/>
            <a:ext cx="638280" cy="14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7"/>
          <a:stretch/>
        </p:blipFill>
        <p:spPr>
          <a:xfrm>
            <a:off x="5076720" y="5157720"/>
            <a:ext cx="762120" cy="143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8"/>
          <a:stretch/>
        </p:blipFill>
        <p:spPr>
          <a:xfrm>
            <a:off x="6227640" y="515772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9"/>
          <a:stretch/>
        </p:blipFill>
        <p:spPr>
          <a:xfrm>
            <a:off x="7667640" y="5084640"/>
            <a:ext cx="905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первобытных людей</a:t>
            </a:r>
            <a:br>
              <a:rPr sz="3200"/>
            </a:br>
            <a:br>
              <a:rPr sz="2800"/>
            </a:b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ля того, чтобы показать большие числа, никаких пальцев рук и ног не хватало, поэтому вместо пальцев для счёта начали использовать другие способ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2746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92000" y="2349000"/>
            <a:ext cx="5194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900000" y="4581360"/>
            <a:ext cx="497160" cy="5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476360" y="4437000"/>
            <a:ext cx="5745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912960" cy="42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rcRect l="0" t="0" r="-9143" b="0"/>
          <a:stretch/>
        </p:blipFill>
        <p:spPr>
          <a:xfrm>
            <a:off x="1763640" y="5157720"/>
            <a:ext cx="514440" cy="45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5"/>
          <a:stretch/>
        </p:blipFill>
        <p:spPr>
          <a:xfrm>
            <a:off x="2411280" y="5013360"/>
            <a:ext cx="522360" cy="77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6"/>
          <a:stretch/>
        </p:blipFill>
        <p:spPr>
          <a:xfrm>
            <a:off x="971640" y="5373720"/>
            <a:ext cx="655560" cy="37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узелки_resize"/>
          <p:cNvPicPr/>
          <p:nvPr/>
        </p:nvPicPr>
        <p:blipFill>
          <a:blip r:embed="rId7"/>
          <a:stretch/>
        </p:blipFill>
        <p:spPr>
          <a:xfrm>
            <a:off x="4500720" y="4149720"/>
            <a:ext cx="386388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28f6aaef4578c1f598af7733375209c3"/>
          <p:cNvPicPr/>
          <p:nvPr/>
        </p:nvPicPr>
        <p:blipFill>
          <a:blip r:embed="rId8"/>
          <a:stretch/>
        </p:blipFill>
        <p:spPr>
          <a:xfrm>
            <a:off x="3348000" y="256536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явление циф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394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течение тысячелетий люди использовали пальцы рук и ног, узелки на веревках и зарубки на палочках, но это было не очень удобно при обозначении большого коли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Шумерская%20табличка_resize"/>
          <p:cNvPicPr/>
          <p:nvPr/>
        </p:nvPicPr>
        <p:blipFill>
          <a:blip r:embed="rId1"/>
          <a:stretch/>
        </p:blipFill>
        <p:spPr>
          <a:xfrm>
            <a:off x="5003640" y="4365720"/>
            <a:ext cx="3538800" cy="203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3961080" cy="1440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4643280" y="1484280"/>
            <a:ext cx="40323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Примерно пять тысяч лет назад почти одновременно в разных странах родился новый способ записи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ля обозначения чисел стали использовать условные знаки – циф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ифры Древнего Егип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695840" cy="107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421956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http://ru.convdocs.org/pars_docs/refs/69/68644/68644_html_m6041a0b8.png"/>
          <p:cNvPicPr/>
          <p:nvPr/>
        </p:nvPicPr>
        <p:blipFill>
          <a:blip r:embed="rId3"/>
          <a:stretch/>
        </p:blipFill>
        <p:spPr>
          <a:xfrm>
            <a:off x="826920" y="5373720"/>
            <a:ext cx="3816360" cy="934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4859280" y="478296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– число 23 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два иероглифа по десять тыся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ри иероглифа по тыся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дин для 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етыре для дес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ять иероглифов для 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Альтернативная История: Забытые следы русов в Древнем Египте"/>
          <p:cNvPicPr/>
          <p:nvPr/>
        </p:nvPicPr>
        <p:blipFill>
          <a:blip r:embed="rId4"/>
          <a:stretch/>
        </p:blipFill>
        <p:spPr>
          <a:xfrm>
            <a:off x="5508720" y="1700280"/>
            <a:ext cx="3119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го Вавило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Сайт - объединение людей - Создание сайтов, обслуживание и продвижение"/>
          <p:cNvPicPr/>
          <p:nvPr/>
        </p:nvPicPr>
        <p:blipFill>
          <a:blip r:embed="rId1"/>
          <a:stretch/>
        </p:blipFill>
        <p:spPr>
          <a:xfrm>
            <a:off x="6012000" y="1628640"/>
            <a:ext cx="264636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5273640" cy="1054080"/>
          </a:xfrm>
          <a:prstGeom prst="rect">
            <a:avLst/>
          </a:prstGeom>
          <a:ln w="9360">
            <a:solidFill>
              <a:srgbClr val="d6ecff"/>
            </a:solidFill>
            <a:miter/>
          </a:ln>
        </p:spPr>
      </p:pic>
      <p:sp>
        <p:nvSpPr>
          <p:cNvPr id="91" name="Rectangle 8"/>
          <p:cNvSpPr/>
          <p:nvPr/>
        </p:nvSpPr>
        <p:spPr>
          <a:xfrm>
            <a:off x="5148360" y="4868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– число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два шести деся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дин иероглиф по дес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емь черточек для един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68360" y="1987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В Древнем Вавилоне счит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е десятками, а шести деся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340000" y="5229360"/>
            <a:ext cx="15620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народа Май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755640" y="2276640"/>
            <a:ext cx="4176720" cy="1871640"/>
          </a:xfrm>
          <a:prstGeom prst="rect">
            <a:avLst/>
          </a:prstGeom>
          <a:ln w="9360">
            <a:solidFill>
              <a:srgbClr val="d6ecff"/>
            </a:solidFill>
            <a:miter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484360" y="5013360"/>
            <a:ext cx="1079640" cy="720720"/>
          </a:xfrm>
          <a:prstGeom prst="rect">
            <a:avLst/>
          </a:prstGeom>
          <a:ln w="9360">
            <a:solidFill>
              <a:srgbClr val="d6ecff"/>
            </a:solidFill>
            <a:miter/>
          </a:ln>
        </p:spPr>
      </p:pic>
      <p:sp>
        <p:nvSpPr>
          <p:cNvPr id="97" name="Rectangle 6"/>
          <p:cNvSpPr/>
          <p:nvPr/>
        </p:nvSpPr>
        <p:spPr>
          <a:xfrm>
            <a:off x="1042200" y="169956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арод Майя считал двадцат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История появления шоколада &quot; Рецепты для мультиварки. Сайт о мультиварках."/>
          <p:cNvPicPr/>
          <p:nvPr/>
        </p:nvPicPr>
        <p:blipFill>
          <a:blip r:embed="rId3"/>
          <a:stretch/>
        </p:blipFill>
        <p:spPr>
          <a:xfrm>
            <a:off x="5867280" y="1700280"/>
            <a:ext cx="2694240" cy="2449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4067280" y="488448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– число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два десятка обозначаются двумя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очками и кругом под н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пять как большая че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18:06Z</dcterms:created>
  <dc:creator>User</dc:creator>
  <dc:description/>
  <dc:language>en-US</dc:language>
  <cp:lastModifiedBy>Надежда</cp:lastModifiedBy>
  <dcterms:modified xsi:type="dcterms:W3CDTF">2017-01-03T19:14:23Z</dcterms:modified>
  <cp:revision>102</cp:revision>
  <dc:subject/>
  <dc:title>Слайд 1</dc:title>
</cp:coreProperties>
</file>