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0F9-04F1-4472-91B2-CDD84C1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F8E-F7CF-4991-8E48-20223FFD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271-1C86-4CAC-9A1B-339DAD41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4D0-00DC-4001-9CA0-362A04FC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51B-17F4-45D5-B388-44EFE64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8F4-D242-419A-BF5C-FA26F9C2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C4A-2044-42F2-BB97-BE75725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AF3-6AE1-42D7-BA92-C4258A4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ED5-017C-4639-9D64-E19DA1A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9B8-C060-40F9-8254-3E9556C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C51-CD2D-4409-BE59-EFF4A9C4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FFA-695D-407F-B29D-777E241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284-2164-4624-90D5-5EDC0222E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nyx"/>
              </a:rPr>
              <a:t>«Золотая Хохлом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рос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0" y="488952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Кокорева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ы №169 г.Н.Нов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тая хохлома – яркое и уникальное явление народного декоративно-прикладного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0600" y="1600200"/>
            <a:ext cx="476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хломской промысел возник 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толетии в Нижегородском Заволж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158920" cy="388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5280" cy="28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203640" y="4221000"/>
            <a:ext cx="396072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ным – давно поселился в лесу за Волгой мужичок-умелец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753080" cy="32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441600">
            <a:off x="5508720" y="4365720"/>
            <a:ext cx="3227400" cy="2004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1232800">
            <a:off x="5838480" y="1316160"/>
            <a:ext cx="2952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создания хохломски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568800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200" y="1403280"/>
            <a:ext cx="285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тач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н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хломская роспись представляет собой растительный орнамент, состоящий из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889440" cy="446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95600" y="2082960"/>
            <a:ext cx="207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с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рав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вит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пель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с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ус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ее распространенные вид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хломской роспи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тра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удр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521080" cy="244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880000" cy="285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48000" cy="25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78936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ая 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31164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6953600">
            <a:off x="5729040" y="1263240"/>
            <a:ext cx="1311120" cy="233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3860640"/>
            <a:ext cx="2448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им видом росписи вы познаком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первые появился этот вид рос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элементы рос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город Нижегородской области является центром хохломской рос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14:52Z</dcterms:created>
  <dc:creator>Admin</dc:creator>
  <dc:description/>
  <dc:language>en-US</dc:language>
  <cp:lastModifiedBy>Natasha</cp:lastModifiedBy>
  <dcterms:modified xsi:type="dcterms:W3CDTF">2017-01-03T13:12:29Z</dcterms:modified>
  <cp:revision>17</cp:revision>
  <dc:subject/>
  <dc:title>«Золотая Хохлома»</dc:title>
</cp:coreProperties>
</file>