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E24-F9E6-449E-A979-13AF8AD5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877-07B5-48F7-AA13-5CC1ED0E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FBA-9711-4C14-AE17-99039098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62D7-61A6-4AB3-9642-36B194A8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4F9-1D9B-4B57-A737-1D36D90E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908-DAE7-4ACF-A187-2770E9DF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25AB-A67F-4787-AF65-543A48BF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03A-7E0E-4359-BA7B-C17BC5FA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148B-ABB4-4DE4-B0CD-2F54BB4B7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205-99E3-46A6-8490-93FBAE37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0447-57E7-4163-9F7A-2B840973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DBFA-6031-4E86-94E0-9CF6C08F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DFF5-B603-46DE-BDD5-75F511E37D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Onyx"/>
              </a:rPr>
              <a:t>«Золотая Хохлом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тория воз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рос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54000" y="4889520"/>
            <a:ext cx="321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Кокорева Н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ы №169 г.Н.Новго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олотая хохлома – яркое и уникальное явление народного декоративно-прикладного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0600" y="1600200"/>
            <a:ext cx="4761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Хохломской промысел возник в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столетии в Нижегородском Заволж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158920" cy="388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175280" cy="287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3203640" y="4221000"/>
            <a:ext cx="396072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авным – давно поселился в лесу за Волгой мужичок-умелец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753080" cy="3240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441600">
            <a:off x="5508720" y="4365720"/>
            <a:ext cx="3227400" cy="20048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21232800">
            <a:off x="5838480" y="1316160"/>
            <a:ext cx="29527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создания хохломских издел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132000" y="2421000"/>
            <a:ext cx="5688000" cy="3529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200" y="1403280"/>
            <a:ext cx="2855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тач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н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с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к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хломская роспись представляет собой растительный орнамент, состоящий из элем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3889440" cy="446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295600" y="2082960"/>
            <a:ext cx="2073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соч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трави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завит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пель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ус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усти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более распространенные вид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охломской роспис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трав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кудр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521080" cy="2447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87280" y="3573360"/>
            <a:ext cx="2880000" cy="2855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443640" y="1413000"/>
            <a:ext cx="2448000" cy="2519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59280" y="3789360"/>
            <a:ext cx="3095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временная хохл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3311640" cy="324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 rot="16953600">
            <a:off x="5729040" y="1263240"/>
            <a:ext cx="1311120" cy="233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0" y="3860640"/>
            <a:ext cx="244800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17"/>
            </a:gs>
            <a:gs pos="100000">
              <a:srgbClr val="ff99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каким видом росписи вы познакомились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первые появился этот вид роспи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элементы роспи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ой город Нижегородской области является центром хохломской роспис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7:14:52Z</dcterms:created>
  <dc:creator>Admin</dc:creator>
  <dc:description/>
  <dc:language>en-US</dc:language>
  <cp:lastModifiedBy>Natasha</cp:lastModifiedBy>
  <dcterms:modified xsi:type="dcterms:W3CDTF">2017-01-03T13:12:29Z</dcterms:modified>
  <cp:revision>17</cp:revision>
  <dc:subject/>
  <dc:title>«Золотая Хохлома»</dc:title>
</cp:coreProperties>
</file>