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0B6-5FA0-43F8-A8D2-C811FB33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C53-B79E-497B-850C-B5F6A830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650-3083-43A7-8F13-2B980C42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4F3-6D30-46E7-9DBE-38516D65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E09-02BE-46B9-98F4-8E3FEC9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189-F916-42C8-849A-6FA6541E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260-E64C-48F5-BC41-33DB152C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855-F228-4884-BB53-2189A2DA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E9F-C95E-4F59-ACEF-64BC5CCC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3AD-0A7C-4D9E-8969-A01DA6C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A83-2A63-4BF7-A965-896CA1A2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792-F787-4B55-B7DC-0D8EA60A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5981-8B4E-49A4-8557-FB72921DE9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4;&#1072;&#1090;&#1088;&#1077;&#1096;&#1082;&#1080;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6600cc"/>
                </a:solidFill>
                <a:uFillTx/>
                <a:latin typeface="Times New Roman"/>
              </a:rPr>
              <a:t>Познавательная игра для детей по теме «Русская народная игруш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066680" y="533520"/>
            <a:ext cx="70106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роб чуде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46" descr="E:\Графика\Матрешки\короб.jpg"/>
          <p:cNvPicPr/>
          <p:nvPr/>
        </p:nvPicPr>
        <p:blipFill>
          <a:blip r:embed="rId1"/>
          <a:stretch/>
        </p:blipFill>
        <p:spPr>
          <a:xfrm>
            <a:off x="5029200" y="3627360"/>
            <a:ext cx="36608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905120" y="457200"/>
            <a:ext cx="5333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ИМОН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7" descr="4"/>
          <p:cNvPicPr/>
          <p:nvPr/>
        </p:nvPicPr>
        <p:blipFill>
          <a:blip r:embed="rId1"/>
          <a:srcRect l="0" t="3150" r="0" b="0"/>
          <a:stretch/>
        </p:blipFill>
        <p:spPr>
          <a:xfrm>
            <a:off x="1619280" y="1341360"/>
            <a:ext cx="6095880" cy="48895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9">
            <a:hlinkClick r:id="rId2" action="ppaction://hlinksldjump"/>
          </p:cNvPr>
          <p:cNvSpPr/>
          <p:nvPr/>
        </p:nvSpPr>
        <p:spPr>
          <a:xfrm>
            <a:off x="7596360" y="6308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6094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62120" y="140508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ло Филимоново Одоевского района Тульской области. Игрушки отличаются особым изяществом форм, своеобразной пластикой, вытянутыми пропорциями.   Все филимоновские игрушки расписаны по белой глине, которая является фоном. Цвет играет существенную роль в облике игрушек. Он выявляет и подчеркивает пластику, с помощью мазков и пятен фигурки обретают лица, одежду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ИМОН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581280" y="1143000"/>
            <a:ext cx="4343400" cy="27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лый шелковый платочек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Яркий сарафан в цветочек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пирается ру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деревянные бок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 внутри секреты есть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жет, три, а может, шесть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Разрумянилась немножк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аша русска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АТРЕ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676520" y="181080"/>
            <a:ext cx="6476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РЕШКА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AutoShape 6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>
            <a:hlinkClick r:id="rId2" action="ppaction://hlinksldjump"/>
          </p:cNvPr>
          <p:cNvSpPr/>
          <p:nvPr/>
        </p:nvSpPr>
        <p:spPr>
          <a:xfrm>
            <a:off x="7596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762120"/>
            <a:ext cx="838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0880" y="1600200"/>
            <a:ext cx="83822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сская матрешка «родилась» в конц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1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толетия в Сергиевском посаде. Главное было то, что в этой кукле пряталось целое семейство таких же веселых девчушек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мые известные матрешки отличались друг от друга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1523880" y="685800"/>
            <a:ext cx="6477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РЕШКА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AutoShape 9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1763640" y="465300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знакомьтесь с их видами.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886200" y="25909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ВАЯ РУССК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1"/>
          <p:cNvPicPr/>
          <p:nvPr/>
        </p:nvPicPr>
        <p:blipFill>
          <a:blip r:embed="rId1"/>
          <a:stretch/>
        </p:blipFill>
        <p:spPr>
          <a:xfrm>
            <a:off x="609480" y="380880"/>
            <a:ext cx="3052800" cy="5867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7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724280" y="26668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АЛИНИНСК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6"/>
          <p:cNvPicPr/>
          <p:nvPr/>
        </p:nvPicPr>
        <p:blipFill>
          <a:blip r:embed="rId1"/>
          <a:stretch/>
        </p:blipFill>
        <p:spPr>
          <a:xfrm>
            <a:off x="762120" y="609480"/>
            <a:ext cx="3352680" cy="5615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4724280" y="23623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ЕМЕНО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К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5"/>
          <p:cNvPicPr/>
          <p:nvPr/>
        </p:nvPicPr>
        <p:blipFill>
          <a:blip r:embed="rId1"/>
          <a:stretch/>
        </p:blipFill>
        <p:spPr>
          <a:xfrm>
            <a:off x="762120" y="609480"/>
            <a:ext cx="3179520" cy="5486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572000" y="28195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ГОРСКАЯ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636480" y="533520"/>
            <a:ext cx="3130560" cy="6019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1908000" y="53737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юзина Марина Евгеньев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Rotation of 02260002"/>
          <p:cNvPicPr/>
          <p:nvPr/>
        </p:nvPicPr>
        <p:blipFill>
          <a:blip r:embed="rId1"/>
          <a:stretch/>
        </p:blipFill>
        <p:spPr>
          <a:xfrm>
            <a:off x="1979640" y="2349360"/>
            <a:ext cx="2171520" cy="289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игрушка"/>
          <p:cNvPicPr/>
          <p:nvPr/>
        </p:nvPicPr>
        <p:blipFill>
          <a:blip r:embed="rId2"/>
          <a:stretch/>
        </p:blipFill>
        <p:spPr>
          <a:xfrm>
            <a:off x="5580000" y="1557360"/>
            <a:ext cx="2521080" cy="27684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2"/>
          <p:cNvSpPr txBox="1"/>
          <p:nvPr/>
        </p:nvSpPr>
        <p:spPr>
          <a:xfrm>
            <a:off x="609480" y="228600"/>
            <a:ext cx="7877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боту подготовила 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итель начальной школы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447920" y="1600200"/>
            <a:ext cx="6781680" cy="56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развитие познавательной активности детей, знакомство с народными ремеслами России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ивать любовь как особое отношение человека к окружающему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Сценарий праздника подробно смотри здесь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ИДЫ ИГРУШ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 flipH="1">
            <a:off x="2819160" y="2057400"/>
            <a:ext cx="1447560" cy="152388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5181480" y="1752480"/>
            <a:ext cx="2286000" cy="76212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8"/>
          <p:cNvSpPr/>
          <p:nvPr/>
        </p:nvSpPr>
        <p:spPr>
          <a:xfrm>
            <a:off x="5029200" y="2057400"/>
            <a:ext cx="1219320" cy="13716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2"/>
          <p:cNvSpPr/>
          <p:nvPr/>
        </p:nvSpPr>
        <p:spPr>
          <a:xfrm>
            <a:off x="4648320" y="2133720"/>
            <a:ext cx="0" cy="259056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1676160" y="1752480"/>
            <a:ext cx="2361960" cy="6858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32"/>
          <p:cNvSpPr txBox="1"/>
          <p:nvPr/>
        </p:nvSpPr>
        <p:spPr>
          <a:xfrm>
            <a:off x="250920" y="2637000"/>
            <a:ext cx="2619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ымковска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34"/>
          <p:cNvSpPr txBox="1"/>
          <p:nvPr/>
        </p:nvSpPr>
        <p:spPr>
          <a:xfrm>
            <a:off x="1476360" y="3716280"/>
            <a:ext cx="2581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ородска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35"/>
          <p:cNvSpPr txBox="1"/>
          <p:nvPr/>
        </p:nvSpPr>
        <p:spPr>
          <a:xfrm>
            <a:off x="2987640" y="4869000"/>
            <a:ext cx="3343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имоновска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36"/>
          <p:cNvSpPr txBox="1"/>
          <p:nvPr/>
        </p:nvSpPr>
        <p:spPr>
          <a:xfrm>
            <a:off x="5435640" y="3716280"/>
            <a:ext cx="205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решка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38"/>
          <p:cNvSpPr txBox="1"/>
          <p:nvPr/>
        </p:nvSpPr>
        <p:spPr>
          <a:xfrm>
            <a:off x="6588000" y="2637000"/>
            <a:ext cx="23432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тровска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1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1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900"/>
                            </p:stCondLst>
                            <p:childTnLst>
                              <p:par>
                                <p:cTn id="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90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9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9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429000" cy="4038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876920" y="1752480"/>
            <a:ext cx="3504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дый, важный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ышный, статный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перении нарядном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ий, желтый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ный кру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ушил свой хв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Ю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ЫМК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AutoShape 5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>
            <a:hlinkClick r:id="rId2" action="ppaction://hlinksldjump"/>
          </p:cNvPr>
          <p:cNvSpPr/>
          <p:nvPr/>
        </p:nvSpPr>
        <p:spPr>
          <a:xfrm>
            <a:off x="7596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8360" y="1523880"/>
            <a:ext cx="820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грушки для свиста делались в Дымковской слободе, что неподалеку от города Вятки. В Дымкове живут замечательные мастерицы. Их игрушки самые «богатые», веселые, радостные. Но игрушки эти особые: они одновременно и свистульки. Любимые игрушки вятских мастеров – это индюки да еще барыни в расписных русских кокошниках, в платьях с оборками, расписанных цветами да кругам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ЫМК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4792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4419720" y="15238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и деревянные-как живые. Без пружины, без мотора они двигаются благодаря ниточкам да палочкам, которые приделали к ним хитроумные мастера из сел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огородск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что под Москвой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ГОРОД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AutoShape 5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">
            <a:hlinkClick r:id="rId2" action="ppaction://hlinksldjump"/>
          </p:cNvPr>
          <p:cNvSpPr/>
          <p:nvPr/>
        </p:nvSpPr>
        <p:spPr>
          <a:xfrm>
            <a:off x="7596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9640" y="1447920"/>
            <a:ext cx="8209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авятся исстари мастерами-игрушечниками и подмосковные земли . Особенно известно село Богородское, где и поныне живут мастера-золотые руки. Умельцы шутят: «Москва- столица страны, а мы, Богородск- стольный град игрушек. 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 липы вырезана игрушка. Доброе дерево в руках настоящего мастера умеет говорить веселые сказк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ГОРОД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AutoShape 4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788000" y="1844640"/>
            <a:ext cx="3657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ереливами поет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ром будит весь народ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лотистый гребеш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до носи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УШ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ТР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11" descr="петух"/>
          <p:cNvPicPr/>
          <p:nvPr/>
        </p:nvPicPr>
        <p:blipFill>
          <a:blip r:embed="rId1"/>
          <a:srcRect l="2119" t="0" r="0" b="0"/>
          <a:stretch/>
        </p:blipFill>
        <p:spPr>
          <a:xfrm>
            <a:off x="685800" y="1752480"/>
            <a:ext cx="3516480" cy="42674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>
            <a:hlinkClick r:id="rId2" action="ppaction://hlinksldjump"/>
          </p:cNvPr>
          <p:cNvSpPr/>
          <p:nvPr/>
        </p:nvSpPr>
        <p:spPr>
          <a:xfrm>
            <a:off x="7596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295280" y="5335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4360" y="182880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 в селах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</a:rPr>
              <a:t>Петровско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</a:rPr>
              <a:t>Сергие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авний промысел – тянули здешние крестьяне на гончарном круге горшки да кринки, а на досуге лепили глиняные свистульки. Игрушками заинтересовались художники. Их стали заказывать, увозить коробками, на выставках демонстрировать. Знаменитым стал деревенский мастер Иванов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ТР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AutoShape 5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1:10:51Z</dcterms:created>
  <dc:creator>ученик</dc:creator>
  <dc:description/>
  <dc:language>en-US</dc:language>
  <cp:lastModifiedBy>Home</cp:lastModifiedBy>
  <dcterms:modified xsi:type="dcterms:W3CDTF">2017-01-05T16:50:36Z</dcterms:modified>
  <cp:revision>37</cp:revision>
  <dc:subject/>
  <dc:title>Презентация PowerPoint</dc:title>
</cp:coreProperties>
</file>