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981C-BD71-44FA-B7DE-32EF2B43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D437-C299-431C-AC9B-125621DE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7FF4-E8EB-4129-AB02-D0ABC91FA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8786-1E73-4950-9759-4B01E663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8ABA-9230-44DF-8806-E8B6238D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B8D-3DFF-4C48-B258-27A7A7F0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A30-17FC-4AFE-AB24-223F061D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8A2-60B7-4022-8EB5-EA79D7F5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961-2E51-49FB-82AA-BC514C59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F6BA-AAD4-4EAD-94DC-8830B1DA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DDE6-3625-4F51-BE62-99373326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B9AC-F701-44C1-A7C7-2123FB97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F98A-3FE3-4941-AF13-B807D6308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3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8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699920"/>
            <a:ext cx="7848360" cy="2119320"/>
          </a:xfrm>
          <a:prstGeom prst="rect">
            <a:avLst/>
          </a:prstGeom>
          <a:noFill/>
          <a:ln w="76320">
            <a:solidFill>
              <a:srgbClr val="ff3300"/>
            </a:solidFill>
            <a:prstDash val="lgDash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Работа сил электростатического </a:t>
            </a:r>
            <a:br>
              <a:rPr sz="4000"/>
            </a:b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ол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. Потенци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калярная физическая величина, являющаяс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энергетической характеристик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электрического п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вен потенциальной энергии единичного положительного заряда в данной точке п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24000"/>
          </a:blip>
          <a:srcRect l="2522" t="18310" r="85145" b="64683"/>
          <a:stretch/>
        </p:blipFill>
        <p:spPr>
          <a:xfrm>
            <a:off x="3276720" y="4365720"/>
            <a:ext cx="22334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. Потенци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628640"/>
            <a:ext cx="723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зависит от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 Энергетическая характе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 Скалярная велич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. Зависит от нулевого уров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>
            <a:lum contrast="24000"/>
          </a:blip>
          <a:srcRect l="8878" t="21464" r="87148" b="66532"/>
          <a:stretch/>
        </p:blipFill>
        <p:spPr>
          <a:xfrm>
            <a:off x="1547640" y="2276640"/>
            <a:ext cx="570240" cy="1081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>
            <a:lum contrast="24000"/>
          </a:blip>
          <a:srcRect l="2522" t="18310" r="85145" b="64683"/>
          <a:stretch/>
        </p:blipFill>
        <p:spPr>
          <a:xfrm>
            <a:off x="6659640" y="404640"/>
            <a:ext cx="1512720" cy="13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3. Однородное по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76720" y="2781360"/>
          <a:ext cx="3168360" cy="22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781360"/>
                    <a:ext cx="316836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276720" y="1700280"/>
            <a:ext cx="215892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>
            <a:lum contrast="6000"/>
          </a:blip>
          <a:srcRect l="0" t="61480" r="0" b="0"/>
          <a:stretch/>
        </p:blipFill>
        <p:spPr>
          <a:xfrm>
            <a:off x="179280" y="2708280"/>
            <a:ext cx="8751960" cy="21207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ринцип суперпоз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contrast="36000"/>
          </a:blip>
          <a:srcRect l="4204" t="53458" r="59653" b="0"/>
          <a:stretch/>
        </p:blipFill>
        <p:spPr>
          <a:xfrm>
            <a:off x="2268360" y="1628640"/>
            <a:ext cx="5185080" cy="1363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>
            <a:lum contrast="30000"/>
          </a:blip>
          <a:srcRect l="48741" t="0" r="0" b="0"/>
          <a:stretch/>
        </p:blipFill>
        <p:spPr>
          <a:xfrm>
            <a:off x="755640" y="3068640"/>
            <a:ext cx="806436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тенциальные по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3860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Электроста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2637000"/>
            <a:ext cx="432000" cy="1152360"/>
          </a:xfrm>
          <a:prstGeom prst="downArrow">
            <a:avLst>
              <a:gd name="adj1" fmla="val 50000"/>
              <a:gd name="adj2" fmla="val 6668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88000" y="2565360"/>
            <a:ext cx="432000" cy="115272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541440" y="3860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Гравитацио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50920" y="189000"/>
          <a:ext cx="8569080" cy="6592680"/>
        </p:xfrm>
        <a:graphic>
          <a:graphicData uri="http://schemas.openxmlformats.org/drawingml/2006/table">
            <a:tbl>
              <a:tblPr/>
              <a:tblGrid>
                <a:gridCol w="4284720"/>
                <a:gridCol w="4284360"/>
              </a:tblGrid>
              <a:tr h="72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Гравитационное п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лектростатическое п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силы тяже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по перемещению заряда в однородном п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19640" y="1052640"/>
            <a:ext cx="2087280" cy="399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04000" y="981000"/>
            <a:ext cx="1584360" cy="784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440000" cy="790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826920" y="4869000"/>
            <a:ext cx="3168720" cy="608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724360" y="981000"/>
            <a:ext cx="2951280" cy="935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1187280" y="2421000"/>
            <a:ext cx="2311560" cy="2098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4859280" y="3068640"/>
            <a:ext cx="3525840" cy="2811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293800" y="6093000"/>
            <a:ext cx="25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 = qEd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– qEd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7240" y="2732040"/>
            <a:ext cx="12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F = q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3280" y="2060640"/>
            <a:ext cx="4105440" cy="4681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50920" y="1413000"/>
          <a:ext cx="8569080" cy="2792160"/>
        </p:xfrm>
        <a:graphic>
          <a:graphicData uri="http://schemas.openxmlformats.org/drawingml/2006/table">
            <a:tbl>
              <a:tblPr/>
              <a:tblGrid>
                <a:gridCol w="4284720"/>
                <a:gridCol w="4284360"/>
              </a:tblGrid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Гравитационное п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лектростатическое п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67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ь работ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ависит от формы траектор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замкнутой траектории =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ависит от выбора нулевого уров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250920" y="189000"/>
          <a:ext cx="8569080" cy="5943600"/>
        </p:xfrm>
        <a:graphic>
          <a:graphicData uri="http://schemas.openxmlformats.org/drawingml/2006/table">
            <a:tbl>
              <a:tblPr/>
              <a:tblGrid>
                <a:gridCol w="4284720"/>
                <a:gridCol w="4284360"/>
              </a:tblGrid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Гравитационное п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лектростатическое п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ая энер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ая энер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1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т от выбора нулевого уровн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Связь работы с потенциальной энерги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2449440" cy="755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64000" y="1484280"/>
            <a:ext cx="2521080" cy="8892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971640" y="4584600"/>
            <a:ext cx="3384360" cy="65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547640" y="5373720"/>
            <a:ext cx="1872000" cy="620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5076720" y="4581360"/>
            <a:ext cx="3240360" cy="573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5508720" y="5373720"/>
            <a:ext cx="1800000" cy="5731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0" y="981000"/>
            <a:ext cx="4175280" cy="165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437000"/>
            <a:ext cx="4175280" cy="165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0920" y="189000"/>
          <a:ext cx="8568720" cy="6552720"/>
        </p:xfrm>
        <a:graphic>
          <a:graphicData uri="http://schemas.openxmlformats.org/drawingml/2006/table">
            <a:tbl>
              <a:tblPr/>
              <a:tblGrid>
                <a:gridCol w="4284720"/>
                <a:gridCol w="4284000"/>
              </a:tblGrid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Гравитационное п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Электростатическое пол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4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нность рабо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ависит от формы траек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замкнутой траектории 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зависит от выбора нулевого уров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ая энер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енциальная энер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ь работы с потенциальной энерги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19640" y="1052640"/>
            <a:ext cx="2087280" cy="399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04000" y="981000"/>
            <a:ext cx="1584360" cy="784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440000" cy="790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1258920" y="2565360"/>
            <a:ext cx="2232000" cy="428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292720" y="2492280"/>
            <a:ext cx="2305080" cy="514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2195640" y="5013360"/>
            <a:ext cx="1655640" cy="511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6804000" y="4941720"/>
            <a:ext cx="1440000" cy="508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395280" y="6165720"/>
            <a:ext cx="2087640" cy="4032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3059280" y="6237360"/>
            <a:ext cx="1369800" cy="453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4572000" y="6165720"/>
            <a:ext cx="2376360" cy="420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7451640" y="6093000"/>
            <a:ext cx="1281240" cy="407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5219640" y="3645000"/>
            <a:ext cx="309564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Потенциальная энерг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4360" y="3284640"/>
          <a:ext cx="359856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284640"/>
                    <a:ext cx="3598560" cy="2428920"/>
                  </a:xfrm>
                  <a:prstGeom prst="rect">
                    <a:avLst/>
                  </a:prstGeom>
                  <a:ln w="38160">
                    <a:solidFill>
                      <a:srgbClr val="ff99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932360" y="3284640"/>
          <a:ext cx="3598920" cy="24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3284640"/>
                    <a:ext cx="3598920" cy="2448000"/>
                  </a:xfrm>
                  <a:prstGeom prst="rect">
                    <a:avLst/>
                  </a:prstGeom>
                  <a:ln w="38160">
                    <a:solidFill>
                      <a:srgbClr val="ff99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124000" y="1547640"/>
            <a:ext cx="4176720" cy="7398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2268360" y="2519280"/>
            <a:ext cx="2016360" cy="641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5076720" y="2489040"/>
            <a:ext cx="2159280" cy="762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4000" y="609300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 замкнутой траек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716360" y="6021360"/>
            <a:ext cx="2664000" cy="642600"/>
            <a:chOff x="4716360" y="6021360"/>
            <a:chExt cx="2664000" cy="642600"/>
          </a:xfrm>
        </p:grpSpPr>
        <p:pic>
          <p:nvPicPr>
            <p:cNvPr id="92" name="" descr=""/>
            <p:cNvPicPr/>
            <p:nvPr/>
          </p:nvPicPr>
          <p:blipFill>
            <a:blip r:embed="rId8"/>
            <a:stretch/>
          </p:blipFill>
          <p:spPr>
            <a:xfrm>
              <a:off x="4716360" y="6021360"/>
              <a:ext cx="201636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659640" y="6021360"/>
              <a:ext cx="720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000" y="1699920"/>
            <a:ext cx="7848360" cy="2119320"/>
          </a:xfrm>
          <a:prstGeom prst="rect">
            <a:avLst/>
          </a:prstGeom>
          <a:noFill/>
          <a:ln w="76320">
            <a:solidFill>
              <a:srgbClr val="ff3300"/>
            </a:solidFill>
            <a:prstDash val="lgDash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Энергетическая характеристика электростатического по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1. Потенциальные пол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 зависит от формы траек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А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00000" y="3284640"/>
            <a:ext cx="4176720" cy="739800"/>
          </a:xfrm>
          <a:prstGeom prst="rect">
            <a:avLst/>
          </a:prstGeom>
          <a:ln w="19080">
            <a:solidFill>
              <a:srgbClr val="ff99cc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835280" y="4221000"/>
            <a:ext cx="2158920" cy="7621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427640" y="436572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ородное п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18:04:32Z</dcterms:created>
  <dc:creator>Vera</dc:creator>
  <dc:description/>
  <dc:language>en-US</dc:language>
  <cp:lastModifiedBy>Vera</cp:lastModifiedBy>
  <dcterms:modified xsi:type="dcterms:W3CDTF">2016-04-10T19:16:39Z</dcterms:modified>
  <cp:revision>30</cp:revision>
  <dc:subject/>
  <dc:title>Слайд 1</dc:title>
</cp:coreProperties>
</file>