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jpeg" ContentType="image/jpeg"/>
  <Override PartName="/ppt/media/image10.wmf" ContentType="image/x-wmf"/>
  <Override PartName="/ppt/media/image9.jpeg" ContentType="image/jpeg"/>
  <Override PartName="/ppt/media/image7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8A8-502D-4161-9452-5F15B4F8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064-4DCB-476A-AE37-A00B820A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511-C732-4DDA-BEFB-78770F0F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EC6-EB14-4834-8F44-F8A73F90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F7B-DB29-4322-884C-6AB98D5E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8A5-99FC-4E1E-A776-3E5856F9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66B-2FC1-4672-B131-E666BA03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E45-86B1-4D37-8D34-95078248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63D-1614-4B0E-A1D7-28FF0327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C82-E324-4683-96DB-6113C0E9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6F4-C7A6-4856-B832-1B71CB21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B4C-8293-44D8-BBFE-958C2792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6512-EECF-46DA-9D37-638A69C412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2420640"/>
            <a:ext cx="53100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"/>
              </a:rPr>
              <a:t>Тюзина Марина Евгеньев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mic"/>
              </a:rPr>
              <a:t>учитель начальных классов Муниципального общеобразовательного учреждения«Воротынская средняя общеобразовательная школа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mic"/>
              </a:rPr>
              <a:t>муниципальный район «Перемышльски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45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Женская русская народная одеж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Администратор\Desktop\фотографии мамы\7.png"/>
          <p:cNvPicPr/>
          <p:nvPr/>
        </p:nvPicPr>
        <p:blipFill>
          <a:blip r:embed="rId1"/>
          <a:stretch/>
        </p:blipFill>
        <p:spPr>
          <a:xfrm>
            <a:off x="838080" y="2133720"/>
            <a:ext cx="2907000" cy="4163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650019781"/>
          <p:cNvPicPr/>
          <p:nvPr/>
        </p:nvPicPr>
        <p:blipFill>
          <a:blip r:embed="rId1"/>
          <a:stretch/>
        </p:blipFill>
        <p:spPr>
          <a:xfrm>
            <a:off x="457200" y="457200"/>
            <a:ext cx="3916440" cy="56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WordArt 6"/>
          <p:cNvSpPr txBox="1"/>
          <p:nvPr/>
        </p:nvSpPr>
        <p:spPr>
          <a:xfrm>
            <a:off x="4800600" y="2590920"/>
            <a:ext cx="38098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адебный костю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038480" y="13716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вушки на Руси до замужества могли ходить без головного убора, но волосы нужно было заплетать в одну ко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0" t="1943" r="3109" b="2676"/>
          <a:stretch/>
        </p:blipFill>
        <p:spPr>
          <a:xfrm>
            <a:off x="685800" y="380880"/>
            <a:ext cx="286560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23920" y="167616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ец косы девушки украш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rcRect l="3205" t="0" r="0" b="0"/>
          <a:stretch/>
        </p:blipFill>
        <p:spPr>
          <a:xfrm>
            <a:off x="380880" y="609480"/>
            <a:ext cx="4165560" cy="551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WordArt 5"/>
          <p:cNvSpPr txBox="1"/>
          <p:nvPr/>
        </p:nvSpPr>
        <p:spPr>
          <a:xfrm>
            <a:off x="5181480" y="3429000"/>
            <a:ext cx="2438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коснико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348080" cy="5410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0" name="WordArt 3"/>
          <p:cNvSpPr txBox="1"/>
          <p:nvPr/>
        </p:nvSpPr>
        <p:spPr>
          <a:xfrm>
            <a:off x="5410080" y="2209680"/>
            <a:ext cx="2971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енщи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кокош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657600" y="54864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ичные головные уборы замужней женщ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>
            <a:lum contrast="-6000"/>
          </a:blip>
          <a:srcRect l="2723" t="1682" r="0" b="0"/>
          <a:stretch/>
        </p:blipFill>
        <p:spPr>
          <a:xfrm>
            <a:off x="304920" y="380880"/>
            <a:ext cx="314964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WordArt 4"/>
          <p:cNvSpPr txBox="1"/>
          <p:nvPr/>
        </p:nvSpPr>
        <p:spPr>
          <a:xfrm>
            <a:off x="1219320" y="5943600"/>
            <a:ext cx="121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ч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7238880" y="914400"/>
            <a:ext cx="152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р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rcRect l="5405" t="0" r="5405" b="0"/>
          <a:stretch/>
        </p:blipFill>
        <p:spPr>
          <a:xfrm>
            <a:off x="5105520" y="152280"/>
            <a:ext cx="197784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3276720" y="3336840"/>
            <a:ext cx="3352680" cy="32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6" descr=""/>
          <p:cNvPicPr/>
          <p:nvPr/>
        </p:nvPicPr>
        <p:blipFill>
          <a:blip r:embed="rId2"/>
          <a:srcRect l="0" t="0" r="3673" b="0"/>
          <a:stretch/>
        </p:blipFill>
        <p:spPr>
          <a:xfrm>
            <a:off x="380880" y="304920"/>
            <a:ext cx="24955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352320" y="380520"/>
            <a:ext cx="5791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Рязанской, Тульской и Калужской губерниях носили рогат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7315200" y="1600200"/>
            <a:ext cx="1190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чк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ужняя женщина надевала поверх кички или кокош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2097" r="2612" b="0"/>
          <a:stretch/>
        </p:blipFill>
        <p:spPr>
          <a:xfrm>
            <a:off x="457200" y="1542960"/>
            <a:ext cx="4191120" cy="384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WordArt 5"/>
          <p:cNvSpPr txBox="1"/>
          <p:nvPr/>
        </p:nvSpPr>
        <p:spPr>
          <a:xfrm>
            <a:off x="5029200" y="167652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брус –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ы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Администратор\Desktop\Новая папка\IMAG0034.jpg"/>
          <p:cNvPicPr/>
          <p:nvPr/>
        </p:nvPicPr>
        <p:blipFill>
          <a:blip r:embed="rId2"/>
          <a:stretch/>
        </p:blipFill>
        <p:spPr>
          <a:xfrm>
            <a:off x="1295280" y="1295280"/>
            <a:ext cx="7023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нский Б.М. «Искусство вокруг нас» Москва «Просвещение», 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пожникова Т. Б., Коблова О. А. Методика проведения уроков по теме «Декоративно – прикладное искусство в жизни человека»Москва,  Педагогический университет «Первое сентября», 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ww.narodk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biblioclub.ru/mxk/index.php?action=about&amp;id=42752&amp;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simvol-veri.ru/article/article/2_27.s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forum.turkey-info.ru/showflat.php?Cat=&amp;Number=1406967&amp;page=&amp;view=&amp;sb=5&amp;o=&amp;fpart=4&amp;v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1600200" y="304920"/>
            <a:ext cx="6019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уемые источник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2971800" y="533520"/>
            <a:ext cx="3352680" cy="1218960"/>
          </a:xfrm>
          <a:custGeom>
            <a:avLst/>
            <a:gdLst>
              <a:gd name="textAreaLeft" fmla="*/ 143640 w 3352680"/>
              <a:gd name="textAreaRight" fmla="*/ 3209040 w 335268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593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5798" y="21600"/>
                </a:lnTo>
                <a:arcTo wR="3600" hR="3600" stAng="10800000" swAng="5400000"/>
                <a:lnTo>
                  <a:pt x="59398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124080" y="17524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5943600" y="17524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3657600" y="762120"/>
            <a:ext cx="20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99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ДЕЖДА</a:t>
            </a:r>
            <a:endParaRPr b="1" i="1" lang="en-US" sz="1800" spc="1" strike="noStrike">
              <a:ln w="12600">
                <a:solidFill>
                  <a:srgbClr val="990099"/>
                </a:solidFill>
                <a:miter/>
              </a:ln>
              <a:solidFill>
                <a:srgbClr val="99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380880" y="3200400"/>
            <a:ext cx="3657600" cy="2590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 Black"/>
              </a:rPr>
              <a:t>ПО НАЗНА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вседне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азднич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4800600" y="3200400"/>
            <a:ext cx="3657600" cy="2590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 Black"/>
              </a:rPr>
              <a:t>ПО ПОЛОВ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 Black"/>
              </a:rPr>
              <a:t>ПРИЗНА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 Black"/>
                <a:hlinkClick r:id="rId1" action="ppaction://hlinksldjump"/>
              </a:rPr>
              <a:t>Же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уж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76560" y="1752120"/>
            <a:ext cx="4267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а женского народного костюма. Шилась из белого льняного или конопляного полот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5257800" y="10666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БАХА –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6" descr="rub9"/>
          <p:cNvPicPr/>
          <p:nvPr/>
        </p:nvPicPr>
        <p:blipFill>
          <a:blip r:embed="rId1"/>
          <a:stretch/>
        </p:blipFill>
        <p:spPr>
          <a:xfrm>
            <a:off x="838080" y="685800"/>
            <a:ext cx="3645000" cy="544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7960" y="838080"/>
            <a:ext cx="4190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евался поверх рубахи, украшался спереди узорной полосой , тесьмой, серебряным кружевом, узорными пуговиц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5029200" y="762120"/>
            <a:ext cx="2514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РАФАН –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96540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1904760"/>
            <a:ext cx="42670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откая клешеная кофточка без рукавов, шилась из парчовой тк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4952880" y="182880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ЕПАНЕЧКА –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rcRect l="0" t="0" r="3827" b="0"/>
          <a:stretch/>
        </p:blipFill>
        <p:spPr>
          <a:xfrm>
            <a:off x="1143000" y="457200"/>
            <a:ext cx="2182680" cy="591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рафанный комплект обычно включал в себя рубаху, собственно сарафан,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4800600" y="502920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дни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60828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191120" y="1828440"/>
            <a:ext cx="4952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зывалась длинная туникообразная одежда с рукавами и длинным прямоугольным  вырезом до лопа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648320" y="1143000"/>
            <a:ext cx="25146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навеско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rcRect l="4049" t="0" r="2712" b="-273"/>
          <a:stretch/>
        </p:blipFill>
        <p:spPr>
          <a:xfrm>
            <a:off x="609480" y="304920"/>
            <a:ext cx="3345120" cy="608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rcRect l="0" t="0" r="2415" b="0"/>
          <a:stretch/>
        </p:blipFill>
        <p:spPr>
          <a:xfrm>
            <a:off x="533520" y="533520"/>
            <a:ext cx="3217680" cy="582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62520" y="2209680"/>
            <a:ext cx="44193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короткая, свободная кофта, собранная в верхней части в мелкие склад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4343400" y="1447920"/>
            <a:ext cx="23623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ушегрея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85840" y="2209320"/>
            <a:ext cx="4800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отканая клетчатая юбка из шерсти. Ее обшивали лентами и тесьм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4343400" y="1600200"/>
            <a:ext cx="226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ева –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Picture 6" descr="понева"/>
          <p:cNvPicPr/>
          <p:nvPr/>
        </p:nvPicPr>
        <p:blipFill>
          <a:blip r:embed="rId1"/>
          <a:stretch/>
        </p:blipFill>
        <p:spPr>
          <a:xfrm>
            <a:off x="533520" y="762120"/>
            <a:ext cx="3517920" cy="54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e</cp:lastModifiedBy>
  <dcterms:modified xsi:type="dcterms:W3CDTF">2015-01-12T17:36:3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