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jpeg" ContentType="image/jpeg"/>
  <Override PartName="/ppt/media/image10.wmf" ContentType="image/x-wmf"/>
  <Override PartName="/ppt/media/image9.jpeg" ContentType="image/jpeg"/>
  <Override PartName="/ppt/media/image7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5C4-5C50-494D-AF7C-F9BFC2DC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E30-6D9C-43A3-9DAD-C8A6D105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AA86-BAEC-478E-B5E2-FF326968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F86-773E-4733-904A-A15871AD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B69-1B08-4E44-8C01-39619134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72A0-EBC3-4C09-83FF-9C56E70C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4A6-D2B0-415F-82E6-C92D2D6B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53D-82CA-40D4-897E-6BA9B935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A71-6D5D-4849-B89E-DDE82EFF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E86-A696-46EA-B6B7-4F97DB65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882-1596-402D-9924-3DD236C2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8A5E-3747-4346-AA32-2B29B461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4031-C9A1-4B05-8824-2D10A70B02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2420640"/>
            <a:ext cx="53100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"/>
              </a:rPr>
              <a:t>Тюзина Марина Евгеньевн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mic"/>
              </a:rPr>
              <a:t>учитель начальных классов Муниципального общеобразовательного учреждения«Воротынская средняя общеобразовательная школа»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omic"/>
              </a:rPr>
              <a:t>муниципальный район «Перемышльский 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228600"/>
            <a:ext cx="7345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Женская русская народная одежд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Администратор\Desktop\фотографии мамы\7.png"/>
          <p:cNvPicPr/>
          <p:nvPr/>
        </p:nvPicPr>
        <p:blipFill>
          <a:blip r:embed="rId1"/>
          <a:stretch/>
        </p:blipFill>
        <p:spPr>
          <a:xfrm>
            <a:off x="838080" y="2133720"/>
            <a:ext cx="2907000" cy="4163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650019781"/>
          <p:cNvPicPr/>
          <p:nvPr/>
        </p:nvPicPr>
        <p:blipFill>
          <a:blip r:embed="rId1"/>
          <a:stretch/>
        </p:blipFill>
        <p:spPr>
          <a:xfrm>
            <a:off x="457200" y="457200"/>
            <a:ext cx="3916440" cy="56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WordArt 6"/>
          <p:cNvSpPr txBox="1"/>
          <p:nvPr/>
        </p:nvSpPr>
        <p:spPr>
          <a:xfrm>
            <a:off x="4800600" y="2590920"/>
            <a:ext cx="380988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адебный костю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038480" y="1371600"/>
            <a:ext cx="4648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вушки на Руси до замужества могли ходить без головного убора, но волосы нужно было заплетать в одну кос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rcRect l="0" t="1943" r="3109" b="2676"/>
          <a:stretch/>
        </p:blipFill>
        <p:spPr>
          <a:xfrm>
            <a:off x="685800" y="380880"/>
            <a:ext cx="286560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723920" y="1676160"/>
            <a:ext cx="3886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нец косы девушки украша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rcRect l="3205" t="0" r="0" b="0"/>
          <a:stretch/>
        </p:blipFill>
        <p:spPr>
          <a:xfrm>
            <a:off x="380880" y="609480"/>
            <a:ext cx="4165560" cy="551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WordArt 5"/>
          <p:cNvSpPr txBox="1"/>
          <p:nvPr/>
        </p:nvSpPr>
        <p:spPr>
          <a:xfrm>
            <a:off x="5181480" y="3429000"/>
            <a:ext cx="2438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косником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4348080" cy="54100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0" name="WordArt 3"/>
          <p:cNvSpPr txBox="1"/>
          <p:nvPr/>
        </p:nvSpPr>
        <p:spPr>
          <a:xfrm>
            <a:off x="5410080" y="2209680"/>
            <a:ext cx="297180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енщин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кокошник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657600" y="54864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пичные головные уборы замужней женщ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>
            <a:lum contrast="-6000"/>
          </a:blip>
          <a:srcRect l="2723" t="1682" r="0" b="0"/>
          <a:stretch/>
        </p:blipFill>
        <p:spPr>
          <a:xfrm>
            <a:off x="304920" y="380880"/>
            <a:ext cx="314964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WordArt 4"/>
          <p:cNvSpPr txBox="1"/>
          <p:nvPr/>
        </p:nvSpPr>
        <p:spPr>
          <a:xfrm>
            <a:off x="1219320" y="5943600"/>
            <a:ext cx="1218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ич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7238880" y="914400"/>
            <a:ext cx="1524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ро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2"/>
          <a:srcRect l="5405" t="0" r="5405" b="0"/>
          <a:stretch/>
        </p:blipFill>
        <p:spPr>
          <a:xfrm>
            <a:off x="5105520" y="152280"/>
            <a:ext cx="197784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3276720" y="3336840"/>
            <a:ext cx="3352680" cy="32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7" name="Picture 6" descr=""/>
          <p:cNvPicPr/>
          <p:nvPr/>
        </p:nvPicPr>
        <p:blipFill>
          <a:blip r:embed="rId2"/>
          <a:srcRect l="0" t="0" r="3673" b="0"/>
          <a:stretch/>
        </p:blipFill>
        <p:spPr>
          <a:xfrm>
            <a:off x="380880" y="304920"/>
            <a:ext cx="24955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352320" y="380520"/>
            <a:ext cx="57913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Рязанской, Тульской и Калужской губерниях носили рогат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8"/>
          <p:cNvSpPr txBox="1"/>
          <p:nvPr/>
        </p:nvSpPr>
        <p:spPr>
          <a:xfrm>
            <a:off x="7315200" y="1600200"/>
            <a:ext cx="1190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ичк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мужняя женщина надевала поверх кички или кокошн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2097" r="2612" b="0"/>
          <a:stretch/>
        </p:blipFill>
        <p:spPr>
          <a:xfrm>
            <a:off x="457200" y="1542960"/>
            <a:ext cx="4191120" cy="384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2" name="WordArt 5"/>
          <p:cNvSpPr txBox="1"/>
          <p:nvPr/>
        </p:nvSpPr>
        <p:spPr>
          <a:xfrm>
            <a:off x="5029200" y="1676520"/>
            <a:ext cx="1828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брус –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ы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Администратор\Desktop\Новая папка\IMAG0034.jpg"/>
          <p:cNvPicPr/>
          <p:nvPr/>
        </p:nvPicPr>
        <p:blipFill>
          <a:blip r:embed="rId2"/>
          <a:stretch/>
        </p:blipFill>
        <p:spPr>
          <a:xfrm>
            <a:off x="1295280" y="1295280"/>
            <a:ext cx="7023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нский Б.М. «Искусство вокруг нас» Москва «Просвещение», 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пожникова Т. Б., Коблова О. А. Методика проведения уроков по теме «Декоративно – прикладное искусство в жизни человека»Москва,  Педагогический университет «Первое сентября», 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ww.narodko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biblioclub.ru/mxk/index.php?action=about&amp;id=42752&amp;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simvol-veri.ru/article/article/2_27.s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forum.turkey-info.ru/showflat.php?Cat=&amp;Number=1406967&amp;page=&amp;view=&amp;sb=5&amp;o=&amp;fpart=4&amp;v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8"/>
          <p:cNvSpPr txBox="1"/>
          <p:nvPr/>
        </p:nvSpPr>
        <p:spPr>
          <a:xfrm>
            <a:off x="1600200" y="304920"/>
            <a:ext cx="6019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пользуемые источник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2971800" y="533520"/>
            <a:ext cx="3352680" cy="1218960"/>
          </a:xfrm>
          <a:custGeom>
            <a:avLst/>
            <a:gdLst>
              <a:gd name="textAreaLeft" fmla="*/ 143640 w 3352680"/>
              <a:gd name="textAreaRight" fmla="*/ 3209040 w 3352680"/>
              <a:gd name="textAreaTop" fmla="*/ 143640 h 1218960"/>
              <a:gd name="textAreaBottom" fmla="*/ 1075320 h 1218960"/>
            </a:gdLst>
            <a:ahLst/>
            <a:rect l="textAreaLeft" t="textAreaTop" r="textAreaRight" b="textAreaBottom"/>
            <a:pathLst>
              <a:path w="5939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5798" y="21600"/>
                </a:lnTo>
                <a:arcTo wR="3600" hR="3600" stAng="10800000" swAng="5400000"/>
                <a:lnTo>
                  <a:pt x="59398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3124080" y="17524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>
            <a:off x="5943600" y="17524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8"/>
          <p:cNvSpPr txBox="1"/>
          <p:nvPr/>
        </p:nvSpPr>
        <p:spPr>
          <a:xfrm>
            <a:off x="3657600" y="762120"/>
            <a:ext cx="2009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990099"/>
                  </a:solidFill>
                  <a:miter/>
                </a:ln>
                <a:solidFill>
                  <a:srgbClr val="99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ДЕЖДА</a:t>
            </a:r>
            <a:endParaRPr b="1" i="1" lang="en-US" sz="1800" spc="1" strike="noStrike">
              <a:ln w="12600">
                <a:solidFill>
                  <a:srgbClr val="990099"/>
                </a:solidFill>
                <a:miter/>
              </a:ln>
              <a:solidFill>
                <a:srgbClr val="99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AutoShape 9"/>
          <p:cNvSpPr/>
          <p:nvPr/>
        </p:nvSpPr>
        <p:spPr>
          <a:xfrm>
            <a:off x="380880" y="3200400"/>
            <a:ext cx="3657600" cy="2590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 Black"/>
              </a:rPr>
              <a:t>ПО НАЗНА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овседне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Празднич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>
            <a:off x="4800600" y="3200400"/>
            <a:ext cx="3657600" cy="2590920"/>
          </a:xfrm>
          <a:prstGeom prst="flowChart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 Black"/>
              </a:rPr>
              <a:t>ПО ПОЛОВО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99"/>
                </a:solidFill>
                <a:latin typeface="Arial Black"/>
              </a:rPr>
              <a:t>ПРИЗНА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 Black"/>
                <a:hlinkClick r:id="rId1" action="ppaction://hlinksldjump"/>
              </a:rPr>
              <a:t>Жен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Муж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76560" y="1752120"/>
            <a:ext cx="42670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а женского народного костюма. Шилась из белого льняного или конопляного полот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5257800" y="1066680"/>
            <a:ext cx="228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УБАХА –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2" name="Picture 6" descr="rub9"/>
          <p:cNvPicPr/>
          <p:nvPr/>
        </p:nvPicPr>
        <p:blipFill>
          <a:blip r:embed="rId1"/>
          <a:stretch/>
        </p:blipFill>
        <p:spPr>
          <a:xfrm>
            <a:off x="838080" y="685800"/>
            <a:ext cx="3645000" cy="5448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7960" y="838080"/>
            <a:ext cx="4190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евался поверх рубахи, украшался спереди узорной полосой , тесьмой, серебряным кружевом, узорными пуговиц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5029200" y="762120"/>
            <a:ext cx="25146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РАФАН –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96540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76560" y="1904760"/>
            <a:ext cx="426708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роткая клешеная кофточка без рукавов, шилась из парчовой тка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723920" y="18288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4952880" y="1828800"/>
            <a:ext cx="2514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ЕПАНЕЧКА –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rcRect l="0" t="0" r="3827" b="0"/>
          <a:stretch/>
        </p:blipFill>
        <p:spPr>
          <a:xfrm>
            <a:off x="1143000" y="457200"/>
            <a:ext cx="2182680" cy="591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рафанный комплект обычно включал в себя рубаху, собственно сарафан,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4800600" y="502920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едни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60828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191120" y="1828440"/>
            <a:ext cx="4952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зывалась длинная туникообразная одежда с рукавами и длинным прямоугольным  вырезом до лопа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648320" y="1143000"/>
            <a:ext cx="251460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навеско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rcRect l="4049" t="0" r="2712" b="-273"/>
          <a:stretch/>
        </p:blipFill>
        <p:spPr>
          <a:xfrm>
            <a:off x="609480" y="304920"/>
            <a:ext cx="3345120" cy="608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rcRect l="0" t="0" r="2415" b="0"/>
          <a:stretch/>
        </p:blipFill>
        <p:spPr>
          <a:xfrm>
            <a:off x="533520" y="533520"/>
            <a:ext cx="3217680" cy="582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62520" y="2209680"/>
            <a:ext cx="441936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короткая, свободная кофта, собранная в верхней части в мелкие склад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8"/>
          <p:cNvSpPr txBox="1"/>
          <p:nvPr/>
        </p:nvSpPr>
        <p:spPr>
          <a:xfrm>
            <a:off x="4343400" y="1447920"/>
            <a:ext cx="23623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ушегрея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85840" y="2209320"/>
            <a:ext cx="4800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мотканая клетчатая юбка из шерсти. Ее обшивали лентами и тесьм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4343400" y="1600200"/>
            <a:ext cx="226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нева –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Picture 6" descr="понева"/>
          <p:cNvPicPr/>
          <p:nvPr/>
        </p:nvPicPr>
        <p:blipFill>
          <a:blip r:embed="rId1"/>
          <a:stretch/>
        </p:blipFill>
        <p:spPr>
          <a:xfrm>
            <a:off x="533520" y="762120"/>
            <a:ext cx="3517920" cy="547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te</cp:lastModifiedBy>
  <dcterms:modified xsi:type="dcterms:W3CDTF">2015-01-12T17:36:36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