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7672-9C0B-4F1A-A11C-299BD850AD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55B6-6515-4C4C-B0CC-86C80C44F2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85F2-A059-431B-B71F-73B05A8B3D2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D1B-1EA9-45B7-B6A6-B5608EF5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556-F13B-439B-BE41-B46D5DD2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10B9-4342-482D-B90C-88A71F63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B4C8-2B8E-48F1-AF1B-6828D8CB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C1D7-CAD0-48AA-B5FB-5DDDA6A5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7FD4-BE7C-4348-B607-787AA44E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3B2E-FC86-469B-92C4-C688EFAB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4C63-59B2-4A1D-A877-14DA8389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7D71-C59E-42E3-B59D-84699DB5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A2F3-3E58-4DBF-B2C6-2C6B5C38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DB1E-50D9-4B60-B432-46E7B1D2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58F-6ACD-46B9-B424-802B0183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CE52-9FE3-41F5-BEEF-D2D475EA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F99C-A1FD-4356-B177-54CB4CD3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283A-4E37-41CD-953F-C3A432AB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84D64-D268-4A76-B35C-341247B6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5070-DBCC-4C9E-B01C-CC4700D4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F79-CA20-49D4-8B67-AD723F0A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369-3993-4460-9D6E-CDC653A3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2834-AE48-4C8D-B7FB-A9D5A232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561-151B-4B38-BE31-2B1040C2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CFBD-90A3-4E3A-978E-F3A2056C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B47E-42D6-47C1-BAFD-0851AA4C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E7BB-9CDB-4C45-915C-27531AA4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0202-A236-4A4D-9438-06FE504F168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B46F-FBD3-4FC5-957C-F442506CB21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7" descr=""/>
          <p:cNvPicPr/>
          <p:nvPr/>
        </p:nvPicPr>
        <p:blipFill>
          <a:blip r:embed="rId1"/>
          <a:stretch/>
        </p:blipFill>
        <p:spPr>
          <a:xfrm>
            <a:off x="3524400" y="2414520"/>
            <a:ext cx="5510160" cy="3675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042920" y="764640"/>
            <a:ext cx="734544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Богородская игрушк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4" descr="C:\Users\Администратор\Desktop\Безымянный.png"/>
          <p:cNvPicPr/>
          <p:nvPr/>
        </p:nvPicPr>
        <p:blipFill>
          <a:blip r:embed="rId2"/>
          <a:stretch/>
        </p:blipFill>
        <p:spPr>
          <a:xfrm>
            <a:off x="395280" y="1844640"/>
            <a:ext cx="3063960" cy="46515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25992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городские игрушки делаются не только для детской забавы, но и для украшения жилья, для ую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2" descr="C:\Users\Администратор\Desktop\2-bi-3372.jpg"/>
          <p:cNvPicPr/>
          <p:nvPr/>
        </p:nvPicPr>
        <p:blipFill>
          <a:blip r:embed="rId1"/>
          <a:stretch/>
        </p:blipFill>
        <p:spPr>
          <a:xfrm>
            <a:off x="4859280" y="1820880"/>
            <a:ext cx="3294000" cy="4390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Users\Администратор\Desktop\bogorodskaya.jpg"/>
          <p:cNvPicPr/>
          <p:nvPr/>
        </p:nvPicPr>
        <p:blipFill>
          <a:blip r:embed="rId2"/>
          <a:stretch/>
        </p:blipFill>
        <p:spPr>
          <a:xfrm>
            <a:off x="611280" y="1844640"/>
            <a:ext cx="35290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964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начала игрушки раскрашивались, позже богородская скульптура остается неокрашенной — фактура и характер резьбы прекрасно передают форму и движение, и потому цвет может здесь помеш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C:\Users\Администратор\Desktop\mess200pic275.jpg"/>
          <p:cNvPicPr/>
          <p:nvPr/>
        </p:nvPicPr>
        <p:blipFill>
          <a:blip r:embed="rId1"/>
          <a:stretch/>
        </p:blipFill>
        <p:spPr>
          <a:xfrm>
            <a:off x="395280" y="1959120"/>
            <a:ext cx="3745080" cy="4505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Users\Администратор\Desktop\P6060152_0.JPG"/>
          <p:cNvPicPr/>
          <p:nvPr/>
        </p:nvPicPr>
        <p:blipFill>
          <a:blip r:embed="rId2"/>
          <a:stretch/>
        </p:blipFill>
        <p:spPr>
          <a:xfrm>
            <a:off x="4572000" y="1989000"/>
            <a:ext cx="424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24000" y="188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 по сей день людям дорого радостное, доброе искусство богородских мастер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3" descr="C:\Users\Администратор\Desktop\c317feae5705850c26fb5e4d4d587c22.jpg"/>
          <p:cNvPicPr/>
          <p:nvPr/>
        </p:nvPicPr>
        <p:blipFill>
          <a:blip r:embed="rId1"/>
          <a:stretch/>
        </p:blipFill>
        <p:spPr>
          <a:xfrm>
            <a:off x="1116000" y="1413000"/>
            <a:ext cx="672300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1"/>
          <a:stretch/>
        </p:blipFill>
        <p:spPr>
          <a:xfrm>
            <a:off x="158760" y="1298520"/>
            <a:ext cx="8929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спитывать любовь к народному искусству, эмоциональную отзывчивость на произведения мастеров богородской игруш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ивать эстетическое восприят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накомить детей с богородской игруш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6840" y="404280"/>
            <a:ext cx="800244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Кто из крестьян вырезал первую деревянную игрушку, положившую начало народному художественному промыслу, жители села Богородское уже не помнят, но более 300 лет из уст в уста передается об этом интересное предание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2" descr="C:\Users\Администратор\Desktop\село.jpg"/>
          <p:cNvPicPr/>
          <p:nvPr/>
        </p:nvPicPr>
        <p:blipFill>
          <a:blip r:embed="rId1"/>
          <a:stretch/>
        </p:blipFill>
        <p:spPr>
          <a:xfrm>
            <a:off x="1835280" y="3068640"/>
            <a:ext cx="523368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620640"/>
            <a:ext cx="51228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«Жила в селе Богородском крестьянская семья. Вот задумала мать позабавить ребятишек – вырезала из чурбачка забавную фигурку и назвала ее «аука». Ребятишки поиграли с «аукой» и забросили ее за печку. Вот поехал муж крестьянки на базар, да и взял с собой «ауку» показать торгашам. «Ауку» тут же купили и еще игрушек заказали. Говорят, что с тех пор и началась резьба деревянных игрушек и стали они называться «борогодскими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2" descr="C:\Users\Администратор\Desktop\предание.jpg"/>
          <p:cNvPicPr/>
          <p:nvPr/>
        </p:nvPicPr>
        <p:blipFill>
          <a:blip r:embed="rId1"/>
          <a:stretch/>
        </p:blipFill>
        <p:spPr>
          <a:xfrm>
            <a:off x="5651640" y="692280"/>
            <a:ext cx="3168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Администратор\Desktop\k527.jpg"/>
          <p:cNvPicPr/>
          <p:nvPr/>
        </p:nvPicPr>
        <p:blipFill>
          <a:blip r:embed="rId1"/>
          <a:stretch/>
        </p:blipFill>
        <p:spPr>
          <a:xfrm>
            <a:off x="1979640" y="2276640"/>
            <a:ext cx="5648400" cy="4236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95280" y="260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Прошло время в Богородском научились мастерить игрушки с движением. Потянешь за две планочки, смотришь: игрушка ожила. «Тук – тук» - звонко бьют молотом по наковальне кузнецы – мужик и медведь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95280" y="404640"/>
            <a:ext cx="8229600" cy="15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ыли придуманы и другие устройства. Вот на дереве птички сидят. Дерни за веревочку, и начнут они птенцов корми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C:\Users\Администратор\Desktop\17.jpg"/>
          <p:cNvPicPr/>
          <p:nvPr/>
        </p:nvPicPr>
        <p:blipFill>
          <a:blip r:embed="rId1"/>
          <a:stretch/>
        </p:blipFill>
        <p:spPr>
          <a:xfrm>
            <a:off x="1908000" y="2060640"/>
            <a:ext cx="504036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9528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 наши дни появились новые работы из дерева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Уточка с утенком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C:\Users\Администратор\Desktop\точка с утенком.jpg"/>
          <p:cNvPicPr/>
          <p:nvPr/>
        </p:nvPicPr>
        <p:blipFill>
          <a:blip r:embed="rId1"/>
          <a:stretch/>
        </p:blipFill>
        <p:spPr>
          <a:xfrm>
            <a:off x="1692360" y="1268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528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йка - барабанщи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2" descr="C:\Users\Администратор\Desktop\барабанщик.jpg"/>
          <p:cNvPicPr/>
          <p:nvPr/>
        </p:nvPicPr>
        <p:blipFill>
          <a:blip r:embed="rId1"/>
          <a:stretch/>
        </p:blipFill>
        <p:spPr>
          <a:xfrm>
            <a:off x="1908000" y="1413000"/>
            <a:ext cx="532800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33336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ишка - дровосе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2" descr="C:\Users\Администратор\Desktop\топор.jpg"/>
          <p:cNvPicPr/>
          <p:nvPr/>
        </p:nvPicPr>
        <p:blipFill>
          <a:blip r:embed="rId1"/>
          <a:stretch/>
        </p:blipFill>
        <p:spPr>
          <a:xfrm>
            <a:off x="1116000" y="1268280"/>
            <a:ext cx="67690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7:05:50Z</dcterms:created>
  <dc:creator>Администратор</dc:creator>
  <dc:description/>
  <dc:language>en-US</dc:language>
  <cp:lastModifiedBy>Kate</cp:lastModifiedBy>
  <dcterms:modified xsi:type="dcterms:W3CDTF">2015-01-12T17:17:23Z</dcterms:modified>
  <cp:revision>18</cp:revision>
  <dc:subject/>
  <dc:title>Тюзина Марина Евгеньевна учитель начальных классов Муниципального казенного общеобразовательного учреждения«Средняя общеобразовательная школа №1» п. Воротынск Бабынинского района Калужской области</dc:title>
</cp:coreProperties>
</file>