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9C8A-7AD3-474E-9EFF-06A474188C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B1E6-04D7-440C-885C-A57C38ABDE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ECBC-21AA-4FC9-B47F-C92415C9BE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23B-17A9-4FC8-8472-0B98F30F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F4E-BC05-457E-9114-187C50BF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109-4B93-4558-9329-26E1811E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DD1-81C8-4750-9E80-B980240B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337C-21AE-488D-B607-097C0299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E83E-FB3A-45BB-973A-E0EDF672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0199-D6C1-4522-987E-B511C976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1122-A9EF-4B0C-91AA-9E07F1B0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7CA7-4F6B-46BA-910A-EFF2CFDC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2344-0443-4FC1-8532-5A212840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AED9-3A84-43B4-B544-7755D26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B8A-63A4-4F4E-ADEA-80065CD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476F-C8D6-43CE-8E3B-B844B748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55BE-A94B-4D30-B468-2DAEDF6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0AC1-1262-480B-B981-22DA0D15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9971-E43A-4BE7-B9A7-7B977C25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C680-5CD2-4B1A-ADC2-42A4FBB1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114-D2FF-42FB-AC1E-FCC590B6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438-D461-4DFC-BD74-568BC827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988-F0C7-4D86-B4C4-A9E306A9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4BD-8967-474F-AC65-8E2619FD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404-7FA7-44F9-95D2-AE689915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807-4471-4D47-B801-7BAD34F1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6FC-6AEB-4880-92D0-95E93D5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1D2-BB41-4514-9DA2-32A595C6B73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D089-2106-49FA-A47D-E7078A427DE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7" descr=""/>
          <p:cNvPicPr/>
          <p:nvPr/>
        </p:nvPicPr>
        <p:blipFill>
          <a:blip r:embed="rId1"/>
          <a:stretch/>
        </p:blipFill>
        <p:spPr>
          <a:xfrm>
            <a:off x="3524400" y="2414520"/>
            <a:ext cx="5510160" cy="3675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76464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Богородская игруш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C:\Users\Администратор\Desktop\Безымянный.png"/>
          <p:cNvPicPr/>
          <p:nvPr/>
        </p:nvPicPr>
        <p:blipFill>
          <a:blip r:embed="rId2"/>
          <a:stretch/>
        </p:blipFill>
        <p:spPr>
          <a:xfrm>
            <a:off x="395280" y="1844640"/>
            <a:ext cx="3063960" cy="4651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259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городские игрушки делаются не только для детской забавы, но и для украшения жилья, для ую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Users\Администратор\Desktop\2-bi-3372.jpg"/>
          <p:cNvPicPr/>
          <p:nvPr/>
        </p:nvPicPr>
        <p:blipFill>
          <a:blip r:embed="rId1"/>
          <a:stretch/>
        </p:blipFill>
        <p:spPr>
          <a:xfrm>
            <a:off x="4859280" y="1820880"/>
            <a:ext cx="3294000" cy="43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Администратор\Desktop\bogorodskaya.jpg"/>
          <p:cNvPicPr/>
          <p:nvPr/>
        </p:nvPicPr>
        <p:blipFill>
          <a:blip r:embed="rId2"/>
          <a:stretch/>
        </p:blipFill>
        <p:spPr>
          <a:xfrm>
            <a:off x="611280" y="1844640"/>
            <a:ext cx="35290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ачала игрушки раскрашивались, позже богородская скульптура остается неокрашенной — фактура и характер резьбы прекрасно передают форму и движение, и потому цвет может здесь помеш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Users\Администратор\Desktop\mess200pic275.jpg"/>
          <p:cNvPicPr/>
          <p:nvPr/>
        </p:nvPicPr>
        <p:blipFill>
          <a:blip r:embed="rId1"/>
          <a:stretch/>
        </p:blipFill>
        <p:spPr>
          <a:xfrm>
            <a:off x="395280" y="1959120"/>
            <a:ext cx="3745080" cy="450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Администратор\Desktop\P6060152_0.JPG"/>
          <p:cNvPicPr/>
          <p:nvPr/>
        </p:nvPicPr>
        <p:blipFill>
          <a:blip r:embed="rId2"/>
          <a:stretch/>
        </p:blipFill>
        <p:spPr>
          <a:xfrm>
            <a:off x="4572000" y="198900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40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о сей день людям дорого радостное, доброе искусство богородских маст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3" descr="C:\Users\Администратор\Desktop\c317feae5705850c26fb5e4d4d587c22.jpg"/>
          <p:cNvPicPr/>
          <p:nvPr/>
        </p:nvPicPr>
        <p:blipFill>
          <a:blip r:embed="rId1"/>
          <a:stretch/>
        </p:blipFill>
        <p:spPr>
          <a:xfrm>
            <a:off x="1116000" y="1413000"/>
            <a:ext cx="67230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158760" y="1298520"/>
            <a:ext cx="8929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ывать любовь к народному искусству, эмоциональную отзывчивость на произведения мастеров богородской игр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эстетическое восприя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 детей с богородской игруш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6840" y="404280"/>
            <a:ext cx="8002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то из крестьян вырезал первую деревянную игрушку, положившую начало народному художественному промыслу, жители села Богородское уже не помнят, но более 300 лет из уст в уста передается об этом интересное предание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Users\Администратор\Desktop\село.jpg"/>
          <p:cNvPicPr/>
          <p:nvPr/>
        </p:nvPicPr>
        <p:blipFill>
          <a:blip r:embed="rId1"/>
          <a:stretch/>
        </p:blipFill>
        <p:spPr>
          <a:xfrm>
            <a:off x="1835280" y="3068640"/>
            <a:ext cx="52336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620640"/>
            <a:ext cx="5122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Жила в селе Богородском крестьянская семья. Вот задумала мать позабавить ребятишек – вырезала из чурбачка забавную фигурку и назвала ее «аука». Ребятишки поиграли с «аукой» и забросили ее за печку. Вот поехал муж крестьянки на базар, да и взял с собой «ауку» показать торгашам. «Ауку» тут же купили и еще игрушек заказали. Говорят, что с тех пор и началась резьба деревянных игрушек и стали они называться «борогодским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C:\Users\Администратор\Desktop\предание.jpg"/>
          <p:cNvPicPr/>
          <p:nvPr/>
        </p:nvPicPr>
        <p:blipFill>
          <a:blip r:embed="rId1"/>
          <a:stretch/>
        </p:blipFill>
        <p:spPr>
          <a:xfrm>
            <a:off x="5651640" y="692280"/>
            <a:ext cx="3168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дминистратор\Desktop\k527.jpg"/>
          <p:cNvPicPr/>
          <p:nvPr/>
        </p:nvPicPr>
        <p:blipFill>
          <a:blip r:embed="rId1"/>
          <a:stretch/>
        </p:blipFill>
        <p:spPr>
          <a:xfrm>
            <a:off x="1979640" y="2276640"/>
            <a:ext cx="5648400" cy="4236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шло время в Богородском научились мастерить игрушки с движением. Потянешь за две планочки, смотришь: игрушка ожила. «Тук – тук» - звонко бьют молотом по наковальне кузнецы – мужик и медведь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5280" y="40464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и придуманы и другие устройства. Вот на дереве птички сидят. Дерни за веревочку, и начнут они птенцов корм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Users\Администратор\Desktop\17.jpg"/>
          <p:cNvPicPr/>
          <p:nvPr/>
        </p:nvPicPr>
        <p:blipFill>
          <a:blip r:embed="rId1"/>
          <a:stretch/>
        </p:blipFill>
        <p:spPr>
          <a:xfrm>
            <a:off x="1908000" y="2060640"/>
            <a:ext cx="5040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наши дни появились новые работы из дерева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точка с утенко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дминистратор\Desktop\точка с утенком.jpg"/>
          <p:cNvPicPr/>
          <p:nvPr/>
        </p:nvPicPr>
        <p:blipFill>
          <a:blip r:embed="rId1"/>
          <a:stretch/>
        </p:blipFill>
        <p:spPr>
          <a:xfrm>
            <a:off x="1692360" y="1268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йка - барабан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C:\Users\Администратор\Desktop\барабанщик.jpg"/>
          <p:cNvPicPr/>
          <p:nvPr/>
        </p:nvPicPr>
        <p:blipFill>
          <a:blip r:embed="rId1"/>
          <a:stretch/>
        </p:blipFill>
        <p:spPr>
          <a:xfrm>
            <a:off x="1908000" y="1413000"/>
            <a:ext cx="5328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333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шка - дровос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C:\Users\Администратор\Desktop\топор.jpg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7:05:50Z</dcterms:created>
  <dc:creator>Администратор</dc:creator>
  <dc:description/>
  <dc:language>en-US</dc:language>
  <cp:lastModifiedBy>Kate</cp:lastModifiedBy>
  <dcterms:modified xsi:type="dcterms:W3CDTF">2015-01-12T17:17:23Z</dcterms:modified>
  <cp:revision>18</cp:revision>
  <dc:subject/>
  <dc:title>Тюзина Марина Евгеньевна учитель начальных классов Муниципального казенного общеобразовательного учреждения«Средняя общеобразовательная школа №1» п. Воротынск Бабынинского района Калужской области</dc:title>
</cp:coreProperties>
</file>