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5.png" ContentType="image/png"/>
  <Override PartName="/ppt/media/image8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6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9.jpeg" ContentType="image/jpe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D745-F33A-45A9-949E-1BAED556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7802-8AB5-4A18-B639-D9C9C35D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125BC-8CE5-4733-8FDD-DBBFFA37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17DD0A-AAC7-4D44-8747-54DA87F1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B1106-5BE8-4D36-90BE-252C6D50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99A27-8F25-4807-8547-48FAE3EC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C1785-4F36-48CB-B23B-BACB6EDF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7072E-CFC4-4C0F-9B23-1E7966A6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4F2D35-D9ED-45E7-A803-C54C8244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F01257-F866-4AC1-9804-D6E5CD49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0F05A-CE6A-428E-BE40-6B684E84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9AFB-566E-4B39-9C13-D48054EA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5DF9-1970-4156-9E21-F4E0E1C83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5AE42-D8FD-43B8-B8F6-B2D8A7B93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94FE-CB17-49C6-B34B-12298374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EFD3-F448-45B4-9C54-D7DCFD89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72D0-DA69-46FC-97E8-D795CD36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44E8-714A-4EDF-962D-0578F802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9C45-0A4E-4A47-A286-5E2F022B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C7A1-A894-432B-A0C6-3E4A4301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4E0C-8511-4295-8049-C96C951F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A049-A160-4C3D-8E30-0B0E4770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3216-0D89-4B40-9703-B8543C6B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D1AA-F78E-4844-9C50-C2749791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51E4-31DF-4DFC-9BA4-23202ABC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ECBD-0543-4C58-B3D8-14C40DBA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FD985-0AB2-4125-94DE-D4A584C6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40C8C-17A4-4F94-8AF6-8ADFE92B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F3339-9FED-42B3-AD34-C3BA6316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32905-931E-44BB-98F1-2A4D6CB2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E8CC7-B3D0-4B92-95D6-DD09B0B1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60E8-619F-4FDC-BA5B-94BC6B3C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2A449-59AF-4B9F-AD39-10B41D7F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7785A-0FFC-4B1E-8A80-0E7B0BFD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2FE27-79D6-4B22-8862-477CC9FB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3D082-F2F2-4154-9624-8B69FAE2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70530-29A8-4B50-8A9E-9BE06FA3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77D94-8E33-40D0-AB5D-DAE8711D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6041C-3BA1-4661-B833-F096BFC7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C3A11-2F9D-4872-883B-07FB78E6C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72BFA-1624-427E-AE72-8FCDB96E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4305E-97AD-422E-B211-267311A1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C6F0-A115-4B6C-889E-4C4F4474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D2415-EAEE-4B3D-AEC5-B608D0C7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BD8E8-AD72-4108-8991-F5852AF8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0B7AF-BFA5-433A-8CAF-E2E58123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06002-0D60-4A8A-9346-AD8B807C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7D33C-B587-4611-8F26-78DD0B20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44813-9212-4EEA-AB21-2701C3F5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8C884-7E86-4BE3-9565-3F8D6003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F3E74-4420-4E67-80D5-64E42557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5D24A-4ADF-4F1A-8A90-B58750BF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ECE4F-719C-446D-B5E4-8FF6D96E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E1B4-A38E-4BAF-92C3-51710857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10EA3-0E99-478E-A5B4-F47B4AF2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3284F-FA5E-402B-8040-B507C155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1D351-A8DA-4BFE-9197-1F64B4D5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08762-7353-452D-9239-F4B99A73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AF1C2-DBC1-4096-84F3-67BE73ED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89E62-E681-47CF-985A-E87FE4A4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3C030-6006-4568-A810-33D33BD9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A2085-665A-4A0F-9BA0-1189773A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F05F4-D47C-4190-8226-4D732DBC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4BCD0-1443-4DF7-AB58-A9EF07CB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1F1-D97D-4C93-92FE-2CC0E4FD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10113-5F84-4B70-98B3-34F2820E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7BE0B-87DA-49FB-A9F2-303ECDA91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1FB16-25FB-49CF-872A-21F5E259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AC6C6-72CB-4201-BEBB-8CC1990F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5A26D-E2A6-45E2-9BB2-7FEC138B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1A4FC-7795-4430-928A-DE27E4DE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DCF3B5-3DE0-4813-B563-988F0793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DD5C9-8BAE-4E32-87F8-0F782A96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6A1E7-22E4-4046-8D59-181BF5C7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5B443-6814-4FFC-BAB8-F2871D45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4712-AFE0-496B-B799-8411E7A4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24081-F1C4-4241-B585-F5B55C28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3A63D-8BA8-4D8E-8D97-E93B310B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661DD-7EE4-4F9D-A044-9A92B1E0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A232D-E377-48F8-BE3E-17142F39E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5BCE5-A516-4133-90C0-24003C78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B1EA8-BC01-4F18-97A2-2D49D8E7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2658D-83B3-443E-963A-CD22F2B6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60BD7-F56E-4747-8B43-90B3774E3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68648-855C-471F-9756-1455C9CB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C635C-958B-4657-8B0E-12F8F45A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ECD-8127-4D6A-95C9-5303B8D0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3728D-8015-4BB0-8C9A-95B654FE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1108B-442B-4D40-81F4-7800EBE1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9525B-87F6-4F96-98C9-C7B8F935A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607F3-04CB-4FA9-85C7-1FAA36FC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97170-A9B2-414B-965F-042E893C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6E2A3-D232-4233-BF9A-09601D73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FEA7B-9DCF-476C-99FD-2680BB1B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AAF7E-9BEC-415D-AFC9-E5F2AEBB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950D8-6B7E-42CA-8AF2-831D5FF8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0B0E1-87A7-497A-8EB3-1E1ECABB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C776-334C-4892-BBAE-40B3B130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BEDE4-CA9F-4C77-889C-792F4658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64C94-54EE-4761-981F-C3CAC4CB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DB051-5E07-4903-BD5E-209800F5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83C1EE-4031-4D06-8185-1423523E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65EE9-BFA9-4EC4-A125-866B3E1C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96573-DC3A-428A-853B-3D3D72B8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F42E9-5092-4B64-AC8C-FC257162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DBEF9C-E0F1-4E45-89B4-3F96F667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52AFA-8C1F-4AAC-8026-240F588D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A8D8BB-F8EF-45A8-AE2C-16FD39D6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6526-142B-440F-816F-E2C809A53CB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8F17-6204-4CDE-B399-7E27493ACE2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61EF-9933-451F-8C5E-81D8ED13066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A69E-2CC8-4DB5-866E-85CF6AB9CFA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04D22-15DC-4698-9A52-22FEC81DE5C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169D-70E3-4477-8E09-4A0D6951724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8257-891A-4FD9-915B-99A3AE407D0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B620-6D37-4C75-BA25-398627C0975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DCBA-CA05-4CC0-BD03-62F791E4753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азвитие познавательной активности детей, знакомство с народными ремеслами Росси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2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ививать любовь как особое отношение человека к окружающему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4120"/>
            <a:ext cx="441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Эти кони так красиво, искусно вырезаны, что и расписывать их не надо. Пусть все любуются работой резчиков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2" name="Picture 2" descr="C:\Users\Администратор\Desktop\14.jpg"/>
          <p:cNvPicPr/>
          <p:nvPr/>
        </p:nvPicPr>
        <p:blipFill>
          <a:blip r:embed="rId2"/>
          <a:stretch/>
        </p:blipFill>
        <p:spPr>
          <a:xfrm>
            <a:off x="5292720" y="1557360"/>
            <a:ext cx="343836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212760" y="122400"/>
            <a:ext cx="8901000" cy="22428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394920" y="2276280"/>
            <a:ext cx="426708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Много выдумки и фантазии у народных умельцев – выбирай коня любого, какой только тебе понравитс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3" name="Picture 2" descr="C:\Users\Администратор\Desktop\(8).jpg"/>
          <p:cNvPicPr/>
          <p:nvPr/>
        </p:nvPicPr>
        <p:blipFill>
          <a:blip r:embed="rId2"/>
          <a:stretch/>
        </p:blipFill>
        <p:spPr>
          <a:xfrm>
            <a:off x="4211640" y="2492280"/>
            <a:ext cx="455148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244440" y="-19080"/>
            <a:ext cx="8697960" cy="151920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684360" y="5516280"/>
            <a:ext cx="7920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500" spc="-1" strike="noStrike">
                <a:solidFill>
                  <a:srgbClr val="4e3b30"/>
                </a:solidFill>
                <a:latin typeface="Franklin Gothic Book"/>
              </a:rPr>
              <a:t>Нарядные дымковские красавцы кони! По белому фону расписаны они цветными кружочками, кольцами, линиями. Сверкают позолотой.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6" name="Picture 2" descr="C:\Users\Администратор\Desktop\1.jpg"/>
          <p:cNvPicPr/>
          <p:nvPr/>
        </p:nvPicPr>
        <p:blipFill>
          <a:blip r:embed="rId2"/>
          <a:stretch/>
        </p:blipFill>
        <p:spPr>
          <a:xfrm>
            <a:off x="971640" y="1484280"/>
            <a:ext cx="3313080" cy="37022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Users\Администратор\Desktop\2.jpg"/>
          <p:cNvPicPr/>
          <p:nvPr/>
        </p:nvPicPr>
        <p:blipFill>
          <a:blip r:embed="rId3"/>
          <a:stretch/>
        </p:blipFill>
        <p:spPr>
          <a:xfrm>
            <a:off x="5295960" y="1398600"/>
            <a:ext cx="2857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Заголовок 1" descr=""/>
          <p:cNvPicPr/>
          <p:nvPr/>
        </p:nvPicPr>
        <p:blipFill>
          <a:blip r:embed="rId1"/>
          <a:stretch/>
        </p:blipFill>
        <p:spPr>
          <a:xfrm>
            <a:off x="298440" y="324000"/>
            <a:ext cx="8699400" cy="15112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5300280"/>
            <a:ext cx="86868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Гордо вытянули длинные шеи стройные скакуны из деревни Филимоново. Красные, зеленые, желтые полосы украшают эти забавные игрушк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2" descr="C:\Users\Администратор\Desktop\3.jpg"/>
          <p:cNvPicPr/>
          <p:nvPr/>
        </p:nvPicPr>
        <p:blipFill>
          <a:blip r:embed="rId2"/>
          <a:stretch/>
        </p:blipFill>
        <p:spPr>
          <a:xfrm>
            <a:off x="1332000" y="1341360"/>
            <a:ext cx="2773440" cy="38163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C:\Users\Администратор\Desktop\4.jpg"/>
          <p:cNvPicPr/>
          <p:nvPr/>
        </p:nvPicPr>
        <p:blipFill>
          <a:blip r:embed="rId3"/>
          <a:stretch/>
        </p:blipFill>
        <p:spPr>
          <a:xfrm>
            <a:off x="5292720" y="1413000"/>
            <a:ext cx="26002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250920" y="5444640"/>
            <a:ext cx="86868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от могучие кони из села Абашево. Грудь широкая, ноги крепкие. Каждый конь выкрашен одним цветом. Грива, уши, сбруя золотые или серебряные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4" name="Picture 2" descr="C:\Users\Администратор\Desktop\5.jpg"/>
          <p:cNvPicPr/>
          <p:nvPr/>
        </p:nvPicPr>
        <p:blipFill>
          <a:blip r:embed="rId2"/>
          <a:stretch/>
        </p:blipFill>
        <p:spPr>
          <a:xfrm>
            <a:off x="395280" y="1785960"/>
            <a:ext cx="4032360" cy="31543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C:\Users\Администратор\Desktop\6.jpg"/>
          <p:cNvPicPr/>
          <p:nvPr/>
        </p:nvPicPr>
        <p:blipFill>
          <a:blip r:embed="rId3"/>
          <a:stretch/>
        </p:blipFill>
        <p:spPr>
          <a:xfrm>
            <a:off x="5219640" y="1773360"/>
            <a:ext cx="3624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Заголовок 1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5300640"/>
            <a:ext cx="8686800" cy="12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аргопольские тройки – серые, черные, темно-красные, синие. Разрисованы штрихами, крестиками и волнистыми линиями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8" name="Picture 2" descr="C:\Users\Администратор\Desktop\7.jpg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29685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C:\Users\Администратор\Desktop\8.jpg"/>
          <p:cNvPicPr/>
          <p:nvPr/>
        </p:nvPicPr>
        <p:blipFill>
          <a:blip r:embed="rId3"/>
          <a:stretch/>
        </p:blipFill>
        <p:spPr>
          <a:xfrm>
            <a:off x="5364000" y="1484280"/>
            <a:ext cx="29671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Заголовок 1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250920" y="5516640"/>
            <a:ext cx="86868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400" spc="-1" strike="noStrike">
                <a:solidFill>
                  <a:srgbClr val="4e3b30"/>
                </a:solidFill>
                <a:latin typeface="Franklin Gothic Book"/>
              </a:rPr>
              <a:t>А это загорские деревянные кони. На них – всадники удалые.</a:t>
            </a:r>
            <a:endParaRPr b="0" lang="en-US" sz="3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2" name="Picture 2" descr="C:\Users\Администратор\Desktop\9.jpg"/>
          <p:cNvPicPr/>
          <p:nvPr/>
        </p:nvPicPr>
        <p:blipFill>
          <a:blip r:embed="rId2"/>
          <a:stretch/>
        </p:blipFill>
        <p:spPr>
          <a:xfrm>
            <a:off x="755640" y="1484280"/>
            <a:ext cx="3274920" cy="36496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C:\Users\Администратор\Desktop\10.jpg"/>
          <p:cNvPicPr/>
          <p:nvPr/>
        </p:nvPicPr>
        <p:blipFill>
          <a:blip r:embed="rId3"/>
          <a:stretch/>
        </p:blipFill>
        <p:spPr>
          <a:xfrm>
            <a:off x="5076720" y="1628640"/>
            <a:ext cx="33195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250560" y="1628640"/>
            <a:ext cx="424980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затейливые лошадки сделаны из осиновых дощечек, ножки – палочки. Расписана узором из зеленых листьев, красных цветочков, кудрявых завитко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Picture 2" descr="C:\Users\Администратор\Desktop\12.jpg"/>
          <p:cNvPicPr/>
          <p:nvPr/>
        </p:nvPicPr>
        <p:blipFill>
          <a:blip r:embed="rId2"/>
          <a:stretch/>
        </p:blipFill>
        <p:spPr>
          <a:xfrm>
            <a:off x="4859280" y="1916280"/>
            <a:ext cx="367344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Заголовок 1" descr=""/>
          <p:cNvPicPr/>
          <p:nvPr/>
        </p:nvPicPr>
        <p:blipFill>
          <a:blip r:embed="rId1"/>
          <a:stretch/>
        </p:blipFill>
        <p:spPr>
          <a:xfrm>
            <a:off x="298440" y="371520"/>
            <a:ext cx="8699400" cy="13842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560" y="1773000"/>
            <a:ext cx="347508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700" spc="-1" strike="noStrike">
                <a:solidFill>
                  <a:srgbClr val="4e3b30"/>
                </a:solidFill>
                <a:latin typeface="Franklin Gothic Book"/>
              </a:rPr>
              <a:t>Катится повозка на колесиках. А рядом еще конь. Садись на него верхом и скачи. Эти игрушки нарядно раскрашены пышными розами, ромашками, ягодами…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9" name="Picture 2" descr="C:\Users\Администратор\Desktop\13.jpg"/>
          <p:cNvPicPr/>
          <p:nvPr/>
        </p:nvPicPr>
        <p:blipFill>
          <a:blip r:embed="rId2"/>
          <a:stretch/>
        </p:blipFill>
        <p:spPr>
          <a:xfrm>
            <a:off x="4127400" y="2152800"/>
            <a:ext cx="454824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5:30:24Z</dcterms:created>
  <dc:creator>Администратор</dc:creator>
  <dc:description/>
  <dc:language>en-US</dc:language>
  <cp:lastModifiedBy>Home</cp:lastModifiedBy>
  <dcterms:modified xsi:type="dcterms:W3CDTF">2017-01-05T17:29:31Z</dcterms:modified>
  <cp:revision>22</cp:revision>
  <dc:subject/>
  <dc:title>Слайд 1</dc:title>
</cp:coreProperties>
</file>