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E65-984A-459B-8948-61FF7C1F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0ED-3B4D-4DB3-80C6-77FF6453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2EE08-9966-4802-8466-A6EC5DDA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30869-C0BA-440E-B86D-B30E764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637D4-7838-4386-9008-DB7814CC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78F9-2731-4BCB-A0BA-4E17E1D2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201CD-2207-4917-B79C-27DAF31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60C13-9A17-4955-848F-A847D22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97EE-E767-4B88-9B0D-C2A002F0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DCF08-00FF-42F8-82B0-DE4CE65C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5AAEA-B6E0-4F37-B5A6-CD57C4CA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9D8-513B-40B8-80AE-470D6EEB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ECE-A2E4-4B6D-9888-0A0E6C3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67A8-9AA3-4F76-BBB9-376EAD34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8463-A5DE-4586-8BDE-44EB5FDD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149E-0132-4841-9E59-D831117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FE0-542F-4E50-AF3F-64ED623C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914E-0B43-4F00-B980-DAD00065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8E71-3CA8-4E77-B498-118F28C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AE7C-BA3B-468B-989F-29C9A593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66E-D41E-4A9D-B6B4-FE49A45B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75A3-3FA4-41E2-A4B9-6CF6449E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C8BB-507D-4B43-8BF6-CE7788A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18F-4DC6-4EDD-97B8-D0CA0059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138B-7CED-45BC-93CC-A85C850C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B1DD-0D95-4B7C-B5CE-08137894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6F5E-DDAE-432F-8BAB-0460DAE2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A6AF-D661-47A4-94FD-CFC8A08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BB22-D5AC-424B-96C0-18019950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10926-A1AC-4444-BFA2-41212DAA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FA1C-9AD0-41C4-B65F-0E89CBE5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2F4-D5D6-4435-9D53-CC83805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F081-C8C4-427C-A73A-A1775B5E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45B29-9904-415B-BEE8-BE1C2D54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FEFF-D257-4D43-9A72-28B856F1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8554-C1FA-4C69-B1EF-500428F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7F23-F37E-41A0-AC1E-8835869E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CE48-4995-465F-AC9B-7820E9C1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37D0-FCB5-4F0D-A655-984613A8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AE48-C71B-431B-A87A-9C5CB3CE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75064-789D-4088-B8CC-DBF9D47A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E45F-76D2-471E-A6B9-60181D3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4F0-128A-4B0B-A39F-2D17D661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9E0A-C44E-4A9E-B717-CD3A7136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609B-6ECE-4992-BFE8-30057E2E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1F7CA-D62F-4807-A688-F45DA0D3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C699-387A-404C-8915-F0AD272C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FB63-C99F-4EF5-BC84-CC91926A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0324-B552-4E1E-9FF9-7F0DBD3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DB061-70C6-47DD-A939-E8590D1D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9B69-688D-47B8-9E88-87324FB9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F7DDD-21CA-4ECE-8C85-92BF5939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8EC9A-C909-4874-844A-99D983A4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80F-5504-4845-A584-B6B33BDD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5D9A0-751C-46F8-B6E9-9A9EBEB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3697-A818-4766-A8F0-057778CE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4FBCA-4145-4177-B9E9-88BC37E3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30C51-B1EB-4E3F-859D-36225F1A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BF745-9F91-4818-9915-87615C61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F781-0981-411A-9A47-8C328FA3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E358-334E-4AD5-9373-824CD47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FE69-0DC1-42F3-9997-BEED47D1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7DEB-9B37-47D3-9710-ACC2416B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2B32-D235-4695-B6A2-48B6BF21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DF8-C8AD-48D5-A430-3CC180AB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36BC6-4931-4EE1-AC78-491328B8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5794-B267-4B25-8772-40BA25F8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5BB2C-2EEC-45C8-9A09-752EA23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A3087-B13E-4B84-93AE-BE4416E0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048FC-9670-43C0-B549-E711F6E9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B29C4-BE7F-4E43-B429-B673A67D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8230-9971-4ECE-87AF-F0952778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082C8-D970-4448-B3EE-801637D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D1D75-3C8B-4C39-89B7-BF4C70B0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EF346-1E5B-43A2-BD04-2A2C3282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69E-0F8C-4578-B6B5-B582714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46C0-A3E9-4B5B-BF2A-5AF025DB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C2AC-E09C-4ECC-A1C2-8132A875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A32AC-A9F5-4108-B6E8-17A22B0A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80121-9ED4-4AAD-8419-5D4C8022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A857-0880-44D1-8854-96488D3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6D012-16FF-4641-9FDE-CE59F232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BCE12-6911-482B-9E5F-9DD6BF12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DDDD9-E053-4F3B-A7DB-D40E973E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B5633-9507-434C-8667-D8AE5D6B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3FB06-673F-4F4C-AED0-55EDA52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911-4CB6-4D52-89C6-9A48743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EE43-4E3C-48F4-B58B-EEC9A9DD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4528E-F090-40C9-B476-4E239510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FD3CA-85FA-4CE9-97C6-8DC7AE36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1804-386E-4A01-9AD1-0E6F0D83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D7880-23B8-4FAA-8A2D-B4581794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F885F-9B03-4323-9159-E0993A8B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B0FFC-322C-49F0-90E6-D4A0944B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DB157-B01D-441D-9CAC-E403B529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47349-347F-45BB-8D80-C7002636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9D97B-AD93-4DA7-979D-DDCBBAD4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39C-EA4C-4E1B-993C-60528A3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D6780-83B7-470E-9604-5FD26384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5B1EC-CB56-4151-88D2-57C68394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93AF-432B-4020-9D54-C5C07BA2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5140-4112-400C-9B13-5734148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2F55-D16E-4E35-B516-E3C14731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9C6D6-7A1B-49CF-93A5-2BE158B9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96F5D-6B4C-4733-BC9E-081CD150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1E5C9-902E-4ADA-9489-C46C73F7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841A6-9B7E-458F-A66E-C7FC7363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47F4B-5E53-4EB0-A50C-395023B1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11EB-60D7-4DA1-8A4D-10008D872FD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1F4C-D98C-44DB-9CB6-C0DF563AA28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61D6-5CB4-4D4A-99C0-B9F16239DF9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72DB-410E-4542-A1B6-722B4B3007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4E9C-4854-46EE-9767-C03903E526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370-256C-4859-9F0A-0A9B3D5840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6FD7-CAB8-4B85-87B7-C581870744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C275-6DEA-4AAF-82C7-41B5CE5BC4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C43B-7399-401C-B7B7-3347AB88261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звитие познавательной активности детей, знакомство с народными ремеслами Росси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вивать любовь как особое отношение человека к окружающем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441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и кони так красиво, искусно вырезаны, что и расписывать их не надо. Пусть все любуются работой резчиков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2" descr="C:\Users\Администратор\Desktop\14.jpg"/>
          <p:cNvPicPr/>
          <p:nvPr/>
        </p:nvPicPr>
        <p:blipFill>
          <a:blip r:embed="rId2"/>
          <a:stretch/>
        </p:blipFill>
        <p:spPr>
          <a:xfrm>
            <a:off x="5292720" y="1557360"/>
            <a:ext cx="3438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8901000" cy="22428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94920" y="2276280"/>
            <a:ext cx="426708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ного выдумки и фантазии у народных умельцев – выбирай коня любого, какой только тебе понрави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2" descr="C:\Users\Администратор\Desktop\(8).jpg"/>
          <p:cNvPicPr/>
          <p:nvPr/>
        </p:nvPicPr>
        <p:blipFill>
          <a:blip r:embed="rId2"/>
          <a:stretch/>
        </p:blipFill>
        <p:spPr>
          <a:xfrm>
            <a:off x="4211640" y="2492280"/>
            <a:ext cx="455148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44440" y="-19080"/>
            <a:ext cx="8697960" cy="1519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84360" y="5516280"/>
            <a:ext cx="7920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Нарядные дымковские красавцы кони! По белому фону расписаны они цветными кружочками, кольцами, линиями. Сверкают позолотой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2" descr="C:\Users\Администратор\Desktop\1.jpg"/>
          <p:cNvPicPr/>
          <p:nvPr/>
        </p:nvPicPr>
        <p:blipFill>
          <a:blip r:embed="rId2"/>
          <a:stretch/>
        </p:blipFill>
        <p:spPr>
          <a:xfrm>
            <a:off x="971640" y="1484280"/>
            <a:ext cx="3313080" cy="3702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Администратор\Desktop\2.jpg"/>
          <p:cNvPicPr/>
          <p:nvPr/>
        </p:nvPicPr>
        <p:blipFill>
          <a:blip r:embed="rId3"/>
          <a:stretch/>
        </p:blipFill>
        <p:spPr>
          <a:xfrm>
            <a:off x="5295960" y="139860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324000"/>
            <a:ext cx="8699400" cy="1511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5300280"/>
            <a:ext cx="8686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Гордо вытянули длинные шеи стройные скакуны из деревни Филимоново. Красные, зеленые, желтые полосы украшают эти забавные игрушк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Users\Администратор\Desktop\3.jpg"/>
          <p:cNvPicPr/>
          <p:nvPr/>
        </p:nvPicPr>
        <p:blipFill>
          <a:blip r:embed="rId2"/>
          <a:stretch/>
        </p:blipFill>
        <p:spPr>
          <a:xfrm>
            <a:off x="1332000" y="1341360"/>
            <a:ext cx="2773440" cy="3816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Администратор\Desktop\4.jpg"/>
          <p:cNvPicPr/>
          <p:nvPr/>
        </p:nvPicPr>
        <p:blipFill>
          <a:blip r:embed="rId3"/>
          <a:stretch/>
        </p:blipFill>
        <p:spPr>
          <a:xfrm>
            <a:off x="5292720" y="1413000"/>
            <a:ext cx="26002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50920" y="544464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от могучие кони из села Абашево. Грудь широкая, ноги крепкие. Каждый конь выкрашен одним цветом. Грива, уши, сбруя золотые или серебряны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C:\Users\Администратор\Desktop\5.jpg"/>
          <p:cNvPicPr/>
          <p:nvPr/>
        </p:nvPicPr>
        <p:blipFill>
          <a:blip r:embed="rId2"/>
          <a:stretch/>
        </p:blipFill>
        <p:spPr>
          <a:xfrm>
            <a:off x="395280" y="1785960"/>
            <a:ext cx="4032360" cy="3154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Администратор\Desktop\6.jpg"/>
          <p:cNvPicPr/>
          <p:nvPr/>
        </p:nvPicPr>
        <p:blipFill>
          <a:blip r:embed="rId3"/>
          <a:stretch/>
        </p:blipFill>
        <p:spPr>
          <a:xfrm>
            <a:off x="5219640" y="1773360"/>
            <a:ext cx="3624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5300640"/>
            <a:ext cx="8686800" cy="12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ргопольские тройки – серые, черные, темно-красные, синие. Разрисованы штрихами, крестиками и волнистыми линиям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2" descr="C:\Users\Администратор\Desktop\7.jpg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2968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Users\Администратор\Desktop\8.jpg"/>
          <p:cNvPicPr/>
          <p:nvPr/>
        </p:nvPicPr>
        <p:blipFill>
          <a:blip r:embed="rId3"/>
          <a:stretch/>
        </p:blipFill>
        <p:spPr>
          <a:xfrm>
            <a:off x="5364000" y="1484280"/>
            <a:ext cx="29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250920" y="5516640"/>
            <a:ext cx="86868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400" spc="-1" strike="noStrike">
                <a:solidFill>
                  <a:srgbClr val="4e3b30"/>
                </a:solidFill>
                <a:latin typeface="Franklin Gothic Book"/>
              </a:rPr>
              <a:t>А это загорские деревянные кони. На них – всадники удалые.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2" descr="C:\Users\Администратор\Desktop\9.jpg"/>
          <p:cNvPicPr/>
          <p:nvPr/>
        </p:nvPicPr>
        <p:blipFill>
          <a:blip r:embed="rId2"/>
          <a:stretch/>
        </p:blipFill>
        <p:spPr>
          <a:xfrm>
            <a:off x="755640" y="1484280"/>
            <a:ext cx="3274920" cy="3649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Администратор\Desktop\10.jpg"/>
          <p:cNvPicPr/>
          <p:nvPr/>
        </p:nvPicPr>
        <p:blipFill>
          <a:blip r:embed="rId3"/>
          <a:stretch/>
        </p:blipFill>
        <p:spPr>
          <a:xfrm>
            <a:off x="5076720" y="1628640"/>
            <a:ext cx="3319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250560" y="1628640"/>
            <a:ext cx="42498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затейливые лошадки сделаны из осиновых дощечек, ножки – палочки. Расписана узором из зеленых листьев, красных цветочков, кудрявых завит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2" descr="C:\Users\Администратор\Desktop\12.jpg"/>
          <p:cNvPicPr/>
          <p:nvPr/>
        </p:nvPicPr>
        <p:blipFill>
          <a:blip r:embed="rId2"/>
          <a:stretch/>
        </p:blipFill>
        <p:spPr>
          <a:xfrm>
            <a:off x="4859280" y="1916280"/>
            <a:ext cx="3673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560" y="1773000"/>
            <a:ext cx="34750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Катится повозка на колесиках. А рядом еще конь. Садись на него верхом и скачи. Эти игрушки нарядно раскрашены пышными розами, ромашками, ягодами…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2" descr="C:\Users\Администратор\Desktop\13.jpg"/>
          <p:cNvPicPr/>
          <p:nvPr/>
        </p:nvPicPr>
        <p:blipFill>
          <a:blip r:embed="rId2"/>
          <a:stretch/>
        </p:blipFill>
        <p:spPr>
          <a:xfrm>
            <a:off x="4127400" y="2152800"/>
            <a:ext cx="45482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30:24Z</dcterms:created>
  <dc:creator>Администратор</dc:creator>
  <dc:description/>
  <dc:language>en-US</dc:language>
  <cp:lastModifiedBy>Home</cp:lastModifiedBy>
  <dcterms:modified xsi:type="dcterms:W3CDTF">2017-01-05T17:29:31Z</dcterms:modified>
  <cp:revision>22</cp:revision>
  <dc:subject/>
  <dc:title>Слайд 1</dc:title>
</cp:coreProperties>
</file>