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24C4-FD01-499D-95F5-9D017EF03E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шлом уроке мы делали из пластилина петушка. Сегодня мы будем делать аппликацию из бумаги. Что такое апплик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55FD-B508-4B68-96BD-81AAB17E92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6DE-E999-449C-9568-0584F982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A297-81B1-492E-982F-5343DC33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B9D-6246-419A-B1C1-4BF6FB89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EC9A-79EB-47F6-85D2-89CA4A56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043C-D7D9-455D-A5A3-205244DB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437D-185D-4345-AE79-F5DDC034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9401-C9E2-4518-B785-BAD2D4B8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7484-F90C-4BEE-B11B-22474D58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F7FC-9C1F-49B8-A769-D6D276E0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FC7C-543A-499D-BFA4-E7113181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7CB5-93BF-4E36-9287-325E12D8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0F3D-BD6F-4A59-AA1D-E6B080C3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2F13-A719-441F-BD42-3CF5B1D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C0E0-7FA3-40AC-98EF-C8ECC1FB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5FBD-AC7C-49CE-A942-41AB3FCE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9492-19B4-439E-9F3C-DEE63081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859E-8A4F-4B07-910E-E3661C57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EEA66-4C52-440F-91D1-CA4454ED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939B-628C-431F-BB46-F2123244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2C68-60E4-46C9-8DEF-082C07D5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69A9-92A4-4613-A320-32DDE354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D9B1-5295-446A-BCFA-5239EFDF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C08-4C8D-4F87-B6E0-774AC439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4322-2C99-423A-A53C-2F7186B3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E838E-8CA2-4F71-9158-7BAC0358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C5033-48D3-47BC-B3E3-AC009B0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2CCF4-FE29-4336-B0DD-29E07D5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17489-F930-42AF-B61B-61029A96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22DA8-C979-43F4-B0E8-4875490F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6D84-8BDC-4A6E-8E07-439385DE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043DD-2722-467E-BE97-5042DF58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56D75-ACA7-4DF8-93C7-45C2C392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5CB8D-B76B-4096-A858-EBD5D5744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7553-0AF8-4334-827C-82646F23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37379-6F03-464D-9DA5-D1F5892D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68004-9E79-4CED-BC9E-77DE41C6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83F9-A7D8-4DE4-96C8-5D46F169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DB23D-DBC4-4459-909C-9AEB5772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F787E-EB93-4C26-852F-D233C0B4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0412-6757-412F-AF5C-619FB550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7D2BC-295A-427A-B31B-DE270F41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3CFD1-87B2-4B64-8E50-C41F6DAE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4A9B2-967A-41AF-8FFA-AEAD40A7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187EA-360F-4C9A-B5A2-1F237C3EA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F1C-77F5-4CAB-B1B8-69E1A575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5E07-8D8F-4AB6-A01D-244CA357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507D3-5B4F-4CE5-AE83-791D6F7E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73D0D-00A1-41F0-9BB3-FDF0FF53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73DE8-E1BD-4860-82C5-6DAA71CD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5CFB-F573-4B74-910A-D1C46D15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B3BB3-A86E-4458-8EAE-256BF906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114C8-C981-40ED-8AD2-74F2751E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9A329-5A51-4B1B-B061-71631518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224CE-F903-441C-B6A9-995699C1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190C3-49CA-498D-B3FF-3F3D517B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C909-FC22-4813-8F90-4F3F8130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E19AE-9DE3-4285-9C3E-CF8A3B9E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924-78DB-4F5A-A7DC-151D4253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2D0-6251-46DF-9C0D-D6584EDC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65B-8E65-44A0-9113-95AAFDCF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951A-DBEF-41F3-B406-93035DAF06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6085-6E11-4DD7-B8DC-9CE8AED6D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Скругленный прямоугольник 6"/>
          <p:cNvGrpSpPr/>
          <p:nvPr/>
        </p:nvGrpSpPr>
        <p:grpSpPr>
          <a:xfrm>
            <a:off x="212760" y="225360"/>
            <a:ext cx="8712000" cy="6473880"/>
            <a:chOff x="212760" y="225360"/>
            <a:chExt cx="8712000" cy="6473880"/>
          </a:xfrm>
        </p:grpSpPr>
        <p:pic>
          <p:nvPicPr>
            <p:cNvPr id="83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12760" y="225360"/>
              <a:ext cx="8712000" cy="64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565200" y="573120"/>
              <a:ext cx="8013600" cy="57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ldw_af_ (84).png"/>
          <p:cNvPicPr/>
          <p:nvPr/>
        </p:nvPicPr>
        <p:blipFill>
          <a:blip r:embed="rId3"/>
          <a:stretch/>
        </p:blipFill>
        <p:spPr>
          <a:xfrm>
            <a:off x="611280" y="333360"/>
            <a:ext cx="7284960" cy="6199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ОСЕННИЙ ДЕКОР (80).png"/>
          <p:cNvPicPr/>
          <p:nvPr/>
        </p:nvPicPr>
        <p:blipFill>
          <a:blip r:embed="rId4"/>
          <a:stretch/>
        </p:blipFill>
        <p:spPr>
          <a:xfrm>
            <a:off x="0" y="0"/>
            <a:ext cx="3132000" cy="3186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ОСЕННИЙ ДЕКОР (80).png"/>
          <p:cNvPicPr/>
          <p:nvPr/>
        </p:nvPicPr>
        <p:blipFill>
          <a:blip r:embed="rId5"/>
          <a:stretch/>
        </p:blipFill>
        <p:spPr>
          <a:xfrm>
            <a:off x="5958000" y="0"/>
            <a:ext cx="3186000" cy="31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ОСЕННИЙ ДЕКОР (80).png"/>
          <p:cNvPicPr/>
          <p:nvPr/>
        </p:nvPicPr>
        <p:blipFill>
          <a:blip r:embed="rId6"/>
          <a:stretch/>
        </p:blipFill>
        <p:spPr>
          <a:xfrm>
            <a:off x="6012000" y="3672000"/>
            <a:ext cx="3132000" cy="318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ОСЕННИЙ ДЕКОР (80).png"/>
          <p:cNvPicPr/>
          <p:nvPr/>
        </p:nvPicPr>
        <p:blipFill>
          <a:blip r:embed="rId7"/>
          <a:stretch/>
        </p:blipFill>
        <p:spPr>
          <a:xfrm>
            <a:off x="0" y="3726000"/>
            <a:ext cx="3186000" cy="3132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5676-72EE-46FD-8EEC-3E2DA358F7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Скругленный прямоугольник 6"/>
          <p:cNvGrpSpPr/>
          <p:nvPr/>
        </p:nvGrpSpPr>
        <p:grpSpPr>
          <a:xfrm>
            <a:off x="212760" y="225360"/>
            <a:ext cx="8712000" cy="6473880"/>
            <a:chOff x="212760" y="225360"/>
            <a:chExt cx="8712000" cy="6473880"/>
          </a:xfrm>
        </p:grpSpPr>
        <p:pic>
          <p:nvPicPr>
            <p:cNvPr id="132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12760" y="225360"/>
              <a:ext cx="8712000" cy="64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565200" y="573120"/>
              <a:ext cx="8013600" cy="57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0" descr="ОСЕННИЙ ДЕКОР (91).png"/>
          <p:cNvPicPr/>
          <p:nvPr/>
        </p:nvPicPr>
        <p:blipFill>
          <a:blip r:embed="rId3"/>
          <a:stretch/>
        </p:blipFill>
        <p:spPr>
          <a:xfrm>
            <a:off x="2124000" y="5157720"/>
            <a:ext cx="476244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ldw_af_ (84).png"/>
          <p:cNvPicPr/>
          <p:nvPr/>
        </p:nvPicPr>
        <p:blipFill>
          <a:blip r:embed="rId4"/>
          <a:stretch/>
        </p:blipFill>
        <p:spPr>
          <a:xfrm rot="20703600">
            <a:off x="610920" y="333360"/>
            <a:ext cx="7284960" cy="6199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9A80-3D71-40ED-9DCE-9A853371E6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>
            <a:alpha val="6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Скругленный прямоугольник 6"/>
          <p:cNvGrpSpPr/>
          <p:nvPr/>
        </p:nvGrpSpPr>
        <p:grpSpPr>
          <a:xfrm>
            <a:off x="212760" y="225360"/>
            <a:ext cx="8712000" cy="6473880"/>
            <a:chOff x="212760" y="225360"/>
            <a:chExt cx="8712000" cy="6473880"/>
          </a:xfrm>
        </p:grpSpPr>
        <p:pic>
          <p:nvPicPr>
            <p:cNvPr id="178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212760" y="225360"/>
              <a:ext cx="8712000" cy="647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565200" y="573120"/>
              <a:ext cx="8013600" cy="57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12" descr="ОСЕННИЙ ДЕКОР (80).png"/>
          <p:cNvPicPr/>
          <p:nvPr/>
        </p:nvPicPr>
        <p:blipFill>
          <a:blip r:embed="rId3"/>
          <a:stretch/>
        </p:blipFill>
        <p:spPr>
          <a:xfrm>
            <a:off x="0" y="0"/>
            <a:ext cx="3132000" cy="318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ОСЕННИЙ ДЕКОР (80).png"/>
          <p:cNvPicPr/>
          <p:nvPr/>
        </p:nvPicPr>
        <p:blipFill>
          <a:blip r:embed="rId4"/>
          <a:stretch/>
        </p:blipFill>
        <p:spPr>
          <a:xfrm>
            <a:off x="0" y="3497400"/>
            <a:ext cx="3419640" cy="3360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ldw_af_ (84).png"/>
          <p:cNvPicPr/>
          <p:nvPr/>
        </p:nvPicPr>
        <p:blipFill>
          <a:blip r:embed="rId5"/>
          <a:stretch/>
        </p:blipFill>
        <p:spPr>
          <a:xfrm>
            <a:off x="1258920" y="404640"/>
            <a:ext cx="7284960" cy="6201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9B89-1AF0-4BCB-B25A-39154E3B1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7724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ГЕЕВА АЛЬФИЯ РИНАТОВН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читель начальных классов МБОУ «СОШ 42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.Казань,2016 год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СПУБЛИКА ТАТАРСТАН,г.КАЗА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33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504d"/>
                </a:solidFill>
                <a:latin typeface="Calibri"/>
              </a:rPr>
              <a:t>АППИКАЦИЯ «МУХОМОР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Аппликация «Мухомор»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420840" y="146160"/>
            <a:ext cx="7941960" cy="12063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4" descr=""/>
          <p:cNvPicPr/>
          <p:nvPr/>
        </p:nvPicPr>
        <p:blipFill>
          <a:blip r:embed="rId2"/>
          <a:stretch/>
        </p:blipFill>
        <p:spPr>
          <a:xfrm>
            <a:off x="-79200" y="2146320"/>
            <a:ext cx="6729120" cy="974880"/>
          </a:xfrm>
          <a:prstGeom prst="rect">
            <a:avLst/>
          </a:prstGeom>
          <a:ln w="0">
            <a:noFill/>
          </a:ln>
        </p:spPr>
      </p:pic>
      <p:pic>
        <p:nvPicPr>
          <p:cNvPr id="236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3005280"/>
            <a:ext cx="5870520" cy="976320"/>
          </a:xfrm>
          <a:prstGeom prst="rect">
            <a:avLst/>
          </a:prstGeom>
          <a:ln w="0">
            <a:noFill/>
          </a:ln>
        </p:spPr>
      </p:pic>
      <p:pic>
        <p:nvPicPr>
          <p:cNvPr id="237" name="Прямоугольник 6" descr=""/>
          <p:cNvPicPr/>
          <p:nvPr/>
        </p:nvPicPr>
        <p:blipFill>
          <a:blip r:embed="rId4"/>
          <a:stretch/>
        </p:blipFill>
        <p:spPr>
          <a:xfrm>
            <a:off x="133200" y="3865680"/>
            <a:ext cx="4658040" cy="97452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9" descr=""/>
          <p:cNvPicPr/>
          <p:nvPr/>
        </p:nvPicPr>
        <p:blipFill>
          <a:blip r:embed="rId5"/>
          <a:stretch/>
        </p:blipFill>
        <p:spPr>
          <a:xfrm>
            <a:off x="-79200" y="4718160"/>
            <a:ext cx="3736800" cy="9763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%C0%C4%C0032.jpg"/>
          <p:cNvPicPr/>
          <p:nvPr/>
        </p:nvPicPr>
        <p:blipFill>
          <a:blip r:embed="rId6"/>
          <a:stretch/>
        </p:blipFill>
        <p:spPr>
          <a:xfrm>
            <a:off x="6383160" y="2124000"/>
            <a:ext cx="2311560" cy="186372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1" descr="134497a.jpg"/>
          <p:cNvPicPr/>
          <p:nvPr/>
        </p:nvPicPr>
        <p:blipFill>
          <a:blip r:embed="rId7"/>
          <a:stretch/>
        </p:blipFill>
        <p:spPr>
          <a:xfrm>
            <a:off x="6643800" y="4000680"/>
            <a:ext cx="2050920" cy="23493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2" descr="abo12nolezs9yb4h.jpg"/>
          <p:cNvPicPr/>
          <p:nvPr/>
        </p:nvPicPr>
        <p:blipFill>
          <a:blip r:embed="rId8"/>
          <a:srcRect l="0" t="8714" r="0" b="0"/>
          <a:stretch/>
        </p:blipFill>
        <p:spPr>
          <a:xfrm>
            <a:off x="3652920" y="5135400"/>
            <a:ext cx="1771560" cy="12146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3" descr="GP1660_b.jpg"/>
          <p:cNvPicPr/>
          <p:nvPr/>
        </p:nvPicPr>
        <p:blipFill>
          <a:blip r:embed="rId9"/>
          <a:srcRect l="0" t="0" r="62420" b="0"/>
          <a:stretch/>
        </p:blipFill>
        <p:spPr>
          <a:xfrm>
            <a:off x="5802480" y="4281480"/>
            <a:ext cx="6570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1908000" y="333360"/>
            <a:ext cx="5472360" cy="604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1547640" y="260280"/>
            <a:ext cx="5761080" cy="604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5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27144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Рисунок 1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905440" cy="63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3T18:12:22Z</dcterms:created>
  <dc:creator>админ</dc:creator>
  <dc:description/>
  <dc:language>en-US</dc:language>
  <cp:lastModifiedBy>Bageeva</cp:lastModifiedBy>
  <dcterms:modified xsi:type="dcterms:W3CDTF">2016-11-06T10:04:05Z</dcterms:modified>
  <cp:revision>4</cp:revision>
  <dc:subject/>
  <dc:title>Аппликация «Мухомор»</dc:title>
</cp:coreProperties>
</file>