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73E7-1B15-4688-8CB2-B7495D6D9C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шлом уроке мы делали из пластилина петушка. Сегодня мы будем делать аппликацию из бумаги. Что такое апплик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BA1E-F30C-4A7E-9D93-A2BD2A2F6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386-0481-4D1A-99C6-648216DA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0EB-FF8C-49E1-BFEE-B1D34EE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125-0832-477F-A71C-C79CCB7B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D08-2EDA-412D-A173-CA7E0717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DBE7-2C71-4E26-9872-C204FD27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5D1-3EC4-45B3-BDB3-047CAD4A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4DE1-6720-4F50-93B1-C7484433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5AC4-7D40-441D-A0C4-AF4C639A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A04E-8F72-4EBC-A44B-A6AC5EE5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6692-5533-45CA-AFA9-BBDD95A1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B06D-9D8D-4A87-A3F9-0F4CD37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946-4698-466A-8DE2-C5DC2F9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604-D92A-47F2-8011-C62360FC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8B42-0B07-464B-91D6-D05B677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0B67-0C59-4FCF-97C6-EC0F6CEE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A787-B3CC-4A64-8957-D241F583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1482-EEAB-4E2E-9862-1A770605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8C34-7DA9-4A6A-B713-A0B55B0C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30F1-D708-46C8-A0AF-4FC92C25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20AA-A922-4490-9B6D-C2D21721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DF9D-0DF0-420E-88BB-337CB46D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EF4C-A7E0-4936-A139-C1EEA0B7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F78-CACD-42A7-8462-64A5CF7E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52B5-BE24-4A57-842D-1010609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D926-39C6-4E35-821C-FE380D3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A2911-BBD5-4B77-AB34-3A305F45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551B-58F8-4D50-B547-6CEB4F5B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BEE7-A488-4297-BF91-5E2CBAE6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3BEB-F3A8-465E-B4E3-EE3E49A6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55CB-7F38-4E49-87E8-8D8703A9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FAF3C-4E96-4923-ACC2-49D51D46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7411-16C9-4C1E-8D3B-36985466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21A9-5FB5-4A6F-B6DD-7BC9314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1B0-AEC6-4557-AD7E-BB7543E0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40EE-030A-41C0-B978-4A0631A8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9115-0F06-4CD0-8E12-EA9404C8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44E1-3B96-46B7-9B19-DC35A295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67C1-6382-4191-BF81-0EF39EF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2762-D06C-42DE-B4D2-E27FD1E2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B42E-BE16-4E66-B732-EA9BE27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0576F-79CF-483A-9096-342189A2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30B7-015B-4FC5-9270-9D33E4C9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3118-E1C5-46B7-A3F6-5998F2B8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DA8B-EEB2-4B11-A2CF-48F50C7F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A54-3723-4EFF-B985-0FC1F84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5EA3-8143-49EE-A84C-FE74A59B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4C73A-68A7-4197-95F0-3B0508D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4E50-F491-4846-BE67-3AA8470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D018-8ED3-4448-9A6B-1D4D7C3F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4E34E-1BF4-44BA-A535-213C4EC0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D8BE7-0DAD-4319-89C2-09CF9C17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D2ABB-748E-45FA-8869-77807105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E0691-CB4F-4E44-A047-3A6DE1F0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133D1-A4EE-427E-A26F-F00CE9E2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0EB2-47AD-450D-94E4-E2F1C4CB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261-194E-4865-B7CE-81AC0971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5952-48FA-4F6C-9980-45B8B409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CCE-6EBF-4467-A1B6-48233C27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75A-B574-4F67-A683-252F4371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ED4-3EE4-47A9-860A-5391ED48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B0D6-D1C7-42CE-BCA6-08A783671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27CD-1A2F-412C-A44B-4D236049D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Скругленный прямоугольник 6"/>
          <p:cNvGrpSpPr/>
          <p:nvPr/>
        </p:nvGrpSpPr>
        <p:grpSpPr>
          <a:xfrm>
            <a:off x="212760" y="225360"/>
            <a:ext cx="8712000" cy="6473880"/>
            <a:chOff x="212760" y="225360"/>
            <a:chExt cx="8712000" cy="6473880"/>
          </a:xfrm>
        </p:grpSpPr>
        <p:pic>
          <p:nvPicPr>
            <p:cNvPr id="83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12760" y="225360"/>
              <a:ext cx="8712000" cy="64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65200" y="573120"/>
              <a:ext cx="8013600" cy="57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ldw_af_ (84).png"/>
          <p:cNvPicPr/>
          <p:nvPr/>
        </p:nvPicPr>
        <p:blipFill>
          <a:blip r:embed="rId3"/>
          <a:stretch/>
        </p:blipFill>
        <p:spPr>
          <a:xfrm>
            <a:off x="611280" y="333360"/>
            <a:ext cx="7284960" cy="6199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ОСЕННИЙ ДЕКОР (80).png"/>
          <p:cNvPicPr/>
          <p:nvPr/>
        </p:nvPicPr>
        <p:blipFill>
          <a:blip r:embed="rId4"/>
          <a:stretch/>
        </p:blipFill>
        <p:spPr>
          <a:xfrm>
            <a:off x="0" y="0"/>
            <a:ext cx="3132000" cy="31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ОСЕННИЙ ДЕКОР (80).png"/>
          <p:cNvPicPr/>
          <p:nvPr/>
        </p:nvPicPr>
        <p:blipFill>
          <a:blip r:embed="rId5"/>
          <a:stretch/>
        </p:blipFill>
        <p:spPr>
          <a:xfrm>
            <a:off x="5958000" y="0"/>
            <a:ext cx="3186000" cy="31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ОСЕННИЙ ДЕКОР (80).png"/>
          <p:cNvPicPr/>
          <p:nvPr/>
        </p:nvPicPr>
        <p:blipFill>
          <a:blip r:embed="rId6"/>
          <a:stretch/>
        </p:blipFill>
        <p:spPr>
          <a:xfrm>
            <a:off x="6012000" y="3672000"/>
            <a:ext cx="3132000" cy="31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ОСЕННИЙ ДЕКОР (80).png"/>
          <p:cNvPicPr/>
          <p:nvPr/>
        </p:nvPicPr>
        <p:blipFill>
          <a:blip r:embed="rId7"/>
          <a:stretch/>
        </p:blipFill>
        <p:spPr>
          <a:xfrm>
            <a:off x="0" y="3726000"/>
            <a:ext cx="3186000" cy="3132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129D-27F1-476A-98FB-BEA359D7D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Скругленный прямоугольник 6"/>
          <p:cNvGrpSpPr/>
          <p:nvPr/>
        </p:nvGrpSpPr>
        <p:grpSpPr>
          <a:xfrm>
            <a:off x="212760" y="225360"/>
            <a:ext cx="8712000" cy="6473880"/>
            <a:chOff x="212760" y="225360"/>
            <a:chExt cx="8712000" cy="6473880"/>
          </a:xfrm>
        </p:grpSpPr>
        <p:pic>
          <p:nvPicPr>
            <p:cNvPr id="132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12760" y="225360"/>
              <a:ext cx="8712000" cy="64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5200" y="573120"/>
              <a:ext cx="8013600" cy="57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0" descr="ОСЕННИЙ ДЕКОР (91).png"/>
          <p:cNvPicPr/>
          <p:nvPr/>
        </p:nvPicPr>
        <p:blipFill>
          <a:blip r:embed="rId3"/>
          <a:stretch/>
        </p:blipFill>
        <p:spPr>
          <a:xfrm>
            <a:off x="2124000" y="515772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ldw_af_ (84).png"/>
          <p:cNvPicPr/>
          <p:nvPr/>
        </p:nvPicPr>
        <p:blipFill>
          <a:blip r:embed="rId4"/>
          <a:stretch/>
        </p:blipFill>
        <p:spPr>
          <a:xfrm rot="20703600">
            <a:off x="610920" y="333360"/>
            <a:ext cx="7284960" cy="6199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5448-0363-4594-A86E-21A26D096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Скругленный прямоугольник 6"/>
          <p:cNvGrpSpPr/>
          <p:nvPr/>
        </p:nvGrpSpPr>
        <p:grpSpPr>
          <a:xfrm>
            <a:off x="212760" y="225360"/>
            <a:ext cx="8712000" cy="6473880"/>
            <a:chOff x="212760" y="225360"/>
            <a:chExt cx="8712000" cy="6473880"/>
          </a:xfrm>
        </p:grpSpPr>
        <p:pic>
          <p:nvPicPr>
            <p:cNvPr id="178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12760" y="225360"/>
              <a:ext cx="8712000" cy="64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65200" y="573120"/>
              <a:ext cx="8013600" cy="57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12" descr="ОСЕННИЙ ДЕКОР (80).png"/>
          <p:cNvPicPr/>
          <p:nvPr/>
        </p:nvPicPr>
        <p:blipFill>
          <a:blip r:embed="rId3"/>
          <a:stretch/>
        </p:blipFill>
        <p:spPr>
          <a:xfrm>
            <a:off x="0" y="0"/>
            <a:ext cx="3132000" cy="318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ОСЕННИЙ ДЕКОР (80).png"/>
          <p:cNvPicPr/>
          <p:nvPr/>
        </p:nvPicPr>
        <p:blipFill>
          <a:blip r:embed="rId4"/>
          <a:stretch/>
        </p:blipFill>
        <p:spPr>
          <a:xfrm>
            <a:off x="0" y="3497400"/>
            <a:ext cx="3419640" cy="336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ldw_af_ (84).png"/>
          <p:cNvPicPr/>
          <p:nvPr/>
        </p:nvPicPr>
        <p:blipFill>
          <a:blip r:embed="rId5"/>
          <a:stretch/>
        </p:blipFill>
        <p:spPr>
          <a:xfrm>
            <a:off x="1258920" y="404640"/>
            <a:ext cx="7284960" cy="620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1B33-CFBB-4A60-820F-DD36D20BC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ГЕЕВА АЛЬФИЯ РИНАТОВН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тель начальных классов МБОУ «СОШ 42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.Казань,2016 г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ПУБЛИКА ТАТАРСТАН,г.КАЗА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33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ППИКАЦИЯ «МУХОМОР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Аппликация «Мухомор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7941960" cy="1206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4" descr=""/>
          <p:cNvPicPr/>
          <p:nvPr/>
        </p:nvPicPr>
        <p:blipFill>
          <a:blip r:embed="rId2"/>
          <a:stretch/>
        </p:blipFill>
        <p:spPr>
          <a:xfrm>
            <a:off x="-79200" y="2146320"/>
            <a:ext cx="6729120" cy="9748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3005280"/>
            <a:ext cx="5870520" cy="9763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6" descr=""/>
          <p:cNvPicPr/>
          <p:nvPr/>
        </p:nvPicPr>
        <p:blipFill>
          <a:blip r:embed="rId4"/>
          <a:stretch/>
        </p:blipFill>
        <p:spPr>
          <a:xfrm>
            <a:off x="133200" y="3865680"/>
            <a:ext cx="4658040" cy="97452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9" descr=""/>
          <p:cNvPicPr/>
          <p:nvPr/>
        </p:nvPicPr>
        <p:blipFill>
          <a:blip r:embed="rId5"/>
          <a:stretch/>
        </p:blipFill>
        <p:spPr>
          <a:xfrm>
            <a:off x="-79200" y="4718160"/>
            <a:ext cx="3736800" cy="9763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%C0%C4%C0032.jpg"/>
          <p:cNvPicPr/>
          <p:nvPr/>
        </p:nvPicPr>
        <p:blipFill>
          <a:blip r:embed="rId6"/>
          <a:stretch/>
        </p:blipFill>
        <p:spPr>
          <a:xfrm>
            <a:off x="6383160" y="2124000"/>
            <a:ext cx="2311560" cy="18637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1" descr="134497a.jpg"/>
          <p:cNvPicPr/>
          <p:nvPr/>
        </p:nvPicPr>
        <p:blipFill>
          <a:blip r:embed="rId7"/>
          <a:stretch/>
        </p:blipFill>
        <p:spPr>
          <a:xfrm>
            <a:off x="6643800" y="4000680"/>
            <a:ext cx="2050920" cy="2349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2" descr="abo12nolezs9yb4h.jpg"/>
          <p:cNvPicPr/>
          <p:nvPr/>
        </p:nvPicPr>
        <p:blipFill>
          <a:blip r:embed="rId8"/>
          <a:srcRect l="0" t="8714" r="0" b="0"/>
          <a:stretch/>
        </p:blipFill>
        <p:spPr>
          <a:xfrm>
            <a:off x="3652920" y="5135400"/>
            <a:ext cx="1771560" cy="1214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3" descr="GP1660_b.jpg"/>
          <p:cNvPicPr/>
          <p:nvPr/>
        </p:nvPicPr>
        <p:blipFill>
          <a:blip r:embed="rId9"/>
          <a:srcRect l="0" t="0" r="62420" b="0"/>
          <a:stretch/>
        </p:blipFill>
        <p:spPr>
          <a:xfrm>
            <a:off x="5802480" y="4281480"/>
            <a:ext cx="657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1908000" y="333360"/>
            <a:ext cx="5472360" cy="604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547640" y="260280"/>
            <a:ext cx="5761080" cy="604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5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2714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90544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18:12:22Z</dcterms:created>
  <dc:creator>админ</dc:creator>
  <dc:description/>
  <dc:language>en-US</dc:language>
  <cp:lastModifiedBy>Bageeva</cp:lastModifiedBy>
  <dcterms:modified xsi:type="dcterms:W3CDTF">2016-11-06T10:04:05Z</dcterms:modified>
  <cp:revision>4</cp:revision>
  <dc:subject/>
  <dc:title>Аппликация «Мухомор»</dc:title>
</cp:coreProperties>
</file>