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C02E-3C05-4996-9078-3BC7BF4E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908-BA6C-43CC-83B6-EC2ACDF5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526-8447-4E27-9214-0041F7C2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0E2E-AB46-4FD9-95F3-17E29725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1F1B6-4A47-4129-87CC-6909D2CA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6B98-FED5-4A28-89E8-A13CBA34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4F758-7621-4242-99F1-5355C42B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4EEC-49D2-4A93-AC4C-DB74A3DD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9F73-98D6-4551-AE8E-2CFEF633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A9B7-8F8D-4A0B-AEE5-FDCFC566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B763-21A0-47A7-B4E9-7A3D6B4B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2D72-8460-4D19-A574-C44CB474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56F9-EF7F-4609-B2AC-7F6A0BC7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4C24-C8CB-4617-A4A9-42A22136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CAF6-B1D4-4CB8-A8AF-A38B39AE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E4CC-9452-4FE3-BF39-329D90C79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DFD3-D4A3-4E2C-8FF7-E1683D2F2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4934-5FE1-4371-B935-DB361EBE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726-575C-4C52-80CB-4ECE62BA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A69-EAC8-490E-B9B9-FC9FBC8A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A5F-72CC-4215-BD46-B8F1EBF7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4D6-AD05-4230-83B4-22F9B363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C7A3-D761-4D59-A15C-B4BD508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0DB-D601-411A-B104-A7102F7C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DF13-BC35-4C86-AF33-EB3255895D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15F8-0C4F-4571-9DBE-48F2D62A52A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Пожарно-Спасательный Колледж «Санкт Петербургский Центр Подготовки Спасателей»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Курс: «Английский Язык для специалистов Пожарно-спасательных подразделений»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Научно-методическая разработка 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О.В. Калинка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62920" y="583560"/>
            <a:ext cx="7482600" cy="14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Используя ниже приведенные ниже слова и словарный запас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Word formation</a:t>
            </a: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. составьте следующие словосочетания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ause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чин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источник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oint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чка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lace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сто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ocation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расположение место расположение-нахождение (чего или кого либо)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rea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бласть, район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Zone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он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имер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.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сточник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ым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The source of smok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чина возгорани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 - 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Зона задымления -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бласть воспламенения 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Причина возгорания 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Область задымления 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Место расположения гидранта 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Точка горения __________________________________________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водная лексика по теме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“Fire and Rescue Units &amp; Work”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73520" y="2923920"/>
            <a:ext cx="4013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Vocabulary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&amp;</a:t>
            </a:r>
            <a:r>
              <a:rPr b="1" lang="en-US" sz="2800" spc="-1" strike="noStrike" u="sng">
                <a:solidFill>
                  <a:srgbClr val="006666"/>
                </a:solidFill>
                <a:uFillTx/>
                <a:latin typeface="Arial"/>
              </a:rPr>
              <a:t>Word formation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 One. </a:t>
            </a:r>
            <a:br>
              <a:rPr sz="3200"/>
            </a:b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имер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1.   Fire –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огонь</a:t>
            </a: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лам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онь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+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ghter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орец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 =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fighter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жарны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ак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men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Brigad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жарная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а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Brigade Unit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дразделени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жарно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пасательной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лужбы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акже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Station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Brigade crew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- персонал пожарно-спасательного отряд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engin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- пожарная машин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gear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ожарная амуници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extinguisher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огнетушител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safety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– пожарная безопасност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prevention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– предотвращение пожар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e alarm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жарная сигнализация (на огонь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ubbish fir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ожар отходов и мусора (также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Garbage fir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onfire –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стер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 Two. 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имер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2.  </a:t>
            </a:r>
            <a:br>
              <a:rPr sz="3200"/>
            </a:b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ater – 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вод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ter-tank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цистерн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акж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ank-tru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ter supply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оснабжени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опровод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ter-hydran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идрант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так же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ydr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Water- pump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дный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со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Three. </a:t>
            </a:r>
            <a:br>
              <a:rPr sz="3200"/>
            </a:b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Пример</a:t>
            </a: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 3. Emergency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mergency Service - M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Ч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mergency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аснос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резвычайна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итуаци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mergency serv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лужб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казани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мощи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резвычайных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итуациях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MS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Emergency Medical Servi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акже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mbulanc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) –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корая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мощ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. Другие примеры словообразования и фразе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o arson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джигат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rson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пожар также слово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laz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употребляется в значении «пламя» или «пожар»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rsonist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поджигател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o rescu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спасать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Human rescue unit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служба спасения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также возможно 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escue unit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\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rew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Victi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острадавший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rson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Victim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 -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пострадавший от пожар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irst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id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первая помощь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urn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гореть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lam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ламя →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Inflam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возгорание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mok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Дым →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ver</a:t>
            </a:r>
            <a:r>
              <a:rPr b="1" lang="ru-RU" sz="16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moke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задымление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moke alarm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– пожарная сигнализация (на дым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etal cut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ензорез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Word formation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Arial"/>
              </a:rPr>
              <a:t>. Другие примеры словообразования и фразеолог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Ladd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жарная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естни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se Reel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укав -ствол (пожарный) также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amage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реждение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 damage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вреждать, причинять повреж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jury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нения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o injury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–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нить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John Dow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еизвестная (неопознанная) личность, здесь подразумевается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Едини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Дополните недостающие буквы в ниже приведённых словах  и словосочетания.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420640"/>
            <a:ext cx="76932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(1)  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g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_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-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2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_ y d _ a _  _ t 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3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R _ s _ _ e -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4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_ m _  _ g _ n _ y - .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5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L _ d _  _  r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6)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  _  _  s _ n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7)   _ m _ u _  _ n _ c _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8)  _ i _ r _  f _ g _ t _ r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9)  H _ s _ i _ a _ i _ e _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10)  V _  _ t _ m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11)  _ l _ m _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12)   _ u r _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(13)   _ s _ a _ p _       _  a  _ -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4) 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_ i _ e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_ e _ r 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- 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(15)  _ n _ e _ t _  g  _ t  _  - 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Составьте максимальное количество словосочетания из столбц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и столбца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                                 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ver-smoke                          Cause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ame                                 Sour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son                                    Poi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mergency                            Pl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nfire                                  Are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e                                        Zo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nk-truck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       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ca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8:10:26Z</dcterms:created>
  <dc:creator>Kalinka</dc:creator>
  <dc:description/>
  <dc:language>en-US</dc:language>
  <cp:lastModifiedBy>Kalinka</cp:lastModifiedBy>
  <dcterms:modified xsi:type="dcterms:W3CDTF">2011-08-29T18:39:57Z</dcterms:modified>
  <cp:revision>2</cp:revision>
  <dc:subject/>
  <dc:title>Пожарно-Спасательный Колледж «Санкт Петербургский Центр Подготовки Спасателей»</dc:title>
</cp:coreProperties>
</file>