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38C-1194-42D6-9B8D-A49BB119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84C-547C-4E00-A32C-847F72A4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060-5A1D-4180-BBD0-5EDB6571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878-DAF3-4E94-B549-D26BC600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00E2-EE50-4DD3-80A5-7E53E7AA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28D1-6B27-408D-829A-BB4A1F21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79AB-5294-4CDE-A0B9-BABF3717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CC46-F2CB-473B-B796-8617766D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B52B-EF08-47F3-9F05-066F6542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B171-641D-4DFB-97D6-8CC61BAF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7257-FF96-4994-96CC-3262C42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8ED-AB1F-43D1-B420-8E621C8D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EB5A-B0CA-478B-BE9A-AF34340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7EAF-45FC-4F51-86BC-3C466ADF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D5C8-BF66-4352-9D18-79E6D1C9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29B9-9078-47B5-BCF4-FD8E6153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AC2F-5969-43AF-A9C5-C2F608D7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695-37B7-48D3-BEBF-AA4C85E9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3E6-39A1-4134-8418-90CA8C11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0A4-300D-4629-A013-A1A6102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951-0A8D-4D24-BBCB-08D77290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AAC-A346-4B5C-AD23-76409824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5B3-6BA0-49BE-B0A8-6E42590F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D64-3FD6-424A-8C26-15D7D4B5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963B-9116-4AE1-93E1-876C1011F3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F841-341A-4953-B6CB-1373B39616C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жарно-Спасательный Колледж «Санкт Петербургский Центр Подготовки Спасателей»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урс: «Английский Язык для специалистов Пожарно-спасательных подразделений»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Научно-методическая разработка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О.В. Калинк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62920" y="583560"/>
            <a:ext cx="7482600" cy="14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Используя ниже приведенные ниже слова и словарный запас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Word formation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. составьте следующие словосочетания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use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чин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источник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int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чк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lace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сто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cation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расположение место расположение-нахождение (чего или кого либо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rea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ласть, район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Zone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он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ример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ым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The source of smok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чина возгора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- 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она задымления -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бласть воспламенения 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чина возгорания 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бласть задымления 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есто расположения гидранта 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очка горения _____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водная лексика по теме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“Fire and Rescue Units &amp; Work”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73520" y="2923920"/>
            <a:ext cx="4013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Vocabulary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&amp;</a:t>
            </a: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Word formation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ord formation One. </a:t>
            </a:r>
            <a:br>
              <a:rPr sz="3200"/>
            </a:b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ример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1.   Fire –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огонь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лам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он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+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ghter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оре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fighter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жарны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ак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me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Brigad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жарна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Brigade Unit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дразделени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жар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пасательно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лужб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ак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Station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Brigade crew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персонал пожарно-спасательного отряд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engin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- пожарная маши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gear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пожарная амуниц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extinguisher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огнетушител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safety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– пожарная безопасност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prevention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– предотвращение пожар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alarm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жарная сигнализация (на огонь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ubbish fir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пожар отходов и мусора (также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Garbage fir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onfire –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сте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ord formation Two. 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ример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2.  </a:t>
            </a:r>
            <a:br>
              <a:rPr sz="3200"/>
            </a:b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ater – 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вод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ter-tan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истерн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акж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ank-tru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ter supp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доснабжени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допровод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ter-hydra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идран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ак же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ydr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ter- pump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дный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со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ord formation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Three. </a:t>
            </a:r>
            <a:br>
              <a:rPr sz="3200"/>
            </a:b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ример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3. Emergenc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mergency Service - M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mergency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аснос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резвычайна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итуаци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mergency serv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лужб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казани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мощ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резвычайных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итуация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MS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Emergency Medical Serv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акж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mbula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ора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мощ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ord formation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. Другие примеры словообразования и фразе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o arson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джигат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rson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пожар также слово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laz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употребляется в значении «пламя» или «пожар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rsonist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поджигател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o rescu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спасат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uman rescue unit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лужба спасения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акже возможно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scue unit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\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rew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Victi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пострадавший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rson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Victim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страдавший от пожар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st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id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первая помощь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urn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горет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lam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пламя →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flam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возгорание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mok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Дым →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ver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mok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задымлен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moke alar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пожарная сигнализация (на дым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etal cut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нзорез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ord formation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. Другие примеры словообразования и фразе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dd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жарна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естни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se Reel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укав -ствол (пожарный) также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mage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реждение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 damage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реждать, причинять повреж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jury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нения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 injury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ни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John Dow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еизвестная (неопознанная) личность, здесь подразумевается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дини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Дополните недостающие буквы в ниже приведённых словах  и словосочетания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420640"/>
            <a:ext cx="76932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1) 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-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 _ y d _ a _  _ t 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 R _ s _ _ e -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 _ m _  _ g _ n _ y - 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 L _ d _  _  r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 _  _  s _ n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7)   _ m _ u _  _ n _ c _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8)  _ i _ r _  f _ g _ t _ r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9)  H _ s _ i _ a _ i _ e _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10)  V _  _ t _ m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11)  _ l _ m _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12)   _ u r _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13)   _ s _ a _ p _       _  a  _ -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4) 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_ i _ 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_ e _ r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-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5)  _ n _ e _ t _  g  _ t  _ 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Составьте максимальное количество словосочетания из столбц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и столбц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                                 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-smoke                          Cause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ame                                 Sour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son                                    Poi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ergency                            Pl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nfire                                  Are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e                                        Z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nk-truck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8:10:26Z</dcterms:created>
  <dc:creator>Kalinka</dc:creator>
  <dc:description/>
  <dc:language>en-US</dc:language>
  <cp:lastModifiedBy>Kalinka</cp:lastModifiedBy>
  <dcterms:modified xsi:type="dcterms:W3CDTF">2011-08-29T18:39:57Z</dcterms:modified>
  <cp:revision>2</cp:revision>
  <dc:subject/>
  <dc:title>Пожарно-Спасательный Колледж «Санкт Петербургский Центр Подготовки Спасателей»</dc:title>
</cp:coreProperties>
</file>