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18.wmf" ContentType="image/x-wmf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.jpeg" ContentType="image/jpeg"/>
  <Override PartName="/ppt/media/image15.wmf" ContentType="image/x-wmf"/>
  <Override PartName="/ppt/media/image19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002-A213-4B3A-8AE0-9D226F54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DFD-AA5D-4C11-8D8B-F6094E19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0B1-A2D7-45A9-B4AF-1CC7F542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C1E-5E2C-48EB-BB86-B6921C0E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5A2E-580D-48DC-8217-AB061707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73CC-26DF-4D7E-8BA2-40A439F9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F02A-2766-4866-AC23-FCD8B836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3EB5-1ECB-414D-A754-B41A789F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A0E8-956E-4C02-9151-50CAA6AB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81B9-E2C1-4608-BA30-064366BE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C51D-E4E4-4FF6-B7D4-2DA243DC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C6F-A10D-47CB-81D2-CB87DB6C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767D-7763-4EEE-8386-04BD23CA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1916-0545-4741-835C-584FC4BB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D83F-7603-4BE8-9BA5-FDF08BD9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1FD9-F118-419B-A818-50B671DD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002C-B8C2-4B0F-852C-087BE37F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B30-1D67-42B8-8409-9E30BC68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1BA-DEFE-4B1C-9D6E-1DA5AE5C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18F8-9038-4BA5-82E3-2AB8E989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BC0-62FC-422A-A74B-9D03C99B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7A5-7EF8-4B5B-90D4-6D3026AE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975-DFE0-48DE-9367-766E9808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130-C126-4E30-A067-3193FB94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6EF3-D165-4A51-B197-5ED4D67BB4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A967-F507-4AC5-B29A-D39736F074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citeclibrary.ru/ris-stat/st1361/image11656.gif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atomi.ru/imgs/Energia_atoma_Gladkov_1968-89.png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elftrans.narod.ru/v6_1/e/e05/fig4.gif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tarina.info/foto/b/9461A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nauka.relis.ru/13/0111/berlin13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bse.sci-lib.com/pictures/12/03/233802869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igpi.biysk.ru/encicl/articles/03/1000335/0759_002.gif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upload.wikimedia.org/wikipedia/commons/d/d3/Albert_Einstein_Head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hnet.ru/files/03(302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hyperlink" Target="http://ru.wikipedia.org/wiki/&#1069;&#1083;&#1077;&#1082;&#1090;&#1088;&#1080;&#1095;&#1077;&#1089;&#1082;&#1086;&#1077;_&#1087;&#1086;&#1083;&#1077;" TargetMode="External"/><Relationship Id="rId5" Type="http://schemas.openxmlformats.org/officeDocument/2006/relationships/hyperlink" Target="http://ru.wikipedia.org/wiki/&#1052;&#1072;&#1075;&#1085;&#1080;&#1090;&#1085;&#1086;&#1077;_&#1087;&#1086;&#1083;&#1077;" TargetMode="External"/><Relationship Id="rId6" Type="http://schemas.openxmlformats.org/officeDocument/2006/relationships/hyperlink" Target="http://www.photoforum.ru/f/photo/000/299/299463_87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3366"/>
                </a:solidFill>
                <a:uFillTx/>
                <a:latin typeface="Arial"/>
              </a:rPr>
              <a:t>Фотоны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64000" y="3213000"/>
            <a:ext cx="2705400" cy="3306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Вывод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классической физике волны и частицы исключают друг друг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Фотон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порция св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квант св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материальная, электрически нейтральная частица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квант электромагнитного излуч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Свойства фотон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76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Частица электромагнитного пол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Движется со скоростью света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Существует только в движени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Остановить фотон нельзя: он движется со скоростью света или не существует. Масса покоя = 0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Заряд =0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9144000" cy="104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СВОЙСТВА ФОТОНА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" descr="Картинка 15 из 2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421000"/>
            <a:ext cx="49813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1258920" y="5877000"/>
          <a:ext cx="7692480" cy="641160"/>
        </p:xfrm>
        <a:graphic>
          <a:graphicData uri="http://schemas.openxmlformats.org/drawingml/2006/table">
            <a:tbl>
              <a:tblPr/>
              <a:tblGrid>
                <a:gridCol w="769248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СТРАНСТВЕННАЯ СТРУКТУРА ФОТОНА 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268360" y="2421000"/>
          <a:ext cx="5543640" cy="3313080"/>
        </p:xfrm>
        <a:graphic>
          <a:graphicData uri="http://schemas.openxmlformats.org/drawingml/2006/table">
            <a:tbl>
              <a:tblPr/>
              <a:tblGrid>
                <a:gridCol w="5543640"/>
              </a:tblGrid>
              <a:tr h="33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ХАРАКТЕРИСТИКИ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1. ЭНЕРГ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761000" y="2362320"/>
          <a:ext cx="3770280" cy="355896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 = h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·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т.к</a:t>
                      </a:r>
                      <a:r>
                        <a:rPr b="1" lang="ru-RU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. </a:t>
                      </a:r>
                      <a:r>
                        <a:rPr b="1" lang="ru-RU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= c/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 = h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· c/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                        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 = m </a:t>
                      </a:r>
                      <a:r>
                        <a:rPr b="1" lang="en-US" sz="5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ru-RU" sz="5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5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116000" y="3008160"/>
          <a:ext cx="381636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08160"/>
                    <a:ext cx="381636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ХАРАКТЕРИСТИКИ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ПОСТОЯННАЯ ПЛАНК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4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h = 6</a:t>
            </a:r>
            <a:r>
              <a:rPr b="1" lang="ru-RU" sz="4800" spc="-1" strike="noStrike" u="sng">
                <a:solidFill>
                  <a:srgbClr val="003366"/>
                </a:solidFill>
                <a:uFillTx/>
                <a:latin typeface="Arial"/>
              </a:rPr>
              <a:t>,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63</a:t>
            </a:r>
            <a:r>
              <a:rPr b="1" lang="ru-RU" sz="4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·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 10 </a:t>
            </a:r>
            <a:r>
              <a:rPr b="1" lang="ru-RU" sz="4800" spc="-1" strike="noStrike" u="sng">
                <a:solidFill>
                  <a:srgbClr val="003366"/>
                </a:solidFill>
                <a:uFillTx/>
                <a:latin typeface="Arial"/>
              </a:rPr>
              <a:t>  Дж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·</a:t>
            </a:r>
            <a:r>
              <a:rPr b="1" lang="ru-RU" sz="4800" spc="-1" strike="noStrike" u="sng">
                <a:solidFill>
                  <a:srgbClr val="003366"/>
                </a:solidFill>
                <a:uFillTx/>
                <a:latin typeface="Arial"/>
              </a:rPr>
              <a:t>с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ХАРАКТЕРИСТИКИ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2. МАССА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2679840"/>
          <a:ext cx="1831680" cy="41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679840"/>
                    <a:ext cx="183168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ХАРАКТЕРИСТИКИ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99640" y="13410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3. ИМПУЛЬ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859280" y="2349360"/>
          <a:ext cx="15591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349360"/>
                    <a:ext cx="155916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476360" y="4365720"/>
          <a:ext cx="187164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4365720"/>
                    <a:ext cx="187164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972360" y="9799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ФАКТЫ, ПОДТВЕРДИВШИЕ СУЩЕСТВОВАНИЕ ФОТО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195640" y="5661000"/>
          <a:ext cx="5689080" cy="844560"/>
        </p:xfrm>
        <a:graphic>
          <a:graphicData uri="http://schemas.openxmlformats.org/drawingml/2006/table">
            <a:tbl>
              <a:tblPr/>
              <a:tblGrid>
                <a:gridCol w="568908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340000" y="2349360"/>
          <a:ext cx="5327280" cy="3167280"/>
        </p:xfrm>
        <a:graphic>
          <a:graphicData uri="http://schemas.openxmlformats.org/drawingml/2006/table">
            <a:tbl>
              <a:tblPr/>
              <a:tblGrid>
                <a:gridCol w="5327280"/>
              </a:tblGrid>
              <a:tr h="31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692000" y="5734080"/>
            <a:ext cx="63356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ДАВЛЕНИЕ СВЕТ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Картинка 3 из 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3068640"/>
            <a:ext cx="3924360" cy="2371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ФАКТЫ, ПОДТВЕРДИВШИЕ СУЩЕСТВОВАНИЕ ФОТО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71640" y="2421000"/>
          <a:ext cx="3636360" cy="3665520"/>
        </p:xfrm>
        <a:graphic>
          <a:graphicData uri="http://schemas.openxmlformats.org/drawingml/2006/table">
            <a:tbl>
              <a:tblPr/>
              <a:tblGrid>
                <a:gridCol w="3636360"/>
              </a:tblGrid>
              <a:tr h="366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ЭФФЕКТ КОМПТОНА -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явление измене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лины волны электромагнитного излучения вследствие рассеивания его электронам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" descr="Картинка 2 из 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708280"/>
            <a:ext cx="4044960" cy="319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4761000" y="2421000"/>
          <a:ext cx="3770280" cy="366552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366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2320" y="913320"/>
            <a:ext cx="77706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ПЕРИОД ФОРМИРОВАНИЯ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АЧАЛО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X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ЕКА  - 40-е ГОДЫ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X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ЕК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Картинка 3 из 15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3500280"/>
            <a:ext cx="3635280" cy="2298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Картинка 11 из 16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3500280"/>
            <a:ext cx="3533760" cy="223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Ботанический сад, Копенгаген, Дания."/>
          <p:cNvPicPr/>
          <p:nvPr/>
        </p:nvPicPr>
        <p:blipFill>
          <a:blip r:embed="rId6"/>
          <a:stretch/>
        </p:blipFill>
        <p:spPr>
          <a:xfrm>
            <a:off x="3059280" y="4172040"/>
            <a:ext cx="3355920" cy="2246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ФАКТЫ, ПОДТВЕРДИВШИЕ СУЩЕСТВОВАНИЕ ФОТО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38080" y="2781360"/>
          <a:ext cx="3770280" cy="216036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ЮМИНИСЦЕНЦИЯ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вечение вещества, происходящее после поглощения им энергии возбуждения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" descr="Картинка 1 из 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2708280"/>
            <a:ext cx="3200400" cy="225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5508720" y="2492280"/>
          <a:ext cx="3384360" cy="30895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30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ФАКТЫ, ПОДТВЕРДИВШИЕ СУЩЕСТВОВАНИЕ ФОТО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476360" y="5373720"/>
          <a:ext cx="7054920" cy="712800"/>
        </p:xfrm>
        <a:graphic>
          <a:graphicData uri="http://schemas.openxmlformats.org/drawingml/2006/table">
            <a:tbl>
              <a:tblPr/>
              <a:tblGrid>
                <a:gridCol w="705492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ИМИЧЕСКОЕ ДЕЙСТВИЕ СВЕТА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" descr="Картинка 1 из 5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2492280"/>
            <a:ext cx="3456000" cy="281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3203640" y="2492280"/>
          <a:ext cx="3456000" cy="273708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273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Фотон обладает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26560" y="2636640"/>
            <a:ext cx="7993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вантовыми и волновыми свойствами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ни не исключают, а дополняют друг друга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В микромире исчезает ограничение между корпускулярными и волновыми свойствами объект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27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КВАНТОВО-ВОЛНОВОЙ ДУАЛИЗМ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184" name="_s52235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347080" y="3187800"/>
              <a:ext cx="745200" cy="207180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87" name="_s52234"/>
            <p:cNvCxnSpPr>
              <a:stCxn id="188" idx="0"/>
              <a:endCxn id="186" idx="2"/>
            </p:cNvCxnSpPr>
            <p:nvPr/>
          </p:nvCxnSpPr>
          <p:spPr>
            <a:xfrm flipH="1" flipV="1" rot="5400000">
              <a:off x="3275640" y="3188160"/>
              <a:ext cx="745200" cy="207108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86" name="_s52230"/>
            <p:cNvSpPr/>
            <p:nvPr/>
          </p:nvSpPr>
          <p:spPr>
            <a:xfrm>
              <a:off x="2908440" y="2362320"/>
              <a:ext cx="3550320" cy="1489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3366"/>
                  </a:solidFill>
                  <a:latin typeface="Arial"/>
                </a:rPr>
                <a:t>СВЕТ </a:t>
              </a:r>
              <a:endParaRPr b="0" lang="en-US" sz="3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_s52231"/>
            <p:cNvSpPr/>
            <p:nvPr/>
          </p:nvSpPr>
          <p:spPr>
            <a:xfrm>
              <a:off x="838080" y="4596120"/>
              <a:ext cx="3550320" cy="1489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ПРИ РАСПРОСТРАНЕНИИ – </a:t>
              </a:r>
              <a:endParaRPr b="0" lang="en-US" sz="19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ВОЛНА</a:t>
              </a:r>
              <a:endParaRPr b="0" lang="en-US" sz="1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_s52232"/>
            <p:cNvSpPr/>
            <p:nvPr/>
          </p:nvSpPr>
          <p:spPr>
            <a:xfrm>
              <a:off x="4980240" y="4596120"/>
              <a:ext cx="3550320" cy="1489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ПРИ ИЗЛУЧЕНИИ И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ПОГЛОЩЕНИИ –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ПОТОК КВАНТОВ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Формулы, объединяющие волновые и квантовые свойства свет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564000" y="2401920"/>
            <a:ext cx="2232000" cy="140328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851280" y="4005360"/>
            <a:ext cx="1728720" cy="135576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851280" y="5589720"/>
            <a:ext cx="1655640" cy="76356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3672000" y="2957400"/>
            <a:ext cx="542880" cy="208080"/>
          </a:xfrm>
          <a:custGeom>
            <a:avLst/>
            <a:gdLst/>
            <a:ahLst/>
            <a:rect l="l" t="t" r="r" b="b"/>
            <a:pathLst>
              <a:path w="1509" h="577">
                <a:moveTo>
                  <a:pt x="10200" y="8255"/>
                </a:moveTo>
                <a:cubicBezTo>
                  <a:pt x="10328" y="8255"/>
                  <a:pt x="10455" y="8254"/>
                  <a:pt x="10577" y="8275"/>
                </a:cubicBezTo>
                <a:cubicBezTo>
                  <a:pt x="10783" y="8310"/>
                  <a:pt x="11078" y="8287"/>
                  <a:pt x="11271" y="8255"/>
                </a:cubicBezTo>
                <a:cubicBezTo>
                  <a:pt x="11328" y="8246"/>
                  <a:pt x="11304" y="8239"/>
                  <a:pt x="11370" y="8235"/>
                </a:cubicBezTo>
                <a:cubicBezTo>
                  <a:pt x="11462" y="8230"/>
                  <a:pt x="11586" y="8227"/>
                  <a:pt x="11648" y="8215"/>
                </a:cubicBezTo>
                <a:cubicBezTo>
                  <a:pt x="11668" y="8215"/>
                  <a:pt x="11675" y="8215"/>
                  <a:pt x="11688" y="8215"/>
                </a:cubicBezTo>
                <a:cubicBezTo>
                  <a:pt x="11638" y="8243"/>
                  <a:pt x="11588" y="8273"/>
                  <a:pt x="11529" y="8295"/>
                </a:cubicBezTo>
                <a:cubicBezTo>
                  <a:pt x="11440" y="8328"/>
                  <a:pt x="11364" y="8366"/>
                  <a:pt x="11271" y="8394"/>
                </a:cubicBezTo>
                <a:cubicBezTo>
                  <a:pt x="11193" y="8418"/>
                  <a:pt x="11108" y="8459"/>
                  <a:pt x="11033" y="8493"/>
                </a:cubicBezTo>
                <a:cubicBezTo>
                  <a:pt x="10950" y="8530"/>
                  <a:pt x="10856" y="8548"/>
                  <a:pt x="10775" y="8592"/>
                </a:cubicBezTo>
                <a:cubicBezTo>
                  <a:pt x="10716" y="8624"/>
                  <a:pt x="10643" y="8674"/>
                  <a:pt x="10577" y="8692"/>
                </a:cubicBezTo>
                <a:cubicBezTo>
                  <a:pt x="10523" y="8706"/>
                  <a:pt x="10470" y="8737"/>
                  <a:pt x="10418" y="8751"/>
                </a:cubicBezTo>
                <a:cubicBezTo>
                  <a:pt x="10368" y="8764"/>
                  <a:pt x="10293" y="8751"/>
                  <a:pt x="10239" y="8751"/>
                </a:cubicBezTo>
                <a:cubicBezTo>
                  <a:pt x="10284" y="8751"/>
                  <a:pt x="10277" y="8777"/>
                  <a:pt x="10319" y="8791"/>
                </a:cubicBezTo>
                <a:cubicBezTo>
                  <a:pt x="10684" y="8914"/>
                  <a:pt x="11309" y="8791"/>
                  <a:pt x="11708" y="879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21120" y="4579920"/>
            <a:ext cx="387360" cy="299880"/>
          </a:xfrm>
          <a:custGeom>
            <a:avLst/>
            <a:gdLst/>
            <a:ahLst/>
            <a:rect l="l" t="t" r="r" b="b"/>
            <a:pathLst>
              <a:path w="1073" h="834">
                <a:moveTo>
                  <a:pt x="10914" y="12720"/>
                </a:moveTo>
                <a:cubicBezTo>
                  <a:pt x="10927" y="12758"/>
                  <a:pt x="10921" y="12766"/>
                  <a:pt x="11013" y="12779"/>
                </a:cubicBezTo>
                <a:cubicBezTo>
                  <a:pt x="11316" y="12820"/>
                  <a:pt x="11659" y="12779"/>
                  <a:pt x="11966" y="12779"/>
                </a:cubicBezTo>
                <a:cubicBezTo>
                  <a:pt x="11928" y="12813"/>
                  <a:pt x="11889" y="12851"/>
                  <a:pt x="11847" y="12879"/>
                </a:cubicBezTo>
                <a:cubicBezTo>
                  <a:pt x="11803" y="12908"/>
                  <a:pt x="11724" y="13004"/>
                  <a:pt x="11688" y="13018"/>
                </a:cubicBezTo>
                <a:cubicBezTo>
                  <a:pt x="11628" y="13041"/>
                  <a:pt x="11591" y="13054"/>
                  <a:pt x="11529" y="13097"/>
                </a:cubicBezTo>
                <a:cubicBezTo>
                  <a:pt x="11506" y="13113"/>
                  <a:pt x="11473" y="13123"/>
                  <a:pt x="11430" y="13137"/>
                </a:cubicBezTo>
                <a:cubicBezTo>
                  <a:pt x="11396" y="13148"/>
                  <a:pt x="11367" y="13170"/>
                  <a:pt x="11331" y="13176"/>
                </a:cubicBezTo>
                <a:cubicBezTo>
                  <a:pt x="11279" y="13185"/>
                  <a:pt x="11284" y="13190"/>
                  <a:pt x="11251" y="13196"/>
                </a:cubicBezTo>
                <a:cubicBezTo>
                  <a:pt x="11220" y="13202"/>
                  <a:pt x="11201" y="13211"/>
                  <a:pt x="11172" y="13216"/>
                </a:cubicBezTo>
                <a:cubicBezTo>
                  <a:pt x="11133" y="13223"/>
                  <a:pt x="11085" y="13231"/>
                  <a:pt x="11053" y="13236"/>
                </a:cubicBezTo>
                <a:cubicBezTo>
                  <a:pt x="11033" y="13236"/>
                  <a:pt x="11026" y="13236"/>
                  <a:pt x="11013" y="13236"/>
                </a:cubicBezTo>
                <a:cubicBezTo>
                  <a:pt x="11291" y="13236"/>
                  <a:pt x="11569" y="13236"/>
                  <a:pt x="11847" y="13236"/>
                </a:cubicBezTo>
                <a:cubicBezTo>
                  <a:pt x="11807" y="13254"/>
                  <a:pt x="11747" y="13267"/>
                  <a:pt x="11708" y="13295"/>
                </a:cubicBezTo>
                <a:cubicBezTo>
                  <a:pt x="11681" y="13315"/>
                  <a:pt x="11631" y="13354"/>
                  <a:pt x="11589" y="13375"/>
                </a:cubicBezTo>
                <a:cubicBezTo>
                  <a:pt x="11527" y="13406"/>
                  <a:pt x="11471" y="13442"/>
                  <a:pt x="11410" y="13474"/>
                </a:cubicBezTo>
                <a:cubicBezTo>
                  <a:pt x="11382" y="13489"/>
                  <a:pt x="11340" y="13508"/>
                  <a:pt x="11311" y="13514"/>
                </a:cubicBezTo>
                <a:cubicBezTo>
                  <a:pt x="11271" y="13522"/>
                  <a:pt x="11233" y="13531"/>
                  <a:pt x="11192" y="13533"/>
                </a:cubicBezTo>
                <a:cubicBezTo>
                  <a:pt x="11139" y="13536"/>
                  <a:pt x="11086" y="13533"/>
                  <a:pt x="11033" y="13533"/>
                </a:cubicBezTo>
                <a:cubicBezTo>
                  <a:pt x="11060" y="13533"/>
                  <a:pt x="11047" y="13527"/>
                  <a:pt x="11073" y="13533"/>
                </a:cubicBezTo>
                <a:cubicBezTo>
                  <a:pt x="11149" y="13551"/>
                  <a:pt x="11212" y="13553"/>
                  <a:pt x="11291" y="13553"/>
                </a:cubicBezTo>
                <a:cubicBezTo>
                  <a:pt x="11503" y="13553"/>
                  <a:pt x="11714" y="13553"/>
                  <a:pt x="11926" y="13553"/>
                </a:cubicBezTo>
                <a:cubicBezTo>
                  <a:pt x="11926" y="13487"/>
                  <a:pt x="11926" y="13421"/>
                  <a:pt x="11926" y="13355"/>
                </a:cubicBezTo>
                <a:cubicBezTo>
                  <a:pt x="11615" y="13355"/>
                  <a:pt x="10722" y="13355"/>
                  <a:pt x="11033" y="13355"/>
                </a:cubicBezTo>
                <a:cubicBezTo>
                  <a:pt x="11079" y="13355"/>
                  <a:pt x="11094" y="13329"/>
                  <a:pt x="11132" y="13315"/>
                </a:cubicBezTo>
                <a:cubicBezTo>
                  <a:pt x="11139" y="13315"/>
                  <a:pt x="11145" y="13315"/>
                  <a:pt x="11152" y="13315"/>
                </a:cubicBezTo>
                <a:cubicBezTo>
                  <a:pt x="11119" y="13282"/>
                  <a:pt x="11101" y="13265"/>
                  <a:pt x="11073" y="13256"/>
                </a:cubicBezTo>
                <a:cubicBezTo>
                  <a:pt x="11040" y="13246"/>
                  <a:pt x="10988" y="13256"/>
                  <a:pt x="10954" y="1325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00600" y="5850000"/>
            <a:ext cx="457200" cy="230040"/>
          </a:xfrm>
          <a:custGeom>
            <a:avLst/>
            <a:gdLst/>
            <a:ahLst/>
            <a:rect l="l" t="t" r="r" b="b"/>
            <a:pathLst>
              <a:path w="1271" h="636">
                <a:moveTo>
                  <a:pt x="10894" y="16252"/>
                </a:moveTo>
                <a:cubicBezTo>
                  <a:pt x="10885" y="16252"/>
                  <a:pt x="10801" y="16252"/>
                  <a:pt x="10855" y="16252"/>
                </a:cubicBezTo>
                <a:cubicBezTo>
                  <a:pt x="11225" y="16252"/>
                  <a:pt x="11596" y="16252"/>
                  <a:pt x="11966" y="16252"/>
                </a:cubicBezTo>
                <a:cubicBezTo>
                  <a:pt x="11890" y="16271"/>
                  <a:pt x="11825" y="16279"/>
                  <a:pt x="11748" y="16312"/>
                </a:cubicBezTo>
                <a:cubicBezTo>
                  <a:pt x="11596" y="16378"/>
                  <a:pt x="11436" y="16451"/>
                  <a:pt x="11291" y="16530"/>
                </a:cubicBezTo>
                <a:cubicBezTo>
                  <a:pt x="11232" y="16562"/>
                  <a:pt x="11154" y="16610"/>
                  <a:pt x="11093" y="16629"/>
                </a:cubicBezTo>
                <a:cubicBezTo>
                  <a:pt x="11075" y="16634"/>
                  <a:pt x="11026" y="16647"/>
                  <a:pt x="11013" y="16649"/>
                </a:cubicBezTo>
                <a:cubicBezTo>
                  <a:pt x="10965" y="16657"/>
                  <a:pt x="10924" y="16664"/>
                  <a:pt x="10874" y="16669"/>
                </a:cubicBezTo>
                <a:cubicBezTo>
                  <a:pt x="10855" y="16669"/>
                  <a:pt x="10849" y="16669"/>
                  <a:pt x="10874" y="16669"/>
                </a:cubicBezTo>
                <a:cubicBezTo>
                  <a:pt x="11284" y="16669"/>
                  <a:pt x="11695" y="16669"/>
                  <a:pt x="12105" y="16669"/>
                </a:cubicBezTo>
                <a:cubicBezTo>
                  <a:pt x="12098" y="16672"/>
                  <a:pt x="12031" y="16704"/>
                  <a:pt x="12005" y="16708"/>
                </a:cubicBezTo>
                <a:cubicBezTo>
                  <a:pt x="11947" y="16716"/>
                  <a:pt x="11901" y="16697"/>
                  <a:pt x="11847" y="16728"/>
                </a:cubicBezTo>
                <a:cubicBezTo>
                  <a:pt x="11764" y="16775"/>
                  <a:pt x="11680" y="16772"/>
                  <a:pt x="11589" y="16808"/>
                </a:cubicBezTo>
                <a:cubicBezTo>
                  <a:pt x="11537" y="16828"/>
                  <a:pt x="11486" y="16844"/>
                  <a:pt x="11430" y="16847"/>
                </a:cubicBezTo>
                <a:cubicBezTo>
                  <a:pt x="11240" y="16857"/>
                  <a:pt x="11046" y="16847"/>
                  <a:pt x="10855" y="16847"/>
                </a:cubicBezTo>
                <a:cubicBezTo>
                  <a:pt x="10949" y="16879"/>
                  <a:pt x="11005" y="16887"/>
                  <a:pt x="11112" y="16887"/>
                </a:cubicBezTo>
                <a:cubicBezTo>
                  <a:pt x="11410" y="16887"/>
                  <a:pt x="11707" y="16887"/>
                  <a:pt x="12005" y="16887"/>
                </a:cubicBezTo>
                <a:cubicBezTo>
                  <a:pt x="11975" y="16862"/>
                  <a:pt x="11972" y="16876"/>
                  <a:pt x="11966" y="16828"/>
                </a:cubicBezTo>
                <a:cubicBezTo>
                  <a:pt x="11960" y="16779"/>
                  <a:pt x="11995" y="16753"/>
                  <a:pt x="12005" y="16708"/>
                </a:cubicBezTo>
                <a:cubicBezTo>
                  <a:pt x="12013" y="16670"/>
                  <a:pt x="12034" y="16662"/>
                  <a:pt x="12045" y="16629"/>
                </a:cubicBezTo>
                <a:cubicBezTo>
                  <a:pt x="12057" y="16595"/>
                  <a:pt x="12048" y="16533"/>
                  <a:pt x="12025" y="16510"/>
                </a:cubicBezTo>
                <a:cubicBezTo>
                  <a:pt x="12002" y="16487"/>
                  <a:pt x="11991" y="16468"/>
                  <a:pt x="11966" y="16450"/>
                </a:cubicBezTo>
                <a:cubicBezTo>
                  <a:pt x="11959" y="16450"/>
                  <a:pt x="11953" y="16450"/>
                  <a:pt x="11946" y="1645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1700280"/>
            <a:ext cx="1152360" cy="122400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867280" y="1341360"/>
            <a:ext cx="1657440" cy="158292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ФИЛОСОФСКОЕ ЗНАЧЕНИЕ ТЕОРИИ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8728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КОН ЕДИНСТВА И БОРЬБЫ ПРОТИВОПОЛОЖНОСТ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ДИНСТВО ПРЕРЫВНОСТИ И НЕПРЕРЫВ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99280" y="1197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Гипотеза де Бройля</a:t>
            </a:r>
            <a:br>
              <a:rPr sz="4000"/>
            </a:b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2692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е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 другие частицы обладают и волновыми свойства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484360" y="3933720"/>
            <a:ext cx="1366920" cy="111780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4067280" y="422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 формула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де Брой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Это интересно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0000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Энергия фотонов зависит от длины волны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тоны видимого излучения не могут проникать внутрь организма ,а поглощаются в наружном покрове кож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тоны ультрафиолетового излучения задерживаются пигментным слоем кожи, что приводит к загар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тоны рентгеновского и </a:t>
            </a:r>
            <a:r>
              <a:rPr b="0" lang="el-GR" sz="2000" spc="-1" strike="noStrike">
                <a:solidFill>
                  <a:srgbClr val="003366"/>
                </a:solidFill>
                <a:latin typeface=""/>
              </a:rPr>
              <a:t>γ</a:t>
            </a:r>
            <a:r>
              <a:rPr b="0" lang="ru-RU" sz="2000" spc="-1" strike="noStrike">
                <a:solidFill>
                  <a:srgbClr val="003366"/>
                </a:solidFill>
                <a:latin typeface=""/>
              </a:rPr>
              <a:t>-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лучения попадают в организм. Могут вызвать мут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ПРАКТИЧЕСКОЕ ЗНАЧЕНИ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450800" y="2852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ОЛНЕЧНЫЕ БАТАРЕ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ФОТОЭЛЕМЕН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ФОТОГРАФ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АЗЕ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АМПЫ ДНЕВНЕГО СВЕ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МИНОФОРЫ (светящиеся веществ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оправе кружевной Вселенной жемчуга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знанья в ней затейливы узлами.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ворцы идей, как млечная дуга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лмазной россыпью довлеют над умами .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х Млечный путь к рассветному лучу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ерцает в грёзах лунного сиянья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Я в думах их, их крыльями лечу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 мечтой Икара, в тайны Мироздань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1698480" cy="1722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ОСНОВОПОЛОЖНИКИ КВАНТОВОЙ ТЕОРИ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5320" cy="3724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Томсон Джозеф Джон"/>
          <p:cNvPicPr/>
          <p:nvPr/>
        </p:nvPicPr>
        <p:blipFill>
          <a:blip r:embed="rId2"/>
          <a:stretch/>
        </p:blipFill>
        <p:spPr>
          <a:xfrm>
            <a:off x="1403280" y="2421000"/>
            <a:ext cx="289404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5076720" y="3357720"/>
          <a:ext cx="2984760" cy="1736640"/>
        </p:xfrm>
        <a:graphic>
          <a:graphicData uri="http://schemas.openxmlformats.org/drawingml/2006/table">
            <a:tbl>
              <a:tblPr/>
              <a:tblGrid>
                <a:gridCol w="298476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КС ПЛАН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858 - 1947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ОСНОВОПОЛОЖНИКИ КВАНТОВОЙ ТЕОРИ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5320" cy="372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Картинка 4 из 9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2421000"/>
            <a:ext cx="29239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859280" y="3716280"/>
          <a:ext cx="3774960" cy="1542960"/>
        </p:xfrm>
        <a:graphic>
          <a:graphicData uri="http://schemas.openxmlformats.org/drawingml/2006/table">
            <a:tbl>
              <a:tblPr/>
              <a:tblGrid>
                <a:gridCol w="377496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ЛЬБЕРТ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ЙНШТЕЙН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879 – 1955)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ОСНОВОПОЛОЖНИКИ КВАНТОВОЙ ТЕОРИ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5320" cy="3724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3 из 2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2637000"/>
            <a:ext cx="2638440" cy="35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4859280" y="3500280"/>
          <a:ext cx="3774960" cy="1016280"/>
        </p:xfrm>
        <a:graphic>
          <a:graphicData uri="http://schemas.openxmlformats.org/drawingml/2006/table">
            <a:tbl>
              <a:tblPr/>
              <a:tblGrid>
                <a:gridCol w="377496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ИЛЬС БОР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885 – 1962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ПРЕДМЕТ КВАНТОВОЙ ФИЗИКИ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867280" y="3457440"/>
          <a:ext cx="2662200" cy="26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3457440"/>
                    <a:ext cx="266220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258920" y="3357720"/>
          <a:ext cx="3770280" cy="271908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ЛЕКТРОМАГНИТНО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ЛУЧЕНИЕ  — распространяющееся в пространстве возмущение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4"/>
                        </a:rPr>
                        <a:t>электрических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 и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5"/>
                        </a:rPr>
                        <a:t>магнитных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 полей.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Картинка 4 из 2435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96000" y="2492280"/>
            <a:ext cx="2676600" cy="381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ОСНОВНОЕ ПОНЯТИЕ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2923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ОРПУСКУЛА (Ньютон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ВАНТ (Планк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ТОН (Льюис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92360" y="4653000"/>
            <a:ext cx="2016360" cy="1982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Волна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280" y="2636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распространение колебаний в пространстве с течением времен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Волны и частицы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26920" y="2852280"/>
            <a:ext cx="3770640" cy="302436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прерывны в пространств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Размазаны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даются амплитудой, фазой, частотой, периодом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6360" y="2852280"/>
            <a:ext cx="3770280" cy="302436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окаль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дели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даются координатой, скоростью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06000" y="6237360"/>
            <a:ext cx="3755880" cy="45972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энергия, импульс, масс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55640" y="1773360"/>
            <a:ext cx="647640" cy="108108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1773360"/>
            <a:ext cx="649080" cy="100800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11640" y="587700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587700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4:03:37Z</dcterms:created>
  <dc:creator>Home</dc:creator>
  <dc:description/>
  <dc:language>en-US</dc:language>
  <cp:lastModifiedBy>Vera</cp:lastModifiedBy>
  <dcterms:modified xsi:type="dcterms:W3CDTF">2016-04-10T10:21:14Z</dcterms:modified>
  <cp:revision>52</cp:revision>
  <dc:subject/>
  <dc:title>Слайд 1</dc:title>
</cp:coreProperties>
</file>