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8078-05A9-4FFA-94B8-53990A15D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CE0B-AE31-412D-B48D-8DD849E1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B627-E2AD-4FBF-A173-8473009DB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6DFF-9FAD-4015-B8C1-F5B647157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680CC-C2B4-4124-BDC0-4C64D0CED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1AA7-436C-4BB2-A6AB-C95AC7C8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3AF9-364F-47D9-A56B-39CFB34F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FBB8-F308-4211-A2DB-D510F975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8822-DED3-40D3-BE85-42CBBCA6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BEAE-B106-4547-9C8B-F3F2B571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F7BA-6090-4C36-AF60-56D1E081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8420-D9AF-4C42-A456-C83766AD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8D2E-5CDC-4412-8300-1A02F021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E40F-778B-4080-B1B2-F78904AD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55F8-30EB-49EE-B5CE-D06DD10F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1655-E3BC-4042-AEC5-9723351A4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89AC-3A39-482C-843F-D793EC12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4113-E226-4E75-9CDD-68619248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04FF-BB71-4A25-8C88-C0DEA482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7DE5-7686-4A8F-89BA-9BA984BC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2274-FA78-4973-8B21-CD704620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EAAC-7656-4B1C-B159-1FE9AFCC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2CFB-4B92-47D9-B02F-8641E934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6BEF-B6D8-489D-8417-6B9F5DAD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118E-F7C5-47B8-88D7-CF7C3FC22FE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3945-EEC7-4412-9F86-EF4AFB884B6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 Black"/>
              </a:rPr>
              <a:t>Пожарно-Спасательный Колледж. </a:t>
            </a:r>
            <a:br>
              <a:rPr sz="2800"/>
            </a:br>
            <a:r>
              <a:rPr b="1" lang="en-US" sz="2800" spc="-1" strike="noStrike">
                <a:solidFill>
                  <a:srgbClr val="330066"/>
                </a:solidFill>
                <a:latin typeface="Arial Black"/>
              </a:rPr>
              <a:t>Курс Английский язык Пожарно-тактической профиля. </a:t>
            </a:r>
            <a:br>
              <a:rPr sz="28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ing with radio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ing on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Вводная лексика и фразе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Тематический словарный запас и фразеология -1 заняти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218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requenc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аст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 Use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же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use the frequency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– использовать часто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cupi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equency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нятая часто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occupi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вободная част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же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use Unoccupied frequency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– использовать свободную часто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 для выхода в эфир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his frequency Unoccupi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прос о присутствии в эфире других участ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гол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ju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траива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оман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just the frequenc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-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стройте часто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ption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ём, звуч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olume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 громе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оман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just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olum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-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стройте громе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Другие примеры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Глагол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Команда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 “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</a:rPr>
              <a:t>Check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Reception” –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Проверьте качество прием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лагол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 Cou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счита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unt dow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обратный отсчет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манда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Do the count down”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выполните проверку зву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Глагол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 Request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запрашива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ermission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Разрешение, соглас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ример: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ermission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запрашиват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разрешение, соглас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Фразеология и практику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манда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ermission to use frequency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запросить согласия на использование частот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ermission to occupy the frequency, Permission to occupy the frequency?” –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Запрос в прямом эфире разрешения на занятие (использование) частот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ложительный ответ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Granted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ороткая форма (не для эфир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ermission to occupy frequency granted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ermission granted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-дано или получено согласие на использование частот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Ответы отрицательные и положительные.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ositiv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Официальный Положительный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sitive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ermission to occupy frequency granted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Negativ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официальный отрицательный отв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Глагол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 Deny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отказывать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Deni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Отрицательный ответ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ermission to occupy frequency denied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или более официальная форма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отве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egative, permission to occupy frequency deni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ругие действия по настройке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On Ai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лагол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 Shif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смени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 shift frequenc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сменить частоту (перейти на другую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Прим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: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ermission to shift frequency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»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Разрешите сменить частот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Обращение из диалог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ermission to shift into unoccupied frequency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Разрешите перейти на свободную частоту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Ответ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ermission granted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1:26:58Z</dcterms:created>
  <dc:creator>Kalinka</dc:creator>
  <dc:description/>
  <dc:language>en-US</dc:language>
  <cp:lastModifiedBy>Kalinka</cp:lastModifiedBy>
  <dcterms:modified xsi:type="dcterms:W3CDTF">2011-09-09T12:58:30Z</dcterms:modified>
  <cp:revision>9</cp:revision>
  <dc:subject/>
  <dc:title>Пожарно-Спасательный Колледж. Курс Английский язык Пожарно-тактической профиля.  </dc:title>
</cp:coreProperties>
</file>