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B78-DA2B-4E9D-96E7-C510F2A4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A71-A7ED-4270-BB0E-7049E4EE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9E8-5854-454B-A9C5-E82580F1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444-9808-4CF0-B8B9-55DCD2EF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2529-187B-428D-B647-BB6D13DF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D953-AF10-4115-950C-060BC3C7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BB25-7E55-4782-B64F-2F1C3AAB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DAAF-2516-490E-9506-735655B7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370E-D3AD-49E2-B884-A7D78A23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693E-7FBB-4E8A-9E81-F188BC85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20E5-3356-4D86-A271-3EB218D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9F5-AD23-4DBF-95A8-96A66D3C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41E0-2149-4252-BD63-68E30E33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CE7D-1682-4D89-82B2-D603B8F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3611-8680-456E-9B30-351F09E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FAD-BEB6-456E-A7C8-934AA2D9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7CB1-FAAA-4A96-A812-39F1AE35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E26-E9EE-4344-9C7D-C7AD6F8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EE7-550D-43D4-A43C-FA908EF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062-9596-4304-AF5A-46C902F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955-931B-49C7-8928-98E377D6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472-EF70-467D-AFAE-720BD9A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106-6D19-41F4-B1A4-16EE023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6B4-C84B-4192-AB28-FE8597C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677B-F322-421A-9CF8-121E7509BC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674-A45A-4B94-990C-9345457016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Пожарно-Спасательный Колледж.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Курс Английский язык Пожарно-тактической профиля. 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with radi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o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водная лексика и фраз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Тематический словарный запас и фразеология -1 занят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eque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s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 the frequ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использовать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p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equenc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нятая част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ccupi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ободная ча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 Unoccupied frequ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использовать свободную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для выхода в эфир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is frequency Unoccup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прос о присутствии в эфире других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аи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the frequenc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те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ption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ём, зву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громе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те громе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ругие примеры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eption” –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Проверьте качество прием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Cou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чит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unt dow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ратный отсч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Do the count down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ыполните проверку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раши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ение, соглас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раши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ение, соглас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разеология и практику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use frequency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просить согласия на использование част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the frequency, Permission to occupy the frequency?” –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прос в прямом эфире разрешения на занятие (использование) част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жительный ответ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Granted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роткая форма (не для эфи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grante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grante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дано или получено согласие на использование част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тветы отрицательные и положительные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si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фициальный Положительный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itive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grante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gativ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фициальный отрицательный 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Den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казывать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ni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рицательный ответ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denie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ли более официальная форма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gative, permission to occupy frequency den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ругие действия по настройке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O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Shi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мен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shift frequ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менить частоту (перейти на другую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им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shift frequenc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ите сменить часто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бращение из диалог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shift into unoccupied frequency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ите перейти на свободную частот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тве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grante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1:26:58Z</dcterms:created>
  <dc:creator>Kalinka</dc:creator>
  <dc:description/>
  <dc:language>en-US</dc:language>
  <cp:lastModifiedBy>Kalinka</cp:lastModifiedBy>
  <dcterms:modified xsi:type="dcterms:W3CDTF">2011-09-09T12:58:30Z</dcterms:modified>
  <cp:revision>9</cp:revision>
  <dc:subject/>
  <dc:title>Пожарно-Спасательный Колледж. Курс Английский язык Пожарно-тактической профиля.  </dc:title>
</cp:coreProperties>
</file>