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89D-2414-4BCD-99C2-53A3A23A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02-8B0F-4E6E-9D10-FA31833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1AA-6017-4A38-8C4C-79290417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7F8-62BE-4C33-9437-04270BA3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3C3-1D86-489E-BA97-93E89F68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F88-FFB8-48B7-A8E6-6543E1B1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FC8-52FB-4ACA-BBA9-F52A496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10F6-2D85-44EC-91F5-D9ED11F7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B76A-F569-4C5F-BC02-2151DC7D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2D24-6E8D-4D63-9188-A737083E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3D08-0C81-49A0-A9FA-29D3E58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A90-D5FB-43A7-BE51-F6475ED8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4D0E-C4C6-4EA5-A5AB-60ADEFF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7EDD-217A-4032-8B4B-B9EC91E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8CEA-5F39-493B-8927-7FE42489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FFA1-5635-41CD-B2DD-3246DCFB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4B95-E784-4A45-AF87-4C9DB9F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2AD-5BA1-4CAB-B248-548D76A2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88A-EC06-49EF-8CBD-4FF25EEA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E4D-CF7E-4C60-A7C0-A73379B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254-2D58-488E-9AD3-63955F83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6DA-ABD7-4805-8239-DCB4F93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19B-3E23-4D20-ABA1-AFB93BE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7A1-89E8-4ACA-A11F-4584841C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B5B9-3469-4DF5-B4D6-4DCDD378DE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B0C-23E2-411E-97B8-9CCBBBE9D8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980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Импульс тела. Закон сохранения импульса.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91" name="" descr="Урок физики в 10 классе Тема: &quot;Закон сохранения импульса или &quot;Что могло спасти Титаник. Тип урока"/>
          <p:cNvPicPr/>
          <p:nvPr/>
        </p:nvPicPr>
        <p:blipFill>
          <a:blip r:embed="rId1"/>
          <a:srcRect l="0" t="0" r="0" b="18078"/>
          <a:stretch/>
        </p:blipFill>
        <p:spPr>
          <a:xfrm>
            <a:off x="2700360" y="3716280"/>
            <a:ext cx="41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Arial"/>
              </a:rPr>
              <a:t>ЗАКОН СОХРАНЕНИЯ ИМПУЛЬСА</a:t>
            </a:r>
            <a:br>
              <a:rPr sz="3200"/>
            </a:b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если сумма внешних сил равна нулю, то импульс системы тел сохраня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Урок физики в 10 классе Тема: &quot;Закон сохранения импульса или &quot;Что могло спасти Титаник. Тип урока"/>
          <p:cNvPicPr/>
          <p:nvPr/>
        </p:nvPicPr>
        <p:blipFill>
          <a:blip r:embed="rId1"/>
          <a:srcRect l="0" t="0" r="0" b="18549"/>
          <a:stretch/>
        </p:blipFill>
        <p:spPr>
          <a:xfrm>
            <a:off x="1835280" y="3645000"/>
            <a:ext cx="5616360" cy="303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59697" t="82799" r="9475" b="4933"/>
          <a:stretch/>
        </p:blipFill>
        <p:spPr>
          <a:xfrm>
            <a:off x="2700360" y="2521080"/>
            <a:ext cx="381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5. Условия применения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2240" y="2492280"/>
            <a:ext cx="832176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&lt; 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утрен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ие силы компенсируют друг д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заимодействия мало (взрыв, выстре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3600" y="404640"/>
            <a:ext cx="8150400" cy="98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2708280"/>
            <a:ext cx="9144000" cy="3457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64000" y="3068640"/>
            <a:ext cx="5580000" cy="309708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838836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275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08360" y="2997360"/>
            <a:ext cx="5435640" cy="309708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0433" r="0" b="0"/>
          <a:stretch/>
        </p:blipFill>
        <p:spPr>
          <a:xfrm>
            <a:off x="0" y="342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8459640" cy="95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2360" y="3500280"/>
            <a:ext cx="5651640" cy="30974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1400" y="115920"/>
            <a:ext cx="8202600" cy="2004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>
            <a:grayscl/>
            <a:lum contrast="30000"/>
          </a:blip>
          <a:srcRect l="3997" t="6093" r="0" b="23298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24000" y="2349360"/>
            <a:ext cx="7020000" cy="45086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Задача №1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430200" y="3141720"/>
            <a:ext cx="8713800" cy="1952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3141720"/>
            <a:ext cx="863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1. Причины введения импульса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68360" y="1844640"/>
          <a:ext cx="48974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844640"/>
                    <a:ext cx="48974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79640" y="37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Сло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1844640"/>
            <a:ext cx="935280" cy="100800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2924280"/>
            <a:ext cx="287280" cy="792000"/>
          </a:xfrm>
          <a:prstGeom prst="upArrow">
            <a:avLst>
              <a:gd name="adj1" fmla="val 50000"/>
              <a:gd name="adj2" fmla="val 689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2. Импульс тела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grayscl/>
            <a:lum contrast="54000"/>
          </a:blip>
          <a:srcRect l="0" t="8646" r="56233" b="0"/>
          <a:stretch/>
        </p:blipFill>
        <p:spPr>
          <a:xfrm>
            <a:off x="826920" y="2852640"/>
            <a:ext cx="3672000" cy="347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3068640"/>
            <a:ext cx="1008000" cy="433440"/>
          </a:xfrm>
          <a:prstGeom prst="rect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170028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олчок», «количеств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7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645000"/>
            <a:ext cx="4032360" cy="119124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Импуль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величина, равная произведению массы тела на его скор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3. Импульс силы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63640" y="1989000"/>
          <a:ext cx="243540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89000"/>
                    <a:ext cx="243540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64000" y="2349360"/>
          <a:ext cx="216072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216072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64000" y="2349360"/>
            <a:ext cx="2305080" cy="100836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292640"/>
            <a:ext cx="3887640" cy="82548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Си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быстрота изменения импу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1557360"/>
            <a:ext cx="1584360" cy="1224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60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менение импульса точки = импульсу силы, действующей на н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Основные законы 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95640" y="2565360"/>
          <a:ext cx="324000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565360"/>
                    <a:ext cx="32400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3. Замкнутая система тел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234936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- система тел, для которых равнодействующая внешних сил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система 2-х или нескольких тел, которые взаимодействуют только между со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7738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Arial"/>
              </a:rPr>
              <a:t>4. ЗАКОН СОХРАНЕНИЯ ИМПУЛЬСА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59280" cy="289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600360" cy="81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4356000" cy="151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08000" y="4076640"/>
            <a:ext cx="590544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4321440" cy="87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50920" y="5805360"/>
            <a:ext cx="69134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внешние силы на систему не действуют или их сумма равна нулю, то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 0 и импульс системы остается неизменным (сохраняетс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77043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9:59:12Z</dcterms:created>
  <dc:creator>Vera</dc:creator>
  <dc:description/>
  <dc:language>en-US</dc:language>
  <cp:lastModifiedBy>Vera</cp:lastModifiedBy>
  <dcterms:modified xsi:type="dcterms:W3CDTF">2016-11-14T20:36:59Z</dcterms:modified>
  <cp:revision>41</cp:revision>
  <dc:subject/>
  <dc:title>Импульс тела. Закон сохранения импульса.</dc:title>
</cp:coreProperties>
</file>