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C2B5-2882-46D2-BF2C-7C92CA76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4C24-D460-45AB-8EA5-EE9ED049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D68-19BA-436E-BA3B-B7331CE2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F37-2686-464A-B386-A5C756504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B591-D319-4BC1-A54E-843A8E76B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64A9-2A61-41B9-B5FA-F621EC2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5EAB-A5C3-45E4-84DF-DF350FCF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F462-17F5-438C-802B-C01D4E7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6151-4A8F-4503-8978-D121344E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C2590-AA39-45BF-9B13-9690DC1C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A30C-4961-42A5-9986-35466F93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E4A-A872-429C-ACDB-5398504C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A1AA-D455-4D81-8BCD-045E2179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3F5D-269C-418D-8581-A7427185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9AB0-E08A-4CCF-AB9A-A1D15D1D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33DA-18AF-498C-81BB-2CF811BCF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4FBC-9ADE-4804-BC0C-EE8E0695D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70B-F976-40CB-89C5-FA4833FA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5224-92EF-445C-8C15-A422362C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9FB-E036-4262-8B4C-A84C7F89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F0F-E621-49BC-8F7C-B21380FB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AB0-BD8C-407C-AB2E-7BB8B0D6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636-3AFD-4CC2-8AAC-908A9DB9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82C3-F941-48FD-B04C-4F8143B0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cc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c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A455-6BFC-4071-ACAB-D25BBEAD5C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cc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24B0-FBF0-4EB7-A694-54C0840256B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cc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ff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cc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32000" y="980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cc"/>
                </a:solidFill>
                <a:latin typeface="Arial"/>
              </a:rPr>
              <a:t>Импульс тела. Закон сохранения импульса.</a:t>
            </a:r>
            <a:endParaRPr b="0" lang="en-US" sz="40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91" name="" descr="Урок физики в 10 классе Тема: &quot;Закон сохранения импульса или &quot;Что могло спасти Титаник. Тип урока"/>
          <p:cNvPicPr/>
          <p:nvPr/>
        </p:nvPicPr>
        <p:blipFill>
          <a:blip r:embed="rId1"/>
          <a:srcRect l="0" t="0" r="0" b="18078"/>
          <a:stretch/>
        </p:blipFill>
        <p:spPr>
          <a:xfrm>
            <a:off x="2700360" y="3716280"/>
            <a:ext cx="4105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Arial"/>
              </a:rPr>
              <a:t>ЗАКОН СОХРАНЕНИЯ ИМПУЛЬСА</a:t>
            </a:r>
            <a:br>
              <a:rPr sz="3200"/>
            </a:b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если сумма внешних сил равна нулю, то импульс системы тел сохраня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Урок физики в 10 классе Тема: &quot;Закон сохранения импульса или &quot;Что могло спасти Титаник. Тип урока"/>
          <p:cNvPicPr/>
          <p:nvPr/>
        </p:nvPicPr>
        <p:blipFill>
          <a:blip r:embed="rId1"/>
          <a:srcRect l="0" t="0" r="0" b="18549"/>
          <a:stretch/>
        </p:blipFill>
        <p:spPr>
          <a:xfrm>
            <a:off x="1835280" y="3645000"/>
            <a:ext cx="5616360" cy="3038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rcRect l="59697" t="82799" r="9475" b="4933"/>
          <a:stretch/>
        </p:blipFill>
        <p:spPr>
          <a:xfrm>
            <a:off x="2700360" y="2521080"/>
            <a:ext cx="38163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5. Условия применения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2240" y="2492280"/>
            <a:ext cx="832176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еш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&lt;&lt; F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нутренни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ешние силы компенсируют друг друг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заимодействия мало (взрыв, выстре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3600" y="404640"/>
            <a:ext cx="8150400" cy="981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0" y="2708280"/>
            <a:ext cx="9144000" cy="3457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564000" y="3068640"/>
            <a:ext cx="5580000" cy="309708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8388360" cy="1006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9144000" cy="275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708360" y="2997360"/>
            <a:ext cx="5435640" cy="309708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10433" r="0" b="0"/>
          <a:stretch/>
        </p:blipFill>
        <p:spPr>
          <a:xfrm>
            <a:off x="0" y="3429000"/>
            <a:ext cx="9144000" cy="3095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4360" y="404640"/>
            <a:ext cx="8459640" cy="9590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492360" y="3500280"/>
            <a:ext cx="5651640" cy="30974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41400" y="115920"/>
            <a:ext cx="8202600" cy="20048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>
            <a:grayscl/>
            <a:lum contrast="30000"/>
          </a:blip>
          <a:srcRect l="3997" t="6093" r="0" b="23298"/>
          <a:stretch/>
        </p:blipFill>
        <p:spPr>
          <a:xfrm>
            <a:off x="0" y="2276640"/>
            <a:ext cx="9144000" cy="458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24000" y="2349360"/>
            <a:ext cx="7020000" cy="450864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Задача №1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430200" y="3141720"/>
            <a:ext cx="8713800" cy="1952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68360" y="3141720"/>
            <a:ext cx="863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1. Причины введения импульса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68360" y="1844640"/>
          <a:ext cx="48974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844640"/>
                    <a:ext cx="48974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979640" y="37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Сложно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24000" y="1844640"/>
            <a:ext cx="935280" cy="1008000"/>
          </a:xfrm>
          <a:prstGeom prst="ellipse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4360" y="2924280"/>
            <a:ext cx="287280" cy="792000"/>
          </a:xfrm>
          <a:prstGeom prst="upArrow">
            <a:avLst>
              <a:gd name="adj1" fmla="val 50000"/>
              <a:gd name="adj2" fmla="val 6892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2. Импульс тела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>
            <a:grayscl/>
            <a:lum contrast="54000"/>
          </a:blip>
          <a:srcRect l="0" t="8646" r="56233" b="0"/>
          <a:stretch/>
        </p:blipFill>
        <p:spPr>
          <a:xfrm>
            <a:off x="826920" y="2852640"/>
            <a:ext cx="3672000" cy="3476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042920" y="3068640"/>
            <a:ext cx="1008000" cy="433440"/>
          </a:xfrm>
          <a:prstGeom prst="rect">
            <a:avLst/>
          </a:prstGeom>
          <a:noFill/>
          <a:ln w="284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1700280"/>
            <a:ext cx="561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олчок», «количество движени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7 в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3645000"/>
            <a:ext cx="4032360" cy="119124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Импуль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- величина, равная произведению массы тела на его скор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3. Импульс силы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763640" y="1989000"/>
          <a:ext cx="2435400" cy="43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89000"/>
                    <a:ext cx="2435400" cy="43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5364000" y="2349360"/>
          <a:ext cx="2160720" cy="91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2160720" cy="9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64000" y="2349360"/>
            <a:ext cx="2305080" cy="100836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4292640"/>
            <a:ext cx="3887640" cy="825480"/>
          </a:xfrm>
          <a:prstGeom prst="rect">
            <a:avLst/>
          </a:prstGeom>
          <a:noFill/>
          <a:ln w="381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cc"/>
                </a:solidFill>
                <a:latin typeface="Times New Roman"/>
              </a:rPr>
              <a:t>Си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быстрота изменения импу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08360" y="1557360"/>
            <a:ext cx="1584360" cy="1224000"/>
          </a:xfrm>
          <a:prstGeom prst="line">
            <a:avLst/>
          </a:prstGeom>
          <a:ln w="5724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640" y="2492280"/>
            <a:ext cx="60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Изменение импульса точки = импульсу силы, действующей на нег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Основные законы 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195640" y="2565360"/>
          <a:ext cx="3240000" cy="26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2565360"/>
                    <a:ext cx="32400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cc"/>
                </a:solidFill>
                <a:latin typeface="Arial"/>
              </a:rPr>
              <a:t>3. Замкнутая система тел</a:t>
            </a: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47280" y="2349360"/>
            <a:ext cx="6480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cc"/>
                </a:solidFill>
                <a:latin typeface="Verdana"/>
              </a:rPr>
              <a:t>- система тел, для которых равнодействующая внешних сил =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система 2-х или нескольких тел, которые взаимодействуют только между соб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6000" y="-100440"/>
            <a:ext cx="777384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cc"/>
                </a:solidFill>
                <a:latin typeface="Arial"/>
              </a:rPr>
              <a:t>4. ЗАКОН СОХРАНЕНИЯ ИМПУЛЬСА</a:t>
            </a:r>
            <a:endParaRPr b="0" lang="en-US" sz="32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4859280" cy="2896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859280" y="1125360"/>
            <a:ext cx="3600360" cy="81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788000" y="2133720"/>
            <a:ext cx="4356000" cy="151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08000" y="4076640"/>
            <a:ext cx="5905440" cy="857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4321440" cy="873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250920" y="5805360"/>
            <a:ext cx="69134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внешние силы на систему не действуют или их сумма равна нулю, то 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с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= 0 и импульс системы остается неизменным (сохраняется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770436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6T19:59:12Z</dcterms:created>
  <dc:creator>Vera</dc:creator>
  <dc:description/>
  <dc:language>en-US</dc:language>
  <cp:lastModifiedBy>Vera</cp:lastModifiedBy>
  <dcterms:modified xsi:type="dcterms:W3CDTF">2016-11-14T20:36:59Z</dcterms:modified>
  <cp:revision>41</cp:revision>
  <dc:subject/>
  <dc:title>Импульс тела. Закон сохранения импульса.</dc:title>
</cp:coreProperties>
</file>