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BF7-6B6F-4C6B-BD92-059FF1CB5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C0D-5A75-41BB-87F7-AC8E594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AC0-4A8B-401E-93D1-A766CD74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B562-1E60-42CF-A053-F4BD7BD1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A4D5-E775-4A9E-8057-C6509124E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4696-E84E-4333-A946-304F0549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C6B5F-3044-4863-B91D-5A93BACA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8E3B-1ACF-4237-A2FB-2F5F5824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E3A3-BBB3-4FF0-82ED-65399A63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40F9-0CF6-40C1-BB32-702DB04F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FF46-C3FA-4FC4-9640-4D42B187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B8F-A7E0-454D-8342-BF625FC9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EB32-CD62-4D2F-9D4A-654EFB8C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A3E8-98E0-4ABE-9A38-8EFC5D95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9F10D-BF58-4C45-B028-ECF7B83D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C0E2-AA68-48A7-94EE-28D1DFCE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198F2-CA7D-48DD-BDF2-24BBB306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84DA-319C-465B-B5F7-4D5A641F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94D-37E7-49D5-8348-D764E6A9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E89-C67A-40FA-AC14-B9D0C49D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8B1-94A8-405D-91EA-D1C99044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F215-3A7F-41E0-A998-C5193D10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0C89-BD0A-4DE3-ACF2-060EADFE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348-3A5F-4D07-823E-72895E38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CD7D-A72B-4EDA-A356-036864A7BC1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8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3FEE-4AEC-4012-9436-CDE696983A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3068640"/>
            <a:ext cx="6781680" cy="28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Интересные факты из мира птиц</a:t>
            </a:r>
            <a:br>
              <a:rPr sz="4800"/>
            </a:br>
            <a:r>
              <a:rPr b="1" lang="ru-RU" sz="2000" spc="-1" strike="noStrike">
                <a:solidFill>
                  <a:srgbClr val="330066"/>
                </a:solidFill>
                <a:latin typeface="Arial"/>
              </a:rPr>
              <a:t>подготовила Пяткова Н.И.</a:t>
            </a: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МАОУ СОШ№8 им.Ц.Л.Куникова</a:t>
            </a:r>
            <a:br>
              <a:rPr sz="1600"/>
            </a:b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г.Геленджик 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0" name="Picture 5" descr="1208894441_1"/>
          <p:cNvPicPr/>
          <p:nvPr/>
        </p:nvPicPr>
        <p:blipFill>
          <a:blip r:embed="rId1"/>
          <a:srcRect l="0" t="8950" r="0" b="10285"/>
          <a:stretch/>
        </p:blipFill>
        <p:spPr>
          <a:xfrm>
            <a:off x="1547640" y="333360"/>
            <a:ext cx="482472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амый быстрый бегун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6560" y="907560"/>
            <a:ext cx="6913800" cy="108108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й быстрой нелетающей птицей признан африканский страус, который, несмотря на большую массу, может в случае необходимости развивать скорость до 72 км/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971640" y="2565360"/>
            <a:ext cx="6843600" cy="3311640"/>
            <a:chOff x="971640" y="2565360"/>
            <a:chExt cx="6843600" cy="3311640"/>
          </a:xfrm>
        </p:grpSpPr>
        <p:pic>
          <p:nvPicPr>
            <p:cNvPr id="180" name="Picture 4" descr="страус"/>
            <p:cNvPicPr/>
            <p:nvPr/>
          </p:nvPicPr>
          <p:blipFill>
            <a:blip r:embed="rId1"/>
            <a:stretch/>
          </p:blipFill>
          <p:spPr>
            <a:xfrm>
              <a:off x="971640" y="2565360"/>
              <a:ext cx="2373480" cy="3311640"/>
            </a:xfrm>
            <a:prstGeom prst="rect">
              <a:avLst/>
            </a:prstGeom>
            <a:ln w="57240">
              <a:solidFill>
                <a:srgbClr val="cccc00"/>
              </a:solidFill>
              <a:miter/>
            </a:ln>
          </p:spPr>
        </p:pic>
        <p:pic>
          <p:nvPicPr>
            <p:cNvPr id="181" name="Picture 5" descr="страус1"/>
            <p:cNvPicPr/>
            <p:nvPr/>
          </p:nvPicPr>
          <p:blipFill>
            <a:blip r:embed="rId2"/>
            <a:srcRect l="0" t="0" r="0" b="3870"/>
            <a:stretch/>
          </p:blipFill>
          <p:spPr>
            <a:xfrm>
              <a:off x="3348000" y="2565360"/>
              <a:ext cx="4467240" cy="3309840"/>
            </a:xfrm>
            <a:prstGeom prst="rect">
              <a:avLst/>
            </a:prstGeom>
            <a:ln w="5724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5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Фламинго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00000" y="907560"/>
            <a:ext cx="6840720" cy="122580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самом деле фламинго не розовые. Они становятся такими благодаря тому, что питаются зелеными водорослями, которые становятся розовыми в момент перевари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фламинго"/>
          <p:cNvPicPr/>
          <p:nvPr/>
        </p:nvPicPr>
        <p:blipFill>
          <a:blip r:embed="rId1"/>
          <a:srcRect l="0" t="5936" r="0" b="8944"/>
          <a:stretch/>
        </p:blipFill>
        <p:spPr>
          <a:xfrm>
            <a:off x="900000" y="2637000"/>
            <a:ext cx="6912000" cy="367164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иница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6553080" cy="50328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сутки синица кормит своих птенцов тысячу раз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синица"/>
          <p:cNvPicPr/>
          <p:nvPr/>
        </p:nvPicPr>
        <p:blipFill>
          <a:blip r:embed="rId1"/>
          <a:srcRect l="0" t="20553" r="0" b="0"/>
          <a:stretch/>
        </p:blipFill>
        <p:spPr>
          <a:xfrm>
            <a:off x="971640" y="1989000"/>
            <a:ext cx="6696000" cy="41767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мператорский пингвин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6767640" cy="129564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ператорский пингвин может голодать до 9 недель во время высиживания яйца и выносить холод до - 60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же пингвин является самым глубоким ныряльщиком, 1990 году был зафиксирован случай погружения на глубину в 483 ме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императорский пингвин2"/>
          <p:cNvPicPr/>
          <p:nvPr/>
        </p:nvPicPr>
        <p:blipFill>
          <a:blip r:embed="rId1"/>
          <a:srcRect l="0" t="21866" r="3092" b="0"/>
          <a:stretch/>
        </p:blipFill>
        <p:spPr>
          <a:xfrm>
            <a:off x="900000" y="2708280"/>
            <a:ext cx="6840720" cy="37450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пасибо за внимание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2" name="Picture 5" descr="7963"/>
          <p:cNvPicPr/>
          <p:nvPr/>
        </p:nvPicPr>
        <p:blipFill>
          <a:blip r:embed="rId1"/>
          <a:stretch/>
        </p:blipFill>
        <p:spPr>
          <a:xfrm>
            <a:off x="1547640" y="1700280"/>
            <a:ext cx="57121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ая маленькая птиц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416720" cy="100836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ина колибри пчёлки от кончика клюва до кончика хвоста 5,7 см. Весит эта птичка 1,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ибри - единственная птица, способная летать наз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колибри1"/>
          <p:cNvPicPr/>
          <p:nvPr/>
        </p:nvPicPr>
        <p:blipFill>
          <a:blip r:embed="rId1"/>
          <a:srcRect l="4961" t="24100" r="5358" b="19471"/>
          <a:stretch/>
        </p:blipFill>
        <p:spPr>
          <a:xfrm>
            <a:off x="755640" y="2708280"/>
            <a:ext cx="7416720" cy="35053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122040"/>
            <a:ext cx="7056360" cy="85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ый длинный клюв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200720" cy="100800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534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длинный клюв у колибри мечеклюва, живущего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дах. При средней длине птицы 13—14 см длина клюва 10—12 см. Такой клюв позволяет мечеклюву доставать нектар из цветков с длинным венчиком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колибри мечеклюв"/>
          <p:cNvPicPr/>
          <p:nvPr/>
        </p:nvPicPr>
        <p:blipFill>
          <a:blip r:embed="rId1"/>
          <a:srcRect l="0" t="32853" r="0" b="0"/>
          <a:stretch/>
        </p:blipFill>
        <p:spPr>
          <a:xfrm>
            <a:off x="755640" y="2637000"/>
            <a:ext cx="7201080" cy="35287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Самый быстрый взмах крыльями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058160" cy="122400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стрее всех бьёт крыльями колибри синехвостая амазилия. Она делает 80 взмахов в секунду при спокойном полёте. Но испуганная птица может делать и 200 взмахов крыльями в секунду, что почти столько же, сколько делает пчела.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Колибри"/>
          <p:cNvPicPr/>
          <p:nvPr/>
        </p:nvPicPr>
        <p:blipFill>
          <a:blip r:embed="rId1"/>
          <a:srcRect l="0" t="17257" r="0" b="18433"/>
          <a:stretch/>
        </p:blipFill>
        <p:spPr>
          <a:xfrm>
            <a:off x="826920" y="2924280"/>
            <a:ext cx="7129800" cy="35812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ая быстрая птиц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99640" y="980640"/>
            <a:ext cx="6985080" cy="107964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й быстрой птицей по праву считается сапсан. Когд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бросается с огромной высоты на свою добычу или при защите гнезда, его скорость достигает 200 км/ч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сокол сапсан"/>
          <p:cNvPicPr/>
          <p:nvPr/>
        </p:nvPicPr>
        <p:blipFill>
          <a:blip r:embed="rId1"/>
          <a:srcRect l="0" t="14540" r="0" b="16287"/>
          <a:stretch/>
        </p:blipFill>
        <p:spPr>
          <a:xfrm>
            <a:off x="900000" y="2492280"/>
            <a:ext cx="7128000" cy="374508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Самое острое зрение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42920" y="980640"/>
            <a:ext cx="6553440" cy="79236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е острое зрение у беркута. Он замечает мышь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тояния 1600 м, а кролика — с 3 к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беркут"/>
          <p:cNvPicPr/>
          <p:nvPr/>
        </p:nvPicPr>
        <p:blipFill>
          <a:blip r:embed="rId1"/>
          <a:srcRect l="0" t="22975" r="0" b="0"/>
          <a:stretch/>
        </p:blipFill>
        <p:spPr>
          <a:xfrm>
            <a:off x="1042920" y="2421000"/>
            <a:ext cx="6697800" cy="354816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ая тяжелая птиц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85080" cy="57636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ая тяжелая среди летающих птиц - африканская дрофа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а весит около 19 кил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африканская дрофа1"/>
          <p:cNvPicPr/>
          <p:nvPr/>
        </p:nvPicPr>
        <p:blipFill>
          <a:blip r:embed="rId1"/>
          <a:srcRect l="0" t="15815" r="7093" b="19113"/>
          <a:stretch/>
        </p:blipFill>
        <p:spPr>
          <a:xfrm>
            <a:off x="684360" y="2421000"/>
            <a:ext cx="7199280" cy="367200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12764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Птица-долгожитель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6912000" cy="86364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ьшая продолжительность жизни у королевског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ьбатроса — до 80 лет. Обитает он в Антарктике и у Новой Зеландии.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королевский альбатрос"/>
          <p:cNvPicPr/>
          <p:nvPr/>
        </p:nvPicPr>
        <p:blipFill>
          <a:blip r:embed="rId1"/>
          <a:srcRect l="0" t="9181" r="0" b="17353"/>
          <a:stretch/>
        </p:blipFill>
        <p:spPr>
          <a:xfrm>
            <a:off x="900000" y="2349360"/>
            <a:ext cx="6985080" cy="3775320"/>
          </a:xfrm>
          <a:prstGeom prst="rect">
            <a:avLst/>
          </a:prstGeom>
          <a:ln w="57240">
            <a:solidFill>
              <a:srgbClr val="cc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амая летающая птиц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129440" cy="1224000"/>
          </a:xfrm>
          <a:prstGeom prst="rect">
            <a:avLst/>
          </a:prstGeom>
          <a:solidFill>
            <a:srgbClr val="7e9ce8"/>
          </a:solidFill>
          <a:ln w="57240">
            <a:solidFill>
              <a:srgbClr val="330066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ой летающей птицей является черный стриж. В воздухе он может пребывать от 2 до 4 лет. В воздухе он ест, пьет и спит. Впервые оторвавшись от земли, стриж пролетает около 500000 километров, прежде чем приземли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6"/>
          <p:cNvGrpSpPr/>
          <p:nvPr/>
        </p:nvGrpSpPr>
        <p:grpSpPr>
          <a:xfrm>
            <a:off x="900000" y="2492280"/>
            <a:ext cx="6840360" cy="3744720"/>
            <a:chOff x="900000" y="2492280"/>
            <a:chExt cx="6840360" cy="3744720"/>
          </a:xfrm>
        </p:grpSpPr>
        <p:pic>
          <p:nvPicPr>
            <p:cNvPr id="175" name="Picture 4" descr="черный стриж1"/>
            <p:cNvPicPr/>
            <p:nvPr/>
          </p:nvPicPr>
          <p:blipFill>
            <a:blip r:embed="rId1"/>
            <a:srcRect l="0" t="7023" r="0" b="6519"/>
            <a:stretch/>
          </p:blipFill>
          <p:spPr>
            <a:xfrm>
              <a:off x="900000" y="2492280"/>
              <a:ext cx="5062320" cy="3744720"/>
            </a:xfrm>
            <a:prstGeom prst="rect">
              <a:avLst/>
            </a:prstGeom>
            <a:ln w="57240">
              <a:solidFill>
                <a:srgbClr val="cccc00"/>
              </a:solidFill>
              <a:miter/>
            </a:ln>
          </p:spPr>
        </p:pic>
        <p:pic>
          <p:nvPicPr>
            <p:cNvPr id="176" name="Picture 5" descr="черный стриж1"/>
            <p:cNvPicPr/>
            <p:nvPr/>
          </p:nvPicPr>
          <p:blipFill>
            <a:blip r:embed="rId2"/>
            <a:srcRect l="1340" t="7023" r="54067" b="6519"/>
            <a:stretch/>
          </p:blipFill>
          <p:spPr>
            <a:xfrm>
              <a:off x="5482800" y="2492280"/>
              <a:ext cx="2257560" cy="3744720"/>
            </a:xfrm>
            <a:prstGeom prst="rect">
              <a:avLst/>
            </a:prstGeom>
            <a:ln w="57240">
              <a:solidFill>
                <a:srgbClr val="cccc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7:04:29Z</dcterms:created>
  <dc:creator>Хозяин</dc:creator>
  <dc:description/>
  <dc:language>en-US</dc:language>
  <cp:lastModifiedBy>HP</cp:lastModifiedBy>
  <dcterms:modified xsi:type="dcterms:W3CDTF">2017-01-04T16:00:55Z</dcterms:modified>
  <cp:revision>6</cp:revision>
  <dc:subject/>
  <dc:title>Интересные факты из мира птиц</dc:title>
</cp:coreProperties>
</file>