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09C97-12C7-4838-84AE-DC61434E4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C290-E4E0-43F3-B231-FC6997E7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1F355-7E21-4575-A0AE-093C4F930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F49AE-F16B-46B2-9D08-F7ADFCC5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7969A-DF64-4E2A-98D9-B8382A720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AA356-1720-4AF0-B049-C2452EED0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4FCF0-033C-44C0-B5FA-E39187474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41280-8686-48E0-9417-13E7EFDE3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6075E-CBD4-43B2-BFF9-F9BF66CE8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16A7D-3CB5-4972-A096-50466D91F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B4FCA-35E7-4AD9-B9CF-AAC1611C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576A3-0A45-4E8E-A22C-020E2DCE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A6E64-261A-4F02-9854-493796E46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F8BC3-80A6-4E06-9F69-CF6D5E2E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24288-2BAE-4EF4-9FB3-6E09CE420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8C4B6-6389-467F-898D-A5DD1C36A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E62B2-9881-41CC-9DEF-7F9119333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705E3-C493-4994-A45D-5B6623B8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9FD6-F756-43A8-B73C-61E562AB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9E0B-F0CD-4C9E-92D7-0A387E57A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DCD9C-707C-4211-BC60-2CC6ED276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FC15-82D1-4EAC-A97D-7160B0CE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C5FC-C1E5-4D19-8AE8-ECFA9A83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50EB-12A8-48F6-BDE4-29D6FE51D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13B3-039E-443E-B7B4-B73530D6B06C}"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B67D-1384-4F43-A8BC-389C08DEB70B}"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Arial"/>
              </a:rPr>
              <a:t>Личная гигиена пациента.</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филактика пролежне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стельное и нательное белье пациента.</a:t>
            </a:r>
            <a:endParaRPr b="0" lang="en-US" sz="40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остель больного и его нательное белье должны содержаться в чистоте и опрятности. Смену постельного и нательного белья проводят не реже 1 раза в недел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полостью рта.</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Уход за полостью рта среди правил личной гигиены занимает важное место. При многих тяжелых заболеваниях, в частности, сопровождающихся лихорадкой, происходит значительное ослабление сопротивляемости организма, в результате чего в полости рта могут размножаться микробы, существующие там и в нормальных условиях. Это приводит к развитию различных поражений зубов (пульпита, периодонтита, пародонтоза), десен (гингивита), слизистой оболочки (стоматита), появлению трещин в углах рта и сухости губ.</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Для предупреждения этих явлений больные должны регулярно не реже 2 раз в день чистить зубы и полоскать рот после каждого приема пищи. Тяжелобольным промывают полость рта 0,5 % раствором гидрокарбоната натрия, изотоническим раствором хлорида натрия, слабым раствором перманганата калия.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слизистой глаз.</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жедневная обработка глаз - это удаление физиологических выделений или гнойных корочек из глаз, удаление загрязнений.</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Использование для обработки глаз антисептического раствора.(перманганат калия 1:5000)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Уход за ушами и слизистой носа.</a:t>
            </a:r>
            <a:endParaRPr b="0" lang="en-US" sz="40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Обычный гигиенический уход предусматривает очистку наружных слуховых проходов и совершается индивидуально (от 1 раза в день до 1 раза в неделю). ( ватные тампоны, 3%перекись водород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Гигиенический уход за полостью носа включает очистку носовых ходов от выделений и должен осуществляться 1-2 раза в сутки, при необходимости чаще.</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Скопление выделений в виде слизи и корок может привести к затруднению дыхания через нос, воспалению слизистой оболочки носа и носовых пазух и образованию язвочек.( ватные тампоны, подогретое до 38°С вазелиновое или любое растительное масло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Уход за ушами и носом пациента.</a:t>
            </a:r>
            <a:endParaRPr b="0" lang="en-US" sz="4000" spc="-1" strike="noStrike">
              <a:solidFill>
                <a:srgbClr val="ccecff"/>
              </a:solidFill>
              <a:latin typeface="Arial"/>
            </a:endParaRPr>
          </a:p>
        </p:txBody>
      </p:sp>
      <p:pic>
        <p:nvPicPr>
          <p:cNvPr id="239" name="" descr=""/>
          <p:cNvPicPr/>
          <p:nvPr/>
        </p:nvPicPr>
        <p:blipFill>
          <a:blip r:embed="rId1"/>
          <a:stretch/>
        </p:blipFill>
        <p:spPr>
          <a:xfrm>
            <a:off x="455760" y="1598760"/>
            <a:ext cx="4037040" cy="4497120"/>
          </a:xfrm>
          <a:prstGeom prst="rect">
            <a:avLst/>
          </a:prstGeom>
          <a:ln w="0">
            <a:noFill/>
          </a:ln>
        </p:spPr>
      </p:pic>
      <p:pic>
        <p:nvPicPr>
          <p:cNvPr id="240" name="" descr=""/>
          <p:cNvPicPr/>
          <p:nvPr/>
        </p:nvPicPr>
        <p:blipFill>
          <a:blip r:embed="rId2"/>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волосами.</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Плохой уход за волосами может приводить к их повышенной ломкости, выпадению, образованию на кожных покровах головы жирных или сухих отрубевидных чешуек (перхоти). Жирные волосы рекомендуется мыть 1 раз в неделю, а сухие и нормальные – 1 раз в 10–14 дней.</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яжелобольным моют голову в постели.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Кожа, внешний покров тела человека, выполняет ряд важных функций: играет защитную роль, участвует в теплорегуляции, обмене веществ (дыхание, выделение) и является одним из важнейших органов чувств – кожным анализаторо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Выполнение кожей присущих ей функций является важнейшим условием здоровья. Чтобы кожа правильно функционировала, необходимо содержать ее в чистоте.</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дача судна, мочеприемника.</a:t>
            </a:r>
            <a:endParaRPr b="0" lang="en-US" sz="40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Больные, находящиеся на постельном режиме, вынуждены совершать физиологические отправления лежа. В таких случаях больным подают подкладное судно (специальное приспособление для сбора испражнений) и мочеприемник (сосуд для сбора мочи). Судно после использования тщательно моют горячей водой и дезинфицируют 1–2 % раствором хлорной извести, 3 % раствором хлорамина или лизола или в растворе дезинфектанта соответствующего назачения.</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При подаче мочеприемника надо учитывать, что далеко не все больные могут свободно помочиться, лежа в постели. Поэтому мочеприемник должен быть обязательно теплым. После мочеиспускания мочеприемник опорожняют и промывают. Один раз в сутки мочеприемник нужно ополоснуть слабым раствором перманганата калия или хлористоводородной кислоты, чтобы устранить образующийся на его стенках осадок с запахом аммиака.</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дача судна и мочеприемника.</a:t>
            </a:r>
            <a:endParaRPr b="0" lang="en-US" sz="4000" spc="-1" strike="noStrike">
              <a:solidFill>
                <a:srgbClr val="ccecff"/>
              </a:solidFill>
              <a:latin typeface="Arial"/>
            </a:endParaRPr>
          </a:p>
        </p:txBody>
      </p:sp>
      <p:pic>
        <p:nvPicPr>
          <p:cNvPr id="247" name="" descr=""/>
          <p:cNvPicPr/>
          <p:nvPr/>
        </p:nvPicPr>
        <p:blipFill>
          <a:blip r:embed="rId1"/>
          <a:stretch/>
        </p:blipFill>
        <p:spPr>
          <a:xfrm>
            <a:off x="455760" y="1598760"/>
            <a:ext cx="4037040" cy="4497120"/>
          </a:xfrm>
          <a:prstGeom prst="rect">
            <a:avLst/>
          </a:prstGeom>
          <a:ln w="0">
            <a:noFill/>
          </a:ln>
        </p:spPr>
      </p:pic>
      <p:pic>
        <p:nvPicPr>
          <p:cNvPr id="248" name="" descr=""/>
          <p:cNvPicPr/>
          <p:nvPr/>
        </p:nvPicPr>
        <p:blipFill>
          <a:blip r:embed="rId2"/>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лежни.</a:t>
            </a:r>
            <a:endParaRPr b="0" lang="en-US" sz="4400" spc="-1" strike="noStrike">
              <a:solidFill>
                <a:srgbClr val="ccecff"/>
              </a:solidFill>
              <a:latin typeface="Arial"/>
            </a:endParaRPr>
          </a:p>
        </p:txBody>
      </p:sp>
      <p:sp>
        <p:nvSpPr>
          <p:cNvPr id="2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лежни</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decúbiti) язвенно-некротические и дистрофические изменения тканей, возникающие на участках тела, которые подвергаются систематическому давлению, или образующиеся вследствие нейротрофических нарушений у ослабленных, длительно лежащих больных.</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Места образования пролежней.</a:t>
            </a:r>
            <a:endParaRPr b="0" lang="en-US" sz="4000" spc="-1" strike="noStrike">
              <a:solidFill>
                <a:srgbClr val="ccecff"/>
              </a:solidFill>
              <a:latin typeface="Arial"/>
            </a:endParaRPr>
          </a:p>
        </p:txBody>
      </p:sp>
      <p:pic>
        <p:nvPicPr>
          <p:cNvPr id="252" name="" descr=""/>
          <p:cNvPicPr/>
          <p:nvPr/>
        </p:nvPicPr>
        <p:blipFill>
          <a:blip r:embed="rId1"/>
          <a:stretch/>
        </p:blipFill>
        <p:spPr>
          <a:xfrm>
            <a:off x="455760" y="1598760"/>
            <a:ext cx="8226360" cy="449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тадии пролежней.</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олежни обычно формируются на выступающих частях тела – таких как ягодицы, бедра, икры, пятки и делятся на 4 стадии.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I стадия – заметное покраснение кожи (эритема), которая не исчезает после смены положения тела пациента. II стадия – видимое истончение кожи на фоне эритемы, возникновение пузыря. III стадия – повреждение кожи и мышечной ткани. IV стадия – обширное повреждение кожных покровов и глубжележащих тканей: мышечной ткани, сухожилий и даже костной ткани, сопровождаемое некрозом.</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тадии пролежней.</a:t>
            </a:r>
            <a:endParaRPr b="0" lang="en-US" sz="4400" spc="-1" strike="noStrike">
              <a:solidFill>
                <a:srgbClr val="ccecff"/>
              </a:solidFill>
              <a:latin typeface="Arial"/>
            </a:endParaRPr>
          </a:p>
        </p:txBody>
      </p:sp>
      <p:pic>
        <p:nvPicPr>
          <p:cNvPr id="256" name="" descr=""/>
          <p:cNvPicPr/>
          <p:nvPr/>
        </p:nvPicPr>
        <p:blipFill>
          <a:blip r:embed="rId1"/>
          <a:stretch/>
        </p:blipFill>
        <p:spPr>
          <a:xfrm>
            <a:off x="455760" y="1598760"/>
            <a:ext cx="8226360" cy="449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5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филактика пролежней сводится к постоянному контролю состояния постели тяжелобольного и его нательного белья, и своевременному устранению неровностей, грубых швов, разглаживанию складок и стряхиванию крошек.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В профилактических целях применяют также специальные подкладные резиновые круги, которые помещают под те области тела, которые подвергаются длительному сдавливанию (например, под крестец). Вместо подкладного круга можно использовать тканевые матрацы, наполненные, например, льняным семенем, а также специальные прорезиненные матрацы, состоящие из многих воздушных камер.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мена положений тела в постел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ждые 2 час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Загрязнение кожных покровов секретом потовых и сальных желез, другими выделениями ведет к появлению зуда, расчесов, вторичного инфицирования кожи, развитию грибковых заболеваний, возникновению в некоторых областях (межпальцевых складках ног, межягодичных складках, подмышечных впадинах) опрелостей (мокнущих поверхностей), в ряде случаев загрязнение кожных покровов способствует образованию пролежней.</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Пролежни чаще образуются на загрязненной коже, кожные покровы в соответствующих местах (крестец, углы лопаток, остистые отростки позвоночника и др.) необходимо 2–3 раза в день обмывать холодной водой с мылом, протирая затем салфетками, смоченными камфорным спиртом и припудривая присыпк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Надо помнить, что лечить пролежни значительно труднее, чем предупредить их возникновение.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Руки у больных моют перед каждым приемом пищи, ноги моют 2–3 раза в неделю. Также необходимо систематически ухаживать за ногтями, регулярно удаляя грязь, скапливающуюся под ними, и коротко подстригая их не реже 1 раза в недел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 и слизистыми.</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Необходимо ежедневно обмывать кожные покровы половых органов и промежности. У тяжелых больных с этой целью следует регулярно (не менее 2 раз в день, и после акта дефикации) проводить туалет половых органов с помощью подмывания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ичная гигиена пациента</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Гигиеническая обработка пациентов осуществляется не реже 1 раза в 7 дней с отметкой в истории болезни (при отсутствии медицинских противопоказаний). Гигиенический уход за тяжелобольным (умывание, протирание лица, частей тела, полоскание полости рта и т. д.) проводится после приема пищи и по мере загрязнения  тел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59:17Z</dcterms:created>
  <dc:creator>XTreme.ws</dc:creator>
  <dc:description/>
  <dc:language>en-US</dc:language>
  <cp:lastModifiedBy>XTreme.ws</cp:lastModifiedBy>
  <dcterms:modified xsi:type="dcterms:W3CDTF">2013-06-11T17:39:07Z</dcterms:modified>
  <cp:revision>12</cp:revision>
  <dc:subject/>
  <dc:title>Личная гигиена пациен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