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31B-76C9-4509-A42F-F49DD138A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A9FE-7358-4D97-815E-35AD43B6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503E-9ABB-406E-BA60-62303E25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45E-8D9D-443C-8137-BE61CD49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298A-4BAB-4E0E-A3BB-0F9AE21A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30D2-F4F1-4AD0-841B-DBF584E6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EDA5-963A-4FA0-ADD1-E4BE6409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20DE-21C7-4448-820D-BFBF295E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0B8B-C58F-4400-9116-2460C197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A3E6-AA0B-46A7-88A4-F30FF60D1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D867-AA16-4AE6-A1AC-1420090E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5124-5548-44E5-B842-7C8271D1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E9C8-3B42-4547-8359-2B6D2002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68A0-386A-4352-BCF4-BC8C358A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ABF8-8454-45A2-AE8A-710A01B8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E8EF-B293-4476-9536-811F0E51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4949-A0E1-40D9-B665-91873EA6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CE6F4-D594-487B-8B9F-10352F6E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B0C7-27D6-4946-B64C-3BBD16B0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337A-232D-41C3-8572-0D24CA18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6AFA-05A2-478E-9144-D6928C9F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A5CF2-BCFE-46E4-A349-2CB86E95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58F-ACE1-4DE2-81EF-84C3425C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73313-DA56-4847-A3A4-E54C21A7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89226-0E4A-4980-A86D-0F84ECA7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E08E-6F0F-4E88-A4B7-359A654E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2393-50D5-44F3-BA99-9B9A822E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D76D3-51F2-4E89-8575-6C4594D3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40852-7740-4677-A77E-3B43AD5C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2A188-902A-4CB7-B735-2A63F9FE3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DE492-7489-4F5D-98CB-8A6F6969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DAFF-1E57-499C-9224-46474F12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4942-BCE4-4A57-A64A-A2BAB8A7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3CD9-07CB-4A8A-81C4-319A6430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65A2B-A6A5-4754-9E4C-9DDA1A46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6FDA-4AAB-43AA-970D-A41ECFBC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77A93-AF6C-45DF-8D74-00B7F214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19BAD-9015-4D0D-AB08-68D87238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03B01-B934-4858-A132-4DA14C1A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95A37-8D58-4E9D-9DA9-5C1DBA61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725A4-76A5-4F9C-8737-AA36CB46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627CF-B405-43AF-86BB-3CF9F748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02794-0B7B-48EC-A12B-A2342E45C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BF5B-217A-4032-B993-8F696622F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643-C6AA-45BA-B29A-D325EE55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582-651D-4573-BA0A-90DA300F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C85-608C-44C5-BD69-3C1E65C4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8A8-75BF-4528-8112-46CC1284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CCE2-768D-4D28-85E8-5EBCBE1C3811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EDC6-0F54-4396-B0C7-8C8844910CF1}" type="slidenum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DD44-7AF6-4CED-AFFA-6143355415BE}" type="slidenum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C379-7370-4936-8FE0-D15E7341DFE8}" type="slidenum">
              <a:rPr b="0" lang="en-US" sz="1200" spc="-1" strike="noStrike">
                <a:solidFill>
                  <a:srgbClr val="4a566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463680" y="1566720"/>
            <a:ext cx="8418240" cy="3267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1403280" y="1628640"/>
            <a:ext cx="7129440" cy="1800360"/>
          </a:xfrm>
          <a:prstGeom prst="rect">
            <a:avLst/>
          </a:prstGeom>
          <a:noFill/>
          <a:ln w="5724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Природа ферромагнетиков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большие объемы ферромагнетиков оказываются самопроизвольно намагниченными (домены). Внутри каждого домена все магнитные поля расположены параллельно, но поля доменов направлены по-разному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Природа ферромагнетиков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ea157a"/>
                </a:solidFill>
                <a:latin typeface="Arial"/>
              </a:rPr>
              <a:t>Стадии намагничив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щение границ домен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ращение направления намагниченности доменов до возникновени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онодомен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Применение ферромагнетиков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76360" y="299736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Электроизмерительные прибо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рансформато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левизор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омпьюте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Виды ферромагнетиков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6000" y="292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гнитомягк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гнитожестк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179280" y="2060640"/>
            <a:ext cx="86029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1. Магнитная проницаемость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198" name="Текст 29"/>
          <p:cNvGraphicFramePr/>
          <p:nvPr/>
        </p:nvGraphicFramePr>
        <p:xfrm>
          <a:off x="2916360" y="1989000"/>
          <a:ext cx="1441440" cy="12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Текст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989000"/>
                    <a:ext cx="14414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0" name="Picture 2" descr="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179280" y="3357720"/>
            <a:ext cx="8523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Arial"/>
              </a:rPr>
              <a:t>2. Классификация веществ  по магнитным свойствам 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71640" y="246816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амагнети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&lt;1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сму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зот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ебр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ту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05520" y="246816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амагнети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&gt;1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ти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ллад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гн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о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ганец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1700280"/>
            <a:ext cx="4537080" cy="647640"/>
          </a:xfrm>
          <a:prstGeom prst="rect">
            <a:avLst/>
          </a:prstGeom>
          <a:noFill/>
          <a:ln w="3816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о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лабомагнитные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692360" y="2349360"/>
            <a:ext cx="503280" cy="216000"/>
          </a:xfrm>
          <a:prstGeom prst="line">
            <a:avLst/>
          </a:prstGeom>
          <a:ln w="57240">
            <a:solidFill>
              <a:srgbClr val="ea15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"/>
          <p:cNvSpPr/>
          <p:nvPr/>
        </p:nvSpPr>
        <p:spPr>
          <a:xfrm>
            <a:off x="6732720" y="2349360"/>
            <a:ext cx="431640" cy="216000"/>
          </a:xfrm>
          <a:prstGeom prst="line">
            <a:avLst/>
          </a:prstGeom>
          <a:ln w="57240">
            <a:solidFill>
              <a:srgbClr val="ea157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5b6f"/>
                </a:solidFill>
                <a:latin typeface="Arial"/>
              </a:rPr>
              <a:t>2. Классификация веществ  по магнитным свойствам 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916360" y="27079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ерромагнети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&gt;&gt;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лез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е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баль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/>
          <p:nvPr/>
        </p:nvSpPr>
        <p:spPr>
          <a:xfrm>
            <a:off x="2195640" y="1700280"/>
            <a:ext cx="4537080" cy="647640"/>
          </a:xfrm>
          <a:prstGeom prst="rect">
            <a:avLst/>
          </a:prstGeom>
          <a:noFill/>
          <a:ln w="38160">
            <a:solidFill>
              <a:srgbClr val="5f77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ильномагнитные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2349360"/>
            <a:ext cx="0" cy="503280"/>
          </a:xfrm>
          <a:prstGeom prst="line">
            <a:avLst/>
          </a:prstGeom>
          <a:ln w="57240">
            <a:solidFill>
              <a:srgbClr val="5f77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 u="sng">
                <a:solidFill>
                  <a:srgbClr val="4e5b6f"/>
                </a:solidFill>
                <a:uFillTx/>
                <a:latin typeface="Arial"/>
              </a:rPr>
              <a:t>Природа магнитных свойств вещества</a:t>
            </a:r>
            <a:br>
              <a:rPr sz="3200"/>
            </a:br>
            <a:r>
              <a:rPr b="0" lang="en-US" sz="3200" spc="-1" strike="noStrike" u="sng">
                <a:solidFill>
                  <a:srgbClr val="4e5b6f"/>
                </a:solidFill>
                <a:uFillTx/>
                <a:latin typeface="Calibri"/>
              </a:rPr>
              <a:t>Гипотеза Ампера</a:t>
            </a:r>
            <a:br>
              <a:rPr sz="3200"/>
            </a:b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гнитные свойства тела определяются микроскопическими электрическими токами (орбитальное движение электронов в атоме) — токами Ампе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1979640" y="4005360"/>
            <a:ext cx="47386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) Если направления токов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неупорядочены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то порождаемые ими магнитные поля компенсируют друг друга, т. е. 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тело не намагниче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) Во внешнем магнитном поле токи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упорядочиваются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вследствие чего в веществе возникает собственное магнитное поле —</a:t>
            </a:r>
            <a:r>
              <a:rPr b="1" lang="en-US" sz="2600" spc="-1" strike="noStrike">
                <a:solidFill>
                  <a:srgbClr val="c00000"/>
                </a:solidFill>
                <a:latin typeface="Constantia"/>
              </a:rPr>
              <a:t>намагниченнос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Диамагнетики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 внешнем магнитном поле в атоме индуцируется магнитные поля, направление которых противоположно внешнему полю. Диамагнетики это поле ослабевают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Парамагнетики 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5280" y="2468160"/>
            <a:ext cx="8507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о внешнем поле происходит преимущественна ориентация магнитных полей атомов в направлении намагничиваемого поля. Внешнее поле усиливаетс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5b6f"/>
                </a:solidFill>
                <a:latin typeface="Arial"/>
              </a:rPr>
              <a:t>Ферромагнетики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934640"/>
            <a:ext cx="8642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ложным образом зависит от магнитной индукции внешнего поля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μ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100-10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магничиваются в направлении пол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еют температуру Кюри, при которой теряют магнитные свой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храняют магнитные свойства в отсутствии пол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5T19:43:23Z</dcterms:created>
  <dc:creator>пользователь</dc:creator>
  <dc:description/>
  <dc:language>en-US</dc:language>
  <cp:lastModifiedBy>Vera</cp:lastModifiedBy>
  <dcterms:modified xsi:type="dcterms:W3CDTF">2016-09-19T19:46:08Z</dcterms:modified>
  <cp:revision>23</cp:revision>
  <dc:subject/>
  <dc:title>ДВИЖЕНИЕ ЗАРЯЖЕННЫХ ЧАСТИЦ В МАГНИТНОМ ПОЛЕ</dc:title>
</cp:coreProperties>
</file>