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BB1-8AC6-445D-9118-5F7FD26D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043-7130-44EA-BBBA-ACEE9433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C19-ACE2-42E3-81D2-BCB58D7A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0A5-B80F-494B-8CF8-221A1BCD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29F0-A97B-417C-91F4-2A65B0B4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5D5C-4A01-4FA4-84F5-4C1F5F98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6ADE-6572-4196-88C0-02C19B3E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3E2B-6AAC-417E-90EA-0DF7F482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07D1-3BBF-4E30-93CA-C258778D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093-2AFA-446A-A696-8FEE703D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BF1E-7B5C-4AE5-881D-DC043A5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CC0-1EB8-42F1-BD73-A92019C8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1610-85F0-4262-AD9D-AA8D6B29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06A7-1312-4106-9D5F-2D7685EA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BE4D-E0CD-4542-937F-DAD6DE2E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C137-CA30-4428-88D4-7AAB2444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6CE9-AE38-46DC-BDA4-764124B1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28566-F172-4A3B-B2DD-5C991AB1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5E1D-1753-45AF-9C04-01AF5573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0715-AEC4-409E-AD39-72F961A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F892-D32F-41A3-9E6C-B0987DD4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3B0A-6A49-4E77-922D-B4D1A3ED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2AE-3306-43D9-AB75-95010D30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A9C9-6126-4D92-9CD0-B44816B5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76CB-B416-467A-A03D-7578506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9C63-D613-41B6-98E1-8BCC72E1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C610-5085-456E-9B3F-2BA5F237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5B04-24AC-4939-ACAA-7097E64A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3A47-244D-42D7-B36A-6269AE3D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74C7-B08C-4E31-835B-3BD492D5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BB9D-E1C3-4FF4-9A0D-427C3E72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0B2A-0775-4D01-9B40-2254AD63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9ED4E-36CE-4F34-A3F5-C2C9FE37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651-01E2-4C4E-B980-CF4F0D1A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461D3-E2DB-46C6-A7FC-FA590335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5BF5-1742-4C3F-9832-169ED54F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F0B4E-6790-4BC6-B3A3-F4D6D8CF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524B1-7EE0-46BF-97BF-00A3F923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4729-473F-4235-B102-2312AD63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01B7B-482D-4C60-8526-D3D00DF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9D66-5C5F-4216-938B-8CDE6DF9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FAF8-E0B8-4671-8C08-10296505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74B01-004B-4C83-88BD-AA37E9CB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5EA-2CE9-48E1-8C1B-7271292C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9DD-0265-46E3-82EB-414BCFA2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C12-9346-4DDF-80E1-D00D8D0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093-7EBB-4D07-AC27-01ED397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5C7-1EA0-4CAC-B21B-54CE322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B6E6-54EE-4B75-BADE-B0E241761792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4733-48D7-4A24-BBAA-FE9043C14B77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B653-35D3-4230-B375-BB48F351D949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1A95-E578-42DB-AA01-D39BF59E85C0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463680" y="1566720"/>
            <a:ext cx="8418240" cy="3267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403280" y="1628640"/>
            <a:ext cx="7129440" cy="1800360"/>
          </a:xfrm>
          <a:prstGeom prst="rect">
            <a:avLst/>
          </a:prstGeom>
          <a:noFill/>
          <a:ln w="5724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Природа ферромагнетиков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большие объемы ферромагнетиков оказываются самопроизвольно намагниченными (домены). Внутри каждого домена все магнитные поля расположены параллельно, но поля доменов направлены по-разному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Природа ферромагнетиков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ea157a"/>
                </a:solidFill>
                <a:latin typeface="Arial"/>
              </a:rPr>
              <a:t>Стадии намагничи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щение границ домен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ращение направления намагниченности доменов до возникновени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нодомен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Применение ферромагнетиков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76360" y="299736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лектроизмерительные прибо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ансформато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левизо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ьюте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Виды ферромагнетиков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292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гнитомягк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гнитожестк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179280" y="2060640"/>
            <a:ext cx="86029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1. Магнитная проницаемость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8" name="Текст 29"/>
          <p:cNvGraphicFramePr/>
          <p:nvPr/>
        </p:nvGraphicFramePr>
        <p:xfrm>
          <a:off x="2916360" y="1989000"/>
          <a:ext cx="1441440" cy="12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989000"/>
                    <a:ext cx="14414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2" descr="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179280" y="3357720"/>
            <a:ext cx="8523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Arial"/>
              </a:rPr>
              <a:t>2. Классификация веществ  по магнитным свойствам 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1640" y="246816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магнети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&lt;1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сму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о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ту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05520" y="246816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магнети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&gt;1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и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лад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н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гане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1700280"/>
            <a:ext cx="4537080" cy="647640"/>
          </a:xfrm>
          <a:prstGeom prst="rect">
            <a:avLst/>
          </a:prstGeom>
          <a:noFill/>
          <a:ln w="381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о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абомагнитные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92360" y="2349360"/>
            <a:ext cx="503280" cy="216000"/>
          </a:xfrm>
          <a:prstGeom prst="line">
            <a:avLst/>
          </a:prstGeom>
          <a:ln w="57240">
            <a:solidFill>
              <a:srgbClr val="ea15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6732720" y="2349360"/>
            <a:ext cx="431640" cy="216000"/>
          </a:xfrm>
          <a:prstGeom prst="line">
            <a:avLst/>
          </a:prstGeom>
          <a:ln w="57240">
            <a:solidFill>
              <a:srgbClr val="ea15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Arial"/>
              </a:rPr>
              <a:t>2. Классификация веществ  по магнитным свойствам 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16360" y="27079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рромагнети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&gt;&gt;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баль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1700280"/>
            <a:ext cx="4537080" cy="647640"/>
          </a:xfrm>
          <a:prstGeom prst="rect">
            <a:avLst/>
          </a:prstGeom>
          <a:noFill/>
          <a:ln w="3816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льномагнитные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2349360"/>
            <a:ext cx="0" cy="503280"/>
          </a:xfrm>
          <a:prstGeom prst="line">
            <a:avLst/>
          </a:prstGeom>
          <a:ln w="57240">
            <a:solidFill>
              <a:srgbClr val="5f77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 u="sng">
                <a:solidFill>
                  <a:srgbClr val="4e5b6f"/>
                </a:solidFill>
                <a:uFillTx/>
                <a:latin typeface="Arial"/>
              </a:rPr>
              <a:t>Природа магнитных свойств вещества</a:t>
            </a:r>
            <a:br>
              <a:rPr sz="3200"/>
            </a:br>
            <a:r>
              <a:rPr b="0" lang="en-US" sz="3200" spc="-1" strike="noStrike" u="sng">
                <a:solidFill>
                  <a:srgbClr val="4e5b6f"/>
                </a:solidFill>
                <a:uFillTx/>
                <a:latin typeface="Calibri"/>
              </a:rPr>
              <a:t>Гипотеза Ампера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гнитные свойства тела определяются микроскопическими электрическими токами (орбитальное движение электронов в атоме) — токами Ампе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979640" y="4005360"/>
            <a:ext cx="4738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) Если направления токов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неупорядочены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то порождаемые ими магнитные поля компенсируют друг друга, т. е.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тело не намагниче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) Во внешнем магнитном поле токи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упорядочиваютс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вследствие чего в веществе возникает собственное магнитное поле —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намагничен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Диамагнетики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 внешнем магнитном поле в атоме индуцируется магнитные поля, направление которых противоположно внешнему полю. Диамагнетики это поле ослабевают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Парамагнетики 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5280" y="2468160"/>
            <a:ext cx="8507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 внешнем поле происходит преимущественна ориентация магнитных полей атомов в направлении намагничиваемого поля. Внешнее поле усиливаетс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Ферромагнетики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93464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ложным образом зависит от магнитной индукции внешнего поля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100-10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магничиваются в направлении п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ют температуру Кюри, при которой теряют магнитные свой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храняют магнитные свойства в отсутствии по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19:43:23Z</dcterms:created>
  <dc:creator>пользователь</dc:creator>
  <dc:description/>
  <dc:language>en-US</dc:language>
  <cp:lastModifiedBy>Vera</cp:lastModifiedBy>
  <dcterms:modified xsi:type="dcterms:W3CDTF">2016-09-19T19:46:08Z</dcterms:modified>
  <cp:revision>23</cp:revision>
  <dc:subject/>
  <dc:title>ДВИЖЕНИЕ ЗАРЯЖЕННЫХ ЧАСТИЦ В МАГНИТНОМ ПОЛЕ</dc:title>
</cp:coreProperties>
</file>