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A31-9406-4004-9E3E-E94B3AC7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47F-8811-4878-A6D5-89FCE7C3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665-4F22-4FF5-B97C-4EE49B52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57D-7AC9-49B6-BB8A-E529ECCC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57F-75EC-4480-A375-E35D3916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57C-6C4A-45B8-992D-CFB09926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BE3-8711-46D3-AF3F-02B3B1E6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199-DFC1-483C-96ED-0D59AB80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8B7-66C6-41C4-9640-CB87F79C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E70-B2CC-4612-8481-7976DE80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851-4B66-4261-913A-D5C22943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D9C-3668-4633-86A6-3AC6FC11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FCF2-3C23-4A0F-AFEA-C87B90EB4E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851360" y="4220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Подготови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ученик 1 клас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МБОУ ООШ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С.Михайлов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Масеев Рин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Руководител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Орищенко М.В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narodnaya_ognej_tak_mnogo_zolotyh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304920" y="1200240"/>
            <a:ext cx="8485200" cy="3189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liser.ru/assets/images/bbb.png"/>
          <p:cNvPicPr/>
          <p:nvPr/>
        </p:nvPicPr>
        <p:blipFill>
          <a:blip r:embed="rId3"/>
          <a:stretch/>
        </p:blipFill>
        <p:spPr>
          <a:xfrm>
            <a:off x="1812960" y="3562200"/>
            <a:ext cx="45543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Борис Кустодиев Масленица1916.jpg"/>
          <p:cNvPicPr/>
          <p:nvPr/>
        </p:nvPicPr>
        <p:blipFill>
          <a:blip r:embed="rId1"/>
          <a:stretch/>
        </p:blipFill>
        <p:spPr>
          <a:xfrm>
            <a:off x="2371680" y="404640"/>
            <a:ext cx="4257720" cy="5086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2500200" y="5805720"/>
            <a:ext cx="400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рис Кустодиев «Масленица» 191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Богданов бельский Веселая компания 1920.jpg"/>
          <p:cNvPicPr/>
          <p:nvPr/>
        </p:nvPicPr>
        <p:blipFill>
          <a:blip r:embed="rId1"/>
          <a:stretch/>
        </p:blipFill>
        <p:spPr>
          <a:xfrm>
            <a:off x="2428920" y="285840"/>
            <a:ext cx="4095720" cy="5159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2124000" y="5771520"/>
            <a:ext cx="46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гданов-Бельский «Весёлая компания» 19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одержимое 3" descr="Валентин Терещенко Играет гармонь2007.jpg"/>
          <p:cNvPicPr/>
          <p:nvPr/>
        </p:nvPicPr>
        <p:blipFill>
          <a:blip r:embed="rId1"/>
          <a:stretch/>
        </p:blipFill>
        <p:spPr>
          <a:xfrm>
            <a:off x="1547640" y="549360"/>
            <a:ext cx="6272280" cy="5016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2143080" y="595044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лентин Терещенко «Играет гармонь» 200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423"/>
                </a:solidFill>
                <a:latin typeface="Calibri"/>
              </a:rPr>
              <a:t>Песни под гармошку и про гармош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1280" y="1530360"/>
            <a:ext cx="4788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423"/>
                </a:solidFill>
                <a:latin typeface="Calibri"/>
              </a:rPr>
              <a:t>Славы Саратовской гармошке добавила народная певица Лидия Русланова, исполняя песни на передовой в Великую Отечественную войну. Вместе с бойцами гармошка прошла войны и сраж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423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26" descr="Выступление Лидии Руслановой на фронте под аккомпанемент Саратовской гармоники"/>
          <p:cNvPicPr/>
          <p:nvPr/>
        </p:nvPicPr>
        <p:blipFill>
          <a:blip r:embed="rId1"/>
          <a:stretch/>
        </p:blipFill>
        <p:spPr>
          <a:xfrm>
            <a:off x="4756320" y="1500120"/>
            <a:ext cx="3803400" cy="5052960"/>
          </a:xfrm>
          <a:prstGeom prst="rect">
            <a:avLst/>
          </a:prstGeom>
          <a:ln w="0">
            <a:noFill/>
          </a:ln>
        </p:spPr>
      </p:pic>
      <p:pic>
        <p:nvPicPr>
          <p:cNvPr id="86" name="ruslanova lidiya - samarskie pripevki ozero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http://stuntoda.ru/uploads/thumbs/4/2/9/42939da479b44fc95ddfc8c7b1b99634.jpg"/>
          <p:cNvPicPr/>
          <p:nvPr/>
        </p:nvPicPr>
        <p:blipFill>
          <a:blip r:embed="rId1"/>
          <a:stretch/>
        </p:blipFill>
        <p:spPr>
          <a:xfrm>
            <a:off x="0" y="836640"/>
            <a:ext cx="5076720" cy="468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4978440" y="0"/>
            <a:ext cx="416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http://cnives.ru/images/f/6/istorii-mestnogo-znachenija-saratov_6.jpg"/>
          <p:cNvPicPr/>
          <p:nvPr/>
        </p:nvPicPr>
        <p:blipFill>
          <a:blip r:embed="rId1"/>
          <a:stretch/>
        </p:blipFill>
        <p:spPr>
          <a:xfrm>
            <a:off x="1476360" y="1628640"/>
            <a:ext cx="6408720" cy="49690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2084400" y="765000"/>
            <a:ext cx="52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Пётр Иванович Текучё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Памят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213920"/>
            <a:ext cx="42847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12 сентября 2009 года в Саратове на проспекте Кирова был открыт новый памятник - «Саратовской гармонике». Автор памятника - местный скульптор Владимир Пальм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sargarm2"/>
          <p:cNvPicPr/>
          <p:nvPr/>
        </p:nvPicPr>
        <p:blipFill>
          <a:blip r:embed="rId1"/>
          <a:stretch/>
        </p:blipFill>
        <p:spPr>
          <a:xfrm>
            <a:off x="4429080" y="1214280"/>
            <a:ext cx="4143600" cy="5214960"/>
          </a:xfrm>
          <a:prstGeom prst="rect">
            <a:avLst/>
          </a:prstGeom>
          <a:ln w="0">
            <a:noFill/>
          </a:ln>
        </p:spPr>
      </p:pic>
      <p:pic>
        <p:nvPicPr>
          <p:cNvPr id="94" name="8642586454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68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68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423"/>
                </a:solidFill>
                <a:latin typeface="Calibri"/>
              </a:rPr>
              <a:t>Гордость Сарат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87280" y="5373720"/>
            <a:ext cx="714240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ак давно в городе Саратове  была проведена акция «Гордись, Саратов!». Более 400 тысяч голосов (почти 44 процента опрошенных) выбрали гармонику. И народным символом нашего областного центра стала наша славная  саратовская гармо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Консерватория"/>
          <p:cNvPicPr/>
          <p:nvPr/>
        </p:nvPicPr>
        <p:blipFill>
          <a:blip r:embed="rId1"/>
          <a:stretch/>
        </p:blipFill>
        <p:spPr>
          <a:xfrm>
            <a:off x="1330200" y="900000"/>
            <a:ext cx="6697800" cy="4248360"/>
          </a:xfrm>
          <a:prstGeom prst="rect">
            <a:avLst/>
          </a:prstGeom>
          <a:ln w="0">
            <a:noFill/>
          </a:ln>
        </p:spPr>
      </p:pic>
      <p:pic>
        <p:nvPicPr>
          <p:cNvPr id="98" name="морж 1.mp3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6840" y="4292280"/>
            <a:ext cx="800244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Своей работой я хотел привлечь внимание  к утрате  культурного  наследия и не дать погибнуть нашей исторической реликвии, нашему символу, уникальному музыкальному инструменту. Ведь гармонь должна играть. Это душа  Саратовской губернии  и России в цел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760" y="5143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Саратовская гармоника — гордость  губерн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Это визитная карточка нашего города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arm1[1]"/>
          <p:cNvPicPr/>
          <p:nvPr/>
        </p:nvPicPr>
        <p:blipFill>
          <a:blip r:embed="rId1"/>
          <a:stretch/>
        </p:blipFill>
        <p:spPr>
          <a:xfrm>
            <a:off x="1749600" y="333360"/>
            <a:ext cx="5775120" cy="4567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692280"/>
            <a:ext cx="4175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423"/>
                </a:solidFill>
                <a:latin typeface="Calibri"/>
              </a:rPr>
              <a:t>Как-то, гуляя по проспекту Кирова, я увидел памятник. Многие присаживались рядом, фотографировались. Я заинтересовался: кому   поставлен этот памятник и что за инструмент у него в рука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4716360" y="1197000"/>
            <a:ext cx="4311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5122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3634"/>
                </a:solidFill>
                <a:latin typeface="Calibri"/>
              </a:rPr>
              <a:t>Цель моей работ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560" y="1197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423"/>
                </a:solidFill>
                <a:latin typeface="Calibri"/>
              </a:rPr>
              <a:t>Пробудить интерес ребят к русской народной  культу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423"/>
                </a:solidFill>
                <a:latin typeface="Calibri"/>
              </a:rPr>
              <a:t>Получить  представление об истории Саратовской гармо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72423"/>
                </a:solidFill>
                <a:uFillTx/>
                <a:latin typeface="Calibri"/>
              </a:rPr>
              <a:t>Предмет исследован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423"/>
                </a:solidFill>
                <a:latin typeface="Calibri"/>
              </a:rPr>
              <a:t>Саратовская гармош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8642586454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http://img1.liveinternet.ru/images/foto/b/3/477/2270477/f_18573873.jpg"/>
          <p:cNvPicPr/>
          <p:nvPr/>
        </p:nvPicPr>
        <p:blipFill>
          <a:blip r:embed="rId2"/>
          <a:stretch/>
        </p:blipFill>
        <p:spPr>
          <a:xfrm>
            <a:off x="5148360" y="0"/>
            <a:ext cx="2963880" cy="395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6710400" y="3933720"/>
            <a:ext cx="2433600" cy="2924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560" y="630360"/>
            <a:ext cx="54352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423"/>
                </a:solidFill>
                <a:latin typeface="Calibri"/>
              </a:rPr>
              <a:t>Перед собой я поставил 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Calibri"/>
              </a:rPr>
              <a:t>Выяснить, знают  ли мои одноклассники, что это за инструмент в руках героя этого памят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572423"/>
                </a:solidFill>
                <a:latin typeface="Calibri"/>
              </a:rPr>
              <a:t>Узнать, как появились Саратовская гармош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Calibri"/>
              </a:rPr>
              <a:t>Рассказать одноклассникам о том, что я узн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Calibri"/>
              </a:rPr>
              <a:t>Знают ли мои друзья, какой символ Саратовской губернии выбрали жители путём голос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марш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http://saratov.rusarchives.ru/publication/saratov_garmoshka/images/img9785640.jpg"/>
          <p:cNvPicPr/>
          <p:nvPr/>
        </p:nvPicPr>
        <p:blipFill>
          <a:blip r:embed="rId2"/>
          <a:stretch/>
        </p:blipFill>
        <p:spPr>
          <a:xfrm>
            <a:off x="5508720" y="836640"/>
            <a:ext cx="324144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425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92240"/>
            <a:ext cx="4643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Чтобы больше узнать о Саратовской гармошке я  изучил электронные и печатные источники информации, в том числе периодические издания, провел анкетирование одноклассников,  посетил с мамой Этнографический муз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марш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D:\документы кл.руковод\4-б\Саратовская гармоника\image.jpg"/>
          <p:cNvPicPr/>
          <p:nvPr/>
        </p:nvPicPr>
        <p:blipFill>
          <a:blip r:embed="rId2"/>
          <a:stretch/>
        </p:blipFill>
        <p:spPr>
          <a:xfrm>
            <a:off x="4567320" y="3387600"/>
            <a:ext cx="4395600" cy="329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4427640" y="1052640"/>
            <a:ext cx="44701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423"/>
                </a:solidFill>
                <a:latin typeface="Calibri"/>
              </a:rPr>
              <a:t>История Саратовской гармо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980640"/>
            <a:ext cx="4788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Согласно легенде, немецкие переселенцы приносили свои инструменты нашим мастерам для ремонта. А те, ради забавы, решили переделать их во что-то необычное, добавив колокольч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Первое упоминание о гармонике с колокольчиками относится к 1866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17" descr="Саратовская гармоника"/>
          <p:cNvPicPr/>
          <p:nvPr/>
        </p:nvPicPr>
        <p:blipFill>
          <a:blip r:embed="rId1"/>
          <a:stretch/>
        </p:blipFill>
        <p:spPr>
          <a:xfrm>
            <a:off x="4857840" y="1714680"/>
            <a:ext cx="3786120" cy="3786120"/>
          </a:xfrm>
          <a:prstGeom prst="rect">
            <a:avLst/>
          </a:prstGeom>
          <a:ln w="0">
            <a:noFill/>
          </a:ln>
        </p:spPr>
      </p:pic>
      <p:pic>
        <p:nvPicPr>
          <p:cNvPr id="65" name="3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14240" y="1395000"/>
            <a:ext cx="38577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В 1870-х годах на улице Никольская (ныне – Радищева) открыл свою мастерскую знаменитый гармонный мастер Корелин (1851-1918). Его инструменты были настолько уникальны в звучании, что Корелина стали называть </a:t>
            </a:r>
            <a:r>
              <a:rPr b="0" lang="ru-RU" sz="2400" spc="-1" strike="noStrike" u="sng">
                <a:solidFill>
                  <a:srgbClr val="572423"/>
                </a:solidFill>
                <a:uFillTx/>
                <a:latin typeface="Times New Roman"/>
                <a:ea typeface="Times New Roman"/>
              </a:rPr>
              <a:t>«Страдивари Саратовской гармоники»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барыня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423"/>
                </a:solidFill>
                <a:latin typeface="Calibri"/>
              </a:rPr>
              <a:t>Производ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8" descr="http://img4.tourbina.ru/photos.3/9/5/951115/super.photo.jpg"/>
          <p:cNvPicPr/>
          <p:nvPr/>
        </p:nvPicPr>
        <p:blipFill>
          <a:blip r:embed="rId2"/>
          <a:stretch/>
        </p:blipFill>
        <p:spPr>
          <a:xfrm>
            <a:off x="4965840" y="3932280"/>
            <a:ext cx="3898800" cy="262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hi04a"/>
          <p:cNvPicPr/>
          <p:nvPr/>
        </p:nvPicPr>
        <p:blipFill>
          <a:blip r:embed="rId3"/>
          <a:stretch/>
        </p:blipFill>
        <p:spPr>
          <a:xfrm>
            <a:off x="5018040" y="907920"/>
            <a:ext cx="381168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059280" y="33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Звуки гармош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379440" y="907920"/>
            <a:ext cx="3976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Саратовская гармошка является самой звонкой из всех существующих ныне гармошек. Колокольчики, звучащие при нажатии на кнопки, придают саратовской гармонике неповторимый голос. У гармошки на одну кнопку приходится два звука: растягиваешь гармошку – выходит один звук, сжимаешь – друг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http://nversia.ru/imgs/thumbs_news/1403773020_1088020686.jpg"/>
          <p:cNvPicPr/>
          <p:nvPr/>
        </p:nvPicPr>
        <p:blipFill>
          <a:blip r:embed="rId1"/>
          <a:stretch/>
        </p:blipFill>
        <p:spPr>
          <a:xfrm>
            <a:off x="4013280" y="1413000"/>
            <a:ext cx="4968720" cy="4105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Антонина Ржевская Свободная минутка1897.jpg"/>
          <p:cNvPicPr/>
          <p:nvPr/>
        </p:nvPicPr>
        <p:blipFill>
          <a:blip r:embed="rId1"/>
          <a:stretch/>
        </p:blipFill>
        <p:spPr>
          <a:xfrm>
            <a:off x="2411280" y="1125360"/>
            <a:ext cx="3996000" cy="4791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2124000" y="6079680"/>
            <a:ext cx="64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тонина Ржевская «Свободная минутка» 189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1187280" y="32400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Гармошка была темой для написания картин у многих художников прошлого и настоящего. Вот некоторые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7:24:24Z</dcterms:created>
  <dc:creator>-</dc:creator>
  <dc:description/>
  <dc:language>en-US</dc:language>
  <cp:lastModifiedBy>admin</cp:lastModifiedBy>
  <dcterms:modified xsi:type="dcterms:W3CDTF">2017-01-04T17:21:58Z</dcterms:modified>
  <cp:revision>67</cp:revision>
  <dc:subject/>
  <dc:title>Саратовская гармонь</dc:title>
</cp:coreProperties>
</file>