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1ABA-5542-49C5-8946-90713765C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F01A-CFB1-4A52-93BA-067274D0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AB54-7678-4D74-A71D-B8A7F8F4A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CEE5-C882-4DDD-B446-6C5F642B5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2AC2-1EEF-49C7-85FD-E79DB1DD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4811-0BCE-42E6-989B-E3C68EC2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8726-144A-4F97-B42F-9BD1CB14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E188-36DD-4691-B480-EC51C04C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13A4-A98F-4136-BEC7-7D328F1B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8E9C-E491-4656-94F9-6F7326E8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AF37-1689-4844-AE10-D2FE6661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9F44-9AA7-4080-BF58-2DAB7C65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F1E3-1E63-43E8-B094-93B82447F8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pic4you.ru/24687/4075307/1/" TargetMode="External"/><Relationship Id="rId3" Type="http://schemas.openxmlformats.org/officeDocument/2006/relationships/hyperlink" Target="http://pic4you.ru/24687/4075307/1/" TargetMode="External"/><Relationship Id="rId4" Type="http://schemas.openxmlformats.org/officeDocument/2006/relationships/hyperlink" Target="https://img-fotki.yandex.ru/get/170627/200418627.19e/0_189dc4_1490e129_orig.png" TargetMode="External"/><Relationship Id="rId5" Type="http://schemas.openxmlformats.org/officeDocument/2006/relationships/hyperlink" Target="https://img-fotki.yandex.ru/get/4310/200418627.118/0_15a43b_6808e6ab_orig.png" TargetMode="External"/><Relationship Id="rId6" Type="http://schemas.openxmlformats.org/officeDocument/2006/relationships/hyperlink" Target="https://img-fotki.yandex.ru/get/15544/16969765.252/0_959bc_8646746a_orig.png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playcast.ru/uploads/2015/01/01/11388065.gif"/>
          <p:cNvPicPr/>
          <p:nvPr/>
        </p:nvPicPr>
        <p:blipFill>
          <a:blip r:embed="rId2"/>
          <a:stretch/>
        </p:blipFill>
        <p:spPr>
          <a:xfrm>
            <a:off x="684360" y="3068640"/>
            <a:ext cx="7704000" cy="294012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5"/>
          <p:cNvSpPr/>
          <p:nvPr/>
        </p:nvSpPr>
        <p:spPr>
          <a:xfrm>
            <a:off x="2124000" y="5013360"/>
            <a:ext cx="525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ашинская Марин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логоп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 ШИ №1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овосибир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1042920" y="2517840"/>
            <a:ext cx="734400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можете использовать данное оформление для создания своих презентаций, но в своей презентации вы должны указать автора шабло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ашинская Марина Викторовна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логопед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 ШИ №133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овосибир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2"/>
          <p:cNvSpPr/>
          <p:nvPr/>
        </p:nvSpPr>
        <p:spPr>
          <a:xfrm>
            <a:off x="1476360" y="112536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116000" y="1916280"/>
          <a:ext cx="7632720" cy="447984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44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2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3"/>
                        </a:rPr>
                        <a:t>http://pic4you.ru/24687/4075307/1/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наряженные ве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4"/>
                        </a:rPr>
                        <a:t>https://img-fotki.yandex.ru/get/170627/200418627.19e/0_189dc4_1490e129_orig.png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ая декорированная 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5"/>
                        </a:rPr>
                        <a:t>https://img-fotki.yandex.ru/get/4310/200418627.118/0_15a43b_6808e6ab_orig.png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-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орированные снежи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6"/>
                        </a:rPr>
                        <a:t>https://img-fotki.yandex.ru/get/15544/16969765.252/0_959bc_8646746a_orig.png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-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мка зимня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ttp://pic4you.ru/24687/4061161/1/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зимняя рам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ttp://pic4you.ru/24687/3723185/1/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ча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ttps://img-fotki.yandex.ru/get/5205/200418627.32/0_11046b_5acf3084_orig.png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-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олотые 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ttp://www.playcast.ru/uploads/2015/01/01/11388065.gif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надпи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8T20:27:37Z</dcterms:created>
  <dc:creator>DAY</dc:creator>
  <dc:description/>
  <dc:language>en-US</dc:language>
  <cp:lastModifiedBy>DAY</cp:lastModifiedBy>
  <dcterms:modified xsi:type="dcterms:W3CDTF">2017-01-04T18:13:53Z</dcterms:modified>
  <cp:revision>12</cp:revision>
  <dc:subject/>
  <dc:title>Слайд 1</dc:title>
</cp:coreProperties>
</file>