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8E8-627F-4B09-807F-CD92526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C23-A818-49EA-8AF0-99F87EA2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01C-849B-4B25-B71A-7C41308C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D2F-3560-4662-B97E-189D2ADF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CB4-BA28-433C-9C13-711E3D9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A0F-9DBF-4A6D-A487-2255162F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E3A-9F87-4843-9B3D-A2484E8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35A-4A11-46FE-A008-44352CC4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CA9-8E45-40AD-8E5C-E5F2595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FB8-5B3C-4C6C-AC0A-3954B41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93E-58FE-411D-AE4F-35ECBC2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2E2-2411-43AE-9C59-C0D7127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BD7-3128-4BD0-930B-74C9A5D5F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pic4you.ru/24687/4075307/1/" TargetMode="External"/><Relationship Id="rId3" Type="http://schemas.openxmlformats.org/officeDocument/2006/relationships/hyperlink" Target="http://pic4you.ru/24687/4075307/1/" TargetMode="External"/><Relationship Id="rId4" Type="http://schemas.openxmlformats.org/officeDocument/2006/relationships/hyperlink" Target="https://img-fotki.yandex.ru/get/170627/200418627.19e/0_189dc4_1490e129_orig.png" TargetMode="External"/><Relationship Id="rId5" Type="http://schemas.openxmlformats.org/officeDocument/2006/relationships/hyperlink" Target="https://img-fotki.yandex.ru/get/4310/200418627.118/0_15a43b_6808e6ab_orig.png" TargetMode="External"/><Relationship Id="rId6" Type="http://schemas.openxmlformats.org/officeDocument/2006/relationships/hyperlink" Target="https://img-fotki.yandex.ru/get/15544/16969765.252/0_959bc_8646746a_orig.png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laycast.ru/uploads/2015/01/01/11388065.gif"/>
          <p:cNvPicPr/>
          <p:nvPr/>
        </p:nvPicPr>
        <p:blipFill>
          <a:blip r:embed="rId2"/>
          <a:stretch/>
        </p:blipFill>
        <p:spPr>
          <a:xfrm>
            <a:off x="684360" y="3068640"/>
            <a:ext cx="7704000" cy="29401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2124000" y="5013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шинская Мари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 ШИ №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42920" y="2517840"/>
            <a:ext cx="73440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использовать данное оформление для создания своих презентаций, но в своей презентации вы должны указать автора шаб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шинская Марина Викторовн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 ШИ №133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476360" y="11253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16000" y="1916280"/>
          <a:ext cx="7632720" cy="44798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pic4you.ru/24687/4075307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ряженные в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https://img-fotki.yandex.ru/get/170627/200418627.19e/0_189dc4_1490e129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декорированная 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https://img-fotki.yandex.ru/get/4310/200418627.118/0_15a43b_6808e6ab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рированные снеж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https://img-fotki.yandex.ru/get/15544/16969765.252/0_959bc_8646746a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мка зим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pic4you.ru/24687/4061161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зимняя ра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pic4you.ru/24687/3723185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s://img-fotki.yandex.ru/get/5205/200418627.32/0_11046b_5acf3084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ые 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www.playcast.ru/uploads/2015/01/01/11388065.gif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ад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20:27:37Z</dcterms:created>
  <dc:creator>DAY</dc:creator>
  <dc:description/>
  <dc:language>en-US</dc:language>
  <cp:lastModifiedBy>DAY</cp:lastModifiedBy>
  <dcterms:modified xsi:type="dcterms:W3CDTF">2017-01-04T18:13:53Z</dcterms:modified>
  <cp:revision>12</cp:revision>
  <dc:subject/>
  <dc:title>Слайд 1</dc:title>
</cp:coreProperties>
</file>