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018-D15F-472E-9BED-88C1C24D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0CA-2AED-4B11-9894-AE3DA07D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E5E-31B6-406C-A81D-C885D903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42D-4BB7-440F-8C5A-DD1340F4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B16D-3FF8-4A81-98F0-5452C364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DE0F-5047-4D5F-AAF5-1033D769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1A1C-9AB5-4C0F-8829-12552200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2A2C-01E6-4570-80C0-4CE33108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9E9E-6655-47DD-8D17-7A49D7E7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6DF8-1552-4A91-85F2-5F76048C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1ABC-0762-4C28-8531-1BF84AA7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8D85-A196-41A9-8C9B-E543CB44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72DD-6AAB-4B84-948C-EA7AE8F8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B764-FD65-4D8A-BC1D-9A6E17D5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A6D1-53C4-4F1D-BDDF-AF92A3C7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0259-E380-4144-8A92-D957A691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FE70-ED23-4DBC-A986-BE39DDC3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1574C-9883-4782-9BCE-56419D1A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89584-CFA8-47A2-AC63-677B42AA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E6A41-1D14-4D71-9965-BDE2736E7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80A7F2-8439-43B2-90E8-C8ABEED9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A82ED-D443-4B54-85C0-A168A658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2482-573A-4A57-AA01-BECED7A8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D9B6D3-F43E-48FB-9A03-5675EBF0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13F75E-1216-4906-ADA6-95AFF669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BD91B-C663-4B7C-9C28-F1B70988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98A28-4A74-42FE-A023-2B29FDDE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40010-2D32-46F5-B9C2-00994AFA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BA5EE0-0F99-4CC4-B638-3C9FBA78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B28EF-F268-47B0-B003-5FB014FF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EA28E-6507-4DD9-A5FE-F6DAFA8D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7E061-F335-4CB6-9588-AABEE4B4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B0458-BAED-4079-BD4C-ABCD6EFF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A9F-CE3D-4B86-B7BC-258C09CB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54AF7-FF70-4B84-9F65-8C28965F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25F2E-004B-40A8-9204-2C65BED8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5AAC5-51F8-47E0-906F-A19DB764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71561-1523-41B2-A829-5DB1B5ED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06A24-0684-48C3-AAC8-E76925C1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796B-81F8-4409-A568-91986066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42E20-C8C2-4864-BFF1-34020724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8587-8EA7-47CE-945D-356A3ADAC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EE03-E6F3-45BF-8C28-A2E02C41D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B20-8816-43CA-9710-DAE04BA9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AFF-AAD3-4D88-B92D-388A2663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796-F8C9-4891-9605-DDA09337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410-93F2-4B5A-95E1-BCE4E177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A65-E779-47BD-9542-39176F27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372B-3081-43A5-8040-0C879D1723D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0527-A4C1-408C-9B9B-94F09898EED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C171-080D-4593-8399-E3E70090BB6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533B-B100-4D80-88A3-A32F18E135A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9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Основные технологические приёмы работы с текстом на уроке.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563640" y="5084280"/>
            <a:ext cx="53132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24456"/>
                </a:solidFill>
                <a:latin typeface="Georgia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24456"/>
                </a:solidFill>
                <a:latin typeface="Georgia"/>
              </a:rPr>
              <a:t>МБОУ «Улыбышевская основная ООШ»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424456"/>
                </a:solidFill>
                <a:latin typeface="Georgia"/>
              </a:rPr>
              <a:t>Мышова Т.В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692280"/>
            <a:ext cx="82296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4a5e"/>
                </a:solidFill>
                <a:latin typeface="Monotype Corsiva"/>
              </a:rPr>
              <a:t>Технология критического мышления позволяет определить сферу комфортности для каждого. Использование данной стратегии ориентировано на развитие навыков вдумчивой работы с любой информацией , а не только с текстом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временная стратегия модернизации образования предполагает, что в основу обновления образования должны быть положены  «ключевые компетентности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овое качество обучения требует разработки и отбора приёмов и технологий, обеспечивающих  деятельностный подход, формирование целостной системы самостоятельной деятельности и личной ответственности учащихся, максимально  инициирующих  и стимулирующих активность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Помочь оживить урок и сделать его более  эффективнее в плане развития ключевых компетентностей учащихся может технология критического мышления  (известная в России с 1997 года)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Овал 1"/>
          <p:cNvSpPr/>
          <p:nvPr/>
        </p:nvSpPr>
        <p:spPr>
          <a:xfrm>
            <a:off x="3564000" y="1989000"/>
            <a:ext cx="1800000" cy="208764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Методические приё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2"/>
          <p:cNvSpPr/>
          <p:nvPr/>
        </p:nvSpPr>
        <p:spPr>
          <a:xfrm>
            <a:off x="1763640" y="476280"/>
            <a:ext cx="1944720" cy="144000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синкв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Прямая со стрелкой 4"/>
          <p:cNvCxnSpPr/>
          <p:nvPr/>
        </p:nvCxnSpPr>
        <p:spPr>
          <a:xfrm>
            <a:off x="3203280" y="1773000"/>
            <a:ext cx="1369080" cy="115164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21" name="Овал 5"/>
          <p:cNvSpPr/>
          <p:nvPr/>
        </p:nvSpPr>
        <p:spPr>
          <a:xfrm>
            <a:off x="5219640" y="549360"/>
            <a:ext cx="2089080" cy="122400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класт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6443640" y="2997360"/>
            <a:ext cx="2160720" cy="158400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риём «верите ли вы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10"/>
          <p:cNvSpPr/>
          <p:nvPr/>
        </p:nvSpPr>
        <p:spPr>
          <a:xfrm>
            <a:off x="3708360" y="4869000"/>
            <a:ext cx="1871640" cy="158436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Приём «ЗХ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11"/>
          <p:cNvSpPr/>
          <p:nvPr/>
        </p:nvSpPr>
        <p:spPr>
          <a:xfrm>
            <a:off x="611280" y="3068640"/>
            <a:ext cx="1922400" cy="149076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инсе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Прямая со стрелкой 13"/>
          <p:cNvCxnSpPr/>
          <p:nvPr/>
        </p:nvCxnSpPr>
        <p:spPr>
          <a:xfrm>
            <a:off x="5364000" y="3212640"/>
            <a:ext cx="1369440" cy="36108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cxnSp>
        <p:nvCxnSpPr>
          <p:cNvPr id="226" name="Прямая со стрелкой 18"/>
          <p:cNvCxnSpPr/>
          <p:nvPr/>
        </p:nvCxnSpPr>
        <p:spPr>
          <a:xfrm flipH="1">
            <a:off x="4716000" y="1484280"/>
            <a:ext cx="1224720" cy="1440360"/>
          </a:xfrm>
          <a:prstGeom prst="straightConnector1">
            <a:avLst/>
          </a:prstGeom>
          <a:ln w="9360">
            <a:solidFill>
              <a:srgbClr val="53548a"/>
            </a:solidFill>
            <a:miter/>
            <a:tailEnd len="med" type="arrow" w="med"/>
          </a:ln>
        </p:spPr>
      </p:cxnSp>
      <p:sp>
        <p:nvSpPr>
          <p:cNvPr id="227" name="Прямая соединительная линия 22"/>
          <p:cNvSpPr/>
          <p:nvPr/>
        </p:nvSpPr>
        <p:spPr>
          <a:xfrm flipH="1">
            <a:off x="2195640" y="3213000"/>
            <a:ext cx="1512720" cy="28728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ая соединительная линия 24"/>
          <p:cNvSpPr/>
          <p:nvPr/>
        </p:nvSpPr>
        <p:spPr>
          <a:xfrm>
            <a:off x="4572000" y="3860640"/>
            <a:ext cx="0" cy="144000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ая соединительная линия 26"/>
          <p:cNvSpPr/>
          <p:nvPr/>
        </p:nvSpPr>
        <p:spPr>
          <a:xfrm>
            <a:off x="4427640" y="2637000"/>
            <a:ext cx="576000" cy="1296720"/>
          </a:xfrm>
          <a:prstGeom prst="line">
            <a:avLst/>
          </a:prstGeom>
          <a:ln w="936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Кластеры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– выделение смысловых единиц текста и графическое оформление в определённом порядке в виде кластера, грозди (может применяться на различных этапах уроках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Большой потенциал имеет этот приём и на стадии рефлексии. Задача этой формы не только в систематизации материала, но установлении причинно-следственных связей между гроздьям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Заданием может стать и укрепление одной или нескольких «гроздей» , выделение новы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620280"/>
            <a:ext cx="8229600" cy="59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ехнология «критического мышления» предлагает методический приём, известный как ИНСЕРТ.  Этот приём является средством, позволяющим ученику отслеживать своё понимание прочитанного текста. Технически  он достаточно прост.  Учащиеся знакомятся с рядом маркировочных знаков и им предлагается по мере чтения ставить их карандашом на полях специально подобранного и распечатанного текст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Например</a:t>
            </a:r>
            <a:r>
              <a:rPr b="0" i="1" lang="ru-RU" sz="2000" spc="-1" strike="noStrike">
                <a:solidFill>
                  <a:srgbClr val="c00000"/>
                </a:solidFill>
                <a:latin typeface="Georgia"/>
              </a:rPr>
              <a:t>: «галочка»(</a:t>
            </a:r>
            <a:r>
              <a:rPr b="0" i="1" lang="en-US" sz="2000" spc="-1" strike="noStrike">
                <a:solidFill>
                  <a:srgbClr val="c00000"/>
                </a:solidFill>
                <a:latin typeface="Georgia"/>
              </a:rPr>
              <a:t>V) – </a:t>
            </a:r>
            <a:r>
              <a:rPr b="0" i="1" lang="ru-RU" sz="2000" spc="-1" strike="noStrike">
                <a:solidFill>
                  <a:srgbClr val="c00000"/>
                </a:solidFill>
                <a:latin typeface="Georgia"/>
              </a:rPr>
              <a:t>отмечается в тексте информация, которая уже известна ученику; «плюс» (+) – отмечается новое знание, новая информация; «минус» (-) – отмечается то, что идёт в разрез с имеющимся у  ученика представлениями, о чём он думал иначе; «вопрос» (?) – отмечается то, что осталось непонятным и требует дополнительных сведений, вызывает желание узнать подробнее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Завершением данной работы для ученика начальных классов, как правило, является устное обсуждение. Очень важно, чтобы обучающиеся в процессе обсуждения зачитывали текст, ссылаясь на него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691920"/>
            <a:ext cx="84960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ём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«ЗХУ»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вариация «инсерта»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то одна из форм контроля эффективности чтения с пометками, является составление маркировочной таблицы. В ней три колонк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каждую из колонок необходимо разнести информацию, полученную в ходе чтения. Особое требование- записывать сведения, понятия или факты следует своими словами, не цитируя учебник или иной текст. Такой приём позволяет учителю проконтролировать работу каждого ученика и оценить её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611280" y="2565360"/>
          <a:ext cx="7848360" cy="576360"/>
        </p:xfrm>
        <a:graphic>
          <a:graphicData uri="http://schemas.openxmlformats.org/drawingml/2006/table">
            <a:tbl>
              <a:tblPr/>
              <a:tblGrid>
                <a:gridCol w="2448000"/>
                <a:gridCol w="3313080"/>
                <a:gridCol w="208728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Что мы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З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Что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Х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тим узн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Georgia"/>
                        </a:rPr>
                        <a:t>У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зн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765000"/>
            <a:ext cx="8229600" cy="58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лово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«СИНКВЕЙ»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исходит от французского «пять». Это стихотворение из пяти строк, гд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-ая строка – тема стихотворения, выраженная одним словом (обычно это имя существительное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-ая строка – описание темы в двух словах, как правило, это имя прилагательно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-я строка – описание действия, в рамках данной темы  тремя словами, обычно это глаголы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4-ая строка – фраза из 4-х слов, выражающая отношение автора к данной тем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5-ая строка – одно слово, синоним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к первому,  эмоциональное,  образное обобщение , повторяющее суть темы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765000"/>
            <a:ext cx="8229600" cy="58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ём «Верите ли ВЫ?» может служить началом урока, когда обучающиеся, выбирая верные утверждения из предложенных учителе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Затем просим учеников установить верны ли данные утверждения, обосновывая свой ответ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сле знакомства с новой информацией мы возвращаемся к данным утверждениям и просим детей оценить их достоверность, используя полученную на уроке информацию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.о. , эффективность процесса обучения на уроке зависит от умения правильно выбрать технологические приёмы, удачно комбинировать их, вмещать их в рамки уже знакомых традиционных форм урока. Важно понимать, что каждый ученик успешен, талантлив и уникален во всё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3T14:44:28Z</dcterms:created>
  <dc:creator>Татьяна</dc:creator>
  <dc:description/>
  <dc:language>en-US</dc:language>
  <cp:lastModifiedBy>Татьяна</cp:lastModifiedBy>
  <dcterms:modified xsi:type="dcterms:W3CDTF">2014-11-25T17:14:43Z</dcterms:modified>
  <cp:revision>59</cp:revision>
  <dc:subject/>
  <dc:title>Слайд 1</dc:title>
</cp:coreProperties>
</file>