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1A8-C7F3-4E14-9344-BF04F497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317-F0DE-4CA2-8D51-BDD90028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D86-9C7A-4CD7-8D30-E2D5E12B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2DF-2D95-46AD-A83A-F4CD36B1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9A39-9480-4BCB-A5D1-2638C6A1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1FB3-3462-44DD-AB4E-D23AE0F8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8508-BB99-4E08-9F2C-57DBB795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0726-EC16-457F-8E20-3367E61B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E78D-E722-4E77-98A1-63DBD939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7EBF-5D34-4079-8AE4-E6365FBE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AE94-CB8B-4EDF-B676-E354D02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FD3-62A7-4CF0-9383-DC41FF58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AB04-0D13-4483-AFBA-511A42E6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0470-9980-469A-99F5-622422CA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0682-4633-4B17-97E7-7B3BCAC0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3CCB-2325-44B9-9EDC-6D7D6FA0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7ED6-C57B-4532-9B3C-1B3E6773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66117-39B3-4B68-88B4-98994E98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44124-E5AF-4E12-ADA0-2EFDEF7F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DEFA7-1903-46A5-BC8F-D73C7984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65C44-70A1-4C72-B760-BC6DE360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DF5FB-001E-4809-9CB4-83D32712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071-65E8-4A99-B780-3EC3FDD4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8401D-178F-40F1-A1C5-D3DD30FE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E916C-9041-4059-96C9-2C4C62A0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67C32-39B3-4E46-AD92-5EA97EB1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39741-FEC3-4BEC-ABE4-FD47B582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E0B9E-0CCC-491F-ADEF-9010825B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9354D-5DC6-4C1A-B55C-CC681FB3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6C345-2562-4D55-B16C-0D669BBA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A91F6-4AA9-4241-8773-4C4C4A73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6C4B-0991-4E68-BA76-47A9C6D6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82C6C-7A91-4936-A7AF-480B62F2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A49-00E2-4E6D-AE49-685C453B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E4672-C2CE-4091-AAB9-E73A69AA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B38F4-20F1-4B24-BFF0-3AFE37B5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7AC9-772C-46AC-851C-7C19B326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D47C-5FDC-4B2A-B56D-2C152DAC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2723E-E33C-4279-94A4-3B8584D1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6C3CF-DFAF-4558-9EB0-E1B6CDEC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EFC9-EFC1-4721-A8E8-42CEAD0B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194CB-037D-4889-B54A-61B7A9EF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527D3-E45A-479D-8855-13C02C2B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C93-09CB-4BF6-9A5D-78D86227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E14-4727-4054-9D58-7580D615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89D-2193-4B81-9712-B1178A6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1DA-42AC-4FB8-A1CF-5BA91A3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45A-E590-4AFF-AFA8-EFFF28A0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85F3-CCC7-4514-BACA-1F1A68C2C99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AE1D-8D6B-4CE5-B7D1-85E8E798AD5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971D-548C-4829-B285-5B2B2477058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C051-71D5-49F7-B854-1C846944B5F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Основные технологические приёмы работы с текстом на уроке.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563640" y="5084280"/>
            <a:ext cx="53132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24456"/>
                </a:solidFill>
                <a:latin typeface="Georgia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24456"/>
                </a:solidFill>
                <a:latin typeface="Georgia"/>
              </a:rPr>
              <a:t>МБОУ «Улыбышевская основная ООШ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24456"/>
                </a:solidFill>
                <a:latin typeface="Georgia"/>
              </a:rPr>
              <a:t>Мышова Т.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69228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4a5e"/>
                </a:solidFill>
                <a:latin typeface="Monotype Corsiva"/>
              </a:rPr>
              <a:t>Технология критического мышления позволяет определить сферу комфортности для каждого. Использование данной стратегии ориентировано на развитие навыков вдумчивой работы с любой информацией , а не только с текстом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ременная стратегия модернизации образования предполагает, что в основу обновления образования должны быть положены  «ключевые компетентности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вое качество обучения требует разработки и отбора приёмов и технологий, обеспечивающих  деятельностный подход, формирование целостной системы самостоятельной деятельности и личной ответственности учащихся, максимально  инициирующих  и стимулирующих активн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Помочь оживить урок и сделать его более  эффективнее в плане развития ключевых компетентностей учащихся может технология критического мышления  (известная в России с 1997 года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Овал 1"/>
          <p:cNvSpPr/>
          <p:nvPr/>
        </p:nvSpPr>
        <p:spPr>
          <a:xfrm>
            <a:off x="3564000" y="1989000"/>
            <a:ext cx="1800000" cy="208764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етодические приё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2"/>
          <p:cNvSpPr/>
          <p:nvPr/>
        </p:nvSpPr>
        <p:spPr>
          <a:xfrm>
            <a:off x="1763640" y="476280"/>
            <a:ext cx="1944720" cy="144000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инк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4"/>
          <p:cNvCxnSpPr/>
          <p:nvPr/>
        </p:nvCxnSpPr>
        <p:spPr>
          <a:xfrm>
            <a:off x="3203280" y="1773000"/>
            <a:ext cx="1369080" cy="11516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21" name="Овал 5"/>
          <p:cNvSpPr/>
          <p:nvPr/>
        </p:nvSpPr>
        <p:spPr>
          <a:xfrm>
            <a:off x="5219640" y="549360"/>
            <a:ext cx="2089080" cy="122400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класт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6443640" y="2997360"/>
            <a:ext cx="2160720" cy="158400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риём «верите ли вы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10"/>
          <p:cNvSpPr/>
          <p:nvPr/>
        </p:nvSpPr>
        <p:spPr>
          <a:xfrm>
            <a:off x="3708360" y="4869000"/>
            <a:ext cx="1871640" cy="158436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риём «ЗХ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11"/>
          <p:cNvSpPr/>
          <p:nvPr/>
        </p:nvSpPr>
        <p:spPr>
          <a:xfrm>
            <a:off x="611280" y="3068640"/>
            <a:ext cx="1922400" cy="149076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инс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 стрелкой 13"/>
          <p:cNvCxnSpPr/>
          <p:nvPr/>
        </p:nvCxnSpPr>
        <p:spPr>
          <a:xfrm>
            <a:off x="5364000" y="3212640"/>
            <a:ext cx="1369440" cy="3610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26" name="Прямая со стрелкой 18"/>
          <p:cNvCxnSpPr/>
          <p:nvPr/>
        </p:nvCxnSpPr>
        <p:spPr>
          <a:xfrm flipH="1">
            <a:off x="4716000" y="1484280"/>
            <a:ext cx="1224720" cy="14403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27" name="Прямая соединительная линия 22"/>
          <p:cNvSpPr/>
          <p:nvPr/>
        </p:nvSpPr>
        <p:spPr>
          <a:xfrm flipH="1">
            <a:off x="2195640" y="3213000"/>
            <a:ext cx="1512720" cy="2872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24"/>
          <p:cNvSpPr/>
          <p:nvPr/>
        </p:nvSpPr>
        <p:spPr>
          <a:xfrm>
            <a:off x="4572000" y="3860640"/>
            <a:ext cx="0" cy="1440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6"/>
          <p:cNvSpPr/>
          <p:nvPr/>
        </p:nvSpPr>
        <p:spPr>
          <a:xfrm>
            <a:off x="4427640" y="2637000"/>
            <a:ext cx="576000" cy="12967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ластеры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– выделение смысловых единиц текста и графическое оформление в определённом порядке в виде кластера, грозди (может применяться на различных этапах уроках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Большой потенциал имеет этот приём и на стадии рефлексии. Задача этой формы не только в систематизации материала, но установлении причинно-следственных связей между гроздьям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аданием может стать и укрепление одной или нескольких «гроздей» , выделение новы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620280"/>
            <a:ext cx="8229600" cy="59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ехнология «критического мышления» предлагает методический приём, известный как ИНСЕРТ.  Этот приём является средством, позволяющим ученику отслеживать своё понимание прочитанного текста. Технически  он достаточно прост.  Учащиеся знакомятся с рядом маркировочных знаков и им предлагается по мере чтения ставить их карандашом на полях специально подобранного и распечатанного текст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Например</a:t>
            </a:r>
            <a:r>
              <a:rPr b="0" i="1" lang="ru-RU" sz="2000" spc="-1" strike="noStrike">
                <a:solidFill>
                  <a:srgbClr val="c00000"/>
                </a:solidFill>
                <a:latin typeface="Georgia"/>
              </a:rPr>
              <a:t>: «галочка»(</a:t>
            </a:r>
            <a:r>
              <a:rPr b="0" i="1" lang="en-US" sz="2000" spc="-1" strike="noStrike">
                <a:solidFill>
                  <a:srgbClr val="c00000"/>
                </a:solidFill>
                <a:latin typeface="Georgia"/>
              </a:rPr>
              <a:t>V) – </a:t>
            </a:r>
            <a:r>
              <a:rPr b="0" i="1" lang="ru-RU" sz="2000" spc="-1" strike="noStrike">
                <a:solidFill>
                  <a:srgbClr val="c00000"/>
                </a:solidFill>
                <a:latin typeface="Georgia"/>
              </a:rPr>
              <a:t>отмечается в тексте информация, которая уже известна ученику; «плюс» (+) – отмечается новое знание, новая информация; «минус» (-) – отмечается то, что идёт в разрез с имеющимся у  ученика представлениями, о чём он думал иначе; «вопрос» (?) – отмечается то, что осталось непонятным и требует дополнительных сведений, вызывает желание узнать подробне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вершением данной работы для ученика начальных классов, как правило, является устное обсуждение. Очень важно, чтобы обучающиеся в процессе обсуждения зачитывали текст, ссылаясь на нег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691920"/>
            <a:ext cx="84960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ём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ЗХУ»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вариация «инсерта»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дна из форм контроля эффективности чтения с пометками, является составление маркировочной таблицы. В ней три колонк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каждую из колонок необходимо разнести информацию, полученную в ходе чтения. Особое требование- записывать сведения, понятия или факты следует своими словами, не цитируя учебник или иной текст. Такой приём позволяет учителю проконтролировать работу каждого ученика и оценить её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11280" y="2565360"/>
          <a:ext cx="7848360" cy="576360"/>
        </p:xfrm>
        <a:graphic>
          <a:graphicData uri="http://schemas.openxmlformats.org/drawingml/2006/table">
            <a:tbl>
              <a:tblPr/>
              <a:tblGrid>
                <a:gridCol w="2448000"/>
                <a:gridCol w="3313080"/>
                <a:gridCol w="20872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Что мы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З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Что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тим у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У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н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765000"/>
            <a:ext cx="822960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лово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«СИНКВЕЙ»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исходит от французского «пять». Это стихотворение из пяти строк, г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-ая строка – тема стихотворения, выраженная одним словом (обычно это имя существительное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-ая строка – описание темы в двух словах, как правило, это имя прилагательно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-я строка – описание действия, в рамках данной темы  тремя словами, обычно это глаголы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4-ая строка – фраза из 4-х слов, выражающая отношение автора к данной тем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5-ая строка – одно слово, синоним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первому,  эмоциональное,  образное обобщение , повторяющее суть темы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765000"/>
            <a:ext cx="822960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ём «Верите ли ВЫ?» может служить началом урока, когда обучающиеся, выбирая верные утверждения из предложенных учителе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тем просим учеников установить верны ли данные утверждения, обосновывая свой отве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сле знакомства с новой информацией мы возвращаемся к данным утверждениям и просим детей оценить их достоверность, используя полученную на уроке информацию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.о. , эффективность процесса обучения на уроке зависит от умения правильно выбрать технологические приёмы, удачно комбинировать их, вмещать их в рамки уже знакомых традиционных форм урока. Важно понимать, что каждый ученик успешен, талантлив и уникален во всё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14:44:28Z</dcterms:created>
  <dc:creator>Татьяна</dc:creator>
  <dc:description/>
  <dc:language>en-US</dc:language>
  <cp:lastModifiedBy>Татьяна</cp:lastModifiedBy>
  <dcterms:modified xsi:type="dcterms:W3CDTF">2014-11-25T17:14:43Z</dcterms:modified>
  <cp:revision>59</cp:revision>
  <dc:subject/>
  <dc:title>Слайд 1</dc:title>
</cp:coreProperties>
</file>