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526-A8F5-487A-91E1-6C2889B4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781-1429-42E1-958B-2212145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365-2542-4153-BB61-04BDC744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81E-9A47-469A-ABDE-15EF1764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36E-B624-47C1-95F6-887D0E52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D24-EB64-42D5-9B48-777DA196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7AA-E6CB-4232-AEF3-712E18F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33D-1E27-415E-A9E0-DE5EE749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F6A-DB67-43F4-8572-4CB5D3B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7B8-AF38-4B76-9A82-9DCA406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9C1-0699-481F-BDBE-4F5EE47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895-DBB6-411A-94A4-0AA6D20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F17-D221-4C26-B814-E2FC33E8A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600" y="571320"/>
            <a:ext cx="6886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гзагообразная строч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http://im7-tub-ru.yandex.net/i?id=33587984-42-72&amp;n=21"/>
          <p:cNvPicPr/>
          <p:nvPr/>
        </p:nvPicPr>
        <p:blipFill>
          <a:blip r:embed="rId1"/>
          <a:stretch/>
        </p:blipFill>
        <p:spPr>
          <a:xfrm>
            <a:off x="3143160" y="1857240"/>
            <a:ext cx="4103640" cy="6368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http://im3-tub-ru.yandex.net/i?id=365797721-51-72&amp;n=21"/>
          <p:cNvPicPr/>
          <p:nvPr/>
        </p:nvPicPr>
        <p:blipFill>
          <a:blip r:embed="rId2"/>
          <a:stretch/>
        </p:blipFill>
        <p:spPr>
          <a:xfrm>
            <a:off x="3643200" y="3571920"/>
            <a:ext cx="302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чивание резинки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http://im6-tub-ru.yandex.net/i?id=570402667-04-72&amp;n=21"/>
          <p:cNvPicPr/>
          <p:nvPr/>
        </p:nvPicPr>
        <p:blipFill>
          <a:blip r:embed="rId1"/>
          <a:stretch/>
        </p:blipFill>
        <p:spPr>
          <a:xfrm>
            <a:off x="3857760" y="2143080"/>
            <a:ext cx="446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аппли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1"/>
          <a:stretch/>
        </p:blipFill>
        <p:spPr>
          <a:xfrm>
            <a:off x="2286000" y="142884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im3-tub-ru.yandex.net/i?id=581055161-26-72&amp;n=21"/>
          <p:cNvPicPr/>
          <p:nvPr/>
        </p:nvPicPr>
        <p:blipFill>
          <a:blip r:embed="rId2"/>
          <a:stretch/>
        </p:blipFill>
        <p:spPr>
          <a:xfrm>
            <a:off x="2286000" y="4714920"/>
            <a:ext cx="20890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http://im8-tub-ru.yandex.net/i?id=3303405-37-72&amp;n=21"/>
          <p:cNvPicPr/>
          <p:nvPr/>
        </p:nvPicPr>
        <p:blipFill>
          <a:blip r:embed="rId3"/>
          <a:stretch/>
        </p:blipFill>
        <p:spPr>
          <a:xfrm>
            <a:off x="6572160" y="2571840"/>
            <a:ext cx="230364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http://im0-tub-ru.yandex.net/i?id=36955474-23-72&amp;n=21"/>
          <p:cNvPicPr/>
          <p:nvPr/>
        </p:nvPicPr>
        <p:blipFill>
          <a:blip r:embed="rId4"/>
          <a:stretch/>
        </p:blipFill>
        <p:spPr>
          <a:xfrm>
            <a:off x="6643800" y="4500720"/>
            <a:ext cx="2232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8640" y="285480"/>
            <a:ext cx="7515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строчки зиг-заг на универсальной швейной машин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ручку выбора строчек на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 длины стежка от 1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 ширины строчки 1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ирина\Pictures\Мои сканированные изображения\2012-11 (ноя)\сканирование0011.jpg"/>
          <p:cNvPicPr/>
          <p:nvPr/>
        </p:nvPicPr>
        <p:blipFill>
          <a:blip r:embed="rId1"/>
          <a:stretch/>
        </p:blipFill>
        <p:spPr>
          <a:xfrm>
            <a:off x="6189840" y="3429000"/>
            <a:ext cx="2954160" cy="2232000"/>
          </a:xfrm>
          <a:prstGeom prst="rect">
            <a:avLst/>
          </a:prstGeom>
          <a:ln w="0">
            <a:noFill/>
          </a:ln>
        </p:spPr>
      </p:pic>
      <p:cxnSp>
        <p:nvCxnSpPr>
          <p:cNvPr id="47" name="Прямая со стрелкой 13"/>
          <p:cNvCxnSpPr/>
          <p:nvPr/>
        </p:nvCxnSpPr>
        <p:spPr>
          <a:xfrm flipH="1">
            <a:off x="6659280" y="1989000"/>
            <a:ext cx="505440" cy="237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Прямая со стрелкой 15"/>
          <p:cNvCxnSpPr/>
          <p:nvPr/>
        </p:nvCxnSpPr>
        <p:spPr>
          <a:xfrm>
            <a:off x="5866920" y="3176640"/>
            <a:ext cx="1297800" cy="13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20"/>
          <p:cNvCxnSpPr/>
          <p:nvPr/>
        </p:nvCxnSpPr>
        <p:spPr>
          <a:xfrm>
            <a:off x="5866920" y="4365360"/>
            <a:ext cx="245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0" name="Рисунок 22" descr="http://im8-tub-ru.yandex.net/i?id=524563511-19-72&amp;n=21"/>
          <p:cNvPicPr/>
          <p:nvPr/>
        </p:nvPicPr>
        <p:blipFill>
          <a:blip r:embed="rId2"/>
          <a:stretch/>
        </p:blipFill>
        <p:spPr>
          <a:xfrm>
            <a:off x="1258920" y="4869000"/>
            <a:ext cx="37447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тывание сре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кра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3203640" y="1754280"/>
            <a:ext cx="547200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im7-tub-ru.yandex.net/i?id=112957915-62-72&amp;n=21"/>
          <p:cNvPicPr/>
          <p:nvPr/>
        </p:nvPicPr>
        <p:blipFill>
          <a:blip r:embed="rId2"/>
          <a:stretch/>
        </p:blipFill>
        <p:spPr>
          <a:xfrm>
            <a:off x="684360" y="2168640"/>
            <a:ext cx="16398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тывание пе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3000240" y="2000160"/>
            <a:ext cx="562788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im8-tub-ru.yandex.net/i?id=4766723-22-72&amp;n=21"/>
          <p:cNvPicPr/>
          <p:nvPr/>
        </p:nvPicPr>
        <p:blipFill>
          <a:blip r:embed="rId2"/>
          <a:stretch/>
        </p:blipFill>
        <p:spPr>
          <a:xfrm>
            <a:off x="5500800" y="4500720"/>
            <a:ext cx="3024000" cy="1573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im8-tub-ru.yandex.net/i?id=105265141-47-72&amp;n=21"/>
          <p:cNvPicPr/>
          <p:nvPr/>
        </p:nvPicPr>
        <p:blipFill>
          <a:blip r:embed="rId3"/>
          <a:stretch/>
        </p:blipFill>
        <p:spPr>
          <a:xfrm>
            <a:off x="1258920" y="4286160"/>
            <a:ext cx="1728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ивание тканей вст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3357720" y="1928880"/>
            <a:ext cx="530064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im4-tub-ru.yandex.net/i?id=276109756-41-72&amp;n=21"/>
          <p:cNvPicPr/>
          <p:nvPr/>
        </p:nvPicPr>
        <p:blipFill>
          <a:blip r:embed="rId2"/>
          <a:stretch/>
        </p:blipFill>
        <p:spPr>
          <a:xfrm>
            <a:off x="3071880" y="4500720"/>
            <a:ext cx="381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ивание кружев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500280" y="2357280"/>
            <a:ext cx="5289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720" y="-286200"/>
            <a:ext cx="6000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ивание тесьмы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2571840" y="2286000"/>
            <a:ext cx="6352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ивание пугов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3857760" y="1357200"/>
            <a:ext cx="42480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3:36:14Z</dcterms:created>
  <dc:creator>ирина</dc:creator>
  <dc:description/>
  <dc:language>en-US</dc:language>
  <cp:lastModifiedBy>Юзер</cp:lastModifiedBy>
  <dcterms:modified xsi:type="dcterms:W3CDTF">2017-01-04T12:39:45Z</dcterms:modified>
  <cp:revision>6</cp:revision>
  <dc:subject/>
  <dc:title>Зигзагообразная строчка</dc:title>
</cp:coreProperties>
</file>