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9A52-ED82-41E6-848A-9F80E813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998D-A958-46E5-9B2E-C413168F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D285-3DE0-4758-A540-FF82EFDF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F759-30E0-402A-9462-CC73119D5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68A6E-0BD9-4E6F-A8CC-993858AF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3800B-1520-40EF-85A0-262A09FD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84AE0-D2B7-4B71-8539-7ECF84C8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1D7CE-A834-434C-BC3C-05D712CF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1BA33-7E6A-443C-A0FF-E6088790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F4FA6-1925-4995-B88F-75440D5B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3BB5A-73AF-4EC0-8B94-1C5F3A02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F947-06E2-439E-A6A9-A1DC218E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DB428-3072-4240-8AFF-2A64D7B9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D7C63-A0B4-4056-AA09-01344321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0075D-584D-4EDC-81F4-7D246BEB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3EC8A-7808-475C-A4BD-7533DE36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5C847-9247-4376-ACB7-760DA7A2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42E0-78E0-459B-B6FE-2EC01491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9CCE-4551-4B4A-8C55-54D5C684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F54C-86AE-4176-B0E3-DE4AE1E1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5B37-E7EA-4A3E-9002-DB94E8BA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E204-3E46-4357-8A74-152DCF4C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1910-8D34-4713-B5BB-CC302F7B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4767-DE5D-4980-B980-E37656BE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F16B-3EBA-420D-B798-625FCCB15D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87B0-62DF-4925-95E0-442B65D109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омывание желудка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омывание желуд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мывание желудка — лечебная процедура многократного введения в желудок и удаления из него  воды при помощи желудочного зонда и ворон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омывание желудка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казанием к лечебному П. ж. являются отравления различными ядами, принятыми внутрь, пищевые отравления, гастриты с обильным образованием слизи, реже — уремия (при значительном выделении азотсодержащих соединений через слизистую оболочку желудка), острый некроз желудка и др. Диагностическое П. ж. применяют при заболеваниях желудка (главным образом для цитологического исследования промывных вод), а также для идентификации яда при отравлениях и для выделения возбудителя при бронхолегочных воспалениях (в случае заглатывания больным мокроты) и инфекционных поражениях желуд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тивопоказания к П. ж. (зондовым методом): крупные дивертикулы и значительное сужение пищевода, отдаленные сроки (более 6—8 ч) после тяжелого отравления крепкими кислотами и щелочами (возможна перфорация стенки пищевода). Относительные противопоказания: острый инфаркт миокарда, острая фаза инсульта, эпилепсия с частыми судорожными припадками (в связи с возможностью перекусывания зонда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2T08:22:06Z</dcterms:created>
  <dc:creator>XTreme.ws</dc:creator>
  <dc:description/>
  <dc:language>en-US</dc:language>
  <cp:lastModifiedBy>XTreme.ws</cp:lastModifiedBy>
  <dcterms:modified xsi:type="dcterms:W3CDTF">2013-06-12T08:31:21Z</dcterms:modified>
  <cp:revision>1</cp:revision>
  <dc:subject/>
  <dc:title>Промывание желуд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