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F617-F86B-4305-AAB0-C5639A11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075-9833-42F5-87D7-E3DA888D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9E08-F1DA-4FCB-9952-19EA1CCC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1240-9B5A-424A-98D0-BB903ED7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F32AC-ED7A-4975-A0C1-E7DCAD22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0CC4-196C-48EA-AEA0-882DB66D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278C-9DBB-40D0-9161-7F46BA65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A35CCD-163B-4AF8-83D4-AF5FD642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F5289-0145-49B6-A848-4614AFA6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B6FF4-3491-4AFA-A5AE-FBCA2E34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7E2F-D76F-428E-BA12-E2D4F38D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6B8-947A-4231-86D1-A8BCA66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8D899-87F7-4F20-8F9A-B62A8AD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514B5-FBB8-44B0-AEEA-1DB9EA55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89A89-0434-494B-A7BD-A139F12ED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9155B-AEA3-4370-8D7A-CDE1E0AB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7120D-485C-4474-A36B-D1689128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67D-A3BC-4ADE-8120-116BDDFB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C1C6-660E-4022-8CA7-8AB0F278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0587-ED9C-4DD2-811E-87DAAF43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D81-EDAB-4661-8425-36ED1FA7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D76-A074-4558-8445-1871D3F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9DD-C93A-4043-AC7B-1F055454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36C-2415-49D4-8088-5A914873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7249-4731-4D5F-9CBE-906B588865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2BED-ED9D-411C-A138-B0F0B7C90D1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вание желуд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вание желудк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вание желудка — лечебная процедура многократного введения в желудок и удаления из него  воды при помощи желудочного зонда и воро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омывание желудк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казанием к лечебному П. ж. являются отравления различными ядами, принятыми внутрь, пищевые отравления, гастриты с обильным образованием слизи, реже — уремия (при значительном выделении азотсодержащих соединений через слизистую оболочку желудка), острый некроз желудка и др. Диагностическое П. ж. применяют при заболеваниях желудка (главным образом для цитологического исследования промывных вод), а также для идентификации яда при отравлениях и для выделения возбудителя при бронхолегочных воспалениях (в случае заглатывания больным мокроты) и инфекционных поражениях желуд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тивопоказания к П. ж. (зондовым методом): крупные дивертикулы и значительное сужение пищевода, отдаленные сроки (более 6—8 ч) после тяжелого отравления крепкими кислотами и щелочами (возможна перфорация стенки пищевода). Относительные противопоказания: острый инфаркт миокарда, острая фаза инсульта, эпилепсия с частыми судорожными припадками (в связи с возможностью перекусывания зонд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08:22:06Z</dcterms:created>
  <dc:creator>XTreme.ws</dc:creator>
  <dc:description/>
  <dc:language>en-US</dc:language>
  <cp:lastModifiedBy>XTreme.ws</cp:lastModifiedBy>
  <dcterms:modified xsi:type="dcterms:W3CDTF">2013-06-12T08:31:21Z</dcterms:modified>
  <cp:revision>1</cp:revision>
  <dc:subject/>
  <dc:title>Промывание желуд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