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EE7-5FE4-44A8-92A6-D25FB7C4A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D245-0A0A-442B-90BD-F431199E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4AD5-D8F1-4E62-A5E2-CB5906E9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000-059D-469F-925D-293D53FF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B164-EF1E-481F-8EC8-07B98AFE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478-F227-4538-99AA-DA585F8D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F907-2D48-45DB-A467-B557688F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86A7-86D2-4424-9DF6-852893896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323-9DEE-4AA0-86C7-7D7407D4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96A7-B8B2-4DE3-803B-80CDC6F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2CA-C050-4DDB-90C2-53071129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ACCA-9121-4F69-A34A-93E7E610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C81C-1B3B-4B2F-80F8-FDD79CE95B3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999720"/>
            <a:ext cx="6429240" cy="14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c31"/>
                </a:solidFill>
                <a:latin typeface="Arial"/>
              </a:rPr>
              <a:t>Russian Souven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6920" y="3499920"/>
            <a:ext cx="464796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Alexander Shevely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Grad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Povadino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balkanpro.ru/upload/iblock/5a0/Montenegro_Souvenirs_P1240786.JPG"/>
          <p:cNvPicPr/>
          <p:nvPr/>
        </p:nvPicPr>
        <p:blipFill>
          <a:blip r:embed="rId1"/>
          <a:stretch/>
        </p:blipFill>
        <p:spPr>
          <a:xfrm>
            <a:off x="365040" y="2730600"/>
            <a:ext cx="3762360" cy="3651120"/>
          </a:xfrm>
          <a:prstGeom prst="rect">
            <a:avLst/>
          </a:prstGeom>
          <a:ln w="0">
            <a:noFill/>
          </a:ln>
        </p:spPr>
      </p:pic>
    </p:spTree>
  </p:cSld>
  <p:transition advTm="9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3" descr="karta_postavok_profnastila.jpg"/>
          <p:cNvPicPr/>
          <p:nvPr/>
        </p:nvPicPr>
        <p:blipFill>
          <a:blip r:embed="rId1"/>
          <a:stretch/>
        </p:blipFill>
        <p:spPr>
          <a:xfrm>
            <a:off x="857160" y="1285920"/>
            <a:ext cx="7429680" cy="4357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Саша\Desktop\57b26040921dd.jpg"/>
          <p:cNvPicPr/>
          <p:nvPr/>
        </p:nvPicPr>
        <p:blipFill>
          <a:blip r:embed="rId2"/>
          <a:stretch/>
        </p:blipFill>
        <p:spPr>
          <a:xfrm>
            <a:off x="6089760" y="281160"/>
            <a:ext cx="2273040" cy="2170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Саша\Desktop\0_m.jpg"/>
          <p:cNvPicPr/>
          <p:nvPr/>
        </p:nvPicPr>
        <p:blipFill>
          <a:blip r:embed="rId3"/>
          <a:stretch/>
        </p:blipFill>
        <p:spPr>
          <a:xfrm>
            <a:off x="92160" y="85680"/>
            <a:ext cx="2932200" cy="2700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Саша\Desktop\853661-1.jpg"/>
          <p:cNvPicPr/>
          <p:nvPr/>
        </p:nvPicPr>
        <p:blipFill>
          <a:blip r:embed="rId4"/>
          <a:stretch/>
        </p:blipFill>
        <p:spPr>
          <a:xfrm>
            <a:off x="5950080" y="4200480"/>
            <a:ext cx="2846160" cy="2322720"/>
          </a:xfrm>
          <a:prstGeom prst="rect">
            <a:avLst/>
          </a:prstGeom>
          <a:ln w="0">
            <a:noFill/>
          </a:ln>
        </p:spPr>
      </p:pic>
    </p:spTree>
  </p:cSld>
  <p:transition advTm="20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3860280"/>
            <a:ext cx="8305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s is matryoshca 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doll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.  </a:t>
            </a:r>
            <a:br>
              <a:rPr sz="4000"/>
            </a:b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t is a 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one of the 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symbol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 of Russ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6c31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6c31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1640" y="1356840"/>
            <a:ext cx="335772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300 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The</a:t>
            </a:r>
            <a:r>
              <a:rPr b="1" i="1" lang="ru-RU" sz="32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souvenir from Oms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Саша\Desktop\0_m.jpg"/>
          <p:cNvPicPr/>
          <p:nvPr/>
        </p:nvPicPr>
        <p:blipFill>
          <a:blip r:embed="rId1"/>
          <a:stretch/>
        </p:blipFill>
        <p:spPr>
          <a:xfrm>
            <a:off x="463680" y="731880"/>
            <a:ext cx="3376440" cy="44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715920"/>
            <a:ext cx="8156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TH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S  IS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A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 KEYCHA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N . </a:t>
            </a:r>
            <a:br>
              <a:rPr sz="3600"/>
            </a:b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THE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R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E  IS   THE  FLAG  AND   THE 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NATIONAL EMBLEM 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 OF  RU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I</a:t>
            </a:r>
            <a:r>
              <a:rPr b="1" lang="es-ES" sz="3600" spc="-1" strike="noStrike">
                <a:solidFill>
                  <a:srgbClr val="006c31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006c31"/>
                </a:solidFill>
                <a:latin typeface="Arial"/>
              </a:rPr>
              <a:t>ON THE KEY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57400" y="1500120"/>
            <a:ext cx="4071960" cy="164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c31"/>
                </a:solidFill>
                <a:latin typeface="Arial"/>
              </a:rPr>
              <a:t>100 RU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6c31"/>
                </a:solidFill>
                <a:latin typeface="Arial"/>
              </a:rPr>
              <a:t>The souvenir from Mosc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Users\Саша\Desktop\853661-1.jpg"/>
          <p:cNvPicPr/>
          <p:nvPr/>
        </p:nvPicPr>
        <p:blipFill>
          <a:blip r:embed="rId1"/>
          <a:stretch/>
        </p:blipFill>
        <p:spPr>
          <a:xfrm>
            <a:off x="835200" y="731880"/>
            <a:ext cx="29318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4240" y="3929040"/>
            <a:ext cx="815688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6c31"/>
                </a:solidFill>
                <a:latin typeface="Arial"/>
              </a:rPr>
              <a:t>  </a:t>
            </a:r>
            <a:br>
              <a:rPr sz="2200"/>
            </a:br>
            <a:r>
              <a:rPr b="1" lang="en-US" sz="2200" spc="-1" strike="noStrike">
                <a:solidFill>
                  <a:srgbClr val="006c3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THESE  ARE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  TOY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 BEARS.</a:t>
            </a:r>
            <a:br>
              <a:rPr sz="3200"/>
            </a:b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  THEY  ARE  A SYMBOL  OF  THE  OLYMPIC   GAIMS  IN  SOCHI  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IN 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201</a:t>
            </a:r>
            <a:r>
              <a:rPr b="1" lang="en-US" sz="3200" spc="-1" strike="noStrike">
                <a:solidFill>
                  <a:srgbClr val="006c31"/>
                </a:solidFill>
                <a:latin typeface="Arial"/>
              </a:rPr>
              <a:t>4</a:t>
            </a:r>
            <a:r>
              <a:rPr b="1" lang="es-ES" sz="3200" spc="-1" strike="noStrike">
                <a:solidFill>
                  <a:srgbClr val="006c3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28720" y="2071800"/>
            <a:ext cx="35290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1000 RU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c31"/>
                </a:solidFill>
                <a:latin typeface="Arial"/>
              </a:rPr>
              <a:t>The souvenir from S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Саша\Desktop\57b26040921dd.jpg"/>
          <p:cNvPicPr/>
          <p:nvPr/>
        </p:nvPicPr>
        <p:blipFill>
          <a:blip r:embed="rId1"/>
          <a:stretch/>
        </p:blipFill>
        <p:spPr>
          <a:xfrm>
            <a:off x="590400" y="1090440"/>
            <a:ext cx="3859200" cy="348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276280"/>
            <a:ext cx="7810200" cy="34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7000"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for your atten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Алёна</cp:lastModifiedBy>
  <dcterms:modified xsi:type="dcterms:W3CDTF">2017-01-04T14:13:19Z</dcterms:modified>
  <cp:revision>487</cp:revision>
  <dc:subject/>
  <dc:title>Diapositiva 1</dc:title>
</cp:coreProperties>
</file>