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CCC-5C56-4090-A71F-F25558E8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C66F-BF97-4E5C-A0F4-C6012481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F07-168D-466A-BEFD-3D9ABB79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D5C-109E-406C-9EDE-534F0694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824-3E4A-4BFA-9402-12DE429E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C06-4C10-4675-B0F0-EB6CF96F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759-485C-4419-8C98-7A33937D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8B6-9187-405B-A718-6B11279A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A29-301F-4DD0-9085-3B29EF32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FBC-9CC6-43F0-9DAE-4F465F0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231-FB18-41CB-97F3-EDA8FAA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0C0-B8AC-4113-8380-AFF1E1EC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7F2-2346-416F-A050-6D3A1275FF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642924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c31"/>
                </a:solidFill>
                <a:latin typeface="Arial"/>
              </a:rPr>
              <a:t>Russian Souven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6920" y="3499920"/>
            <a:ext cx="46479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Alexander Shevely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Grad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Povadin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balkanpro.ru/upload/iblock/5a0/Montenegro_Souvenirs_P1240786.JPG"/>
          <p:cNvPicPr/>
          <p:nvPr/>
        </p:nvPicPr>
        <p:blipFill>
          <a:blip r:embed="rId1"/>
          <a:stretch/>
        </p:blipFill>
        <p:spPr>
          <a:xfrm>
            <a:off x="365040" y="2730600"/>
            <a:ext cx="3762360" cy="3651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karta_postavok_profnastila.jpg"/>
          <p:cNvPicPr/>
          <p:nvPr/>
        </p:nvPicPr>
        <p:blipFill>
          <a:blip r:embed="rId1"/>
          <a:stretch/>
        </p:blipFill>
        <p:spPr>
          <a:xfrm>
            <a:off x="857160" y="1285920"/>
            <a:ext cx="7429680" cy="435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Саша\Desktop\57b26040921dd.jpg"/>
          <p:cNvPicPr/>
          <p:nvPr/>
        </p:nvPicPr>
        <p:blipFill>
          <a:blip r:embed="rId2"/>
          <a:stretch/>
        </p:blipFill>
        <p:spPr>
          <a:xfrm>
            <a:off x="6089760" y="281160"/>
            <a:ext cx="2273040" cy="217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Саша\Desktop\0_m.jpg"/>
          <p:cNvPicPr/>
          <p:nvPr/>
        </p:nvPicPr>
        <p:blipFill>
          <a:blip r:embed="rId3"/>
          <a:stretch/>
        </p:blipFill>
        <p:spPr>
          <a:xfrm>
            <a:off x="92160" y="85680"/>
            <a:ext cx="293220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Саша\Desktop\853661-1.jpg"/>
          <p:cNvPicPr/>
          <p:nvPr/>
        </p:nvPicPr>
        <p:blipFill>
          <a:blip r:embed="rId4"/>
          <a:stretch/>
        </p:blipFill>
        <p:spPr>
          <a:xfrm>
            <a:off x="5950080" y="4200480"/>
            <a:ext cx="2846160" cy="232272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3860280"/>
            <a:ext cx="8305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s is matryoshca 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doll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.  </a:t>
            </a:r>
            <a:br>
              <a:rPr sz="4000"/>
            </a:b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t is a 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one of the 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symbol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 of Russ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1640" y="1356840"/>
            <a:ext cx="33577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300 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The</a:t>
            </a:r>
            <a:r>
              <a:rPr b="1" i="1" lang="ru-RU" sz="32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souvenir from Om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Саша\Desktop\0_m.jpg"/>
          <p:cNvPicPr/>
          <p:nvPr/>
        </p:nvPicPr>
        <p:blipFill>
          <a:blip r:embed="rId1"/>
          <a:stretch/>
        </p:blipFill>
        <p:spPr>
          <a:xfrm>
            <a:off x="463680" y="731880"/>
            <a:ext cx="33764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715920"/>
            <a:ext cx="8156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S  IS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A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 KEYCHA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N . </a:t>
            </a:r>
            <a:br>
              <a:rPr sz="3600"/>
            </a:b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R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E  IS   THE  FLAG  AND   THE 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NATIONAL EMBLEM 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 OF  RU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ON THE KEY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57400" y="1500120"/>
            <a:ext cx="407196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c31"/>
                </a:solidFill>
                <a:latin typeface="Arial"/>
              </a:rPr>
              <a:t>100 R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c31"/>
                </a:solidFill>
                <a:latin typeface="Arial"/>
              </a:rPr>
              <a:t>The souvenir from Mosc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Саша\Desktop\853661-1.jpg"/>
          <p:cNvPicPr/>
          <p:nvPr/>
        </p:nvPicPr>
        <p:blipFill>
          <a:blip r:embed="rId1"/>
          <a:stretch/>
        </p:blipFill>
        <p:spPr>
          <a:xfrm>
            <a:off x="835200" y="731880"/>
            <a:ext cx="29318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3929040"/>
            <a:ext cx="81568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c31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THESE  ARE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  TOY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 BEARS.</a:t>
            </a:r>
            <a:br>
              <a:rPr sz="3200"/>
            </a:b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  THEY  ARE  A SYMBOL  OF  THE  OLYMPIC   GAIMS  IN  SOCHI  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IN 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201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4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28720" y="2071800"/>
            <a:ext cx="35290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1000 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The souvenir from S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Саша\Desktop\57b26040921dd.jpg"/>
          <p:cNvPicPr/>
          <p:nvPr/>
        </p:nvPicPr>
        <p:blipFill>
          <a:blip r:embed="rId1"/>
          <a:stretch/>
        </p:blipFill>
        <p:spPr>
          <a:xfrm>
            <a:off x="590400" y="1090440"/>
            <a:ext cx="385920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781020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лёна</cp:lastModifiedBy>
  <dcterms:modified xsi:type="dcterms:W3CDTF">2017-01-04T14:13:19Z</dcterms:modified>
  <cp:revision>487</cp:revision>
  <dc:subject/>
  <dc:title>Diapositiva 1</dc:title>
</cp:coreProperties>
</file>