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image9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E1F-3FE9-4F5C-BE0F-A2366CDA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9C49-C5FE-4AEA-89B4-F911AE2B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940-E3F3-419C-BF55-BE6353CA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004-B20B-4556-AD1D-0F7D82ED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8556-0C8E-47C7-931D-98C7EED3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C71C-0995-4CFC-AE67-72FF70E5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0EDB-C47B-455E-A165-14ED2F98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8FED-E7F3-43B0-93F4-08883FCB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9C84-913C-4ABE-BF15-ACF9EB05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0581-977C-4251-974B-8AD8FF9E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62B0-8411-4D00-8BA2-A7B4789F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FD9-F146-4DBB-94DA-1373B284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3FDF-B75F-4CF7-AD62-1A85CEFF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8200-206D-4E1F-BE12-D2AAC1B0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35E1-C202-4D04-A9DB-2C17F8CB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03ACA-40B1-4363-97B9-01BFBDC4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7BE2-2D9A-4696-ABFC-12AA757E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C27-4D78-4195-8D6D-D026A344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D7B-699A-4D04-BF53-5FE2F21B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0B4-9710-4470-A98F-C5945CEA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CDB-157E-4AA8-A73E-4624EEEF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D423-DBFA-4797-BE91-E82C284F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BD5-2047-445F-B015-87B8F06F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9A39-ACCB-468F-996E-A42BF1F2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ff3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8234-475A-448B-8D15-7784EF3CC4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1308-7348-4F05-A8EA-EAA519F6DF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15640" y="3429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00" spc="-1" strike="noStrike">
                <a:solidFill>
                  <a:srgbClr val="7c1302"/>
                </a:solidFill>
                <a:latin typeface="Arial"/>
              </a:rPr>
              <a:t>Свободное падение</a:t>
            </a:r>
            <a:br>
              <a:rPr sz="5700"/>
            </a:br>
            <a:endParaRPr b="1" lang="en-US" sz="57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43280" y="2708280"/>
            <a:ext cx="5976720" cy="2665440"/>
          </a:xfrm>
          <a:prstGeom prst="ellipse">
            <a:avLst/>
          </a:pr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48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c1302"/>
                </a:solidFill>
                <a:latin typeface="Arial"/>
              </a:rPr>
              <a:t>Падение тела с некоторой высоты</a:t>
            </a:r>
            <a:br>
              <a:rPr sz="3300"/>
            </a:br>
            <a:endParaRPr b="1" lang="en-US" sz="33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826920" y="3357720"/>
            <a:ext cx="6337440" cy="2836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5362560" y="404640"/>
            <a:ext cx="36082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1302"/>
                </a:solidFill>
                <a:latin typeface="Arial"/>
              </a:rPr>
              <a:t>Свободное падение тела, брошенного вертикально вверх</a:t>
            </a:r>
            <a:br>
              <a:rPr sz="3200"/>
            </a:br>
            <a:endParaRPr b="1" lang="en-US" sz="32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7686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1302"/>
                </a:solidFill>
                <a:latin typeface="Arial"/>
              </a:rPr>
              <a:t>Особенности падения тел в воздухе 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начале движения происходит почти свободное падение т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ьшение ускорения тела при возрастании его скорости из-за увеличения силы сопротивления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вномерное движение при равенстве силы сопротивления  силе притяжения тела к Земл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№</a:t>
            </a: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1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 какой высоты свободно падала сосулька, если расстояние до земли она преодолела за 4 с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2"/>
          <a:stretch/>
        </p:blipFill>
        <p:spPr>
          <a:xfrm>
            <a:off x="0" y="3933720"/>
            <a:ext cx="7704000" cy="2159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7596360" cy="1847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4"/>
          <a:stretch/>
        </p:blipFill>
        <p:spPr>
          <a:xfrm>
            <a:off x="7631280" y="0"/>
            <a:ext cx="1512720" cy="697068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6"/>
          <p:cNvSpPr/>
          <p:nvPr/>
        </p:nvSpPr>
        <p:spPr>
          <a:xfrm>
            <a:off x="2484360" y="5229360"/>
            <a:ext cx="792360" cy="936360"/>
          </a:xfrm>
          <a:prstGeom prst="rect">
            <a:avLst/>
          </a:prstGeom>
          <a:solidFill>
            <a:srgbClr val="cc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№</a:t>
            </a: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2.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/>
          <p:cNvPicPr/>
          <p:nvPr/>
        </p:nvPicPr>
        <p:blipFill>
          <a:blip r:embed="rId2"/>
          <a:stretch/>
        </p:blipFill>
        <p:spPr>
          <a:xfrm>
            <a:off x="0" y="1700280"/>
            <a:ext cx="9015480" cy="720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3"/>
          <a:stretch/>
        </p:blipFill>
        <p:spPr>
          <a:xfrm>
            <a:off x="684360" y="2852640"/>
            <a:ext cx="80308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№</a:t>
            </a: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3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Маленький стальной шарик упал с высоты 45 м. Сколько времени длилось его падение? Какое перемещение совершил шарик за первую и последнюю секунды своего движения?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7462800" cy="414972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4"/>
          <p:cNvSpPr/>
          <p:nvPr/>
        </p:nvSpPr>
        <p:spPr>
          <a:xfrm>
            <a:off x="3276720" y="3068640"/>
            <a:ext cx="5616360" cy="3789360"/>
          </a:xfrm>
          <a:prstGeom prst="rect">
            <a:avLst/>
          </a:prstGeom>
          <a:solidFill>
            <a:srgbClr val="cc99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1. Из истории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1302"/>
                </a:solidFill>
                <a:latin typeface="Arial"/>
              </a:rPr>
              <a:t>Аристотель (4 век до н.э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скорение, сообщаемое телом, тем больше, чем тяжелее те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еверн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1302"/>
                </a:solidFill>
                <a:latin typeface="Arial"/>
              </a:rPr>
              <a:t>Галилей (16 век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ла разных масс падают в вакууме с одинаковым ускорен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Опыт с трубкой Ньюто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916000" y="2205000"/>
            <a:ext cx="647640" cy="863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-458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>
                <a:solidFill>
                  <a:srgbClr val="7c1302"/>
                </a:solidFill>
                <a:latin typeface="Arial"/>
              </a:rPr>
              <a:t>Опыт Галилея.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 При фиксированном угле наклона плоскости шар скатывается с постоянным уско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. При увеличении угла наклона плоскости ускорение шаров возрас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любом угле наклона плоскости расстояние, проходимое шаром по этой плоскости, пропорционально квадрату времени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203640" y="3141720"/>
            <a:ext cx="316548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900" spc="-1" strike="noStrike">
                <a:solidFill>
                  <a:srgbClr val="7c1302"/>
                </a:solidFill>
                <a:latin typeface="Arial"/>
              </a:rPr>
              <a:t>Роберт Бойль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35280" y="2924280"/>
            <a:ext cx="5113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блюдал синхронное падение различных предметов в сосуде, из которого был откачан возду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2702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7c1302"/>
                </a:solidFill>
                <a:latin typeface="Arial"/>
              </a:rPr>
              <a:t>Кристиан Гюйгенс, </a:t>
            </a:r>
            <a:r>
              <a:rPr b="1" lang="ru-RU" sz="3900" spc="-1" strike="noStrike">
                <a:solidFill>
                  <a:srgbClr val="7c1302"/>
                </a:solidFill>
                <a:latin typeface="Arial"/>
              </a:rPr>
              <a:t>1656 г.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первые измерил ускорение свободного падения тел на Землю с помощью маятниковых час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Луне нет атмосферы, поэтому астронавты Д. Скотт и Дж. Ирвин наблюдали синхронное падение птичьего пера и молотка на поверхность Луны, происходящее с одинаковым ускорен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771640" y="3860640"/>
            <a:ext cx="36720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2. Свободное падение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6920" y="2327040"/>
            <a:ext cx="6264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движение под действием силы тяжести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яж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падение тел в вакуу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59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Ускорение свободного падения  </a:t>
            </a:r>
            <a:r>
              <a:rPr b="1" lang="en-US" sz="3700" spc="-1" strike="noStrike">
                <a:solidFill>
                  <a:srgbClr val="7c1302"/>
                </a:solidFill>
                <a:latin typeface="Arial"/>
              </a:rPr>
              <a:t> </a:t>
            </a:r>
            <a:r>
              <a:rPr b="0" lang="en-US" sz="45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ru-RU" sz="4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45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42560" y="2060280"/>
            <a:ext cx="6985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скорение, с которым движется тело во время свободного пад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rcRect l="11938" t="-17766" r="0" b="0"/>
          <a:stretch/>
        </p:blipFill>
        <p:spPr>
          <a:xfrm>
            <a:off x="4140360" y="3573360"/>
            <a:ext cx="1152360" cy="105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" name="Прямоугольник 4"/>
          <p:cNvSpPr/>
          <p:nvPr/>
        </p:nvSpPr>
        <p:spPr>
          <a:xfrm>
            <a:off x="2916360" y="36450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Ускорение свободного падения</a:t>
            </a:r>
            <a:br>
              <a:rPr sz="3900"/>
            </a:b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зависит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 радиуса Земли (географической широты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↑, то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g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т высоты тел над поверхностью Земл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22:32:57Z</dcterms:created>
  <dc:creator>Vera</dc:creator>
  <dc:description/>
  <dc:language>en-US</dc:language>
  <cp:lastModifiedBy>Vera</cp:lastModifiedBy>
  <dcterms:modified xsi:type="dcterms:W3CDTF">2016-09-23T22:46:00Z</dcterms:modified>
  <cp:revision>31</cp:revision>
  <dc:subject/>
  <dc:title>Свободное падение </dc:title>
</cp:coreProperties>
</file>