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9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C81-404B-4B5A-9A61-1EA0A910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C81-9CB1-4DCE-91F5-A001E6A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9AC-2F74-4367-ABF7-4A2E7733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F15-426B-422E-BC9C-EA029677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B74B-D612-4671-BE13-F489D1DC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F7DC-D954-4BF8-BB07-EFC1A8B5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F809-EA08-4E93-ADD8-DA8270B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55B-5874-4E58-9A34-099DA6C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058A-107B-4AAD-8C23-7A9275D1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C65-1D1F-4390-9A48-B5ABA56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023D-6CD6-4D5A-9E9C-5E80458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BBC-EA88-44B6-8C43-4A2A4FC1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00F-76B1-433D-A756-4DAB56A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B74-4D0A-41D9-BB55-072D2EC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ED19-D849-4111-AC59-0E471303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AA0-FD24-4232-9D4C-926D8792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671C-9E93-4156-8C31-0D35836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A7E-0BB8-4E1A-A1BE-1A47AFD6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891-2F34-4F5E-864F-BDD59FF8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CC8-FD5D-479E-BA00-C29FA6D1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5F9-8CD3-49AA-A202-D2E86C3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4E9-0EE6-46C1-B615-96FBDCD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577-EFA7-4393-865B-227DD98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9B7-045B-43C6-9213-28E0757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ff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882-2E4A-4C27-B9B2-ACC0810D21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6D41-695C-441B-A2D2-445472C057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3429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7c1302"/>
                </a:solidFill>
                <a:latin typeface="Arial"/>
              </a:rPr>
              <a:t>Свободное падение</a:t>
            </a:r>
            <a:br>
              <a:rPr sz="5700"/>
            </a:br>
            <a:endParaRPr b="1" lang="en-US" sz="57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708280"/>
            <a:ext cx="5976720" cy="266544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c1302"/>
                </a:solidFill>
                <a:latin typeface="Arial"/>
              </a:rPr>
              <a:t>Падение тела с некоторой высоты</a:t>
            </a:r>
            <a:br>
              <a:rPr sz="3300"/>
            </a:br>
            <a:endParaRPr b="1" lang="en-US" sz="33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6337440" cy="283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362560" y="404640"/>
            <a:ext cx="3608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Свободное падение тела, брошенного вертикально вверх</a:t>
            </a:r>
            <a:br>
              <a:rPr sz="3200"/>
            </a:b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686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Особенности падения тел в воздухе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движения происходит почти свободное падение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ьшение ускорения тела при возрастании его скорости из-за увеличения силы сопротивления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мерное движение при равенстве силы сопротивления  силе притяжения тела к Земл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какой высоты свободно падала сосулька, если расстояние до земли она преодолела за 4 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3933720"/>
            <a:ext cx="7704000" cy="215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759636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6970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2484360" y="5229360"/>
            <a:ext cx="792360" cy="936360"/>
          </a:xfrm>
          <a:prstGeom prst="rect">
            <a:avLst/>
          </a:prstGeom>
          <a:solidFill>
            <a:srgbClr val="cc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2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0" y="1700280"/>
            <a:ext cx="901548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8030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3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аленький стальной шарик упал с высоты 45 м. Сколько времени длилось его падение? Какое перемещение совершил шарик за первую и последнюю секунды своего движения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462800" cy="4149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3276720" y="3068640"/>
            <a:ext cx="5616360" cy="3789360"/>
          </a:xfrm>
          <a:prstGeom prst="rect">
            <a:avLst/>
          </a:prstGeom>
          <a:solidFill>
            <a:srgbClr val="cc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1. Из истории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1302"/>
                </a:solidFill>
                <a:latin typeface="Arial"/>
              </a:rPr>
              <a:t>Аристотель (4 век до н.э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корение, сообщаемое телом, тем больше, чем тяжелее т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1302"/>
                </a:solidFill>
                <a:latin typeface="Arial"/>
              </a:rPr>
              <a:t>Галилей (16 век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а разных масс падают в вакууме с одинаковым ускор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Опыт с трубкой Ньюто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16000" y="2205000"/>
            <a:ext cx="64764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7c1302"/>
                </a:solidFill>
                <a:latin typeface="Arial"/>
              </a:rPr>
              <a:t>Опыт Галилея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 При фиксированном угле наклона плоскости шар скатывается с постоянным уско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При увеличении угла наклона плоскости ускорение шаров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любом угле наклона плоскости расстояние, проходимое шаром по этой плоскости, пропорционально квадрату времени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31654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7c1302"/>
                </a:solidFill>
                <a:latin typeface="Arial"/>
              </a:rPr>
              <a:t>Роберт Бойль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5280" y="2924280"/>
            <a:ext cx="5113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ал синхронное падение различных предметов в сосуде, из которого был откачан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70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c1302"/>
                </a:solidFill>
                <a:latin typeface="Arial"/>
              </a:rPr>
              <a:t>Кристиан Гюйгенс, 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1656 г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измерил ускорение свободного падения тел на Землю с помощью маятниковых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уне нет атмосферы, поэтому астронавты Д. Скотт и Дж. Ирвин наблюдали синхронное падение птичьего пера и молотка на поверхность Луны, происходящее с одинаковым ускор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72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2. Свободное падение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6920" y="232704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движение под действием силы тяжести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яж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адение тел в вакуу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59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Ускорение свободного падения  </a:t>
            </a:r>
            <a:r>
              <a:rPr b="1" lang="en-US" sz="37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ru-RU" sz="4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560" y="2060280"/>
            <a:ext cx="698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ие, с которым движется тело во время свободного па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11938" t="-17766" r="0" b="0"/>
          <a:stretch/>
        </p:blipFill>
        <p:spPr>
          <a:xfrm>
            <a:off x="4140360" y="3573360"/>
            <a:ext cx="1152360" cy="105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Прямоугольник 4"/>
          <p:cNvSpPr/>
          <p:nvPr/>
        </p:nvSpPr>
        <p:spPr>
          <a:xfrm>
            <a:off x="2916360" y="36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зависит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радиуса Земли (географической широты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↑, т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т высоты тел над поверхностью Зем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22:32:57Z</dcterms:created>
  <dc:creator>Vera</dc:creator>
  <dc:description/>
  <dc:language>en-US</dc:language>
  <cp:lastModifiedBy>Vera</cp:lastModifiedBy>
  <dcterms:modified xsi:type="dcterms:W3CDTF">2016-09-23T22:46:00Z</dcterms:modified>
  <cp:revision>31</cp:revision>
  <dc:subject/>
  <dc:title>Свободное падение </dc:title>
</cp:coreProperties>
</file>