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FE6-8040-4E5C-BBB4-D2B6A806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2558-1ACE-4321-A0B6-872347E5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9502-BC4E-4EDC-B2B3-BE14BBE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0B6-3B6E-4A1D-A545-CCE318C8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E92B-958F-4E0B-BAB0-15EE5699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DC0B-4AC9-4B7E-B7C4-993C959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3AAA-D212-4795-8AAD-D720E33A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1607-1A6D-4C62-B98C-2E78C7A3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050E-A619-4B35-9942-D940A6D1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F42A-67AF-40B1-82A3-2C7E825F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DD96-1996-4FE8-9BFE-815031D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81E2-9C35-4599-BAE5-C504CD5D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AC18-7958-498E-A8ED-BA051FE6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DB27-DC1C-4917-8573-47B7DECD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FEB9-9CCF-4983-9E5B-B6A5BA25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4F63-3D3C-4837-9275-55923B50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466D-F363-433E-9DB7-5630C72D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B171-F34A-4FBF-8D27-8229B62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91F6-2D66-426B-B681-FAFA7A10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D8599-3CD6-4D80-97C1-500EF6BC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0F34-6E66-4F37-A99C-B1C615EF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D3E14-249B-4A65-98D4-E2D7C638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5C7-2C66-43C2-9CE1-E5B6F56F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0D96-64B6-46E2-B47F-59E60CF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88EE-EB55-4BA4-91E7-14DCC408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7035-AA61-4D62-A280-B584955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C747-94AB-4C47-99AB-C88731E7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AA556-B4B8-47FD-A756-BFA19112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0EA0-5320-407C-B67E-9B6951A4B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BEFF6-D68B-4802-BD37-4711A5C11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B176F-A5D1-4A9B-91A7-2228A935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97BD9-40A7-4FDD-A3BD-77E400AC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0E772-16BC-451A-A98C-81CCBDCB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468-F203-4B89-9972-1A194340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77071-D531-44F9-832A-D4A8A6B5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2811-D1A8-41C5-A9BB-D3F83D3A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49467-ADFA-4999-9288-89FFB08F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AE89-303A-475C-88AD-49765CD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EBABD-0929-43C2-8A88-4ACB9752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CF1C-6729-40AD-9973-FA8FC394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94B93-AD3A-4C38-9515-67B389F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741DD-4DA1-46EF-B049-C93AF907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CCF5-2CCB-4702-8095-5DAB34740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7EC-61F5-4C0A-B0BF-5B9A174C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F94-5DC4-4C1A-BC63-6EF7699C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6A2-2792-4FC7-AA1A-8FA58850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C9D5-6EF8-4F0B-A90F-8E33D974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DC92-7928-4EA8-BA32-ECC37732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F7B2-2178-4457-B1E6-9C27CCFE502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4D7A-36E6-4FDD-98D1-B091DAD9ED8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F44E-341E-4D3B-8796-AC31B79241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B4E7-3B7B-4A88-9B68-62CD1492B2E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755640" y="3429000"/>
            <a:ext cx="6958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12745"/>
                </a:solidFill>
                <a:latin typeface="Trebuchet MS"/>
              </a:rPr>
              <a:t>Беседка А.Н.Островского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755640" y="1200240"/>
            <a:ext cx="7236000" cy="2371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851200" y="5157720"/>
            <a:ext cx="56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Презентация выполнена учителем ИЗ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гимназии №15  города Костромы Батуриной О.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D:\АТТЕСТАЦИЯ 17\6ПАПОК\3\3.3\беседка островског\original.jpg"/>
          <p:cNvPicPr/>
          <p:nvPr/>
        </p:nvPicPr>
        <p:blipFill>
          <a:blip r:embed="rId2"/>
          <a:stretch/>
        </p:blipFill>
        <p:spPr>
          <a:xfrm>
            <a:off x="4140360" y="668160"/>
            <a:ext cx="4547880" cy="30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1500120" y="4906800"/>
            <a:ext cx="6637320" cy="16099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E:\картинки\OoOoO\граффити\кус1.jpg"/>
          <p:cNvPicPr/>
          <p:nvPr/>
        </p:nvPicPr>
        <p:blipFill>
          <a:blip r:embed="rId2"/>
          <a:stretch/>
        </p:blipFill>
        <p:spPr>
          <a:xfrm>
            <a:off x="539640" y="476280"/>
            <a:ext cx="3583080" cy="36021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D:\АТТЕСТАЦИЯ 17\6ПАПОК\3\3.3\cdh_2010_copy_catpage.jpg"/>
          <p:cNvPicPr/>
          <p:nvPr/>
        </p:nvPicPr>
        <p:blipFill>
          <a:blip r:embed="rId3"/>
          <a:stretch/>
        </p:blipFill>
        <p:spPr>
          <a:xfrm>
            <a:off x="4572000" y="1413000"/>
            <a:ext cx="403236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138560" y="401760"/>
            <a:ext cx="4340160" cy="11714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E:\картинки\OoOoO\граффити\б12.jpg"/>
          <p:cNvPicPr/>
          <p:nvPr/>
        </p:nvPicPr>
        <p:blipFill>
          <a:blip r:embed="rId2"/>
          <a:stretch/>
        </p:blipFill>
        <p:spPr>
          <a:xfrm>
            <a:off x="1058760" y="4352760"/>
            <a:ext cx="2068560" cy="2051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D:\АТТЕСТАЦИЯ 17\6ПАПОК\3\3.3\беседка островског\20630_3_CompressedImage.jpeg"/>
          <p:cNvPicPr/>
          <p:nvPr/>
        </p:nvPicPr>
        <p:blipFill>
          <a:blip r:embed="rId3"/>
          <a:stretch/>
        </p:blipFill>
        <p:spPr>
          <a:xfrm>
            <a:off x="755640" y="476280"/>
            <a:ext cx="2952720" cy="3287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D:\АТТЕСТАЦИЯ 17\6ПАПОК\3\3.3\беседка островског\v-a-sapogov-hudojnik-kostroma-102880-large.jpg"/>
          <p:cNvPicPr/>
          <p:nvPr/>
        </p:nvPicPr>
        <p:blipFill>
          <a:blip r:embed="rId4"/>
          <a:stretch/>
        </p:blipFill>
        <p:spPr>
          <a:xfrm>
            <a:off x="5003640" y="1773360"/>
            <a:ext cx="365472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692360"/>
            <a:ext cx="6400800" cy="17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Назовите любимые вами уголки нашего город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1779480" y="4297320"/>
            <a:ext cx="6615360" cy="1865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E:\картинки\OoOoO\граффити\б10.jpg"/>
          <p:cNvPicPr/>
          <p:nvPr/>
        </p:nvPicPr>
        <p:blipFill>
          <a:blip r:embed="rId2"/>
          <a:stretch/>
        </p:blipFill>
        <p:spPr>
          <a:xfrm>
            <a:off x="2268360" y="765000"/>
            <a:ext cx="52293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321760" cy="8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E:\картинки\OoOoO\граффити\б3.jpeg"/>
          <p:cNvPicPr/>
          <p:nvPr/>
        </p:nvPicPr>
        <p:blipFill>
          <a:blip r:embed="rId2"/>
          <a:stretch/>
        </p:blipFill>
        <p:spPr>
          <a:xfrm>
            <a:off x="3238560" y="1441440"/>
            <a:ext cx="5067360" cy="32716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E:\картинки\OoOoO\граффити\о.jpeg"/>
          <p:cNvPicPr/>
          <p:nvPr/>
        </p:nvPicPr>
        <p:blipFill>
          <a:blip r:embed="rId3"/>
          <a:stretch/>
        </p:blipFill>
        <p:spPr>
          <a:xfrm>
            <a:off x="684360" y="3459240"/>
            <a:ext cx="1927080" cy="2512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2819520" y="5415120"/>
            <a:ext cx="5905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а Николаевича Островского по праву считают основоположником русского национального театра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ется, не было такого уголка русской действительности XIX века, которого бы не представил драматург своим зрителя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ак вы думаете -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костромская беседка всегда была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ctr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такой же, как сейчас?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7200" y="201600"/>
            <a:ext cx="8326440" cy="2577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859280" y="3068280"/>
            <a:ext cx="3827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E:\картинки\OoOoO\граффити\б5.jpg"/>
          <p:cNvPicPr/>
          <p:nvPr/>
        </p:nvPicPr>
        <p:blipFill>
          <a:blip r:embed="rId2"/>
          <a:stretch/>
        </p:blipFill>
        <p:spPr>
          <a:xfrm>
            <a:off x="2048040" y="1971720"/>
            <a:ext cx="5365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542880" y="4383000"/>
            <a:ext cx="8204400" cy="1925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АТТЕСТАЦИЯ 17\6ПАПОК\3\3.3\беседка островског\1389644312188.jpg"/>
          <p:cNvPicPr/>
          <p:nvPr/>
        </p:nvPicPr>
        <p:blipFill>
          <a:blip r:embed="rId2"/>
          <a:stretch/>
        </p:blipFill>
        <p:spPr>
          <a:xfrm>
            <a:off x="2092320" y="476280"/>
            <a:ext cx="5494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1401840" y="5230800"/>
            <a:ext cx="6608520" cy="1212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E:\картинки\OoOoO\граффити\б6.jpg"/>
          <p:cNvPicPr/>
          <p:nvPr/>
        </p:nvPicPr>
        <p:blipFill>
          <a:blip r:embed="rId2"/>
          <a:stretch/>
        </p:blipFill>
        <p:spPr>
          <a:xfrm>
            <a:off x="1380960" y="692280"/>
            <a:ext cx="6570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4718160" y="3359160"/>
            <a:ext cx="4065480" cy="2949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E:\картинки\OoOoO\граффити\б15.jpg"/>
          <p:cNvPicPr/>
          <p:nvPr/>
        </p:nvPicPr>
        <p:blipFill>
          <a:blip r:embed="rId2"/>
          <a:stretch/>
        </p:blipFill>
        <p:spPr>
          <a:xfrm>
            <a:off x="546120" y="189000"/>
            <a:ext cx="402588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7:51:45Z</dcterms:created>
  <dc:creator>Брюс</dc:creator>
  <dc:description/>
  <dc:language>en-US</dc:language>
  <cp:lastModifiedBy>оля</cp:lastModifiedBy>
  <dcterms:modified xsi:type="dcterms:W3CDTF">2017-01-05T17:04:12Z</dcterms:modified>
  <cp:revision>54</cp:revision>
  <dc:subject/>
  <dc:title>Кострома</dc:title>
</cp:coreProperties>
</file>