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1A0-6772-4921-92A7-8DB2FCF5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F8D-7940-4206-8E24-C3702DE6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F23-2333-4520-BF81-5876D1E5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05A-1F3C-41D4-B75C-B3B5B1E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6F30-9AE0-4B7E-8359-9A9ED5FC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E787-4EAF-43E7-9502-7B18B76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C0C1-14B8-46F6-BCC2-11B263BE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66AE-6F0B-4327-A3DA-522706B5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75C-7FDB-41DF-88BF-D59D0A2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FEB-8379-4504-B9A5-17938AD5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D017-95A0-470B-8C46-FEE12DA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D40-AD8A-427D-9749-2616FF9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DDA1-D5AE-4EE1-B2EA-B409188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F451-3BB8-48EB-A0E0-A17343C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D0B-FCD1-4FFC-935F-B4E7701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3C1C-A68A-4DE3-B4AC-5AA233E5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06FC-D97E-4518-B390-094CFC41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A1E8-5527-40D4-A6E3-8F3173F6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C7EC-E670-401C-AB14-6232149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9D2A-FFDD-47C2-85FD-C5B49766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D2C6-9316-47FA-8592-5A96ED3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1AA8-F11C-4564-B886-08197579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D38-F06C-482E-BF99-F837792F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4F8F-7739-4239-B037-07257BF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8749-40F3-452B-8E4C-974393B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2CCF-0D8E-4F7A-91F4-2A6F5F7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474B-DB92-48C7-8509-F187788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B9BC-E4A2-4102-9DBB-1E74BFE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0E3E-F297-480F-9866-593FA7DA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9C54-6EB8-4292-A7FD-8AA7347B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6B79-DBF9-4FD3-BCB5-5968475F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2386-9707-4BB2-A2F5-0A3C5454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2466-4256-4C9C-A7E6-8ED016A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72D-EE69-4287-B5E7-BB13906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22B8-7C0B-4F4F-B681-6DD20E9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4725-B105-4C1A-8787-7CA8DADC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7DD13-448B-48EE-8C75-A48E9A1B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A29F0-FC00-45B1-A322-CFCB1E65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D5DF-72C6-4D61-BC1A-8FF93F7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928F-5898-4831-8660-35388D6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7B79-4BD0-4209-A674-98DAB4F6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6CE8-6425-44AF-AE6B-78C1F751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CA9C7-9AA3-4DB4-899A-20C220BF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B15-AE1B-4FE2-9DD2-24C8BB4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57B-F173-4DC0-B4A3-951EAF0D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D94-B865-4559-AF34-F4138EA9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8CC-C08A-42F8-8A12-8D6C9E7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484-727D-4EC5-BFEE-411936C2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17D-EA9E-4295-911B-5AD63E3901A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9690-B714-46E2-B1E0-7B40F9DA387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4489-6034-480F-8C08-CD069A3765A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502-60AA-41C5-80EE-872A445E99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640" y="3429000"/>
            <a:ext cx="6958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12745"/>
                </a:solidFill>
                <a:latin typeface="Trebuchet MS"/>
              </a:rPr>
              <a:t>Беседка А.Н.Островского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755640" y="1200240"/>
            <a:ext cx="7236000" cy="2371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851200" y="515772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выполнена учителем ИЗ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мназии №15  города Костромы Батуриной О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D:\АТТЕСТАЦИЯ 17\6ПАПОК\3\3.3\беседка островског\original.jpg"/>
          <p:cNvPicPr/>
          <p:nvPr/>
        </p:nvPicPr>
        <p:blipFill>
          <a:blip r:embed="rId2"/>
          <a:stretch/>
        </p:blipFill>
        <p:spPr>
          <a:xfrm>
            <a:off x="4140360" y="668160"/>
            <a:ext cx="45478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500120" y="4906800"/>
            <a:ext cx="6637320" cy="1609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E:\картинки\OoOoO\граффити\кус1.jpg"/>
          <p:cNvPicPr/>
          <p:nvPr/>
        </p:nvPicPr>
        <p:blipFill>
          <a:blip r:embed="rId2"/>
          <a:stretch/>
        </p:blipFill>
        <p:spPr>
          <a:xfrm>
            <a:off x="539640" y="476280"/>
            <a:ext cx="3583080" cy="360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D:\АТТЕСТАЦИЯ 17\6ПАПОК\3\3.3\cdh_2010_copy_catpage.jpg"/>
          <p:cNvPicPr/>
          <p:nvPr/>
        </p:nvPicPr>
        <p:blipFill>
          <a:blip r:embed="rId3"/>
          <a:stretch/>
        </p:blipFill>
        <p:spPr>
          <a:xfrm>
            <a:off x="4572000" y="1413000"/>
            <a:ext cx="40323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138560" y="401760"/>
            <a:ext cx="4340160" cy="1171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E:\картинки\OoOoO\граффити\б12.jpg"/>
          <p:cNvPicPr/>
          <p:nvPr/>
        </p:nvPicPr>
        <p:blipFill>
          <a:blip r:embed="rId2"/>
          <a:stretch/>
        </p:blipFill>
        <p:spPr>
          <a:xfrm>
            <a:off x="1058760" y="4352760"/>
            <a:ext cx="2068560" cy="205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D:\АТТЕСТАЦИЯ 17\6ПАПОК\3\3.3\беседка островског\20630_3_CompressedImage.jpeg"/>
          <p:cNvPicPr/>
          <p:nvPr/>
        </p:nvPicPr>
        <p:blipFill>
          <a:blip r:embed="rId3"/>
          <a:stretch/>
        </p:blipFill>
        <p:spPr>
          <a:xfrm>
            <a:off x="755640" y="476280"/>
            <a:ext cx="2952720" cy="3287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D:\АТТЕСТАЦИЯ 17\6ПАПОК\3\3.3\беседка островског\v-a-sapogov-hudojnik-kostroma-102880-large.jpg"/>
          <p:cNvPicPr/>
          <p:nvPr/>
        </p:nvPicPr>
        <p:blipFill>
          <a:blip r:embed="rId4"/>
          <a:stretch/>
        </p:blipFill>
        <p:spPr>
          <a:xfrm>
            <a:off x="5003640" y="1773360"/>
            <a:ext cx="365472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692360"/>
            <a:ext cx="640080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Назовите любимые вами уголки нашего город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79480" y="4297320"/>
            <a:ext cx="6615360" cy="186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E:\картинки\OoOoO\граффити\б10.jpg"/>
          <p:cNvPicPr/>
          <p:nvPr/>
        </p:nvPicPr>
        <p:blipFill>
          <a:blip r:embed="rId2"/>
          <a:stretch/>
        </p:blipFill>
        <p:spPr>
          <a:xfrm>
            <a:off x="2268360" y="765000"/>
            <a:ext cx="5229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321760" cy="8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E:\картинки\OoOoO\граффити\б3.jpeg"/>
          <p:cNvPicPr/>
          <p:nvPr/>
        </p:nvPicPr>
        <p:blipFill>
          <a:blip r:embed="rId2"/>
          <a:stretch/>
        </p:blipFill>
        <p:spPr>
          <a:xfrm>
            <a:off x="3238560" y="1441440"/>
            <a:ext cx="5067360" cy="327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E:\картинки\OoOoO\граффити\о.jpeg"/>
          <p:cNvPicPr/>
          <p:nvPr/>
        </p:nvPicPr>
        <p:blipFill>
          <a:blip r:embed="rId3"/>
          <a:stretch/>
        </p:blipFill>
        <p:spPr>
          <a:xfrm>
            <a:off x="684360" y="3459240"/>
            <a:ext cx="1927080" cy="2512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2819520" y="5415120"/>
            <a:ext cx="590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Николаевича Островского по праву считают основоположником русского национального театра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тся, не было такого уголка русской действительности XIX века, которого бы не представил драматург своим зрител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ак вы думаете -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остромская беседка всегда была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такой же, как сейчас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326440" cy="257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859280" y="3068280"/>
            <a:ext cx="3827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E:\картинки\OoOoO\граффити\б5.jpg"/>
          <p:cNvPicPr/>
          <p:nvPr/>
        </p:nvPicPr>
        <p:blipFill>
          <a:blip r:embed="rId2"/>
          <a:stretch/>
        </p:blipFill>
        <p:spPr>
          <a:xfrm>
            <a:off x="2048040" y="1971720"/>
            <a:ext cx="5365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542880" y="4383000"/>
            <a:ext cx="8204400" cy="192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АТТЕСТАЦИЯ 17\6ПАПОК\3\3.3\беседка островског\1389644312188.jpg"/>
          <p:cNvPicPr/>
          <p:nvPr/>
        </p:nvPicPr>
        <p:blipFill>
          <a:blip r:embed="rId2"/>
          <a:stretch/>
        </p:blipFill>
        <p:spPr>
          <a:xfrm>
            <a:off x="2092320" y="476280"/>
            <a:ext cx="5494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401840" y="5230800"/>
            <a:ext cx="6608520" cy="1212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E:\картинки\OoOoO\граффити\б6.jpg"/>
          <p:cNvPicPr/>
          <p:nvPr/>
        </p:nvPicPr>
        <p:blipFill>
          <a:blip r:embed="rId2"/>
          <a:stretch/>
        </p:blipFill>
        <p:spPr>
          <a:xfrm>
            <a:off x="1380960" y="692280"/>
            <a:ext cx="657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718160" y="3359160"/>
            <a:ext cx="4065480" cy="2949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E:\картинки\OoOoO\граффити\б15.jpg"/>
          <p:cNvPicPr/>
          <p:nvPr/>
        </p:nvPicPr>
        <p:blipFill>
          <a:blip r:embed="rId2"/>
          <a:stretch/>
        </p:blipFill>
        <p:spPr>
          <a:xfrm>
            <a:off x="546120" y="189000"/>
            <a:ext cx="40258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1:45Z</dcterms:created>
  <dc:creator>Брюс</dc:creator>
  <dc:description/>
  <dc:language>en-US</dc:language>
  <cp:lastModifiedBy>оля</cp:lastModifiedBy>
  <dcterms:modified xsi:type="dcterms:W3CDTF">2017-01-05T17:04:12Z</dcterms:modified>
  <cp:revision>54</cp:revision>
  <dc:subject/>
  <dc:title>Кострома</dc:title>
</cp:coreProperties>
</file>