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D0C3-A602-471C-AF7E-0F2F1230F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5D96A-DED4-45A5-A676-39D46327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2640-F65A-4401-BEF4-510EF64B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8454-FD7D-4FFA-9F94-9DD8489A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851D-23D0-4816-9581-8F59C4A6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E008-E863-40AD-BBC0-C18614E8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BACF-05AE-436B-BABD-465DBD90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3867-1D6D-44EF-9DA4-6763F3A6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1939-FC42-45B8-968B-611EC430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4EF6-D588-457D-A2B6-17B351DB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1C13-91A4-4AD1-8C18-DD8A1046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1ACA-ACBE-47F5-A2E7-B1EEC1A1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0CAD-F649-44E2-B32A-B88769FC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519D-E190-4134-9253-7E29BB8D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F3F7-3443-49B3-B5B8-5C54CC57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3292-4263-4889-917C-9355DC1F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316A-13E1-45E2-8856-65FB20734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C3D4-A61C-4524-B20E-4DECCE2F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0A1C7-17ED-4298-997F-AE6CD53D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655C-B692-4CE8-AFAC-D916320E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1D824-27E4-48AD-85A3-8BDBDCDC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919F-2D3C-4283-B4B1-1D6E97B3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AFC8C-C7FE-4BE5-83FD-122E2569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15957-85CC-4586-8029-88D54295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E5E7-0908-4207-AABC-FC549BE36C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DD24-920B-4D71-A374-C30E05C65A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Валентина Терешко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824200" y="259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297160" y="476280"/>
            <a:ext cx="460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искусственный спутник Земл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Лайк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25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476360" y="189000"/>
            <a:ext cx="56149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47640" y="6165360"/>
            <a:ext cx="8158320" cy="38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Юрий Алексеевич Гагари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5660640"/>
            <a:ext cx="39704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Герман Тит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0T19:30:44Z</dcterms:created>
  <dc:creator>Admin</dc:creator>
  <dc:description/>
  <dc:language>en-US</dc:language>
  <cp:lastModifiedBy>Admin</cp:lastModifiedBy>
  <dcterms:modified xsi:type="dcterms:W3CDTF">2009-04-11T06:03:25Z</dcterms:modified>
  <cp:revision>3</cp:revision>
  <dc:subject/>
  <dc:title>Слайд 1</dc:title>
</cp:coreProperties>
</file>