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5C841-F7C2-42F6-B6E2-DD6B8080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76DBC-FC4D-4224-8C85-B38FB67B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F9B7-77DC-4F2F-A6D2-386F67E1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11ACB-B31B-4F04-A0F7-85874692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3A55-A9F2-4E92-B12B-B34F82FC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4213-F50A-4291-AA9C-13EF1BE5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93F7-60F9-42C1-9E63-331EE8CA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AF9B-2C92-4AB0-809E-2C027160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518D-B282-4BDB-984D-9D33E547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8376-1CF4-442F-B44B-9E3059BF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990D-697F-4D13-9120-4260CBC1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2A23C-3B15-4D91-874D-07B91FA0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99FD-0BB1-4D07-BE11-90ADC15D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6B78-5CCA-4819-98FF-EFA702CF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8512-3F65-47B9-978A-C64671D3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CF50-03FC-4D7E-A290-B2BD1E63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9572-9BEA-4B2D-B7E9-32453520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DDA0-D1A8-4976-9F31-D2A29471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26F0-17DB-4590-BE6E-50B7B21F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B9BA5-5184-473D-9815-2976597B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36C79-E865-4078-B2FB-434BDDB3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29F2D-3849-43F3-97CF-06EA9861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1C78-62F0-4BC6-A780-DC904572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FF81-11DE-4504-BCFD-6E3CD33E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1257-0899-4E36-9267-1E514FA011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1839-FB64-4724-B0AD-E9C4F1E95F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6894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573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Валентина Терешк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824200" y="259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97160" y="476280"/>
            <a:ext cx="4608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скусственный спутник Зем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айк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2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56149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47640" y="6165360"/>
            <a:ext cx="81583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Юрий Алексеевич Гагар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4007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16000" y="5660640"/>
            <a:ext cx="3970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Герман Ти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9:30:44Z</dcterms:created>
  <dc:creator>Admin</dc:creator>
  <dc:description/>
  <dc:language>en-US</dc:language>
  <cp:lastModifiedBy>Admin</cp:lastModifiedBy>
  <dcterms:modified xsi:type="dcterms:W3CDTF">2009-04-11T06:03:25Z</dcterms:modified>
  <cp:revision>3</cp:revision>
  <dc:subject/>
  <dc:title>Слайд 1</dc:title>
</cp:coreProperties>
</file>