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28.gif" ContentType="image/gif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9.png" ContentType="image/png"/>
  <Override PartName="/ppt/media/image17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BFC-EA89-4415-9E8E-2085BB64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C610-9AFC-4802-A8CF-274D98A9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17D-F8DD-4150-83B7-63BC08B9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EA66-A708-4C9C-ABCF-5960D7F7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4760-9580-43C6-825F-D0354462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27369-F157-489A-8578-35DF68C9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502A-634C-4AC9-8937-755910C7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F2F3-90AE-4339-B51D-AE7412B1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222A-BDF0-4941-8539-F234533D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5B47-2D0C-4D16-B942-D4EAE070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A2FA-0EB8-4443-A4EB-C79EB33F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10C5-8707-4793-BC73-D6941385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2C7A-3076-48E0-AB07-A54EDE64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0BA7-117E-4248-A8F4-9951E950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495A-10FE-4AF9-A1DF-2C250086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0A57-C909-47E8-B36F-FB8FB0BC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CE1C-E60F-4702-A31F-EE71815C2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95C0F-4172-452C-B2EF-B92B8A25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E70BB-3B7B-4A9B-9B06-5A572BFF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4CB06-0C7A-40E1-B93F-8653D70D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72A2B-9BC4-46EB-9DA2-D1801037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389D9-15E9-46A9-9C68-92949202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2F57-43EC-463A-80C2-1B0AF425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8F0EC-EF77-4E27-838B-2C3B05C9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1CC87-2312-43AC-BAFC-C54ED059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BC72A-5B54-4EF6-ADC7-772BAF59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5D3FE-E371-43CA-A36F-FD5D3AA8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C38D1-72EB-4AE4-8E3B-7B230563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DE210-00E3-4482-AED8-BCE549C7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EA6D0-F388-49CB-A428-084E1E81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713D0-4D51-47A0-B6D5-4023E8BE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5495F-35D1-444D-A39D-E96EBF5C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7FFD3-7061-4D25-8D82-5CA6CD09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CC9A-2EEC-4D0D-9D43-DDC9E7F0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7E006-C566-433B-A083-86DEE6DE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8C92A-4FCB-436B-9E54-AD72BBED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FE9E9-7D55-41E2-84DB-8432074C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4C6A2-47C9-451E-8934-93AF4C2E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6D903-0C0B-4200-B591-941252CF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9905E-D21D-4409-BBCB-73EFDB6A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391F2-54E3-466B-85CF-7B351910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65FC4-29F9-470C-856F-A29B6477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A6ABA-7AD8-4129-B88B-86EA0CDC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104FC-9459-4B13-8B7F-CD6D289B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9AD-4362-4054-A3DE-CB0A3ABF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9D99A-8553-4175-958A-DDC73B24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248C62-8961-4452-86AE-0515894A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293F1-6506-4C94-91CA-A27BE858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FD780-CAC4-4612-AF12-45D0D7EC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9DBBE-6876-4934-9948-D51AED1E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96E06-88B5-437B-8A59-694B0CC8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33D4D-80F0-4DE1-9AF6-F9315FAD6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C2FB9-1F37-45C0-8DE0-2D0CCD47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FB5AF-ED42-4441-9FE2-1E23EFD6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25DCB-8F5B-4A0B-A180-07E9B2E5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96FA-3B9B-4CDF-9E43-26BFD8F5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7103B-8E03-4FD5-96FD-C8CD1C55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B1A3-D5EF-4B9D-8751-3EAA9AB5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79E-12F5-4568-AA27-C80B2E7F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339-3BFD-42E2-969E-1E6072BF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392E-FA86-4570-9A73-D227DBA1909D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Федорова 102-350-8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D521-49E3-4D17-AE11-BF794B8FFD73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89D9-4A7B-4E3C-AE3B-126A13976D21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Федорова 102-350-8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92E6-C99D-45F5-9B03-B2E2CA31F850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C8D8-2B6A-4891-B942-C784B1BE80BA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Федорова 102-350-8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D021-1F25-4EBD-A56C-7BD63DA67820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B1C6-5754-450E-94BE-77BB07BAF725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Федорова 102-350-8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FAFA7-C6DC-4510-A68B-7352FEA7884F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7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75b7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dd56f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dd56f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5d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1D85-32BB-4F60-8477-82E9F674C188}" type="datetime">
              <a:rPr b="0" lang="ru-RU" sz="1000" spc="-1" strike="noStrike">
                <a:solidFill>
                  <a:srgbClr val="b3aaae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Федорова 102-350-8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3aaa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E514-516F-44D1-AED7-17AAF53999D3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крашен космос в чёрный цвет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оскольку атмосферы нет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Ни ночи нет, ни дн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Здесь нет земной голубизны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Здесь виды странны и чудны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звёзды сразу все видны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Солнце, и Луна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Нижний колонтитул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3A44-F0A7-407A-9327-91A9227FA504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188640"/>
            <a:ext cx="81835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d75b7e"/>
                </a:solidFill>
                <a:latin typeface="Verdana"/>
              </a:rPr>
              <a:t>Первый шаг к истине</a:t>
            </a:r>
            <a:endParaRPr b="1" lang="en-US" sz="32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61" name="Picture 2" descr="C:\Documents and Settings\admin\Рабочий стол\инд.jpeg"/>
          <p:cNvPicPr/>
          <p:nvPr/>
        </p:nvPicPr>
        <p:blipFill>
          <a:blip r:embed="rId1"/>
          <a:stretch/>
        </p:blipFill>
        <p:spPr>
          <a:xfrm>
            <a:off x="4815000" y="1197000"/>
            <a:ext cx="3595680" cy="2519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Documents and Settings\admin\Рабочий стол\индийцы.jpeg"/>
          <p:cNvPicPr/>
          <p:nvPr/>
        </p:nvPicPr>
        <p:blipFill>
          <a:blip r:embed="rId2"/>
          <a:stretch/>
        </p:blipFill>
        <p:spPr>
          <a:xfrm>
            <a:off x="684360" y="1268280"/>
            <a:ext cx="3359160" cy="25210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1749240" y="4071960"/>
            <a:ext cx="547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 истины было еще далек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о первый шаг был к ней сде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A423-6891-4365-BDBE-A67FEF58BC17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22160" y="476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75b7e"/>
                </a:solidFill>
                <a:latin typeface="Verdana"/>
              </a:rPr>
              <a:t>От плоской Земли к земному шару</a:t>
            </a:r>
            <a:endParaRPr b="1" lang="en-US" sz="45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000" spc="-1" strike="noStrike">
              <a:solidFill>
                <a:srgbClr val="837b7f"/>
              </a:solidFill>
              <a:latin typeface="Verdana"/>
            </a:endParaRPr>
          </a:p>
        </p:txBody>
      </p:sp>
      <p:pic>
        <p:nvPicPr>
          <p:cNvPr id="267" name="Picture 2" descr="C:\Documents and Settings\admin\Рабочий стол\images.jpeg"/>
          <p:cNvPicPr/>
          <p:nvPr/>
        </p:nvPicPr>
        <p:blipFill>
          <a:blip r:embed="rId1"/>
          <a:stretch/>
        </p:blipFill>
        <p:spPr>
          <a:xfrm>
            <a:off x="5724360" y="3429000"/>
            <a:ext cx="3044880" cy="29782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C:\Documents and Settings\admin\Рабочий стол\инд.jpeg"/>
          <p:cNvPicPr/>
          <p:nvPr/>
        </p:nvPicPr>
        <p:blipFill>
          <a:blip r:embed="rId2"/>
          <a:stretch/>
        </p:blipFill>
        <p:spPr>
          <a:xfrm>
            <a:off x="468360" y="2637000"/>
            <a:ext cx="4005360" cy="2808000"/>
          </a:xfrm>
          <a:prstGeom prst="rect">
            <a:avLst/>
          </a:prstGeom>
          <a:ln w="0">
            <a:noFill/>
          </a:ln>
        </p:spPr>
      </p:pic>
      <p:sp>
        <p:nvSpPr>
          <p:cNvPr id="26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284A-9A66-4297-9013-BFB7B89ED236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60480" y="356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План работы с текстом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71680" y="18568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Имя учено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. Его представления о форме Зем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. Какие доказательства о шарообразности Земли высказывал учены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19A0-31A0-45C6-9BBE-E71026D008BA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Шар – это красиво!</a:t>
            </a:r>
            <a:br>
              <a:rPr sz="3600"/>
            </a:b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74" name="Picture 2" descr="C:\Documents and Settings\admin\Рабочий стол\pifagor.gif"/>
          <p:cNvPicPr/>
          <p:nvPr/>
        </p:nvPicPr>
        <p:blipFill>
          <a:blip r:embed="rId1"/>
          <a:stretch/>
        </p:blipFill>
        <p:spPr>
          <a:xfrm>
            <a:off x="571680" y="1628640"/>
            <a:ext cx="2649240" cy="3816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7"/>
          <p:cNvSpPr/>
          <p:nvPr/>
        </p:nvSpPr>
        <p:spPr>
          <a:xfrm>
            <a:off x="3492360" y="1268280"/>
            <a:ext cx="446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ифагор - первый математик, считал шар самой красивой фигу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6" descr="C:\Documents and Settings\admin\Рабочий стол\корабль море.jpeg"/>
          <p:cNvPicPr/>
          <p:nvPr/>
        </p:nvPicPr>
        <p:blipFill>
          <a:blip r:embed="rId2"/>
          <a:stretch/>
        </p:blipFill>
        <p:spPr>
          <a:xfrm>
            <a:off x="4643280" y="2997360"/>
            <a:ext cx="3449880" cy="2585880"/>
          </a:xfrm>
          <a:prstGeom prst="rect">
            <a:avLst/>
          </a:prstGeom>
          <a:ln w="0">
            <a:noFill/>
          </a:ln>
        </p:spPr>
      </p:pic>
      <p:sp>
        <p:nvSpPr>
          <p:cNvPr id="277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AF9F-2B16-428B-9567-112C61AC90EA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188640"/>
            <a:ext cx="81835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d75b7e"/>
                </a:solidFill>
                <a:latin typeface="Verdana"/>
              </a:rPr>
              <a:t>Лунное затмение</a:t>
            </a:r>
            <a:endParaRPr b="1" lang="en-US" sz="3200" spc="-1" strike="noStrike">
              <a:solidFill>
                <a:srgbClr val="d75b7e"/>
              </a:solidFill>
              <a:latin typeface="Verdana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009960" cy="1944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3564000" y="4221000"/>
            <a:ext cx="5191200" cy="2232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2719440" cy="1943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C:\Documents and Settings\admin\Рабочий стол\i.jpeg"/>
          <p:cNvPicPr/>
          <p:nvPr/>
        </p:nvPicPr>
        <p:blipFill>
          <a:blip r:embed="rId4"/>
          <a:stretch/>
        </p:blipFill>
        <p:spPr>
          <a:xfrm>
            <a:off x="6372360" y="1268280"/>
            <a:ext cx="2246040" cy="2808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3564000" y="1557360"/>
            <a:ext cx="273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ристотель – философ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азал шарообраз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22F0-D727-43B0-B6D3-C7892EDE82FC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8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Система мира по Аристотелю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87" name="Нижний колонтитул 3"/>
          <p:cNvSpPr/>
          <p:nvPr/>
        </p:nvSpPr>
        <p:spPr>
          <a:xfrm>
            <a:off x="5651640" y="6165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8F01-8D2A-49EF-8137-58E31572D9CD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Содержимое 5" descr="http://school-collection.edu.ru/catalog/res/606f3e8c-e0fe-11db-8314-0800200c9a66/view/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Система мира по Птолемею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91" name="Нижний колонтитул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3aaae"/>
                </a:solidFill>
                <a:latin typeface="Verdana"/>
              </a:rPr>
              <a:t>Федорова 102-350-8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562D-A877-434B-A9DA-8FB2B26E2CC8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Содержимое 5" descr="http://school-collection.edu.ru/catalog/res/606f3e8b-e0fe-11db-8314-0800200c9a66/view/"/>
          <p:cNvPicPr/>
          <p:nvPr/>
        </p:nvPicPr>
        <p:blipFill>
          <a:blip r:embed="rId1"/>
          <a:srcRect l="6666" t="2669" r="5334" b="9331"/>
          <a:stretch/>
        </p:blipFill>
        <p:spPr>
          <a:xfrm>
            <a:off x="250920" y="0"/>
            <a:ext cx="87138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75b7e"/>
                </a:solidFill>
                <a:latin typeface="Verdana"/>
              </a:rPr>
              <a:t>Система мира по А. Самосскому</a:t>
            </a:r>
            <a:endParaRPr b="1" lang="en-US" sz="32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95" name="Нижний колонтитул 3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0D72-6DE3-43D0-AD5B-EA3D951D4180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Содержимое 5" descr="Геоцентрическая система Аристотеля-Птолемея и страсти по ней в конце XX века."/>
          <p:cNvPicPr/>
          <p:nvPr/>
        </p:nvPicPr>
        <p:blipFill>
          <a:blip r:embed="rId1"/>
          <a:srcRect l="0" t="9641" r="59156" b="18196"/>
          <a:stretch/>
        </p:blipFill>
        <p:spPr>
          <a:xfrm>
            <a:off x="324000" y="260280"/>
            <a:ext cx="849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5219640" y="1413000"/>
            <a:ext cx="2949480" cy="378144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5"/>
          <p:cNvSpPr/>
          <p:nvPr/>
        </p:nvSpPr>
        <p:spPr>
          <a:xfrm>
            <a:off x="900000" y="54936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6da4"/>
                </a:solidFill>
                <a:latin typeface="Verdana"/>
              </a:rPr>
              <a:t>Эратосфен – учен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6da4"/>
                </a:solidFill>
                <a:latin typeface="Verdana"/>
              </a:rPr>
              <a:t>первым вычисл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6da4"/>
                </a:solidFill>
                <a:latin typeface="Verdana"/>
              </a:rPr>
              <a:t>размеры зем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f6da4"/>
                </a:solidFill>
                <a:latin typeface="Verdana"/>
              </a:rPr>
              <a:t>ш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2911680" cy="18000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7"/>
          <p:cNvSpPr/>
          <p:nvPr/>
        </p:nvSpPr>
        <p:spPr>
          <a:xfrm>
            <a:off x="971640" y="414972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ина окружности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ратосфену -3969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1116360" y="5516640"/>
            <a:ext cx="64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временные измерения окружности Земли – 40075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Номер слайда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6D51-EAE4-4FDE-9D74-A88B74BF9DD8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AFFE-9A07-4180-862A-A9FF178FB71C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8"/>
          <p:cNvSpPr/>
          <p:nvPr/>
        </p:nvSpPr>
        <p:spPr>
          <a:xfrm>
            <a:off x="1214280" y="4000680"/>
            <a:ext cx="1785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C:\Users\Елена\Downloads\г.jpg"/>
          <p:cNvPicPr/>
          <p:nvPr/>
        </p:nvPicPr>
        <p:blipFill>
          <a:blip r:embed="rId1"/>
          <a:stretch/>
        </p:blipFill>
        <p:spPr>
          <a:xfrm>
            <a:off x="214200" y="1785960"/>
            <a:ext cx="3027600" cy="4168800"/>
          </a:xfrm>
          <a:prstGeom prst="rect">
            <a:avLst/>
          </a:prstGeom>
          <a:ln w="0">
            <a:noFill/>
          </a:ln>
        </p:spPr>
      </p:pic>
      <p:sp>
        <p:nvSpPr>
          <p:cNvPr id="308" name="Прямоугольник 13"/>
          <p:cNvSpPr/>
          <p:nvPr/>
        </p:nvSpPr>
        <p:spPr>
          <a:xfrm>
            <a:off x="571680" y="642960"/>
            <a:ext cx="8001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Прямоугольник 15" descr=""/>
          <p:cNvPicPr/>
          <p:nvPr/>
        </p:nvPicPr>
        <p:blipFill>
          <a:blip r:embed="rId2"/>
          <a:stretch/>
        </p:blipFill>
        <p:spPr>
          <a:xfrm>
            <a:off x="2567160" y="1938240"/>
            <a:ext cx="60832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Цель урока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177336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представлений о форме Земл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E90B-82DC-4682-B5CA-FDFFF519A8EB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404640"/>
            <a:ext cx="81835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1557360"/>
            <a:ext cx="8183520" cy="3160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§8, вопросы на с.4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рисовать рисунок  как вы себе представляете строение Вселенн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5E72-94C3-4EFF-A137-390DA4635430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2960" y="4500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Древние греки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28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E0CA-7EF5-4322-A0BA-8D22EBEE835E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User\Desktop\6922173_2f41e48d.jpg"/>
          <p:cNvPicPr/>
          <p:nvPr/>
        </p:nvPicPr>
        <p:blipFill>
          <a:blip r:embed="rId1"/>
          <a:stretch/>
        </p:blipFill>
        <p:spPr>
          <a:xfrm>
            <a:off x="1857240" y="714240"/>
            <a:ext cx="5527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Древние индийцы</a:t>
            </a:r>
            <a:r>
              <a:rPr b="1" i="1" lang="ru-RU" sz="3600" spc="-1" strike="noStrike">
                <a:solidFill>
                  <a:srgbClr val="d75b7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0E36-5AD1-4419-ADFC-2D58A0D047EA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C:\Users\User\Desktop\0001-001-Razvitie-predstavlenij-o-Solnechnoj-sisteme (1).jpg"/>
          <p:cNvPicPr/>
          <p:nvPr/>
        </p:nvPicPr>
        <p:blipFill>
          <a:blip r:embed="rId1"/>
          <a:stretch/>
        </p:blipFill>
        <p:spPr>
          <a:xfrm>
            <a:off x="785880" y="500040"/>
            <a:ext cx="77151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4786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Жители Вавилона </a:t>
            </a: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F479-3863-415E-958F-21647F269041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C:\Users\User\Desktop\6922198_cefc7345.jpg"/>
          <p:cNvPicPr/>
          <p:nvPr/>
        </p:nvPicPr>
        <p:blipFill>
          <a:blip r:embed="rId1"/>
          <a:stretch/>
        </p:blipFill>
        <p:spPr>
          <a:xfrm>
            <a:off x="1285920" y="1000080"/>
            <a:ext cx="6753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57160" y="1000080"/>
            <a:ext cx="7715520" cy="4759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1" lang="ru-RU" sz="2800" spc="-1" strike="noStrike">
                <a:solidFill>
                  <a:srgbClr val="d75b7e"/>
                </a:solidFill>
                <a:latin typeface="Verdana"/>
              </a:rPr>
              <a:t>Вы узнае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ую форму имеет Земл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чему в древности люди считали Землю плоск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то и почему говорил, что Земля имеет форму ша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Номер слайда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8021-1256-4D66-87CA-33C0A9C3BE7D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04280"/>
            <a:ext cx="8183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5b7e"/>
                </a:solidFill>
                <a:latin typeface="Verdana"/>
              </a:rPr>
              <a:t>Плоская планета</a:t>
            </a:r>
            <a:br>
              <a:rPr sz="3600"/>
            </a:br>
            <a:endParaRPr b="1" lang="en-US" sz="3600" spc="-1" strike="noStrike">
              <a:solidFill>
                <a:srgbClr val="d75b7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177336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большом открытом  пространстве мы видим обширную плоск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1258920" y="278136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5435640" y="2781360"/>
            <a:ext cx="2476440" cy="1793880"/>
          </a:xfrm>
          <a:prstGeom prst="rect">
            <a:avLst/>
          </a:prstGeom>
          <a:ln w="0">
            <a:noFill/>
          </a:ln>
        </p:spPr>
      </p:pic>
      <p:sp>
        <p:nvSpPr>
          <p:cNvPr id="242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09E4-04FC-4F41-8677-BE15E7C32F3A}" type="slidenum">
              <a:rPr b="0" lang="ru-RU" sz="1000" spc="-1" strike="noStrike">
                <a:solidFill>
                  <a:srgbClr val="b3aaae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6"/>
          <p:cNvSpPr/>
          <p:nvPr/>
        </p:nvSpPr>
        <p:spPr>
          <a:xfrm flipV="1">
            <a:off x="179280" y="214200"/>
            <a:ext cx="3892680" cy="46080"/>
          </a:xfrm>
          <a:prstGeom prst="line">
            <a:avLst/>
          </a:prstGeom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5292720" y="260280"/>
            <a:ext cx="3672000" cy="0"/>
          </a:xfrm>
          <a:prstGeom prst="line">
            <a:avLst/>
          </a:prstGeom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250920" y="6524640"/>
            <a:ext cx="8713800" cy="0"/>
          </a:xfrm>
          <a:prstGeom prst="line">
            <a:avLst/>
          </a:prstGeom>
          <a:ln w="63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1357200" y="500040"/>
            <a:ext cx="6408720" cy="703440"/>
          </a:xfrm>
          <a:prstGeom prst="rect">
            <a:avLst/>
          </a:prstGeom>
          <a:solidFill>
            <a:srgbClr val="ef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ГАД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214200" y="1571760"/>
            <a:ext cx="4572000" cy="1557000"/>
          </a:xfrm>
          <a:prstGeom prst="rect">
            <a:avLst/>
          </a:prstGeom>
          <a:solidFill>
            <a:srgbClr val="ef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и летом, и зим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небом и землё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ть всю жизнь к нему иди —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всё будет впере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7"/>
          <p:cNvSpPr/>
          <p:nvPr/>
        </p:nvSpPr>
        <p:spPr>
          <a:xfrm>
            <a:off x="4214880" y="5072040"/>
            <a:ext cx="4572000" cy="1191240"/>
          </a:xfrm>
          <a:prstGeom prst="rect">
            <a:avLst/>
          </a:prstGeom>
          <a:solidFill>
            <a:srgbClr val="efc9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жать, бежать – не добежать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еть, лететь – не долет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C:\Users\User\Desktop\112883.jpg"/>
          <p:cNvPicPr/>
          <p:nvPr/>
        </p:nvPicPr>
        <p:blipFill>
          <a:blip r:embed="rId1"/>
          <a:stretch/>
        </p:blipFill>
        <p:spPr>
          <a:xfrm>
            <a:off x="5214960" y="1643040"/>
            <a:ext cx="3682800" cy="251460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1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C:\Users\User\Desktop\i.jpg"/>
          <p:cNvPicPr/>
          <p:nvPr/>
        </p:nvPicPr>
        <p:blipFill>
          <a:blip r:embed="rId2"/>
          <a:stretch/>
        </p:blipFill>
        <p:spPr>
          <a:xfrm>
            <a:off x="357120" y="364320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6" descr="ба.png"/>
          <p:cNvPicPr/>
          <p:nvPr/>
        </p:nvPicPr>
        <p:blipFill>
          <a:blip r:embed="rId1"/>
          <a:stretch/>
        </p:blipFill>
        <p:spPr>
          <a:xfrm>
            <a:off x="0" y="3645000"/>
            <a:ext cx="8582040" cy="27064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7" descr="133140598326.gif"/>
          <p:cNvPicPr/>
          <p:nvPr/>
        </p:nvPicPr>
        <p:blipFill>
          <a:blip r:embed="rId2"/>
          <a:stretch/>
        </p:blipFill>
        <p:spPr>
          <a:xfrm>
            <a:off x="4932360" y="26028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259" name="krasivaya-melodiya-Poceluy-babochki(muzofon.com).mp3" descr=""/>
          <p:cNvPicPr/>
          <p:nvPr/>
        </p:nvPicPr>
        <p:blipFill>
          <a:blip r:embed="rId3"/>
          <a:stretch/>
        </p:blipFill>
        <p:spPr>
          <a:xfrm>
            <a:off x="997272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осинова И А</dc:creator>
  <dc:description/>
  <dc:language>en-US</dc:language>
  <cp:lastModifiedBy>1</cp:lastModifiedBy>
  <dcterms:modified xsi:type="dcterms:W3CDTF">2015-11-08T16:36:56Z</dcterms:modified>
  <cp:revision>38</cp:revision>
  <dc:subject/>
  <dc:title>От плоской Земли к земному шару</dc:title>
</cp:coreProperties>
</file>