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E18-48ED-4278-B642-4A91655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F99-7EB8-45F5-BAA3-C1F30640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CB1-FC39-4E31-BB98-8B570DA9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2E0-AEAD-4F33-9B9D-B3E26385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2439-FF72-4E7E-B75D-09DF95A0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F6A5-3122-44EF-A908-4778FAED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4306-7761-466B-92EC-F40403F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E41-8534-4628-B00E-E1C541E0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753-6F88-40B7-BDAB-96EEFA8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16A3-3A31-4446-9620-DC39E28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C24-CDB0-44C7-80B5-1F48260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CF4-650D-46D0-94E2-2988B55D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F6D4-B122-4937-879D-989A72F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40CF-FFE2-4903-B182-8413BC6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A6B-32AE-41EC-983F-B6AE31A6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8E7-F517-4C15-B4A1-327366C6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562C-DDA3-4518-ADDD-E97BBEDA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FAAE-2EA9-438B-9A32-9D6FC9D3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93E0-9B65-4909-9758-A238307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21F6-48B7-4023-858E-9A51933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78306-6CD2-470A-9BDE-705A38D5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0647-260F-4950-AD23-46087EB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6E5-40AB-4B18-A776-CAE46864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1F32-184C-4159-A9D6-AA5BA02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790D-0A53-444A-89EC-75FA2F42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6E0E0-FE34-4A31-9F77-37462BA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7140-E56C-4A28-B60D-A3B38B20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31DF-474B-4F48-9B67-E1559977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51C5-79EA-42C2-AA6F-3EAB2DA8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CB8F-57CD-4F2D-B9A0-B7861A30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E046E-B790-4697-8591-632AE383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6F01-E26A-4142-82D7-8BF4A40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397D-3CEC-4E0C-AF7A-F529117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E4C-E880-4E87-82B1-08E0532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55FF-3030-4E25-A4BB-979B0A52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9203-A6DC-4F34-8A99-6EBDBA6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3C8F8-8D6F-4028-B5F0-7EF83E51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C2BA-A338-48E0-84FD-9EF5D59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9C77-325D-4289-BE6B-A169C51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63AF-036B-4A71-9B49-49EE8E1D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EEC1-F534-4822-9D64-9BA663B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F767-EFE6-418E-94BD-601C0B70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86D4-DB77-4495-ABD0-415CD47A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5E11-B17D-4CC5-909B-67711072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EE1-44BB-4B05-9904-69B4E987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2E27-8940-485E-9FE7-28362C6B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6F24-921F-400B-8FFF-90D01B74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E79E-8C34-431B-BC3B-F696C990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CF61-3719-43B7-85A0-7B556B42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08A59-B93E-4356-AF84-C81D0F23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D467-8C38-45C8-9065-8448A88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1D96-58C4-44A3-9B47-0FDF35A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C0DC-674E-4E05-B2ED-6CAB63E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1E98-1CE1-4AFE-B28E-381FD9C7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8B5B4-A701-4818-95F3-69175A5E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BC4-E5FB-46DB-8098-E249C16E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69A8-9F0C-49AB-8AA0-9CEFCBED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99-ED51-41F8-AAB3-D9D4A24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06E-B959-4DBF-A58B-931512D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E71-F885-4178-96DF-BE989BE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7A4A-2AF4-4E86-9D59-46EED3D1D23F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554-3A6A-44A3-B2F2-2DBBD1023AD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F450-602B-4083-B785-87B38EB4A976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1DF-690A-4824-99D7-2A22EC2BAFF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1DC3-0650-4A9B-8CEB-8F4191E3C82C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488-C09B-4678-A51F-2270A1A004D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594A-06DD-45AA-97C4-98D15E2026CC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6C73-730C-48C9-877A-40485E42FC2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0EF-BB59-48FF-A332-97B677998031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AAAF-E59F-47A8-91EC-4299651A2AFE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крашен космос в чёрный цв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скольку атмосферы н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и ночи нет, ни дн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десь нет земной голубизны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десь виды странны и чудн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звёзды сразу все видны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Солнце, и Лун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5A2-9105-4F51-8138-E5C86FC5CF8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Первый шаг к истине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61" name="Picture 2" descr="C:\Documents and Settings\admin\Рабочий стол\инд.jpeg"/>
          <p:cNvPicPr/>
          <p:nvPr/>
        </p:nvPicPr>
        <p:blipFill>
          <a:blip r:embed="rId1"/>
          <a:stretch/>
        </p:blipFill>
        <p:spPr>
          <a:xfrm>
            <a:off x="4815000" y="1197000"/>
            <a:ext cx="3595680" cy="2519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admin\Рабочий стол\индийцы.jpeg"/>
          <p:cNvPicPr/>
          <p:nvPr/>
        </p:nvPicPr>
        <p:blipFill>
          <a:blip r:embed="rId2"/>
          <a:stretch/>
        </p:blipFill>
        <p:spPr>
          <a:xfrm>
            <a:off x="684360" y="1268280"/>
            <a:ext cx="3359160" cy="2521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1749240" y="407196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 истины было еще дале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первый шаг был к ней сде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850-80B5-49B1-A46C-80A6547620D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75b7e"/>
                </a:solidFill>
                <a:latin typeface="Verdana"/>
              </a:rPr>
              <a:t>От плоской Земли к земному шару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267" name="Picture 2" descr="C:\Documents and Settings\admin\Рабочий стол\images.jpeg"/>
          <p:cNvPicPr/>
          <p:nvPr/>
        </p:nvPicPr>
        <p:blipFill>
          <a:blip r:embed="rId1"/>
          <a:stretch/>
        </p:blipFill>
        <p:spPr>
          <a:xfrm>
            <a:off x="5724360" y="3429000"/>
            <a:ext cx="3044880" cy="297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admin\Рабочий стол\инд.jpeg"/>
          <p:cNvPicPr/>
          <p:nvPr/>
        </p:nvPicPr>
        <p:blipFill>
          <a:blip r:embed="rId2"/>
          <a:stretch/>
        </p:blipFill>
        <p:spPr>
          <a:xfrm>
            <a:off x="468360" y="2637000"/>
            <a:ext cx="4005360" cy="2808000"/>
          </a:xfrm>
          <a:prstGeom prst="rect">
            <a:avLst/>
          </a:prstGeom>
          <a:ln w="0">
            <a:noFill/>
          </a:ln>
        </p:spPr>
      </p:pic>
      <p:sp>
        <p:nvSpPr>
          <p:cNvPr id="26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A9C4-B177-4398-8446-2214F876AFB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04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План работы с текстом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Имя уче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Его представления о форме Зем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Какие доказательства о шарообразности Земли высказывал уче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636-B90C-4A30-AFC3-8021D4B4AEF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Шар – это красиво!</a:t>
            </a:r>
            <a:br>
              <a:rPr sz="3600"/>
            </a:b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74" name="Picture 2" descr="C:\Documents and Settings\admin\Рабочий стол\pifagor.gif"/>
          <p:cNvPicPr/>
          <p:nvPr/>
        </p:nvPicPr>
        <p:blipFill>
          <a:blip r:embed="rId1"/>
          <a:stretch/>
        </p:blipFill>
        <p:spPr>
          <a:xfrm>
            <a:off x="571680" y="1628640"/>
            <a:ext cx="26492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492360" y="1268280"/>
            <a:ext cx="44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ифагор - первый математик, считал шар самой красивой фиг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C:\Documents and Settings\admin\Рабочий стол\корабль море.jpeg"/>
          <p:cNvPicPr/>
          <p:nvPr/>
        </p:nvPicPr>
        <p:blipFill>
          <a:blip r:embed="rId2"/>
          <a:stretch/>
        </p:blipFill>
        <p:spPr>
          <a:xfrm>
            <a:off x="4643280" y="2997360"/>
            <a:ext cx="3449880" cy="258588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26DC-AA2C-4FE4-ADB5-776BB562631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Лунное затмение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09960" cy="1944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3564000" y="4221000"/>
            <a:ext cx="5191200" cy="223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719440" cy="1943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C:\Documents and Settings\admin\Рабочий стол\i.jpeg"/>
          <p:cNvPicPr/>
          <p:nvPr/>
        </p:nvPicPr>
        <p:blipFill>
          <a:blip r:embed="rId4"/>
          <a:stretch/>
        </p:blipFill>
        <p:spPr>
          <a:xfrm>
            <a:off x="6372360" y="126828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3564000" y="155736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–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азал шарооб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4B7-081F-4C88-B864-4740E4C9F5F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истема мира по Аристотелю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7" name="Нижний колонтитул 3"/>
          <p:cNvSpPr/>
          <p:nvPr/>
        </p:nvSpPr>
        <p:spPr>
          <a:xfrm>
            <a:off x="5651640" y="6165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9BDA-85ED-4442-9285-CAD23BE7808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Содержимое 5" descr="http://school-collection.edu.ru/catalog/res/606f3e8c-e0fe-11db-8314-0800200c9a66/view/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истема мира по Птолемею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1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AD7-D365-4BF5-8A90-8B3C42B80D2D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Содержимое 5" descr="http://school-collection.edu.ru/catalog/res/606f3e8b-e0fe-11db-8314-0800200c9a66/view/"/>
          <p:cNvPicPr/>
          <p:nvPr/>
        </p:nvPicPr>
        <p:blipFill>
          <a:blip r:embed="rId1"/>
          <a:srcRect l="6666" t="2669" r="5334" b="9331"/>
          <a:stretch/>
        </p:blipFill>
        <p:spPr>
          <a:xfrm>
            <a:off x="250920" y="0"/>
            <a:ext cx="8713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Система мира по А. Самосскому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5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149-D486-41A5-9248-2BE8A8E0754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Содержимое 5" descr="Геоцентрическая система Аристотеля-Птолемея и страсти по ней в конце XX века."/>
          <p:cNvPicPr/>
          <p:nvPr/>
        </p:nvPicPr>
        <p:blipFill>
          <a:blip r:embed="rId1"/>
          <a:srcRect l="0" t="9641" r="59156" b="18196"/>
          <a:stretch/>
        </p:blipFill>
        <p:spPr>
          <a:xfrm>
            <a:off x="324000" y="26028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949480" cy="378144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900000" y="54936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Эратосфен – уче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первым вычисл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размеры зе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2911680" cy="1800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971640" y="4149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а окружно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атосфену -3969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1116360" y="551664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ременные измерения окружности Земли – 4007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BC9-9D9B-434C-811D-37BD0D6CF8F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25D7-FDFE-43C0-8072-69670EA3863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1214280" y="4000680"/>
            <a:ext cx="178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Users\Елена\Downloads\г.jpg"/>
          <p:cNvPicPr/>
          <p:nvPr/>
        </p:nvPicPr>
        <p:blipFill>
          <a:blip r:embed="rId1"/>
          <a:stretch/>
        </p:blipFill>
        <p:spPr>
          <a:xfrm>
            <a:off x="214200" y="1785960"/>
            <a:ext cx="3027600" cy="41688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13"/>
          <p:cNvSpPr/>
          <p:nvPr/>
        </p:nvSpPr>
        <p:spPr>
          <a:xfrm>
            <a:off x="571680" y="64296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Прямоугольник 15" descr=""/>
          <p:cNvPicPr/>
          <p:nvPr/>
        </p:nvPicPr>
        <p:blipFill>
          <a:blip r:embed="rId2"/>
          <a:stretch/>
        </p:blipFill>
        <p:spPr>
          <a:xfrm>
            <a:off x="2567160" y="1938240"/>
            <a:ext cx="60832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Цель уро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редставлений о форме Зем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16B0-D1DA-4ABE-836B-90FC2060335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1557360"/>
            <a:ext cx="8183520" cy="3160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§8, вопросы на с.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исовать рисунок  как вы себе представляете строение Вселен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ED9-6BD5-4B42-A2D7-8E8C3CB8000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450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ревние греки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AB16-1876-4F58-8D70-0BFA0EA15D96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User\Desktop\6922173_2f41e48d.jpg"/>
          <p:cNvPicPr/>
          <p:nvPr/>
        </p:nvPicPr>
        <p:blipFill>
          <a:blip r:embed="rId1"/>
          <a:stretch/>
        </p:blipFill>
        <p:spPr>
          <a:xfrm>
            <a:off x="1857240" y="714240"/>
            <a:ext cx="552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ревние индийцы</a:t>
            </a:r>
            <a:r>
              <a:rPr b="1" i="1" lang="ru-RU" sz="3600" spc="-1" strike="noStrike">
                <a:solidFill>
                  <a:srgbClr val="d75b7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195A-8B9F-4E8E-8B6D-511BCA0327A5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Users\User\Desktop\0001-001-Razvitie-predstavlenij-o-Solnechnoj-sisteme (1).jpg"/>
          <p:cNvPicPr/>
          <p:nvPr/>
        </p:nvPicPr>
        <p:blipFill>
          <a:blip r:embed="rId1"/>
          <a:stretch/>
        </p:blipFill>
        <p:spPr>
          <a:xfrm>
            <a:off x="785880" y="500040"/>
            <a:ext cx="77151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Жители Вавилона 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1BF-CC10-4613-A47F-A9E8B87D6DD2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User\Desktop\6922198_cefc7345.jpg"/>
          <p:cNvPicPr/>
          <p:nvPr/>
        </p:nvPicPr>
        <p:blipFill>
          <a:blip r:embed="rId1"/>
          <a:stretch/>
        </p:blipFill>
        <p:spPr>
          <a:xfrm>
            <a:off x="1285920" y="1000080"/>
            <a:ext cx="6753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57160" y="1000080"/>
            <a:ext cx="7715520" cy="475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d75b7e"/>
                </a:solidFill>
                <a:latin typeface="Verdana"/>
              </a:rPr>
              <a:t>Вы узна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ую форму имеет Земл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в древности люди считали Землю плос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и почему говорил, что Земля имеет форму ша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F4B-7A9E-4B20-B7F0-4F696533941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Плоская планета</a:t>
            </a:r>
            <a:br>
              <a:rPr sz="3600"/>
            </a:b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большом открытом  пространстве мы видим обширную плоск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476440" cy="1793880"/>
          </a:xfrm>
          <a:prstGeom prst="rect">
            <a:avLst/>
          </a:prstGeom>
          <a:ln w="0">
            <a:noFill/>
          </a:ln>
        </p:spPr>
      </p:pic>
      <p:sp>
        <p:nvSpPr>
          <p:cNvPr id="242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6602-58F3-4810-BA11-EB64FDD16DF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"/>
          <p:cNvSpPr/>
          <p:nvPr/>
        </p:nvSpPr>
        <p:spPr>
          <a:xfrm flipV="1">
            <a:off x="179280" y="214200"/>
            <a:ext cx="3892680" cy="4608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292720" y="260280"/>
            <a:ext cx="3672000" cy="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357200" y="500040"/>
            <a:ext cx="6408720" cy="70344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14200" y="1571760"/>
            <a:ext cx="4572000" cy="155700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и летом, и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бом и землё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всю жизнь к нему иди —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всё будет вп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4214880" y="5072040"/>
            <a:ext cx="4572000" cy="119124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, бежать – не добежа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еть, лететь – не долет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C:\Users\User\Desktop\112883.jpg"/>
          <p:cNvPicPr/>
          <p:nvPr/>
        </p:nvPicPr>
        <p:blipFill>
          <a:blip r:embed="rId1"/>
          <a:stretch/>
        </p:blipFill>
        <p:spPr>
          <a:xfrm>
            <a:off x="5214960" y="1643040"/>
            <a:ext cx="3682800" cy="25146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C:\Users\User\Desktop\i.jpg"/>
          <p:cNvPicPr/>
          <p:nvPr/>
        </p:nvPicPr>
        <p:blipFill>
          <a:blip r:embed="rId2"/>
          <a:stretch/>
        </p:blipFill>
        <p:spPr>
          <a:xfrm>
            <a:off x="357120" y="36432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ба.png"/>
          <p:cNvPicPr/>
          <p:nvPr/>
        </p:nvPicPr>
        <p:blipFill>
          <a:blip r:embed="rId1"/>
          <a:stretch/>
        </p:blipFill>
        <p:spPr>
          <a:xfrm>
            <a:off x="0" y="3645000"/>
            <a:ext cx="8582040" cy="27064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133140598326.gif"/>
          <p:cNvPicPr/>
          <p:nvPr/>
        </p:nvPicPr>
        <p:blipFill>
          <a:blip r:embed="rId2"/>
          <a:stretch/>
        </p:blipFill>
        <p:spPr>
          <a:xfrm>
            <a:off x="4932360" y="2602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259" name="krasivaya-melodiya-Poceluy-babochki(muzofon.com).mp3" descr=""/>
          <p:cNvPicPr/>
          <p:nvPr/>
        </p:nvPicPr>
        <p:blipFill>
          <a:blip r:embed="rId3"/>
          <a:stretch/>
        </p:blipFill>
        <p:spPr>
          <a:xfrm>
            <a:off x="9972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осинова И А</dc:creator>
  <dc:description/>
  <dc:language>en-US</dc:language>
  <cp:lastModifiedBy>1</cp:lastModifiedBy>
  <dcterms:modified xsi:type="dcterms:W3CDTF">2015-11-08T16:36:56Z</dcterms:modified>
  <cp:revision>38</cp:revision>
  <dc:subject/>
  <dc:title>От плоской Земли к земному шару</dc:title>
</cp:coreProperties>
</file>