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19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5.png" ContentType="image/png"/>
  <Override PartName="/ppt/media/image24.jpeg" ContentType="image/jpeg"/>
  <Override PartName="/ppt/media/image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0D3-0155-4E49-96BA-BEB60BCB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65B-0A7E-4BCD-A5A0-E2792C0F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46D2-24D6-44E3-98C2-86AADE6F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BD2-3164-4CDE-8BAB-85C8A8A2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F778-70BF-4608-BA99-8CCDCB6A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3EF6-0CF2-48DE-A4DD-8A30A949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0F86-5655-452B-9D7D-5307C2BB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A2B9-0FFD-486A-8827-131B4BE5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533C-913B-4ADF-83A9-BD41F6F7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CCCF-667C-4AAC-8ABA-C761487D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E02C-EEF0-4717-85FB-581588DE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C4AE-4CEF-44C5-BD07-6D066BAC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ACC0-2F50-4FD0-B432-469F521C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073D-B773-41F9-82E0-B9894312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F4CD-20AC-4823-9F1F-208E8CE0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945E-DE8E-44C6-B5A3-17D7C4A6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4E9D-BED3-4C6F-BEA1-86AEB31D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02B9B-9B2C-4138-BCCA-52654FE7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1C40C-E4F4-49A5-955B-6B52CE79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37C3B-0179-4BF0-A9A5-9A2EF3D3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25FC1-322A-44D1-9ADF-BF1C31CF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15149-7299-4E8C-B37B-44353BAE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FC41-D514-47B9-9A25-85E71D0D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DBC20-46C8-4BFF-BB3E-5C8DC82B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FE80F-2C4E-4C2C-B3B2-30CBBBEA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94752-A13B-47E7-9F54-3B2ECA97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37C4F-D056-448E-A7F0-846C1B2A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8109A-B73A-431B-A8E0-A17ED9BB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E46BB-07DD-40A0-A9B3-140D0E3B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6A274-A682-4C00-810E-AFBD8C73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356FA-C48D-4468-A729-2BD41481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CB336-4616-48D5-A68F-AF544549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CEFD1-BB95-4EA4-996A-CB0E9035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907-1FB3-4804-B984-050711B5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8BA6F-E678-4F70-83AF-AEFCEE33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2534D-4B5E-4935-9DD2-DB1AF9A7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7CA97-0993-4A4A-A14E-08E3139B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F9F31-2991-4DB2-A786-B87EBC0E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62AC2-9E03-45F9-9C6A-5DC9B9AA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BF62B-B344-4E84-999E-FF71D8B9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97875-4BDA-4A6E-A1AC-AC0B3896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80D9F-4112-4497-8588-EFD17D21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4C110-C515-4996-BAD1-632D0E01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2BF-2DB9-46F6-A64A-27D06FD6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927-6528-4778-8E4C-C99E0145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C37-5A36-4062-B8EE-E76B67A4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F4BE-23F9-45D2-B9E8-79F3DAD9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C366-A56C-43A4-815E-72439CB9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C99F-983A-405A-8692-E5F96BB296C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535E-137E-4208-83F6-469E651B1B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90AA-8837-47E6-9ECE-26DF1909AA2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3745-8E42-46E7-9476-390C075AE3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Рисунок 6" descr="wallpapers_20604_1280x1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WordArt 7"/>
          <p:cNvSpPr txBox="1"/>
          <p:nvPr/>
        </p:nvSpPr>
        <p:spPr>
          <a:xfrm>
            <a:off x="1692360" y="836640"/>
            <a:ext cx="6119640" cy="21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189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ff00"/>
                </a:solidFill>
                <a:latin typeface="Arial"/>
              </a:rPr>
              <a:t>Кишечнополостные</a:t>
            </a:r>
            <a:endParaRPr b="0" lang="en-US" sz="18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468360" y="0"/>
            <a:ext cx="82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ервная сеть. Рефлекс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53964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рвные клет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рвная се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 организма на действие раздражителей, осуществляемый при посредстве нервной системы, называют –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рефлексом.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актерны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щитный и пищевой рефлекс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395280" y="333360"/>
            <a:ext cx="82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Размножение Гидроидных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39640" y="1413000"/>
            <a:ext cx="82296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сполое –почкованием (летний период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8" name="Picture 4" descr="biol021i"/>
          <p:cNvPicPr/>
          <p:nvPr/>
        </p:nvPicPr>
        <p:blipFill>
          <a:blip r:embed="rId1"/>
          <a:stretch/>
        </p:blipFill>
        <p:spPr>
          <a:xfrm>
            <a:off x="3851280" y="2349360"/>
            <a:ext cx="4383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684360" y="1393920"/>
            <a:ext cx="8229600" cy="54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вое размножение (осенний период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дельнополые организмы, у женских – яйцеклетки     , у мужских - сперматозоид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некоторых образуются и женские и мужские клетки, т.н. </a:t>
            </a:r>
            <a:r>
              <a:rPr b="0" i="1" lang="ru-RU" sz="2800" spc="-1" strike="noStrike">
                <a:solidFill>
                  <a:srgbClr val="cc0099"/>
                </a:solidFill>
                <a:latin typeface="Arial"/>
              </a:rPr>
              <a:t>гермафродиты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лодотворенные яйцеклетки многократно делятся. При этом образуются многоклеточные зародыши, покрывающиеся плотной оболочкой. На этой стадии и зимуют. Взрослая особь погибает, а зародыш весной продолжает развитие, оболочка лопается и маленькая гидра выходит наружу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0" name="Picture 9" descr="bio250i"/>
          <p:cNvPicPr/>
          <p:nvPr/>
        </p:nvPicPr>
        <p:blipFill>
          <a:blip r:embed="rId1"/>
          <a:stretch/>
        </p:blipFill>
        <p:spPr>
          <a:xfrm>
            <a:off x="8244000" y="2276640"/>
            <a:ext cx="900000" cy="502920"/>
          </a:xfrm>
          <a:prstGeom prst="rect">
            <a:avLst/>
          </a:prstGeom>
          <a:ln w="0">
            <a:noFill/>
          </a:ln>
        </p:spPr>
      </p:pic>
      <p:sp>
        <p:nvSpPr>
          <p:cNvPr id="241" name="Oval 7"/>
          <p:cNvSpPr/>
          <p:nvPr/>
        </p:nvSpPr>
        <p:spPr>
          <a:xfrm>
            <a:off x="3132000" y="2492280"/>
            <a:ext cx="358920" cy="287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468360" y="-243000"/>
            <a:ext cx="824400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Размножение Гидроидных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39528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8000"/>
                </a:solidFill>
                <a:latin typeface="Arial"/>
              </a:rPr>
              <a:t>способность восстанавливать поврежденные и утраченные части тела и целый организм из его ча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8000"/>
                </a:solidFill>
                <a:latin typeface="Arial"/>
              </a:rPr>
              <a:t>Целая гидра может развиться даже из 1/200 части ее тел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468360" y="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Регенерация -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5" descr="b5g0261i"/>
          <p:cNvPicPr/>
          <p:nvPr/>
        </p:nvPicPr>
        <p:blipFill>
          <a:blip r:embed="rId1"/>
          <a:stretch/>
        </p:blipFill>
        <p:spPr>
          <a:xfrm>
            <a:off x="250920" y="1413000"/>
            <a:ext cx="2427120" cy="2232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b5g0262i"/>
          <p:cNvPicPr/>
          <p:nvPr/>
        </p:nvPicPr>
        <p:blipFill>
          <a:blip r:embed="rId2"/>
          <a:stretch/>
        </p:blipFill>
        <p:spPr>
          <a:xfrm>
            <a:off x="250920" y="3860640"/>
            <a:ext cx="2449440" cy="2521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b5g0263i"/>
          <p:cNvPicPr/>
          <p:nvPr/>
        </p:nvPicPr>
        <p:blipFill>
          <a:blip r:embed="rId3"/>
          <a:stretch/>
        </p:blipFill>
        <p:spPr>
          <a:xfrm>
            <a:off x="6300720" y="3789360"/>
            <a:ext cx="2448000" cy="2664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5g0259i"/>
          <p:cNvPicPr/>
          <p:nvPr/>
        </p:nvPicPr>
        <p:blipFill>
          <a:blip r:embed="rId4"/>
          <a:stretch/>
        </p:blipFill>
        <p:spPr>
          <a:xfrm>
            <a:off x="6300720" y="1413000"/>
            <a:ext cx="2448000" cy="2232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b5g0258i"/>
          <p:cNvPicPr/>
          <p:nvPr/>
        </p:nvPicPr>
        <p:blipFill>
          <a:blip r:embed="rId5"/>
          <a:stretch/>
        </p:blipFill>
        <p:spPr>
          <a:xfrm>
            <a:off x="2987640" y="2133720"/>
            <a:ext cx="3168720" cy="4033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0"/>
          <p:cNvSpPr/>
          <p:nvPr/>
        </p:nvSpPr>
        <p:spPr>
          <a:xfrm>
            <a:off x="1042920" y="476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  <a:ea typeface="Arial"/>
              </a:rPr>
              <a:t>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  <a:ea typeface="Arial"/>
              </a:rPr>
              <a:t>Гидра обыкновен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ишечнополостны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52" name="Picture 4" descr="Medusa_001"/>
          <p:cNvPicPr/>
          <p:nvPr/>
        </p:nvPicPr>
        <p:blipFill>
          <a:blip r:embed="rId1"/>
          <a:stretch/>
        </p:blipFill>
        <p:spPr>
          <a:xfrm>
            <a:off x="3059280" y="3933720"/>
            <a:ext cx="3168360" cy="2381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Аквариум_21"/>
          <p:cNvPicPr/>
          <p:nvPr/>
        </p:nvPicPr>
        <p:blipFill>
          <a:blip r:embed="rId2"/>
          <a:stretch/>
        </p:blipFill>
        <p:spPr>
          <a:xfrm>
            <a:off x="250920" y="1628640"/>
            <a:ext cx="3065400" cy="2160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8" descr="DV005"/>
          <p:cNvPicPr/>
          <p:nvPr/>
        </p:nvPicPr>
        <p:blipFill>
          <a:blip r:embed="rId3"/>
          <a:stretch/>
        </p:blipFill>
        <p:spPr>
          <a:xfrm>
            <a:off x="5867280" y="1700280"/>
            <a:ext cx="2987640" cy="2160360"/>
          </a:xfrm>
          <a:prstGeom prst="rect">
            <a:avLst/>
          </a:prstGeom>
          <a:ln w="0">
            <a:noFill/>
          </a:ln>
        </p:spPr>
      </p:pic>
      <p:sp>
        <p:nvSpPr>
          <p:cNvPr id="255" name="Line 19"/>
          <p:cNvSpPr/>
          <p:nvPr/>
        </p:nvSpPr>
        <p:spPr>
          <a:xfrm flipH="1">
            <a:off x="1908000" y="1052640"/>
            <a:ext cx="14400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5940360" y="1125360"/>
            <a:ext cx="151128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Rectangle 22"/>
          <p:cNvSpPr/>
          <p:nvPr/>
        </p:nvSpPr>
        <p:spPr>
          <a:xfrm>
            <a:off x="539640" y="3716280"/>
            <a:ext cx="2160720" cy="2872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идроидны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3564000" y="6165720"/>
            <a:ext cx="2232000" cy="405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цифоидны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6443640" y="3716280"/>
            <a:ext cx="2087640" cy="647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ралловы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лип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Line 25"/>
          <p:cNvSpPr/>
          <p:nvPr/>
        </p:nvSpPr>
        <p:spPr>
          <a:xfrm>
            <a:off x="4643280" y="119700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Содержимое 4" descr="физ.jpg"/>
          <p:cNvPicPr/>
          <p:nvPr/>
        </p:nvPicPr>
        <p:blipFill>
          <a:blip r:embed="rId1"/>
          <a:stretch/>
        </p:blipFill>
        <p:spPr>
          <a:xfrm>
            <a:off x="4500720" y="1571760"/>
            <a:ext cx="4174920" cy="3441600"/>
          </a:xfrm>
          <a:prstGeom prst="rect">
            <a:avLst/>
          </a:prstGeom>
          <a:ln w="0">
            <a:noFill/>
          </a:ln>
        </p:spPr>
      </p:pic>
      <p:pic>
        <p:nvPicPr>
          <p:cNvPr id="262" name="Содержимое 4" descr="морская оса.jpg"/>
          <p:cNvPicPr/>
          <p:nvPr/>
        </p:nvPicPr>
        <p:blipFill>
          <a:blip r:embed="rId2"/>
          <a:stretch/>
        </p:blipFill>
        <p:spPr>
          <a:xfrm>
            <a:off x="539640" y="1773360"/>
            <a:ext cx="3857760" cy="31683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пасные кишечнополостны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826920" y="5589720"/>
            <a:ext cx="34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убомедуза или «морская оса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6300720" y="5661000"/>
            <a:ext cx="17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зал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Медузы  с  острова Палау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67" name="Содержимое 4" descr="палау.jpg"/>
          <p:cNvPicPr/>
          <p:nvPr/>
        </p:nvPicPr>
        <p:blipFill>
          <a:blip r:embed="rId1"/>
          <a:stretch/>
        </p:blipFill>
        <p:spPr>
          <a:xfrm>
            <a:off x="1428840" y="1428840"/>
            <a:ext cx="6143400" cy="4286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Атолл в Тихом океан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69" name="Picture 5" descr="Подводный мир"/>
          <p:cNvPicPr/>
          <p:nvPr/>
        </p:nvPicPr>
        <p:blipFill>
          <a:blip r:embed="rId1"/>
          <a:stretch/>
        </p:blipFill>
        <p:spPr>
          <a:xfrm>
            <a:off x="4286160" y="121428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3" descr="атолл.jpg"/>
          <p:cNvPicPr/>
          <p:nvPr/>
        </p:nvPicPr>
        <p:blipFill>
          <a:blip r:embed="rId2"/>
          <a:stretch/>
        </p:blipFill>
        <p:spPr>
          <a:xfrm>
            <a:off x="285840" y="32148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Подумайте и ответьте на вопросы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Где обитают кишечнополостны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Чем кишечнополостные похожи на губ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Почему их так называю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Содержимое 6" descr="гидр.jpg"/>
          <p:cNvPicPr/>
          <p:nvPr/>
        </p:nvPicPr>
        <p:blipFill>
          <a:blip r:embed="rId1"/>
          <a:stretch/>
        </p:blipFill>
        <p:spPr>
          <a:xfrm>
            <a:off x="5724360" y="1125360"/>
            <a:ext cx="3419640" cy="478656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7"/>
          <p:cNvSpPr/>
          <p:nvPr/>
        </p:nvSpPr>
        <p:spPr>
          <a:xfrm>
            <a:off x="5940360" y="5950080"/>
            <a:ext cx="32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сноводная гид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Содержимое 3" descr="ке64г46р.jpg"/>
          <p:cNvPicPr/>
          <p:nvPr/>
        </p:nvPicPr>
        <p:blipFill>
          <a:blip r:embed="rId1"/>
          <a:stretch/>
        </p:blipFill>
        <p:spPr>
          <a:xfrm>
            <a:off x="457200" y="290520"/>
            <a:ext cx="8229600" cy="5819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Подумайте  и ответьте на вопросы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Объясните, почему кишечнополостные получили такое название? По каким признакам животное можно отнести к этому тип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Докажите, что коралл, медуза и гидра относятся к одному типу живот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Каково значение кишечнополостных в природ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Как появилась колониальная форма жизн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4500720" y="6093000"/>
            <a:ext cx="4427280" cy="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468360" y="26028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ишечнополостные – тип низших многоклеточных животных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3" name="Organization Chart 6"/>
          <p:cNvGrpSpPr/>
          <p:nvPr/>
        </p:nvGrpSpPr>
        <p:grpSpPr>
          <a:xfrm>
            <a:off x="468360" y="2060640"/>
            <a:ext cx="8208360" cy="4391280"/>
            <a:chOff x="468360" y="2060640"/>
            <a:chExt cx="8208360" cy="4391280"/>
          </a:xfrm>
        </p:grpSpPr>
        <p:cxnSp>
          <p:nvCxnSpPr>
            <p:cNvPr id="194" name="_s1028"/>
            <p:cNvCxnSpPr>
              <a:stCxn id="195" idx="0"/>
              <a:endCxn id="196" idx="2"/>
            </p:cNvCxnSpPr>
            <p:nvPr/>
          </p:nvCxnSpPr>
          <p:spPr>
            <a:xfrm flipV="1" rot="16200000">
              <a:off x="5569560" y="2818800"/>
              <a:ext cx="878760" cy="287352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7" name="_s1029"/>
            <p:cNvCxnSpPr>
              <a:stCxn id="198" idx="0"/>
              <a:endCxn id="196" idx="2"/>
            </p:cNvCxnSpPr>
            <p:nvPr/>
          </p:nvCxnSpPr>
          <p:spPr>
            <a:xfrm flipV="1">
              <a:off x="4572720" y="3816360"/>
              <a:ext cx="3600" cy="878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9" name="_s1030"/>
            <p:cNvCxnSpPr>
              <a:stCxn id="200" idx="0"/>
              <a:endCxn id="196" idx="2"/>
            </p:cNvCxnSpPr>
            <p:nvPr/>
          </p:nvCxnSpPr>
          <p:spPr>
            <a:xfrm flipH="1" flipV="1" rot="5400000">
              <a:off x="2696760" y="2819160"/>
              <a:ext cx="878760" cy="287352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6" name="_s1031"/>
            <p:cNvSpPr/>
            <p:nvPr/>
          </p:nvSpPr>
          <p:spPr>
            <a:xfrm>
              <a:off x="3341160" y="2060640"/>
              <a:ext cx="2462400" cy="17564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Тип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Кишечнополостные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Около 9 тыс.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видов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0" name="_s1032"/>
            <p:cNvSpPr/>
            <p:nvPr/>
          </p:nvSpPr>
          <p:spPr>
            <a:xfrm>
              <a:off x="468360" y="4695480"/>
              <a:ext cx="2462400" cy="17564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Класс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99"/>
                  </a:solidFill>
                  <a:latin typeface="Verdana"/>
                  <a:ea typeface="Arial"/>
                </a:rPr>
                <a:t>Гидроидные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_s1033"/>
            <p:cNvSpPr/>
            <p:nvPr/>
          </p:nvSpPr>
          <p:spPr>
            <a:xfrm>
              <a:off x="3341160" y="4695480"/>
              <a:ext cx="2462400" cy="17564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Verdana"/>
                  <a:ea typeface="Arial"/>
                </a:rPr>
                <a:t>Класс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Verdana"/>
                  <a:ea typeface="Arial"/>
                </a:rPr>
                <a:t>Сцифоидные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5" name="_s1034"/>
            <p:cNvSpPr/>
            <p:nvPr/>
          </p:nvSpPr>
          <p:spPr>
            <a:xfrm>
              <a:off x="6214320" y="4695480"/>
              <a:ext cx="2462400" cy="17564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Verdana"/>
                  <a:ea typeface="Arial"/>
                </a:rPr>
                <a:t>Класс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Verdana"/>
                  <a:ea typeface="Arial"/>
                </a:rPr>
                <a:t>Коралловые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Verdana"/>
                  <a:ea typeface="Arial"/>
                </a:rPr>
                <a:t>полипы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a_508i"/>
          <p:cNvPicPr/>
          <p:nvPr/>
        </p:nvPicPr>
        <p:blipFill>
          <a:blip r:embed="rId1"/>
          <a:stretch/>
        </p:blipFill>
        <p:spPr>
          <a:xfrm>
            <a:off x="0" y="0"/>
            <a:ext cx="2111400" cy="2349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b5g0267i"/>
          <p:cNvPicPr/>
          <p:nvPr/>
        </p:nvPicPr>
        <p:blipFill>
          <a:blip r:embed="rId2"/>
          <a:stretch/>
        </p:blipFill>
        <p:spPr>
          <a:xfrm>
            <a:off x="2124000" y="2637000"/>
            <a:ext cx="2284560" cy="1974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b5g0272i"/>
          <p:cNvPicPr/>
          <p:nvPr/>
        </p:nvPicPr>
        <p:blipFill>
          <a:blip r:embed="rId3"/>
          <a:stretch/>
        </p:blipFill>
        <p:spPr>
          <a:xfrm>
            <a:off x="6877080" y="189000"/>
            <a:ext cx="2066760" cy="1614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b5g0273i"/>
          <p:cNvPicPr/>
          <p:nvPr/>
        </p:nvPicPr>
        <p:blipFill>
          <a:blip r:embed="rId4"/>
          <a:stretch/>
        </p:blipFill>
        <p:spPr>
          <a:xfrm>
            <a:off x="4643280" y="2637000"/>
            <a:ext cx="2305080" cy="1974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b5g0274i"/>
          <p:cNvPicPr/>
          <p:nvPr/>
        </p:nvPicPr>
        <p:blipFill>
          <a:blip r:embed="rId5"/>
          <a:stretch/>
        </p:blipFill>
        <p:spPr>
          <a:xfrm>
            <a:off x="7077240" y="5315040"/>
            <a:ext cx="2066760" cy="1542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b5g0275i"/>
          <p:cNvPicPr/>
          <p:nvPr/>
        </p:nvPicPr>
        <p:blipFill>
          <a:blip r:embed="rId6"/>
          <a:stretch/>
        </p:blipFill>
        <p:spPr>
          <a:xfrm>
            <a:off x="7077240" y="3213000"/>
            <a:ext cx="2066760" cy="1543320"/>
          </a:xfrm>
          <a:prstGeom prst="rect">
            <a:avLst/>
          </a:prstGeom>
          <a:ln w="0">
            <a:noFill/>
          </a:ln>
        </p:spPr>
      </p:pic>
      <p:sp>
        <p:nvSpPr>
          <p:cNvPr id="207" name="WordArt 13"/>
          <p:cNvSpPr txBox="1"/>
          <p:nvPr/>
        </p:nvSpPr>
        <p:spPr>
          <a:xfrm>
            <a:off x="6804000" y="2205000"/>
            <a:ext cx="20890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дуз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" name="WordArt 14"/>
          <p:cNvSpPr txBox="1"/>
          <p:nvPr/>
        </p:nvSpPr>
        <p:spPr>
          <a:xfrm>
            <a:off x="4500720" y="4653000"/>
            <a:ext cx="22176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9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рнер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404640"/>
            <a:ext cx="824364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Класс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Сцифоидны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WordArt 12"/>
          <p:cNvSpPr txBox="1"/>
          <p:nvPr/>
        </p:nvSpPr>
        <p:spPr>
          <a:xfrm>
            <a:off x="2124000" y="4869000"/>
            <a:ext cx="230508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актин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pic>
        <p:nvPicPr>
          <p:cNvPr id="211" name="Picture 5" descr="a_509i"/>
          <p:cNvPicPr/>
          <p:nvPr/>
        </p:nvPicPr>
        <p:blipFill>
          <a:blip r:embed="rId7"/>
          <a:stretch/>
        </p:blipFill>
        <p:spPr>
          <a:xfrm>
            <a:off x="0" y="4653000"/>
            <a:ext cx="19810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Arial"/>
              </a:rPr>
              <a:t>Характеристика Кишечнополостных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итают в водной среде (преимущественно в морях и океанах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ло – двухслойное (наружный слой – покровно – мышечный, внутренний – пищеврительно – мышечный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утри имеется полость со р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мметрия тела – луче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оподвижные – полипы, а плавающие – медуз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468360" y="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Arial"/>
              </a:rPr>
              <a:t>Класс Гидроидны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468360" y="1484280"/>
            <a:ext cx="82296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Обитают в пресных или слегка солоноватых водоемах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- Передвигается, как будт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кувыркаяс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-Одиночный и малоподвижн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образ жизн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- Способ питания – хищни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611280" y="0"/>
            <a:ext cx="82436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Внешнее строение тел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Picture 4" descr="bio294i"/>
          <p:cNvPicPr/>
          <p:nvPr/>
        </p:nvPicPr>
        <p:blipFill>
          <a:blip r:embed="rId1"/>
          <a:stretch/>
        </p:blipFill>
        <p:spPr>
          <a:xfrm>
            <a:off x="6119640" y="1557360"/>
            <a:ext cx="3024360" cy="4392720"/>
          </a:xfrm>
          <a:prstGeom prst="rect">
            <a:avLst/>
          </a:prstGeom>
          <a:ln w="0">
            <a:noFill/>
          </a:ln>
        </p:spPr>
      </p:pic>
      <p:sp>
        <p:nvSpPr>
          <p:cNvPr id="218" name="Line 6"/>
          <p:cNvSpPr/>
          <p:nvPr/>
        </p:nvSpPr>
        <p:spPr>
          <a:xfrm flipV="1">
            <a:off x="1332000" y="3357360"/>
            <a:ext cx="6264360" cy="144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2556000" y="4437000"/>
            <a:ext cx="5111640" cy="716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2411280" y="5589720"/>
            <a:ext cx="5327640" cy="2156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Line 10"/>
          <p:cNvSpPr/>
          <p:nvPr/>
        </p:nvSpPr>
        <p:spPr>
          <a:xfrm flipV="1">
            <a:off x="2556000" y="1844280"/>
            <a:ext cx="4321080" cy="71640"/>
          </a:xfrm>
          <a:prstGeom prst="line">
            <a:avLst/>
          </a:prstGeom>
          <a:ln w="9360">
            <a:solidFill>
              <a:srgbClr val="00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2" name="Picture 11" descr="bio306i"/>
          <p:cNvPicPr/>
          <p:nvPr/>
        </p:nvPicPr>
        <p:blipFill>
          <a:blip r:embed="rId2"/>
          <a:stretch/>
        </p:blipFill>
        <p:spPr>
          <a:xfrm>
            <a:off x="5508720" y="2421000"/>
            <a:ext cx="1173240" cy="934920"/>
          </a:xfrm>
          <a:prstGeom prst="rect">
            <a:avLst/>
          </a:prstGeom>
          <a:ln w="0">
            <a:noFill/>
          </a:ln>
        </p:spPr>
      </p:pic>
      <p:sp>
        <p:nvSpPr>
          <p:cNvPr id="223" name="Line 13"/>
          <p:cNvSpPr/>
          <p:nvPr/>
        </p:nvSpPr>
        <p:spPr>
          <a:xfrm>
            <a:off x="4356000" y="2421000"/>
            <a:ext cx="1584360" cy="503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79280" y="1557360"/>
            <a:ext cx="504036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Щупаль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екательные клет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ебел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ровно - мускуль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ош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ff"/>
                </a:solidFill>
                <a:latin typeface="Arial"/>
              </a:rPr>
              <a:t>Внутреннее строе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6" name="Picture 5" descr="biol135i"/>
          <p:cNvPicPr/>
          <p:nvPr/>
        </p:nvPicPr>
        <p:blipFill>
          <a:blip r:embed="rId1"/>
          <a:stretch/>
        </p:blipFill>
        <p:spPr>
          <a:xfrm>
            <a:off x="5442120" y="1484280"/>
            <a:ext cx="3701880" cy="46087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457200" y="1557360"/>
            <a:ext cx="62024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ровно – мускульные клет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эктодерм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щеварительно 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скульные (энтодерм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утренний сло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мезоглея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5435640" y="1844640"/>
            <a:ext cx="936720" cy="9367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5292720" y="4292640"/>
            <a:ext cx="129528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Line 8"/>
          <p:cNvSpPr/>
          <p:nvPr/>
        </p:nvSpPr>
        <p:spPr>
          <a:xfrm flipV="1">
            <a:off x="4140360" y="4869000"/>
            <a:ext cx="2736720" cy="5760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539640" y="333360"/>
            <a:ext cx="82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Дыхание и выделени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68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ышат растворенным в воде кислородом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2 и другие ненужные вещества из клеток наружного слоя выделяются во внешнюю среду, а из внутренних слоев – в кишечную полость, а затем наруж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AutoShape 4"/>
          <p:cNvSpPr/>
          <p:nvPr/>
        </p:nvSpPr>
        <p:spPr>
          <a:xfrm rot="20928000">
            <a:off x="5508360" y="5373720"/>
            <a:ext cx="2089080" cy="1224000"/>
          </a:xfrm>
          <a:custGeom>
            <a:avLst/>
            <a:gdLst>
              <a:gd name="textAreaLeft" fmla="*/ 645480 w 2089080"/>
              <a:gd name="textAreaRight" fmla="*/ 1443600 w 2089080"/>
              <a:gd name="textAreaTop" fmla="*/ 467640 h 1224000"/>
              <a:gd name="textAreaBottom" fmla="*/ 935280 h 1224000"/>
            </a:gdLst>
            <a:ahLst/>
            <a:rect l="textAreaLeft" t="textAreaTop" r="textAreaRight" b="textAreaBottom"/>
            <a:pathLst>
              <a:path w="2089150" h="503237">
                <a:moveTo>
                  <a:pt x="2" y="192219"/>
                </a:moveTo>
                <a:lnTo>
                  <a:pt x="797989" y="192220"/>
                </a:lnTo>
                <a:lnTo>
                  <a:pt x="1044575" y="0"/>
                </a:lnTo>
                <a:lnTo>
                  <a:pt x="1291161" y="192220"/>
                </a:lnTo>
                <a:lnTo>
                  <a:pt x="2089148" y="192219"/>
                </a:lnTo>
                <a:lnTo>
                  <a:pt x="1443560" y="311016"/>
                </a:lnTo>
                <a:lnTo>
                  <a:pt x="1690159" y="503235"/>
                </a:lnTo>
                <a:lnTo>
                  <a:pt x="1044575" y="384436"/>
                </a:lnTo>
                <a:lnTo>
                  <a:pt x="398991" y="503235"/>
                </a:lnTo>
                <a:lnTo>
                  <a:pt x="645590" y="31101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4:04:23Z</dcterms:created>
  <dc:creator>полосинова и.а.</dc:creator>
  <dc:description/>
  <dc:language>en-US</dc:language>
  <cp:lastModifiedBy>1</cp:lastModifiedBy>
  <dcterms:modified xsi:type="dcterms:W3CDTF">2016-11-04T03:25:28Z</dcterms:modified>
  <cp:revision>18</cp:revision>
  <dc:subject/>
  <dc:title>Слайд 1</dc:title>
</cp:coreProperties>
</file>