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945-8207-425C-9A35-345D540A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074-603C-4723-AFAF-E2B54357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C54-6F6D-4E23-816C-3933EA6A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C96-BB7D-4964-A7B8-656DB95D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0C9D-E09B-4DF8-911C-9489EF9E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BAD3-19CD-4D3D-9537-97C67DC2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049F-4432-4949-906B-C0210616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F93C-3E2A-4086-9B69-C5773818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0A59-87A5-4CB4-83D4-89892F47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A9D5-7326-4E4D-92D9-4A034985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905F-79D7-4BA9-9569-28489AD6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42E9-178F-4EB0-896A-670E39BC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20B1-FFB2-462E-8A22-48A163E1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E088-E41E-4A76-A767-55EFC95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34C1-BE1E-4A6A-BBFE-3C509B14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F14D-2BF2-45CC-87EF-BAA26A74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EC8E-4145-4DF6-85B4-D3A17390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D03-93AC-4A70-8695-A118C736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AF0-DA6F-4DDD-B4D2-376EA84D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576-AB9D-474B-A036-9AEA11B5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695-9278-45CB-8C37-37B65EAF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516-400E-47AF-A2AA-1A21595C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BE7-CE08-4990-A0F6-E49CB598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FFF-54B4-409A-A4CD-93718FC0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904E-630C-47C4-A9BB-39EDC55148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B0B8-2DE1-4BBD-84E3-83B940136AB2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23 февраля-день защитниковОтече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Содержимое 3" descr="DSC_0015.JPG"/>
          <p:cNvPicPr/>
          <p:nvPr/>
        </p:nvPicPr>
        <p:blipFill>
          <a:blip r:embed="rId1"/>
          <a:stretch/>
        </p:blipFill>
        <p:spPr>
          <a:xfrm>
            <a:off x="584280" y="1598760"/>
            <a:ext cx="6745320" cy="490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ушкинский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Содержимое 3" descr="DSC_0902.JPG"/>
          <p:cNvPicPr/>
          <p:nvPr/>
        </p:nvPicPr>
        <p:blipFill>
          <a:blip r:embed="rId1"/>
          <a:stretch/>
        </p:blipFill>
        <p:spPr>
          <a:xfrm>
            <a:off x="584280" y="1598760"/>
            <a:ext cx="6745320" cy="44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1:05:30Z</dcterms:created>
  <dc:creator>OEM</dc:creator>
  <dc:description/>
  <dc:language>en-US</dc:language>
  <cp:lastModifiedBy>радица</cp:lastModifiedBy>
  <dcterms:modified xsi:type="dcterms:W3CDTF">2017-01-05T19:03:46Z</dcterms:modified>
  <cp:revision>7</cp:revision>
  <dc:subject/>
  <dc:title>Культурно –досуговая деятельность  в детском саду</dc:title>
</cp:coreProperties>
</file>