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57A-173C-4EFB-96F3-EF8EDDAB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201-AB1C-4B9D-AFB5-CE81B25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72A-AD91-429B-8281-F9F8DAF1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C0C-B6F0-4748-AC1D-7901629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552B-A738-4D2F-A6EB-920D282B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7D0C-B506-407D-8594-00B88BAB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5D6F-3E0B-484A-91A2-129810E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C83FA-BC7F-4D4A-A3C7-E0CA0E35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3665-3E40-4A6F-8059-C66C05A8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4A9D-B396-4EF3-8775-4918933C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4500-1076-4DEA-820A-9D282F71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F98-9466-4932-B2E0-2A0BA1FF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FEF6-EE09-462D-B286-537A7157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A5E5-0FA3-4A21-A309-4DA3973C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72DF-9D24-4745-9F32-1FEBE42D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540-8CD8-43AB-B42F-386AB427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BB45A-E736-46B9-9DC0-E4FACCAD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825F-F99A-46FA-B625-24EA228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E9C-51F7-4AAC-835F-DD590F6B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6188-6158-48D5-B66F-9B03CE4A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CBE-1344-4338-A0EA-478385CC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01D-2597-4F85-86A9-AFBA219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73F4-F28F-47AB-BD33-90AAAC11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C17-10DC-44AA-A2DB-17C8BB8E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902D-AD61-456D-A84C-D5C0D32A31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BC45-4BCE-4264-92DB-EB8879808CA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23 февраля-день защитниковОтечеств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Содержимое 3" descr="DSC_0015.JPG"/>
          <p:cNvPicPr/>
          <p:nvPr/>
        </p:nvPicPr>
        <p:blipFill>
          <a:blip r:embed="rId1"/>
          <a:stretch/>
        </p:blipFill>
        <p:spPr>
          <a:xfrm>
            <a:off x="584280" y="1598760"/>
            <a:ext cx="6745320" cy="490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ушкинский ден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5" name="Содержимое 3" descr="DSC_0902.JPG"/>
          <p:cNvPicPr/>
          <p:nvPr/>
        </p:nvPicPr>
        <p:blipFill>
          <a:blip r:embed="rId1"/>
          <a:stretch/>
        </p:blipFill>
        <p:spPr>
          <a:xfrm>
            <a:off x="584280" y="1598760"/>
            <a:ext cx="6745320" cy="44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1:05:30Z</dcterms:created>
  <dc:creator>OEM</dc:creator>
  <dc:description/>
  <dc:language>en-US</dc:language>
  <cp:lastModifiedBy>радица</cp:lastModifiedBy>
  <dcterms:modified xsi:type="dcterms:W3CDTF">2017-01-05T19:03:46Z</dcterms:modified>
  <cp:revision>7</cp:revision>
  <dc:subject/>
  <dc:title>Культурно –досуговая деятельность  в детском саду</dc:title>
</cp:coreProperties>
</file>