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F077-664E-4BD9-8E53-D685F98C8F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B44A-5F3F-41EE-8C4D-8A03AE7C0570}" type="slidenum"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C24-416D-4A3A-9C3A-AB4496DF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12F-F634-4BB8-9974-0327C1D1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67F-257E-4FF8-80F6-C12940BB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BEE-725D-4FCE-8CF8-92A4FE9B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4FFF-35D0-409D-A227-0B4DEEE7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F344-B911-4973-B220-E622B673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DCD5-E012-4857-B2B2-9A126E90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879D-D36F-4A0C-820F-2C1A0824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6660-0755-426B-80EE-7E04EF9C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C237-2D96-4C68-8AC3-A2FDB825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3D7A-AC0F-4BCE-AFB8-A5EABEB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6E6-9C2A-40DA-9AED-404E1706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811C-FB7F-4633-A361-322AE69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D79F-2947-4B82-87C0-596998B3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4345-BD8E-443B-BE66-50E96828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A46C-A9FA-4CAC-B69D-020A4DD1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A849-2B31-4530-A318-C2C03DBE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796-9331-4467-AC5B-A0C87D5F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5B6-5F6A-4983-8969-CB198F1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C02-AAD0-417E-829D-462F4C08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15A-9342-4B1C-9BDF-DD6AC2F7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474-24EF-4C9A-94E8-0710B40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896-E4E3-4D51-A822-4434DA4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0E2-FD40-4C8E-8217-41AC138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D3E9-277F-4455-9C02-E546B7333E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C61E-4E76-45F6-9383-16F365E312EC}" type="slidenum">
              <a:rPr b="0" lang="ru-RU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723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66b1b"/>
                </a:solidFill>
                <a:latin typeface="Times New Roman"/>
              </a:rPr>
              <a:t>Лишайники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Ягель – олений мох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03280" y="155700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Один из самых крупных лишайников: его высота может достигать 10-15 см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Во влажном состоянии ягель мягкий, упругий, но после высыхания твердеет, становится очень хрупким, легко крошится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Эти мельчайшие обломки переносятся ветром и способны дать начало новым растениям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9" name="Picture 9" descr="Картинка 5 из 5699"/>
          <p:cNvPicPr/>
          <p:nvPr/>
        </p:nvPicPr>
        <p:blipFill>
          <a:blip r:embed="rId1"/>
          <a:stretch/>
        </p:blipFill>
        <p:spPr>
          <a:xfrm>
            <a:off x="0" y="1773360"/>
            <a:ext cx="50767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Ягель – олений мох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Ягель растет очень медленно: несколько миллиметров в год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Поэтому одно и то же тундровое пастбище нельзя использовать несколько лет подряд - не случайно саамы кочевали со своими стадами по всей территории области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Если олени съедают весь ягель, то на восстановление лишайникового покрова требуется довольно много времени – до 15 ле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Picture 8" descr="Картинка 4 из 610"/>
          <p:cNvPicPr/>
          <p:nvPr/>
        </p:nvPicPr>
        <p:blipFill>
          <a:blip r:embed="rId1"/>
          <a:srcRect l="4942" t="0" r="5693" b="3138"/>
          <a:stretch/>
        </p:blipFill>
        <p:spPr>
          <a:xfrm>
            <a:off x="0" y="1844640"/>
            <a:ext cx="4788000" cy="3875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684360" y="5950080"/>
            <a:ext cx="3311280" cy="504720"/>
          </a:xfrm>
          <a:prstGeom prst="rect">
            <a:avLst/>
          </a:prstGeom>
          <a:solidFill>
            <a:srgbClr val="8dba7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Олень зимой ищет ягель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00720" y="1484280"/>
            <a:ext cx="4643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66b1b"/>
                </a:solidFill>
                <a:latin typeface="Times New Roman"/>
              </a:rPr>
              <a:t>Лишайники —</a:t>
            </a: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симбиотические ассоциации грибов и микроскопических зелёных водорослей и цианобактерий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Микобионт образует слоевище, внутри которого располагаются клетки фотобионта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Группа насчитывает около 400 родов и от 17000 до 26000 видов.</a:t>
            </a:r>
            <a:r>
              <a:rPr b="0" lang="ru-RU" sz="2800" spc="-1" strike="noStrike">
                <a:solidFill>
                  <a:srgbClr val="224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4" name="Picture 10" descr="Картинка 1 из 61811"/>
          <p:cNvPicPr/>
          <p:nvPr/>
        </p:nvPicPr>
        <p:blipFill>
          <a:blip r:embed="rId1"/>
          <a:srcRect l="4942" t="0" r="4285" b="7143"/>
          <a:stretch/>
        </p:blipFill>
        <p:spPr>
          <a:xfrm>
            <a:off x="0" y="1844640"/>
            <a:ext cx="460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f7e9"/>
                </a:solidFill>
                <a:latin typeface="Times New Roman"/>
              </a:rPr>
              <a:t>Лишайники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Русское название лишайники получили за визуальное сходство с проявлениями некоторых кожных заболеваний, получивших общее название «лишаи»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8" descr="Картинка 7 из 61811"/>
          <p:cNvPicPr/>
          <p:nvPr/>
        </p:nvPicPr>
        <p:blipFill>
          <a:blip r:embed="rId1"/>
          <a:stretch/>
        </p:blipFill>
        <p:spPr>
          <a:xfrm>
            <a:off x="250920" y="1700280"/>
            <a:ext cx="3744720" cy="337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Картинка 24 из 61811"/>
          <p:cNvPicPr/>
          <p:nvPr/>
        </p:nvPicPr>
        <p:blipFill>
          <a:blip r:embed="rId2"/>
          <a:stretch/>
        </p:blipFill>
        <p:spPr>
          <a:xfrm>
            <a:off x="4284720" y="1773360"/>
            <a:ext cx="43336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рвые описания лишайников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1280" y="5229360"/>
            <a:ext cx="49323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24311"/>
                </a:solidFill>
                <a:uFillTx/>
                <a:latin typeface="Times New Roman"/>
              </a:rPr>
              <a:t>Теофраст</a:t>
            </a:r>
            <a:r>
              <a:rPr b="0" lang="ru-RU" sz="2000" spc="-1" strike="noStrike">
                <a:solidFill>
                  <a:srgbClr val="224311"/>
                </a:solidFill>
                <a:latin typeface="Times New Roman"/>
              </a:rPr>
              <a:t> — древнегреческий философ, естествоиспытатель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431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24311"/>
                </a:solidFill>
                <a:latin typeface="Times New Roman"/>
              </a:rPr>
              <a:t>Является наряду с Аристотелем основателем ботаники и географии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растений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1" name="Picture 8" descr="Картинка 2 из 2395"/>
          <p:cNvPicPr/>
          <p:nvPr/>
        </p:nvPicPr>
        <p:blipFill>
          <a:blip r:embed="rId1"/>
          <a:stretch/>
        </p:blipFill>
        <p:spPr>
          <a:xfrm>
            <a:off x="5867280" y="1628640"/>
            <a:ext cx="2646360" cy="3527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-360" y="1557000"/>
            <a:ext cx="442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Первые описания известны из «Истории растений»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Теофраст предполагал, что они представляют собой наросты деревьев или водоросли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В XVII веке было известно только 28 видов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рвые описания лишайников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56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Французский врач и ботаник Жозеф Питтон де Турнефор в своей системе выделил лишайники в отдельную группу в составе мхов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Началом науки о лишайниках принято считать 1803 год, когда ученик Карла Линнея Эрик Ахариус опубликовал свой труд «Методы, с помощью которых каждый сможет определять лишайники»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Первым на симбиотическую природу в 1866 году указал врач и миколог Антон де Бари.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5" name="Picture 8" descr="POET4"/>
          <p:cNvPicPr/>
          <p:nvPr/>
        </p:nvPicPr>
        <p:blipFill>
          <a:blip r:embed="rId1"/>
          <a:srcRect l="0" t="1876" r="-2088" b="0"/>
          <a:stretch/>
        </p:blipFill>
        <p:spPr>
          <a:xfrm>
            <a:off x="5796000" y="1700280"/>
            <a:ext cx="3203640" cy="3960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5940360" y="5661000"/>
            <a:ext cx="3024360" cy="504720"/>
          </a:xfrm>
          <a:prstGeom prst="rect">
            <a:avLst/>
          </a:prstGeom>
          <a:solidFill>
            <a:srgbClr val="8dba7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Жозеф Питтон де Турнефор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азнообразие лишайников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64000" y="1483920"/>
            <a:ext cx="378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Всего на Земле известно более 20 тыс. видов лишайников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Распространены они по всей суше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Лишайники настолько неприхотливы, что растут там, где другие растения просто не могут выжить – в крайне суровых полярных и высокогорных пустынях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9" name="Picture 8" descr="Картинка 36 из 61811"/>
          <p:cNvPicPr/>
          <p:nvPr/>
        </p:nvPicPr>
        <p:blipFill>
          <a:blip r:embed="rId1"/>
          <a:srcRect l="10288" t="0" r="18792" b="8315"/>
          <a:stretch/>
        </p:blipFill>
        <p:spPr>
          <a:xfrm>
            <a:off x="179280" y="1773360"/>
            <a:ext cx="2340000" cy="226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Картинка 45 из 61811"/>
          <p:cNvPicPr/>
          <p:nvPr/>
        </p:nvPicPr>
        <p:blipFill>
          <a:blip r:embed="rId2"/>
          <a:stretch/>
        </p:blipFill>
        <p:spPr>
          <a:xfrm>
            <a:off x="1619280" y="4076640"/>
            <a:ext cx="2952720" cy="22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Картинка 58 из 61811"/>
          <p:cNvPicPr/>
          <p:nvPr/>
        </p:nvPicPr>
        <p:blipFill>
          <a:blip r:embed="rId3"/>
          <a:stretch/>
        </p:blipFill>
        <p:spPr>
          <a:xfrm>
            <a:off x="2556000" y="1736640"/>
            <a:ext cx="30240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fbfbf"/>
                </a:solidFill>
                <a:latin typeface="Times New Roman"/>
              </a:rPr>
              <a:t>Типология лишайников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755640" y="1557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7f7f7f"/>
                </a:solidFill>
                <a:latin typeface="Times New Roman"/>
              </a:rPr>
              <a:t>кустистые</a:t>
            </a:r>
            <a:r>
              <a:rPr b="0" i="1" lang="en-GB" sz="3200" spc="-1" strike="noStrike">
                <a:solidFill>
                  <a:srgbClr val="7f7f7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Times New Roman"/>
              </a:rPr>
              <a:t>(в сосновых борах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2340000" y="308304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i="1" lang="en-GB" sz="3200" spc="-1" strike="noStrike">
                <a:solidFill>
                  <a:srgbClr val="7f7f7f"/>
                </a:solidFill>
                <a:latin typeface="Times New Roman"/>
              </a:rPr>
              <a:t>накипные</a:t>
            </a:r>
            <a:r>
              <a:rPr b="0" i="1" lang="en-GB" sz="3200" spc="-1" strike="noStrike">
                <a:solidFill>
                  <a:srgbClr val="7f7f7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Times New Roman"/>
              </a:rPr>
              <a:t>(на камнях – «накипь»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3059280" y="481176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i="1" lang="en-GB" sz="3200" spc="-1" strike="noStrike">
                <a:solidFill>
                  <a:srgbClr val="7f7f7f"/>
                </a:solidFill>
                <a:latin typeface="Times New Roman"/>
              </a:rPr>
              <a:t>листоватые</a:t>
            </a:r>
            <a:r>
              <a:rPr b="0" i="1" lang="en-GB" sz="3200" spc="-1" strike="noStrike">
                <a:solidFill>
                  <a:srgbClr val="0033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Times New Roman"/>
              </a:rPr>
              <a:t>(в виде пластинок,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Times New Roman"/>
              </a:rPr>
              <a:t>на деревьях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6" name="Рисунок 5" descr="45.jpg"/>
          <p:cNvPicPr/>
          <p:nvPr/>
        </p:nvPicPr>
        <p:blipFill>
          <a:blip r:embed="rId1"/>
          <a:stretch/>
        </p:blipFill>
        <p:spPr>
          <a:xfrm>
            <a:off x="5148360" y="1268280"/>
            <a:ext cx="2950920" cy="2214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16171--4547196-m549x500.jpg"/>
          <p:cNvPicPr/>
          <p:nvPr/>
        </p:nvPicPr>
        <p:blipFill>
          <a:blip r:embed="rId2"/>
          <a:stretch/>
        </p:blipFill>
        <p:spPr>
          <a:xfrm>
            <a:off x="250920" y="292428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gallery_LukinaNV_DSC00150.JPG"/>
          <p:cNvPicPr/>
          <p:nvPr/>
        </p:nvPicPr>
        <p:blipFill>
          <a:blip r:embed="rId3"/>
          <a:stretch/>
        </p:blipFill>
        <p:spPr>
          <a:xfrm>
            <a:off x="7020000" y="3716280"/>
            <a:ext cx="1941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Значение лишайников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Некоторые виды лишайников находят применение в лечебных целях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Нередкая в северных лесах и тундрах Цетрария исландская - «Исландский мох» в лечении различных простудных заболеваний (обычный водный отвар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Мягкими антибиотическими и антисептическими свойствами обладают лишайниковые кислоты, вырабатываемые в процессе жизнедеятельности лишайников из родов Уснея и Бриория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1" name="Picture 8" descr="Картинка 13 из 1756"/>
          <p:cNvPicPr/>
          <p:nvPr/>
        </p:nvPicPr>
        <p:blipFill>
          <a:blip r:embed="rId1"/>
          <a:srcRect l="25765" t="13246" r="6161" b="9107"/>
          <a:stretch/>
        </p:blipFill>
        <p:spPr>
          <a:xfrm>
            <a:off x="0" y="1844640"/>
            <a:ext cx="4067280" cy="3473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179280" y="5445000"/>
            <a:ext cx="3673440" cy="86544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24000" y="551664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Цетрария исландская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«Исландский мох»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Лишайники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8000" y="1557000"/>
            <a:ext cx="39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Один из наиболее распространенных видов –</a:t>
            </a:r>
            <a:r>
              <a:rPr b="1" i="1" lang="ru-RU" sz="2400" spc="-1" strike="noStrike" u="sng">
                <a:solidFill>
                  <a:srgbClr val="224311"/>
                </a:solidFill>
                <a:uFillTx/>
                <a:latin typeface="Times New Roman"/>
              </a:rPr>
              <a:t>Ризокарпон географический,</a:t>
            </a: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 который в виде желтовато-зеленоватых пятен с черными точками и линиями образует на поверхности камней сложный узор, порой чем-то напоминающий географические карты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6" name="Picture 6" descr="Картинка 1 из 24"/>
          <p:cNvPicPr/>
          <p:nvPr/>
        </p:nvPicPr>
        <p:blipFill>
          <a:blip r:embed="rId1"/>
          <a:stretch/>
        </p:blipFill>
        <p:spPr>
          <a:xfrm>
            <a:off x="0" y="1844640"/>
            <a:ext cx="54356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3:40:00Z</dcterms:created>
  <dc:creator>полосинова и.а.</dc:creator>
  <dc:description/>
  <cp:keywords/>
  <dc:language>en-US</dc:language>
  <cp:lastModifiedBy>1</cp:lastModifiedBy>
  <dcterms:modified xsi:type="dcterms:W3CDTF">2013-10-27T18:30:31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391049</vt:lpwstr>
  </property>
</Properties>
</file>