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28B1-AB06-48BE-B687-913C16FA6B8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67C9-4A7A-4788-9E66-78804BCB7333}" type="slidenum">
              <a:rPr b="0" lang="ru-RU" sz="12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4F7C-A7A0-4D07-8A3E-A7C695DF3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6B4C-4E45-4C42-9759-D4A7F247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82F1-816C-4C64-B434-45B1EEF74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0BCA-8587-46AA-8D3B-DDEC4E18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5982-79FD-47AC-98BE-02FBA0E3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F2B9-75CA-4565-A70B-56908637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DFE1-EEF2-4D8C-8C13-9BA295D1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C043-1B60-46CE-A996-08214D62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3DE6-FE07-480E-B8E0-CCCAE9B4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C455-1D5B-4F68-BE9E-4933B0BF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5C74-1BD9-418C-B0D6-CB446050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4DCA-9130-4AE2-8C4C-09C6D670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B625-2EE3-4F93-81F3-EF7E4998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1CED-EA72-4815-A41B-CA3503BF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55A4-AA46-4DE5-9224-C2F38DB3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E49F-47E6-4D17-9E1C-B28A69819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ED9E-6334-4076-89FC-E57BD809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B566-5414-4A7C-91F1-63EF34FB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BCA1-3E9F-4B4C-BF45-A2D38398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398A-0B98-4286-8792-40D0967E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2C47-4ADB-4A44-B5A4-0E4652C9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E6D0-98DF-453C-B082-E0CABB69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A2C8-821B-4C39-A4F5-1D0FED32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E4CB-2FFA-41BF-A353-BEA5D318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8E10-45FD-4E77-881B-CB1F6EFFA0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Rectangle 3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Line 5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Line 7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Rectangle 8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8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5061-B36F-4739-AFF6-D6018510E54D}" type="slidenum">
              <a:rPr b="0" lang="ru-RU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402920" y="3933360"/>
            <a:ext cx="72327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66b1b"/>
                </a:solidFill>
                <a:latin typeface="Times New Roman"/>
              </a:rPr>
              <a:t>Лишайники </a:t>
            </a:r>
            <a:endParaRPr b="0" lang="en-US" sz="4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Ягель – олений мох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03280" y="1557000"/>
            <a:ext cx="414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4311"/>
                </a:solidFill>
                <a:latin typeface="Times New Roman"/>
              </a:rPr>
              <a:t>Один из самых крупных лишайников: его высота может достигать 10-15 см.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4311"/>
                </a:solidFill>
                <a:latin typeface="Times New Roman"/>
              </a:rPr>
              <a:t>Во влажном состоянии ягель мягкий, упругий, но после высыхания твердеет, становится очень хрупким, легко крошится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4311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224311"/>
                </a:solidFill>
                <a:latin typeface="Times New Roman"/>
              </a:rPr>
              <a:t>Эти мельчайшие обломки переносятся ветром и способны дать начало новым растениям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39" name="Picture 9" descr="Картинка 5 из 5699"/>
          <p:cNvPicPr/>
          <p:nvPr/>
        </p:nvPicPr>
        <p:blipFill>
          <a:blip r:embed="rId1"/>
          <a:stretch/>
        </p:blipFill>
        <p:spPr>
          <a:xfrm>
            <a:off x="0" y="1773360"/>
            <a:ext cx="507672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Ягель – олений мох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483920"/>
            <a:ext cx="44956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4311"/>
                </a:solidFill>
                <a:latin typeface="Times New Roman"/>
              </a:rPr>
              <a:t>Ягель растет очень медленно: несколько миллиметров в год.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4311"/>
                </a:solidFill>
                <a:latin typeface="Times New Roman"/>
              </a:rPr>
              <a:t>Поэтому одно и то же тундровое пастбище нельзя использовать несколько лет подряд - не случайно саамы кочевали со своими стадами по всей территории области.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4311"/>
                </a:solidFill>
                <a:latin typeface="Times New Roman"/>
              </a:rPr>
              <a:t>Если олени съедают весь ягель, то на восстановление лишайникового покрова требуется довольно много времени – до 15 лет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42" name="Picture 8" descr="Картинка 4 из 610"/>
          <p:cNvPicPr/>
          <p:nvPr/>
        </p:nvPicPr>
        <p:blipFill>
          <a:blip r:embed="rId1"/>
          <a:srcRect l="4942" t="0" r="5693" b="3138"/>
          <a:stretch/>
        </p:blipFill>
        <p:spPr>
          <a:xfrm>
            <a:off x="0" y="1844640"/>
            <a:ext cx="4788000" cy="38750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9"/>
          <p:cNvSpPr/>
          <p:nvPr/>
        </p:nvSpPr>
        <p:spPr>
          <a:xfrm>
            <a:off x="684360" y="5950080"/>
            <a:ext cx="3311280" cy="504720"/>
          </a:xfrm>
          <a:prstGeom prst="rect">
            <a:avLst/>
          </a:prstGeom>
          <a:solidFill>
            <a:srgbClr val="8dba7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Олень зимой ищет ягель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00720" y="1484280"/>
            <a:ext cx="46432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66b1b"/>
                </a:solidFill>
                <a:latin typeface="Times New Roman"/>
              </a:rPr>
              <a:t>Лишайники —</a:t>
            </a:r>
            <a:r>
              <a:rPr b="1" i="1" lang="ru-RU" sz="2800" spc="-1" strike="noStrike">
                <a:solidFill>
                  <a:srgbClr val="224311"/>
                </a:solidFill>
                <a:latin typeface="Times New Roman"/>
              </a:rPr>
              <a:t>симбиотические ассоциации грибов и микроскопических зелёных водорослей и цианобактерий.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4311"/>
                </a:solidFill>
                <a:latin typeface="Times New Roman"/>
              </a:rPr>
              <a:t>Микобионт образует слоевище, внутри которого располагаются клетки фотобионта.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4311"/>
                </a:solidFill>
                <a:latin typeface="Times New Roman"/>
              </a:rPr>
              <a:t>Группа насчитывает около 400 родов и от 17000 до 26000 видов.</a:t>
            </a:r>
            <a:r>
              <a:rPr b="0" lang="ru-RU" sz="2800" spc="-1" strike="noStrike">
                <a:solidFill>
                  <a:srgbClr val="22431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04" name="Picture 10" descr="Картинка 1 из 61811"/>
          <p:cNvPicPr/>
          <p:nvPr/>
        </p:nvPicPr>
        <p:blipFill>
          <a:blip r:embed="rId1"/>
          <a:srcRect l="4942" t="0" r="4285" b="7143"/>
          <a:stretch/>
        </p:blipFill>
        <p:spPr>
          <a:xfrm>
            <a:off x="0" y="1844640"/>
            <a:ext cx="4608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1f7e9"/>
                </a:solidFill>
                <a:latin typeface="Times New Roman"/>
              </a:rPr>
              <a:t>Лишайники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5084640"/>
            <a:ext cx="91440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4311"/>
                </a:solidFill>
                <a:latin typeface="Times New Roman"/>
              </a:rPr>
              <a:t>Русское название лишайники получили за визуальное сходство с проявлениями некоторых кожных заболеваний, получивших общее название «лишаи».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07" name="Picture 8" descr="Картинка 7 из 61811"/>
          <p:cNvPicPr/>
          <p:nvPr/>
        </p:nvPicPr>
        <p:blipFill>
          <a:blip r:embed="rId1"/>
          <a:stretch/>
        </p:blipFill>
        <p:spPr>
          <a:xfrm>
            <a:off x="250920" y="1700280"/>
            <a:ext cx="3744720" cy="3375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Картинка 24 из 61811"/>
          <p:cNvPicPr/>
          <p:nvPr/>
        </p:nvPicPr>
        <p:blipFill>
          <a:blip r:embed="rId2"/>
          <a:stretch/>
        </p:blipFill>
        <p:spPr>
          <a:xfrm>
            <a:off x="4284720" y="1773360"/>
            <a:ext cx="433368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Первые описания лишайников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211280" y="5229360"/>
            <a:ext cx="4932360" cy="16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224311"/>
                </a:solidFill>
                <a:uFillTx/>
                <a:latin typeface="Times New Roman"/>
              </a:rPr>
              <a:t>Теофраст</a:t>
            </a:r>
            <a:r>
              <a:rPr b="0" lang="ru-RU" sz="2000" spc="-1" strike="noStrike">
                <a:solidFill>
                  <a:srgbClr val="224311"/>
                </a:solidFill>
                <a:latin typeface="Times New Roman"/>
              </a:rPr>
              <a:t> — древнегреческий философ, естествоиспытатель.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4311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224311"/>
                </a:solidFill>
                <a:latin typeface="Times New Roman"/>
              </a:rPr>
              <a:t>Является наряду с Аристотелем основателем ботаники и географии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растений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11" name="Picture 8" descr="Картинка 2 из 2395"/>
          <p:cNvPicPr/>
          <p:nvPr/>
        </p:nvPicPr>
        <p:blipFill>
          <a:blip r:embed="rId1"/>
          <a:stretch/>
        </p:blipFill>
        <p:spPr>
          <a:xfrm>
            <a:off x="5867280" y="1628640"/>
            <a:ext cx="2646360" cy="35276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-360" y="1557000"/>
            <a:ext cx="4427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4311"/>
                </a:solidFill>
                <a:latin typeface="Times New Roman"/>
              </a:rPr>
              <a:t>Первые описания известны из «Истории растений».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4311"/>
                </a:solidFill>
                <a:latin typeface="Times New Roman"/>
              </a:rPr>
              <a:t>Теофраст предполагал, что они представляют собой наросты деревьев или водоросли.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4311"/>
                </a:solidFill>
                <a:latin typeface="Times New Roman"/>
              </a:rPr>
              <a:t>В XVII веке было известно только 28 видов.</a:t>
            </a: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Первые описания лишайников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565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4311"/>
                </a:solidFill>
                <a:latin typeface="Times New Roman"/>
              </a:rPr>
              <a:t>Французский врач и ботаник Жозеф Питтон де Турнефор в своей системе выделил лишайники в отдельную группу в составе мхов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4311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224311"/>
                </a:solidFill>
                <a:latin typeface="Times New Roman"/>
              </a:rPr>
              <a:t>Началом науки о лишайниках принято считать 1803 год, когда ученик Карла Линнея Эрик Ахариус опубликовал свой труд «Методы, с помощью которых каждый сможет определять лишайники».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4311"/>
                </a:solidFill>
                <a:latin typeface="Times New Roman"/>
              </a:rPr>
              <a:t>Первым на симбиотическую природу в 1866 году указал врач и миколог Антон де Бари.</a:t>
            </a: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15" name="Picture 8" descr="POET4"/>
          <p:cNvPicPr/>
          <p:nvPr/>
        </p:nvPicPr>
        <p:blipFill>
          <a:blip r:embed="rId1"/>
          <a:srcRect l="0" t="1876" r="-2088" b="0"/>
          <a:stretch/>
        </p:blipFill>
        <p:spPr>
          <a:xfrm>
            <a:off x="5796000" y="1700280"/>
            <a:ext cx="3203640" cy="39607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9"/>
          <p:cNvSpPr/>
          <p:nvPr/>
        </p:nvSpPr>
        <p:spPr>
          <a:xfrm>
            <a:off x="5940360" y="5661000"/>
            <a:ext cx="3024360" cy="504720"/>
          </a:xfrm>
          <a:prstGeom prst="rect">
            <a:avLst/>
          </a:prstGeom>
          <a:solidFill>
            <a:srgbClr val="8dba76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Жозеф Питтон де Турнефор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Разнообразие лишайников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64000" y="1483920"/>
            <a:ext cx="378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4311"/>
                </a:solidFill>
                <a:latin typeface="Times New Roman"/>
              </a:rPr>
              <a:t>Всего на Земле известно более 20 тыс. видов лишайников.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4311"/>
                </a:solidFill>
                <a:latin typeface="Times New Roman"/>
              </a:rPr>
              <a:t>Распространены они по всей суше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4311"/>
                </a:solidFill>
                <a:latin typeface="Times New Roman"/>
              </a:rPr>
              <a:t>Лишайники настолько неприхотливы, что растут там, где другие растения просто не могут выжить – в крайне суровых полярных и высокогорных пустынях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19" name="Picture 8" descr="Картинка 36 из 61811"/>
          <p:cNvPicPr/>
          <p:nvPr/>
        </p:nvPicPr>
        <p:blipFill>
          <a:blip r:embed="rId1"/>
          <a:srcRect l="10288" t="0" r="18792" b="8315"/>
          <a:stretch/>
        </p:blipFill>
        <p:spPr>
          <a:xfrm>
            <a:off x="179280" y="1773360"/>
            <a:ext cx="2340000" cy="2265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Картинка 45 из 61811"/>
          <p:cNvPicPr/>
          <p:nvPr/>
        </p:nvPicPr>
        <p:blipFill>
          <a:blip r:embed="rId2"/>
          <a:stretch/>
        </p:blipFill>
        <p:spPr>
          <a:xfrm>
            <a:off x="1619280" y="4076640"/>
            <a:ext cx="2952720" cy="2217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Картинка 58 из 61811"/>
          <p:cNvPicPr/>
          <p:nvPr/>
        </p:nvPicPr>
        <p:blipFill>
          <a:blip r:embed="rId3"/>
          <a:stretch/>
        </p:blipFill>
        <p:spPr>
          <a:xfrm>
            <a:off x="2556000" y="1736640"/>
            <a:ext cx="302400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-2700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bfbfbf"/>
                </a:solidFill>
                <a:latin typeface="Times New Roman"/>
              </a:rPr>
              <a:t>Типология лишайников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755640" y="155736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7f7f7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7f7f7f"/>
                </a:solidFill>
                <a:latin typeface="Times New Roman"/>
              </a:rPr>
              <a:t>кустистые</a:t>
            </a:r>
            <a:r>
              <a:rPr b="0" i="1" lang="en-GB" sz="3200" spc="-1" strike="noStrike">
                <a:solidFill>
                  <a:srgbClr val="7f7f7f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Times New Roman"/>
              </a:rPr>
              <a:t>(в сосновых борах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2340000" y="3083040"/>
            <a:ext cx="47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f7f7f"/>
                </a:solidFill>
                <a:latin typeface="Times New Roman"/>
              </a:rPr>
              <a:t>2. </a:t>
            </a:r>
            <a:r>
              <a:rPr b="1" i="1" lang="en-GB" sz="3200" spc="-1" strike="noStrike">
                <a:solidFill>
                  <a:srgbClr val="7f7f7f"/>
                </a:solidFill>
                <a:latin typeface="Times New Roman"/>
              </a:rPr>
              <a:t>накипные</a:t>
            </a:r>
            <a:r>
              <a:rPr b="0" i="1" lang="en-GB" sz="3200" spc="-1" strike="noStrike">
                <a:solidFill>
                  <a:srgbClr val="7f7f7f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Times New Roman"/>
              </a:rPr>
              <a:t>(на камнях – «накипь»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5" name="TextBox 12"/>
          <p:cNvSpPr/>
          <p:nvPr/>
        </p:nvSpPr>
        <p:spPr>
          <a:xfrm>
            <a:off x="3059280" y="4811760"/>
            <a:ext cx="388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f7f7f"/>
                </a:solidFill>
                <a:latin typeface="Times New Roman"/>
              </a:rPr>
              <a:t>3. </a:t>
            </a:r>
            <a:r>
              <a:rPr b="1" i="1" lang="en-GB" sz="3200" spc="-1" strike="noStrike">
                <a:solidFill>
                  <a:srgbClr val="7f7f7f"/>
                </a:solidFill>
                <a:latin typeface="Times New Roman"/>
              </a:rPr>
              <a:t>листоватые</a:t>
            </a:r>
            <a:r>
              <a:rPr b="0" i="1" lang="en-GB" sz="3200" spc="-1" strike="noStrike">
                <a:solidFill>
                  <a:srgbClr val="0033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Times New Roman"/>
              </a:rPr>
              <a:t>(в виде пластинок,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f7f7f"/>
                </a:solidFill>
                <a:latin typeface="Times New Roman"/>
              </a:rPr>
              <a:t>на деревьях)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26" name="Рисунок 5" descr="45.jpg"/>
          <p:cNvPicPr/>
          <p:nvPr/>
        </p:nvPicPr>
        <p:blipFill>
          <a:blip r:embed="rId1"/>
          <a:stretch/>
        </p:blipFill>
        <p:spPr>
          <a:xfrm>
            <a:off x="5148360" y="1268280"/>
            <a:ext cx="2950920" cy="221472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6" descr="16171--4547196-m549x500.jpg"/>
          <p:cNvPicPr/>
          <p:nvPr/>
        </p:nvPicPr>
        <p:blipFill>
          <a:blip r:embed="rId2"/>
          <a:stretch/>
        </p:blipFill>
        <p:spPr>
          <a:xfrm>
            <a:off x="250920" y="2924280"/>
            <a:ext cx="2052720" cy="27352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7" descr="gallery_LukinaNV_DSC00150.JPG"/>
          <p:cNvPicPr/>
          <p:nvPr/>
        </p:nvPicPr>
        <p:blipFill>
          <a:blip r:embed="rId3"/>
          <a:stretch/>
        </p:blipFill>
        <p:spPr>
          <a:xfrm>
            <a:off x="7020000" y="3716280"/>
            <a:ext cx="194148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Значение лишайников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95280" y="1557360"/>
            <a:ext cx="5148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Некоторые виды лишайников находят применение в лечебных целях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Нередкая в северных лесах и тундрах Цетрария исландская - «Исландский мох» в лечении различных простудных заболеваний (обычный водный отвар)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3300"/>
                </a:solidFill>
                <a:latin typeface="Times New Roman"/>
              </a:rPr>
              <a:t>Мягкими антибиотическими и антисептическими свойствами обладают лишайниковые кислоты, вырабатываемые в процессе жизнедеятельности лишайников из родов Уснея и Бриория.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31" name="Picture 8" descr="Картинка 13 из 1756"/>
          <p:cNvPicPr/>
          <p:nvPr/>
        </p:nvPicPr>
        <p:blipFill>
          <a:blip r:embed="rId1"/>
          <a:srcRect l="25765" t="13246" r="6161" b="9107"/>
          <a:stretch/>
        </p:blipFill>
        <p:spPr>
          <a:xfrm>
            <a:off x="0" y="1844640"/>
            <a:ext cx="4067280" cy="34736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9"/>
          <p:cNvSpPr/>
          <p:nvPr/>
        </p:nvSpPr>
        <p:spPr>
          <a:xfrm>
            <a:off x="179280" y="5445000"/>
            <a:ext cx="3673440" cy="865440"/>
          </a:xfrm>
          <a:prstGeom prst="rect">
            <a:avLst/>
          </a:prstGeom>
          <a:solidFill>
            <a:srgbClr val="8bae6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324000" y="5516640"/>
            <a:ext cx="36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Times New Roman"/>
              </a:rPr>
              <a:t>Цетрария исландская 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00"/>
                </a:solidFill>
                <a:latin typeface="Times New Roman"/>
              </a:rPr>
              <a:t>«Исландский мох»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476280"/>
            <a:ext cx="8458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Лишайники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48000" y="1557000"/>
            <a:ext cx="3995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224311"/>
                </a:solidFill>
                <a:latin typeface="Times New Roman"/>
              </a:rPr>
              <a:t>Один из наиболее распространенных видов –</a:t>
            </a:r>
            <a:r>
              <a:rPr b="1" i="1" lang="ru-RU" sz="2400" spc="-1" strike="noStrike" u="sng">
                <a:solidFill>
                  <a:srgbClr val="224311"/>
                </a:solidFill>
                <a:uFillTx/>
                <a:latin typeface="Times New Roman"/>
              </a:rPr>
              <a:t>Ризокарпон географический,</a:t>
            </a:r>
            <a:r>
              <a:rPr b="1" i="1" lang="ru-RU" sz="2400" spc="-1" strike="noStrike">
                <a:solidFill>
                  <a:srgbClr val="224311"/>
                </a:solidFill>
                <a:latin typeface="Times New Roman"/>
              </a:rPr>
              <a:t> который в виде желтовато-зеленоватых пятен с черными точками и линиями образует на поверхности камней сложный узор, порой чем-то напоминающий географические карты. 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36" name="Picture 6" descr="Картинка 1 из 24"/>
          <p:cNvPicPr/>
          <p:nvPr/>
        </p:nvPicPr>
        <p:blipFill>
          <a:blip r:embed="rId1"/>
          <a:stretch/>
        </p:blipFill>
        <p:spPr>
          <a:xfrm>
            <a:off x="0" y="1844640"/>
            <a:ext cx="543564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3:40:00Z</dcterms:created>
  <dc:creator>полосинова и.а.</dc:creator>
  <dc:description/>
  <cp:keywords/>
  <dc:language>en-US</dc:language>
  <cp:lastModifiedBy>1</cp:lastModifiedBy>
  <dcterms:modified xsi:type="dcterms:W3CDTF">2013-10-27T18:30:31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391049</vt:lpwstr>
  </property>
</Properties>
</file>