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DBBF7-CE20-4C18-A4ED-338BDCD3B1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B7C6-E176-42EF-888B-FCA27680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6CA6C-8528-4003-8D5D-53E7E5FF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47C4-93F3-42BB-9944-59BA0C6EE1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7E4F3-BBE2-4243-AE7E-52BF0A1C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4075-E54C-411C-BAF9-D375B821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EC847-3A1C-4729-8359-BC80B7E0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AF33-CF91-49D7-BEBB-CF402DE3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57BF7-49FA-4D17-8B00-B082BE6C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E20E3-94BF-4002-9697-578DA4062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9822C-065C-4F78-A0A9-7449F97C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009A-B646-46A6-884E-4B1678F5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400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4F84EF-FB91-45CE-A405-81BA83362D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428760" y="3429000"/>
            <a:ext cx="8143920" cy="25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SimSun"/>
              </a:rPr>
              <a:t>«Моя будущая професс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857240" y="500040"/>
            <a:ext cx="3643560" cy="3643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57160" y="5572080"/>
            <a:ext cx="8001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5880" y="714240"/>
            <a:ext cx="61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Calibri"/>
                <a:ea typeface="SimSun"/>
              </a:rPr>
              <a:t>ПОВА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857160" y="1987560"/>
            <a:ext cx="5857920" cy="3844800"/>
            <a:chOff x="857160" y="1987560"/>
            <a:chExt cx="5857920" cy="38448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857160" y="1987560"/>
              <a:ext cx="5857920" cy="384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857160" y="1987560"/>
              <a:ext cx="5857920" cy="38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1143000" y="731880"/>
            <a:ext cx="5143680" cy="57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558ed5"/>
                </a:solidFill>
                <a:latin typeface="Calibri"/>
                <a:ea typeface="SimSun"/>
              </a:rPr>
              <a:t>Этот доктор удалит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558ed5"/>
                </a:solidFill>
                <a:latin typeface="Calibri"/>
                <a:ea typeface="SimSun"/>
              </a:rPr>
              <a:t>Мне легко аппендицит.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558ed5"/>
                </a:solidFill>
                <a:latin typeface="Calibri"/>
                <a:ea typeface="SimSun"/>
              </a:rPr>
              <a:t>Скальпель – лучший его друг,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600" spc="-1" strike="noStrike">
                <a:solidFill>
                  <a:srgbClr val="558ed5"/>
                </a:solidFill>
                <a:latin typeface="Calibri"/>
                <a:ea typeface="SimSun"/>
              </a:rPr>
              <a:t>Кто же доктор тот? … !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190440"/>
            <a:ext cx="6329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0" spc="-1" strike="noStrike">
                <a:solidFill>
                  <a:srgbClr val="ff0000"/>
                </a:solidFill>
                <a:latin typeface="Calibri"/>
                <a:ea typeface="SimSun"/>
              </a:rPr>
              <a:t>ХИРУРГ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85920" y="1557360"/>
            <a:ext cx="4786200" cy="4703760"/>
            <a:chOff x="1285920" y="1557360"/>
            <a:chExt cx="4786200" cy="47037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285920" y="1557360"/>
              <a:ext cx="4786200" cy="47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285920" y="1557360"/>
              <a:ext cx="4786200" cy="47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857160" y="571680"/>
            <a:ext cx="5643720" cy="62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Ночью, в полдень, на рассв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Службу он несёт в секрет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Её давно бурёнки знают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Всегда мычанием встречаю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И за её нелёгкий тру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Всё молоко ей отдаю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2746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  <a:ea typeface="SimSun"/>
              </a:rPr>
              <a:t>ДОЯР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50960" y="1643040"/>
            <a:ext cx="6032520" cy="4071960"/>
            <a:chOff x="750960" y="1643040"/>
            <a:chExt cx="6032520" cy="40719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750960" y="1643040"/>
              <a:ext cx="6032520" cy="40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750960" y="1643040"/>
              <a:ext cx="6032520" cy="40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14200" y="731880"/>
            <a:ext cx="650088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У этой волшебниц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Этой художницы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Не кисти и краск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А гребень и ножниц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Она облада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Таинственной силой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К кому прикоснётся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558ed5"/>
                </a:solidFill>
                <a:latin typeface="Calibri"/>
                <a:ea typeface="SimSun"/>
              </a:rPr>
              <a:t>Тот станет красивый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280"/>
                <a:tab algn="l" pos="492120"/>
                <a:tab algn="l" pos="941400"/>
                <a:tab algn="l" pos="1390680"/>
                <a:tab algn="l" pos="1839960"/>
                <a:tab algn="l" pos="2289240"/>
                <a:tab algn="l" pos="2738520"/>
                <a:tab algn="l" pos="3187800"/>
                <a:tab algn="l" pos="3637080"/>
                <a:tab algn="l" pos="4086360"/>
                <a:tab algn="l" pos="4535640"/>
                <a:tab algn="l" pos="4984920"/>
                <a:tab algn="l" pos="5433840"/>
                <a:tab algn="l" pos="5883120"/>
                <a:tab algn="l" pos="6332400"/>
                <a:tab algn="l" pos="6781680"/>
                <a:tab algn="l" pos="7230960"/>
                <a:tab algn="l" pos="7680240"/>
                <a:tab algn="l" pos="8129520"/>
                <a:tab algn="l" pos="8578800"/>
                <a:tab algn="l" pos="9028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57160" y="428760"/>
            <a:ext cx="5900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ПАРИКМАХЕ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57160" y="1928880"/>
            <a:ext cx="5886720" cy="3929040"/>
            <a:chOff x="857160" y="1928880"/>
            <a:chExt cx="5886720" cy="392904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857160" y="1928880"/>
              <a:ext cx="5886720" cy="39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57160" y="1928880"/>
              <a:ext cx="5886720" cy="39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479600"/>
            <a:ext cx="617220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Comic Sans MS"/>
                <a:ea typeface="SimSun"/>
              </a:rPr>
              <a:t>Наведет стеклянный глаз, </a:t>
            </a:r>
            <a:br>
              <a:rPr sz="4400"/>
            </a:br>
            <a:r>
              <a:rPr b="0" lang="ru-RU" sz="4400" spc="-1" strike="noStrike">
                <a:solidFill>
                  <a:srgbClr val="00b0f0"/>
                </a:solidFill>
                <a:latin typeface="Comic Sans MS"/>
                <a:ea typeface="SimSun"/>
              </a:rPr>
              <a:t>Щелкнет раз - и помним ва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68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ФОТОГРАФ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071720" y="1428840"/>
            <a:ext cx="5000400" cy="459252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 spd="med" advTm="8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42960" y="1303560"/>
            <a:ext cx="595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Мелом пишет и рису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И с ошибками воюет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Учит думать, размышлять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Как его, ребята, зва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960" y="500040"/>
            <a:ext cx="6275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SimSun"/>
              </a:rPr>
              <a:t>Эпигра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357120" y="1428840"/>
            <a:ext cx="6462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Comic Sans MS"/>
                <a:ea typeface="SimSun"/>
              </a:rPr>
              <a:t>«Если вы удачно выберете труд и вложите 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Comic Sans MS"/>
                <a:ea typeface="SimSun"/>
              </a:rPr>
              <a:t>него свою душу, то счастье само вас отыщет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mic Sans MS"/>
                <a:ea typeface="SimSun"/>
              </a:rPr>
              <a:t>Константин Дмитриевич Ушин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376092"/>
                </a:solidFill>
                <a:latin typeface="Comic Sans MS"/>
                <a:ea typeface="SimSun"/>
              </a:rPr>
              <a:t>«Когда человек не знает, к какой пристани он держит путь, для него ни один ветер не будет попутны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omic Sans MS"/>
                <a:ea typeface="SimSun"/>
              </a:rPr>
              <a:t>Сен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696000" y="285840"/>
            <a:ext cx="2448000" cy="1639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64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71840" y="1143000"/>
            <a:ext cx="2052720" cy="51292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2960" y="857160"/>
            <a:ext cx="6286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В цирке он смешнее все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У него – большой успех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Только вспомнить остаётся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omic Sans MS"/>
              </a:rPr>
              <a:t>Весельчак тот как зовётс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4680"/>
            <a:ext cx="66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КЛОУ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14720" y="1486080"/>
            <a:ext cx="3286080" cy="4824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4680"/>
            <a:ext cx="63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  <a:ea typeface="SimSun"/>
              </a:rPr>
              <a:t>Требования, предъявляемые к професс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428760" y="1413000"/>
            <a:ext cx="6500520" cy="31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Ппрофессия должна быть интересн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Ппрофессия должна пользоваться спросом на рынке тру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Ппрофессия должна соответствовать собственным возможност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16720" y="3622680"/>
            <a:ext cx="2403360" cy="3133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8360" y="3624120"/>
            <a:ext cx="2211480" cy="313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348000" y="3790800"/>
            <a:ext cx="2416320" cy="2795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8000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57120"/>
            <a:ext cx="757224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Calibri"/>
                <a:ea typeface="SimSun"/>
              </a:rPr>
              <a:t>Закончите предложения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052640"/>
            <a:ext cx="64609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Ллюди работают ради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Ннастоящий труд – эт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Comic Sans MS"/>
              <a:buAutoNum type="arabicPeriod"/>
              <a:tabLst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Ппри выборе профессии люди часто не учитывают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  </a:t>
            </a: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4. В любом профессиональном     труде самое важное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91472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30040"/>
                <a:tab algn="l" pos="677880"/>
                <a:tab algn="l" pos="1127160"/>
                <a:tab algn="l" pos="1576440"/>
                <a:tab algn="l" pos="2025720"/>
                <a:tab algn="l" pos="2475000"/>
                <a:tab algn="l" pos="2924280"/>
                <a:tab algn="l" pos="3373560"/>
                <a:tab algn="l" pos="3822840"/>
                <a:tab algn="l" pos="4272120"/>
                <a:tab algn="l" pos="4721400"/>
                <a:tab algn="l" pos="5170320"/>
                <a:tab algn="l" pos="5619600"/>
                <a:tab algn="l" pos="6068880"/>
                <a:tab algn="l" pos="6518160"/>
                <a:tab algn="l" pos="6967440"/>
                <a:tab algn="l" pos="7416720"/>
                <a:tab algn="l" pos="7866000"/>
                <a:tab algn="l" pos="8315280"/>
                <a:tab algn="l" pos="8764560"/>
                <a:tab algn="l" pos="9213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5. Счастье – это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444760" y="3797280"/>
            <a:ext cx="4035240" cy="2865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50920" y="3714840"/>
            <a:ext cx="1849320" cy="2930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8000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3720"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alibri"/>
                <a:ea typeface="SimSun"/>
              </a:rPr>
              <a:t> </a:t>
            </a:r>
            <a:r>
              <a:rPr b="0" lang="ru-RU" sz="3600" spc="-1" strike="noStrike">
                <a:solidFill>
                  <a:srgbClr val="00b050"/>
                </a:solidFill>
                <a:latin typeface="Comic Sans MS"/>
                <a:ea typeface="SimSun"/>
              </a:rPr>
              <a:t>Профессию нужно люби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37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Comic Sans MS"/>
                <a:ea typeface="SimSun"/>
              </a:rPr>
              <a:t> </a:t>
            </a:r>
            <a:r>
              <a:rPr b="0" lang="ru-RU" sz="3600" spc="-1" strike="noStrike">
                <a:solidFill>
                  <a:srgbClr val="00b050"/>
                </a:solidFill>
                <a:latin typeface="Comic Sans MS"/>
                <a:ea typeface="SimSun"/>
              </a:rPr>
              <a:t>и тогда все будет хорош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71640" y="2930400"/>
            <a:ext cx="3095640" cy="3035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89000"/>
            <a:ext cx="7248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  <a:ea typeface="SimSun"/>
              </a:rPr>
              <a:t>Профессия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052640"/>
            <a:ext cx="6389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336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Деятельность, направленная на пользу обществ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3360" indent="-33336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Деятельность, требующая профессионального обучени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3360" indent="-333360" algn="ctr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omic Sans MS"/>
                <a:ea typeface="SimSun"/>
              </a:rPr>
              <a:t>Деятельность, выполненная за определённое вознаграждение (зарплат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4876920" cy="281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med" advTm="8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000080" y="500040"/>
            <a:ext cx="164304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0200" y="4429080"/>
            <a:ext cx="2122560" cy="1525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929120" y="4286160"/>
            <a:ext cx="1881360" cy="157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929280" y="5643720"/>
            <a:ext cx="1625760" cy="1041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928960" y="500040"/>
            <a:ext cx="1500120" cy="208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860400" y="3929040"/>
            <a:ext cx="1311480" cy="2071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8"/>
          <a:stretch/>
        </p:blipFill>
        <p:spPr>
          <a:xfrm>
            <a:off x="4857840" y="642960"/>
            <a:ext cx="1571400" cy="2424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66640" y="2571840"/>
            <a:ext cx="451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mic Sans MS"/>
              </a:rPr>
              <a:t>Загадки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Comic Sans MS"/>
              </a:rPr>
              <a:t>о профессия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857160" y="1643040"/>
            <a:ext cx="5214960" cy="547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Доктор, но не для детей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А для птиц и для звере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У него особый дар,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Этот врач - 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14240" y="5000760"/>
            <a:ext cx="65120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  <a:ea typeface="SimSun"/>
              </a:rPr>
              <a:t>ВЕТЕРИНАР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928880" y="571680"/>
            <a:ext cx="3744720" cy="4392360"/>
            <a:chOff x="1928880" y="571680"/>
            <a:chExt cx="3744720" cy="43923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1928880" y="571680"/>
              <a:ext cx="374472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928880" y="571680"/>
              <a:ext cx="3744720" cy="43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6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760" y="731880"/>
            <a:ext cx="6429240" cy="51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558ed5"/>
                </a:solidFill>
                <a:latin typeface="Calibri"/>
                <a:ea typeface="SimSun"/>
              </a:rPr>
              <a:t>Вижу в небе самолет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558ed5"/>
                </a:solidFill>
                <a:latin typeface="Calibri"/>
                <a:ea typeface="SimSun"/>
              </a:rPr>
              <a:t>Как светящийся комочек,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558ed5"/>
                </a:solidFill>
                <a:latin typeface="Calibri"/>
                <a:ea typeface="SimSun"/>
              </a:rPr>
              <a:t>Управляет им пилот,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100" spc="-1" strike="noStrike">
                <a:solidFill>
                  <a:srgbClr val="558ed5"/>
                </a:solidFill>
                <a:latin typeface="Calibri"/>
                <a:ea typeface="SimSun"/>
              </a:rPr>
              <a:t>По другому просто ...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2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39560" y="420840"/>
            <a:ext cx="67042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600" spc="-1" strike="noStrike">
                <a:solidFill>
                  <a:srgbClr val="ff0000"/>
                </a:solidFill>
                <a:latin typeface="Calibri"/>
                <a:ea typeface="SimSun"/>
              </a:rPr>
              <a:t>КОСМОНАВ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143000" y="1714680"/>
            <a:ext cx="4537080" cy="4536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642960" y="1000080"/>
            <a:ext cx="5715000" cy="60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В ресторане их найду я 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Эти люди в колпак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Над кастрюлями колдую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558ed5"/>
                </a:solidFill>
                <a:latin typeface="Calibri"/>
                <a:ea typeface="SimSun"/>
              </a:rPr>
              <a:t>С поварешками в руках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SimSu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1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09:17:54Z</dcterms:created>
  <dc:creator>Катенок</dc:creator>
  <dc:description/>
  <dc:language>en-US</dc:language>
  <cp:lastModifiedBy>Admin</cp:lastModifiedBy>
  <dcterms:modified xsi:type="dcterms:W3CDTF">2016-08-31T11:52:13Z</dcterms:modified>
  <cp:revision>38</cp:revision>
  <dc:subject/>
  <dc:title>Презентация PowerPoint</dc:title>
</cp:coreProperties>
</file>