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4227-8AC3-4E6C-8180-693C44EDE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88B2-F4B2-494C-9163-120AA28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6103-49E5-4710-80CC-8F11255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5DFA-129D-4AB7-8049-65E453927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85A9-D499-44D8-B234-D2ECBA9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01B-697E-43B7-BE78-4CB4BE76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D9EC-45C5-400C-8607-98EC722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40B1-D6C8-4B6F-BE5E-8A16BF3C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885D-967D-484B-9025-97C7EEBA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7FE5-E31A-4C97-BD9C-A30ACA8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5A60-6A0F-4FA5-B7B3-B6FD94B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C370-9189-4C96-9ABB-25660D3E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16D2D-A345-49FE-9A83-1824AF5DE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28760" y="3429000"/>
            <a:ext cx="81439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SimSun"/>
              </a:rPr>
              <a:t>«Моя будущая профес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3643560" cy="36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57160" y="5572080"/>
            <a:ext cx="800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5880" y="714240"/>
            <a:ext cx="61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ПОВА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57160" y="1987560"/>
            <a:ext cx="5857920" cy="3844800"/>
            <a:chOff x="857160" y="1987560"/>
            <a:chExt cx="5857920" cy="38448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857160" y="1987560"/>
              <a:ext cx="585792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7160" y="1987560"/>
              <a:ext cx="5857920" cy="38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731880"/>
            <a:ext cx="514368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Этот доктор удалит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Мне легко аппендицит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Скальпель – лучший его друг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Кто же доктор тот? … !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90440"/>
            <a:ext cx="6329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Calibri"/>
                <a:ea typeface="SimSun"/>
              </a:rPr>
              <a:t>ХИРУР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85920" y="1557360"/>
            <a:ext cx="4786200" cy="4703760"/>
            <a:chOff x="1285920" y="1557360"/>
            <a:chExt cx="4786200" cy="47037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285920" y="1557360"/>
              <a:ext cx="4786200" cy="47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285920" y="1557360"/>
              <a:ext cx="478620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857160" y="571680"/>
            <a:ext cx="564372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Ночью, в полдень, на рассв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Службу он несёт в секрет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Её давно бурёнки знаю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Всегда мычанием встречаю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И за её нелёгкий тр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Всё молоко ей отдаю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ДОЯР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50960" y="1643040"/>
            <a:ext cx="6032520" cy="4071960"/>
            <a:chOff x="750960" y="1643040"/>
            <a:chExt cx="6032520" cy="407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50960" y="1643040"/>
              <a:ext cx="60325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0960" y="1643040"/>
              <a:ext cx="603252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14200" y="731880"/>
            <a:ext cx="65008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У этой волшебниц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Этой художниц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Не кисти и краск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А гребень и ножн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Она облад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Таинственной сило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К кому прикоснёт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Тот станет красивы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57160" y="428760"/>
            <a:ext cx="590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ПАРИКМАХЕ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57160" y="1928880"/>
            <a:ext cx="5886720" cy="3929040"/>
            <a:chOff x="857160" y="1928880"/>
            <a:chExt cx="5886720" cy="392904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57160" y="1928880"/>
              <a:ext cx="5886720" cy="39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57160" y="1928880"/>
              <a:ext cx="588672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79600"/>
            <a:ext cx="61722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omic Sans MS"/>
                <a:ea typeface="SimSun"/>
              </a:rPr>
              <a:t>Наведет стеклянный глаз,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Comic Sans MS"/>
                <a:ea typeface="SimSun"/>
              </a:rPr>
              <a:t>Щелкнет раз - и помним ва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68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ФОТОГРА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5000400" cy="4592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 spd="med" advTm="8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2960" y="1303560"/>
            <a:ext cx="595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Мелом пишет и рису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И с ошибками вою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Учит думать, размышлят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Как его, ребята, зв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960" y="500040"/>
            <a:ext cx="6275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SimSun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1428840"/>
            <a:ext cx="646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«Если вы удачно выберете труд и вложите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него свою душу, то счастье само вас отыще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  <a:ea typeface="SimSun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«Когда человек не знает, к какой пристани он держит путь, для него ни один ветер не будет попутны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  <a:ea typeface="SimSun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96000" y="285840"/>
            <a:ext cx="2448000" cy="1639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4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71840" y="1143000"/>
            <a:ext cx="2052720" cy="5129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2960" y="857160"/>
            <a:ext cx="6286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В цирке он смешнее все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У него – большой успе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Только вспомнить остаётс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Весельчак тот как зовё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66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КЛОУ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14720" y="1486080"/>
            <a:ext cx="32860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SimSun"/>
              </a:rPr>
              <a:t>Требования, предъявляемые к профе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1413000"/>
            <a:ext cx="65005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быть интере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пользоваться спросом на рынке тр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соответствовать собственным возможнос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3622680"/>
            <a:ext cx="2403360" cy="31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3624120"/>
            <a:ext cx="2211480" cy="31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348000" y="3790800"/>
            <a:ext cx="241632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7120"/>
            <a:ext cx="757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Calibri"/>
                <a:ea typeface="SimSun"/>
              </a:rPr>
              <a:t>Закончите предложе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052640"/>
            <a:ext cx="64609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Ллюди работают рад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Ннастоящий труд – эт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и выборе профессии люди часто не учитывают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 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4. В любом профессиональном     труде самое важное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5. Счастье – эт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44760" y="3797280"/>
            <a:ext cx="4035240" cy="286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3714840"/>
            <a:ext cx="1849320" cy="29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  <a:ea typeface="SimSun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Профессию нужно люб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и тогда все будет хорош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930400"/>
            <a:ext cx="3095640" cy="3035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89000"/>
            <a:ext cx="7248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SimSun"/>
              </a:rPr>
              <a:t>Профессия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052640"/>
            <a:ext cx="6389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направленная на пользу общест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требующая профессионального обуче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выполненная за определённое вознаграждение (зарплат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4876920" cy="281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00080" y="500040"/>
            <a:ext cx="164304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0200" y="4429080"/>
            <a:ext cx="2122560" cy="152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929120" y="4286160"/>
            <a:ext cx="1881360" cy="157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929280" y="5643720"/>
            <a:ext cx="1625760" cy="104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928960" y="500040"/>
            <a:ext cx="150012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860400" y="3929040"/>
            <a:ext cx="131148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4857840" y="642960"/>
            <a:ext cx="1571400" cy="2424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66640" y="2571840"/>
            <a:ext cx="45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</a:rPr>
              <a:t>Загад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</a:rPr>
              <a:t>о професс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857160" y="1643040"/>
            <a:ext cx="5214960" cy="54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Доктор, но не для дете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А для птиц и для звер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У него особый да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Этот врач -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4240" y="5000760"/>
            <a:ext cx="651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ВЕТЕРИНА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28880" y="571680"/>
            <a:ext cx="3744720" cy="4392360"/>
            <a:chOff x="1928880" y="571680"/>
            <a:chExt cx="3744720" cy="43923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1928880" y="571680"/>
              <a:ext cx="374472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928880" y="571680"/>
              <a:ext cx="374472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731880"/>
            <a:ext cx="64292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Вижу в небе самолет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Как светящийся комочек,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Управляет им пилот,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По другому просто ..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9560" y="420840"/>
            <a:ext cx="6704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КОСМОНАВ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4537080" cy="453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42960" y="1000080"/>
            <a:ext cx="571500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В ресторане их найду я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Эти люди в колпак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Над кастрюлями колдую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С поварешками в руках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9:17:54Z</dcterms:created>
  <dc:creator>Катенок</dc:creator>
  <dc:description/>
  <dc:language>en-US</dc:language>
  <cp:lastModifiedBy>Admin</cp:lastModifiedBy>
  <dcterms:modified xsi:type="dcterms:W3CDTF">2016-08-31T11:52:13Z</dcterms:modified>
  <cp:revision>38</cp:revision>
  <dc:subject/>
  <dc:title>Презентация PowerPoint</dc:title>
</cp:coreProperties>
</file>