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9.wmf" ContentType="image/x-wmf"/>
  <Override PartName="/ppt/media/image11.jpeg" ContentType="image/jpeg"/>
  <Override PartName="/ppt/media/image30.wmf" ContentType="image/x-wmf"/>
  <Override PartName="/ppt/media/image1.jpeg" ContentType="image/jpeg"/>
  <Override PartName="/ppt/media/image10.png" ContentType="image/png"/>
  <Override PartName="/ppt/media/image27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3.png" ContentType="image/png"/>
  <Override PartName="/ppt/media/image2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44D-67A7-42C5-9D94-7B60C94B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A6C-3196-449D-BC20-3AABF564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AA34-8942-4893-80E5-FC94E814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5A1-DC7F-441F-9B41-5BC8790E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9546-D962-4D72-B3A4-ABA55EB4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76ED-A660-409C-955E-4FEA6E2A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B323-7142-4F45-A697-0971469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348D-9AB0-4C02-BF0D-0C144029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8DBA-1C99-4E18-BA67-006875FE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C566-3F21-4FC7-BB38-9F0D6B1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D31E-C5BE-4541-AC2C-B87F8BA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8738-03EB-4E09-A3C1-4FA8F587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5270-264F-428C-9E79-4ACCDDCB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66F-29C4-4564-86A5-3AC995E5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18ED-28E1-4546-B3E6-4902179A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EFCA-429F-4997-B6EA-97C367CEC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6C6F-5A3D-47E1-942D-F9FFA46B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110ED-1F5B-404A-A2F1-EAD308A1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3F6B-384A-4C8D-B240-39079B41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17984-89C6-45CA-BD51-2E016515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E0C2-6430-4FDF-A52D-A1A15ADE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AE19-5CEC-45CA-8170-345593B2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71BE-BA64-4D3E-A0CD-61B0D91C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2C7D7-2251-4C61-8208-B6C7624A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EE55E-010C-4596-A073-AD8430EC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93A74-92C6-4137-8FC7-FEC7B58A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00276-C55B-420C-9F55-589C7E4D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81EE8-DA8B-4F52-80E6-D5C15EC9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28F4-D6DE-43F7-9DEF-F49C5E7A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8E7E1-85AD-4D9C-9CA0-BF51B0CC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21A1E-56CE-4AA8-8C24-F86FFD2B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8332-0877-491E-9500-EF2B3DE4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643CA-BC9B-4837-AAB2-3AB0FDE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EB5B-D350-4D9A-A3A8-828665B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787A7-AB4D-46BD-AB4A-E79F865B3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9B99-6508-4E6F-8682-4EE072A1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62441-1EB6-4AF9-8174-5BD4189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6A06A-513A-4A17-BC92-00777DEC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A284A-179F-4BD1-88D2-BE8A431B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B77FC-6EA4-48A1-82C0-6C2C2F9F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E7E06-669E-49E1-8CFA-C6EC0DC8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6C952-2386-4D77-9235-70689E41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2B167-7AC4-46D4-8DEA-177A97C2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64686-7802-45F3-81FF-3C6C4165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BF9-DCC7-45D2-B578-C65ECEC1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79A4D-2608-45D4-91B0-3522FBD3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48A37-A9B9-48D4-98AB-10E65FD0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AFA9-BC23-43A4-B771-A747F96B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B49B8-8DA0-4C7A-830C-B61E7AE9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8F33-32CA-44AC-8608-9DD03D9B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F79E5-DB15-45BE-9901-7270EE17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0B044-5965-4C3F-82F5-F2AFDC8C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BA2CD-21F7-442A-B45A-153EFC59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8563E-580E-4EE8-BEDA-D4166FD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9E9A2-4DB4-4B5A-AAC2-98DFA6813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92C-99B2-43CA-AB13-79EFAAA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AB68A-2642-45FA-96CC-16E696A9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531E30-A7DD-4BDD-99BE-D87BB8BD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24946-3959-4B0F-B3D2-1BCD6394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A2DADE-D7E1-4748-BC5A-E3E68B93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4DE3E4-13F3-4459-84C5-023BD36D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F0A79-CD12-459B-B977-9A8C1644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6A7E1-E206-4510-B3F2-40C7BD7F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0FB91-7A24-4CA5-8B20-23AF7522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0214D5-1BD9-4741-AB96-1859974F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4C145-77A1-46E2-B698-9D739B4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44B6-6DCF-4425-BCC4-177AD1D4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9C3606-4A74-4261-937A-2C0D91E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26AF0-CFA7-4027-8C32-0161E7CC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17236-C9ED-4FCD-889D-D80FBA5F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9CB91-59B2-4B91-A622-15E90F040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3B91C-D7C7-4D7B-A4E5-C0B7D899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02C44-CD81-4286-A2D4-BFD44F2B7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25724-33F7-4F50-BBCD-5993C606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08ACC-E10D-45D3-800D-A04EC5D0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26579-0AF0-48BC-AD90-F7A9B073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843AC-6C3A-480D-8FA4-0FEDCF1D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4972-F76D-40FB-9FAC-83BF5D43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F8E6C-AF38-4E60-A5D0-D2C32817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A3431-0AC7-4A71-9A1D-A1D8DB83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FAF6A-D66A-489F-A04A-FD418B61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0DDC-D527-41B6-9855-BD3D0C24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75BFD-888D-4F31-B7CA-AF555479F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A052F-18C3-4B57-93BD-CD9C864C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51983-ACE7-49A6-9954-5F9FDAF9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52BB-6B50-438C-B8D1-878B12D8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000EC-91EC-4EF0-ADF4-A721C6F8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0541C-7755-4F58-9562-AE746DBBE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DE1-982E-4F8F-A082-AFAFDFD5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9FEA8-0A0A-46DC-9815-271559D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138BD-95A2-46A9-A3C1-9FB061A9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19B06-8E7F-47F3-A2FE-38933205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9E0E2-5B0C-4A62-8F6A-22741C9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B36F6-5D7C-49C0-A4C5-9B86A551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5B481-FB5B-4965-B3C0-75566560B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8BE52-D3FA-417A-A7CA-2C0E1B9F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FE2AE-E2B2-4038-950C-EE0AB49B67A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DA51-C983-4ABB-A962-0C67A3287834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0E90-D320-4E87-84C8-05DA00FCEE5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84BB-8ADA-4304-97F0-F6611980C01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F72A-274D-4F54-BEE2-00BBAC1DA12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2026-E4BE-4F5E-9D47-32F2D26C7EF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1448-D59D-4BCB-A9AD-7544D6093B8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334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D2EE-1100-456E-87BD-AB0FCC2D072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hyperlink" Target="http://www.aerofoto.narod.ru/AEF862SR.jpg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90160" y="522000"/>
            <a:ext cx="76928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Book Antiqua"/>
              </a:rPr>
              <a:t>СИММЕТРИЯ В НЕЖИВОЙ ПРИРОДЕ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79" name="Picture 7" descr="алмаз"/>
          <p:cNvPicPr/>
          <p:nvPr/>
        </p:nvPicPr>
        <p:blipFill>
          <a:blip r:embed="rId1"/>
          <a:stretch/>
        </p:blipFill>
        <p:spPr>
          <a:xfrm>
            <a:off x="968400" y="1689120"/>
            <a:ext cx="225900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0" name="Object 8"/>
          <p:cNvGraphicFramePr/>
          <p:nvPr/>
        </p:nvGraphicFramePr>
        <p:xfrm>
          <a:off x="1581120" y="4344840"/>
          <a:ext cx="1789200" cy="137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81120" y="4344840"/>
                    <a:ext cx="1789200" cy="13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79600" y="1599840"/>
            <a:ext cx="45068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	</a:t>
            </a:r>
            <a:r>
              <a:rPr b="0" lang="ru-RU" sz="2600" spc="-1" strike="noStrike">
                <a:solidFill>
                  <a:srgbClr val="564b3c"/>
                </a:solidFill>
                <a:latin typeface="Century Gothic"/>
              </a:rPr>
              <a:t>Каждый камень является огромной  колонией кристаллов, представляющих собой симметричные «постройки» из атомов и молекул.</a:t>
            </a: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C:\Users\Мамуля\Desktop\weyl.jpg"/>
          <p:cNvPicPr/>
          <p:nvPr/>
        </p:nvPicPr>
        <p:blipFill>
          <a:blip r:embed="rId1"/>
          <a:stretch/>
        </p:blipFill>
        <p:spPr>
          <a:xfrm>
            <a:off x="4714920" y="1386000"/>
            <a:ext cx="2914560" cy="38574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52240" y="1541520"/>
            <a:ext cx="3754440" cy="4657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ейль Герман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(9.11.1885— 8.12.1955) - немецкий математик.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Окончил Гёттингенский университ.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13—1930 г. профессор Цюрихского политехнического института,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30—1933 профессор Гёттингенского университета, 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  <a:p>
            <a:pPr indent="0">
              <a:lnSpc>
                <a:spcPct val="1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7534c"/>
                </a:solidFill>
                <a:latin typeface="Times New Roman"/>
                <a:ea typeface="Times New Roman"/>
              </a:rPr>
              <a:t>в 1933 эмигрировал в США.</a:t>
            </a:r>
            <a:endParaRPr b="0" lang="en-US" sz="19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615600" y="264600"/>
            <a:ext cx="3637080" cy="118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b7d72"/>
                </a:solidFill>
                <a:latin typeface="Times New Roman"/>
                <a:ea typeface="Times New Roman"/>
              </a:rPr>
              <a:t>ВЕЙЛЬ ГЕРМАН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447" name="Объект 4"/>
          <p:cNvGraphicFramePr/>
          <p:nvPr/>
        </p:nvGraphicFramePr>
        <p:xfrm>
          <a:off x="1147680" y="638280"/>
          <a:ext cx="69087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8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638280"/>
                    <a:ext cx="69087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ДОМАШНЕЕ ЗАД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12880" y="1848960"/>
            <a:ext cx="7881840" cy="4086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рочитать  п.47 стр.110-112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ить трапецию, симметричную данной относительно  прямой, содержащей её боковую сторону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ить  параллелограмм, симметричный данному относительно  какой –либо его вершины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дготовить презентацию по теме «Симметрия»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144000" y="90612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63240"/>
            <a:ext cx="75438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СИММЕТРИЯ  В ПРИРОД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7240" y="1699920"/>
            <a:ext cx="7615440" cy="52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6600"/>
              </a:solidFill>
              <a:latin typeface="Century Gothic"/>
            </a:endParaRPr>
          </a:p>
        </p:txBody>
      </p:sp>
      <p:pic>
        <p:nvPicPr>
          <p:cNvPr id="385" name="Picture 6" descr="бабочка2"/>
          <p:cNvPicPr/>
          <p:nvPr/>
        </p:nvPicPr>
        <p:blipFill>
          <a:blip r:embed="rId2"/>
          <a:stretch/>
        </p:blipFill>
        <p:spPr>
          <a:xfrm>
            <a:off x="496800" y="1698480"/>
            <a:ext cx="2827440" cy="2089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кактус"/>
          <p:cNvPicPr/>
          <p:nvPr/>
        </p:nvPicPr>
        <p:blipFill>
          <a:blip r:embed="rId3"/>
          <a:stretch/>
        </p:blipFill>
        <p:spPr>
          <a:xfrm>
            <a:off x="3193920" y="4064040"/>
            <a:ext cx="2670480" cy="20811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леновый лист"/>
          <p:cNvPicPr/>
          <p:nvPr/>
        </p:nvPicPr>
        <p:blipFill>
          <a:blip r:embed="rId4"/>
          <a:stretch/>
        </p:blipFill>
        <p:spPr>
          <a:xfrm>
            <a:off x="5337000" y="1844640"/>
            <a:ext cx="310212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СИММЕТРИЯ В АРХИТЕКТУРЕ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389" name="Picture 2" descr="E:\ФОТО МАРИШЕ\%CA%E0%E7%E0%ED%20%F1%EE%E1%EE%F0.jpg"/>
          <p:cNvPicPr/>
          <p:nvPr/>
        </p:nvPicPr>
        <p:blipFill>
          <a:blip r:embed="rId1"/>
          <a:stretch/>
        </p:blipFill>
        <p:spPr>
          <a:xfrm>
            <a:off x="669960" y="3720960"/>
            <a:ext cx="3922560" cy="2781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ФОТО МАРИШЕ\-2.jpg"/>
          <p:cNvPicPr/>
          <p:nvPr/>
        </p:nvPicPr>
        <p:blipFill>
          <a:blip r:embed="rId2"/>
          <a:stretch/>
        </p:blipFill>
        <p:spPr>
          <a:xfrm>
            <a:off x="5143680" y="2021040"/>
            <a:ext cx="3692520" cy="37638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C:\Users\Мамуля\Desktop\77f2774f746c55e847e73710977343a8.jpg"/>
          <p:cNvPicPr/>
          <p:nvPr/>
        </p:nvPicPr>
        <p:blipFill>
          <a:blip r:embed="rId3"/>
          <a:stretch/>
        </p:blipFill>
        <p:spPr>
          <a:xfrm>
            <a:off x="573120" y="1457280"/>
            <a:ext cx="4019400" cy="20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318600"/>
            <a:ext cx="80485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ЗЕРКАЛЬНАЯ СИММЕТР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4" name="Picture 2" descr="E:\Сережа\Фото\Фото скинутое 14 06 08\139CANON\IMG_3963.JPG"/>
          <p:cNvPicPr/>
          <p:nvPr/>
        </p:nvPicPr>
        <p:blipFill>
          <a:blip r:embed="rId1"/>
          <a:stretch/>
        </p:blipFill>
        <p:spPr>
          <a:xfrm>
            <a:off x="566640" y="1363680"/>
            <a:ext cx="4019760" cy="4137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D:\Pictures\1-webbig.jpg"/>
          <p:cNvPicPr/>
          <p:nvPr/>
        </p:nvPicPr>
        <p:blipFill>
          <a:blip r:embed="rId2"/>
          <a:stretch/>
        </p:blipFill>
        <p:spPr>
          <a:xfrm>
            <a:off x="4978440" y="2182680"/>
            <a:ext cx="3857760" cy="421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Заголовок 1" descr=""/>
          <p:cNvPicPr/>
          <p:nvPr/>
        </p:nvPicPr>
        <p:blipFill>
          <a:blip r:embed="rId1"/>
          <a:stretch/>
        </p:blipFill>
        <p:spPr>
          <a:xfrm>
            <a:off x="360360" y="255600"/>
            <a:ext cx="8229600" cy="103032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457200" y="1584000"/>
            <a:ext cx="454032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64b3c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564b3c"/>
                </a:solidFill>
                <a:latin typeface="Arial"/>
              </a:rPr>
              <a:t>Симметрия в химии проявляется в геометрической конфигурации молекул, что сказывается на специфике физических и химических свойств молекул в изолированном состоянии, во внешнем поле и при взаимодействии с другими атомами и молекулами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pic>
        <p:nvPicPr>
          <p:cNvPr id="398" name="Picture 5" descr="i"/>
          <p:cNvPicPr/>
          <p:nvPr/>
        </p:nvPicPr>
        <p:blipFill>
          <a:blip r:embed="rId2"/>
          <a:stretch/>
        </p:blipFill>
        <p:spPr>
          <a:xfrm>
            <a:off x="5435640" y="1846440"/>
            <a:ext cx="325116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360360" y="139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вирусы"/>
          <p:cNvPicPr/>
          <p:nvPr/>
        </p:nvPicPr>
        <p:blipFill>
          <a:blip r:embed="rId2"/>
          <a:stretch/>
        </p:blipFill>
        <p:spPr>
          <a:xfrm>
            <a:off x="1946160" y="1627200"/>
            <a:ext cx="5050080" cy="391176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оугольник 3"/>
          <p:cNvSpPr/>
          <p:nvPr/>
        </p:nvSpPr>
        <p:spPr>
          <a:xfrm>
            <a:off x="2571480" y="5929200"/>
            <a:ext cx="3980160" cy="581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метри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Book Antiqua"/>
              </a:rPr>
              <a:t>СИММЕТРИЯ В ТЕХНИКЕ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pic>
        <p:nvPicPr>
          <p:cNvPr id="403" name="Picture 2" descr="E:\ФОТО МАРИШЕ\800_481da1cea4820.jpg"/>
          <p:cNvPicPr/>
          <p:nvPr/>
        </p:nvPicPr>
        <p:blipFill>
          <a:blip r:embed="rId1"/>
          <a:stretch/>
        </p:blipFill>
        <p:spPr>
          <a:xfrm>
            <a:off x="334800" y="1363680"/>
            <a:ext cx="3546720" cy="2322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E:\ФОТО МАРИШЕ\normal_u11_55.jpg"/>
          <p:cNvPicPr/>
          <p:nvPr/>
        </p:nvPicPr>
        <p:blipFill>
          <a:blip r:embed="rId2"/>
          <a:stretch/>
        </p:blipFill>
        <p:spPr>
          <a:xfrm>
            <a:off x="4730760" y="1254240"/>
            <a:ext cx="3510000" cy="25416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авто"/>
          <p:cNvPicPr/>
          <p:nvPr/>
        </p:nvPicPr>
        <p:blipFill>
          <a:blip r:embed="rId3"/>
          <a:stretch/>
        </p:blipFill>
        <p:spPr>
          <a:xfrm>
            <a:off x="652320" y="417024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Самолет Ил-86  Кликни по фотографии, &#10;чтобы увеличить до размера 1024 х 683.&#10;Click to picture for enlarge before size 1024 x 683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30760" y="4071960"/>
            <a:ext cx="3875040" cy="221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РОВЕРИМ ЗНА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0600" y="1919160"/>
            <a:ext cx="4362480" cy="3897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йте отрезок С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</a:t>
            </a:r>
            <a:r>
              <a:rPr b="0" lang="ru-RU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имметричный отрезку С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D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относительно прямой а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Постройте треугольник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N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K</a:t>
            </a:r>
            <a:r>
              <a:rPr b="0" lang="en-US" sz="1800" spc="-1" strike="noStrike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, симметричный треугольнику </a:t>
            </a: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MNK</a:t>
            </a: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относительно точки 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O</a:t>
            </a:r>
            <a:r>
              <a:rPr b="0" lang="ru-RU" sz="24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6610320" y="1512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6743880" y="333216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9"/>
          <p:cNvSpPr/>
          <p:nvPr/>
        </p:nvSpPr>
        <p:spPr>
          <a:xfrm rot="981600">
            <a:off x="4775040" y="3971520"/>
            <a:ext cx="1067040" cy="145584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0"/>
          <p:cNvSpPr/>
          <p:nvPr/>
        </p:nvSpPr>
        <p:spPr>
          <a:xfrm>
            <a:off x="6702480" y="48355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1"/>
          <p:cNvSpPr/>
          <p:nvPr/>
        </p:nvSpPr>
        <p:spPr>
          <a:xfrm>
            <a:off x="7167600" y="26812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32"/>
          <p:cNvSpPr/>
          <p:nvPr/>
        </p:nvSpPr>
        <p:spPr>
          <a:xfrm>
            <a:off x="4575240" y="520380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33"/>
          <p:cNvSpPr/>
          <p:nvPr/>
        </p:nvSpPr>
        <p:spPr>
          <a:xfrm>
            <a:off x="5611680" y="55260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5"/>
          <p:cNvSpPr/>
          <p:nvPr/>
        </p:nvSpPr>
        <p:spPr>
          <a:xfrm>
            <a:off x="5977080" y="411948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6"/>
          <p:cNvSpPr/>
          <p:nvPr/>
        </p:nvSpPr>
        <p:spPr>
          <a:xfrm>
            <a:off x="6041880" y="3801960"/>
            <a:ext cx="5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37"/>
          <p:cNvSpPr/>
          <p:nvPr/>
        </p:nvSpPr>
        <p:spPr>
          <a:xfrm>
            <a:off x="5619600" y="5506920"/>
            <a:ext cx="4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4356000" y="5234040"/>
            <a:ext cx="4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9"/>
          <p:cNvSpPr/>
          <p:nvPr/>
        </p:nvSpPr>
        <p:spPr>
          <a:xfrm>
            <a:off x="6611400" y="47926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0"/>
          <p:cNvSpPr/>
          <p:nvPr/>
        </p:nvSpPr>
        <p:spPr>
          <a:xfrm>
            <a:off x="7543800" y="16747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1"/>
          <p:cNvSpPr/>
          <p:nvPr/>
        </p:nvSpPr>
        <p:spPr>
          <a:xfrm flipV="1">
            <a:off x="5286240" y="1990440"/>
            <a:ext cx="213372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2"/>
          <p:cNvSpPr/>
          <p:nvPr/>
        </p:nvSpPr>
        <p:spPr>
          <a:xfrm>
            <a:off x="6715080" y="2028960"/>
            <a:ext cx="0" cy="1419120"/>
          </a:xfrm>
          <a:prstGeom prst="line">
            <a:avLst/>
          </a:prstGeom>
          <a:ln w="284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3"/>
          <p:cNvSpPr/>
          <p:nvPr/>
        </p:nvSpPr>
        <p:spPr>
          <a:xfrm flipH="1" flipV="1">
            <a:off x="5892840" y="2099520"/>
            <a:ext cx="1288800" cy="593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6"/>
          <p:cNvSpPr/>
          <p:nvPr/>
        </p:nvSpPr>
        <p:spPr>
          <a:xfrm>
            <a:off x="727704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7"/>
          <p:cNvSpPr/>
          <p:nvPr/>
        </p:nvSpPr>
        <p:spPr>
          <a:xfrm>
            <a:off x="5499000" y="1595520"/>
            <a:ext cx="8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48"/>
          <p:cNvSpPr/>
          <p:nvPr/>
        </p:nvSpPr>
        <p:spPr>
          <a:xfrm>
            <a:off x="7407360" y="554976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51"/>
          <p:cNvSpPr/>
          <p:nvPr/>
        </p:nvSpPr>
        <p:spPr>
          <a:xfrm rot="11724000">
            <a:off x="7615080" y="4287600"/>
            <a:ext cx="1067040" cy="1455480"/>
          </a:xfrm>
          <a:prstGeom prst="triangle">
            <a:avLst>
              <a:gd name="adj" fmla="val 100000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49"/>
          <p:cNvSpPr/>
          <p:nvPr/>
        </p:nvSpPr>
        <p:spPr>
          <a:xfrm>
            <a:off x="7802640" y="41450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50"/>
          <p:cNvSpPr/>
          <p:nvPr/>
        </p:nvSpPr>
        <p:spPr>
          <a:xfrm>
            <a:off x="8813880" y="442584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2"/>
          <p:cNvSpPr/>
          <p:nvPr/>
        </p:nvSpPr>
        <p:spPr>
          <a:xfrm>
            <a:off x="7701480" y="3716280"/>
            <a:ext cx="5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3"/>
          <p:cNvSpPr/>
          <p:nvPr/>
        </p:nvSpPr>
        <p:spPr>
          <a:xfrm>
            <a:off x="8616960" y="4573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54"/>
          <p:cNvSpPr/>
          <p:nvPr/>
        </p:nvSpPr>
        <p:spPr>
          <a:xfrm>
            <a:off x="7413480" y="5510160"/>
            <a:ext cx="6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24"/>
          <p:cNvSpPr/>
          <p:nvPr/>
        </p:nvSpPr>
        <p:spPr>
          <a:xfrm>
            <a:off x="6696000" y="1971720"/>
            <a:ext cx="6660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6"/>
          <p:cNvSpPr/>
          <p:nvPr/>
        </p:nvSpPr>
        <p:spPr>
          <a:xfrm>
            <a:off x="6684840" y="341784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5891040" y="2071800"/>
            <a:ext cx="66960" cy="61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392040" y="1111320"/>
            <a:ext cx="3454560" cy="54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0099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имметрию можно обнаружить почти везде, если знать, как ее искать. Творчество людей во всех своих проявлениях тяготеет к симметрии. Посредством симметрии человек всегда пытался, по словам немецкого математика Германа Вейля, «постичь и создать порядок, красоту и совершенство».  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graphicFrame>
        <p:nvGraphicFramePr>
          <p:cNvPr id="438" name="Object 6"/>
          <p:cNvGraphicFramePr/>
          <p:nvPr/>
        </p:nvGraphicFramePr>
        <p:xfrm>
          <a:off x="4021200" y="1111320"/>
          <a:ext cx="4621320" cy="476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21200" y="1111320"/>
                    <a:ext cx="4621320" cy="47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WordArt 5"/>
          <p:cNvSpPr txBox="1"/>
          <p:nvPr/>
        </p:nvSpPr>
        <p:spPr>
          <a:xfrm>
            <a:off x="1641600" y="716040"/>
            <a:ext cx="38415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Людмила</cp:lastModifiedBy>
  <dcterms:modified xsi:type="dcterms:W3CDTF">2017-01-05T09:00:57Z</dcterms:modified>
  <cp:revision>72</cp:revision>
  <dc:subject/>
  <dc:title>Осевая и центральная симметрия</dc:title>
</cp:coreProperties>
</file>