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9.wmf" ContentType="image/x-wmf"/>
  <Override PartName="/ppt/media/image11.jpeg" ContentType="image/jpeg"/>
  <Override PartName="/ppt/media/image30.wmf" ContentType="image/x-wmf"/>
  <Override PartName="/ppt/media/image1.jpeg" ContentType="image/jpeg"/>
  <Override PartName="/ppt/media/image10.png" ContentType="image/png"/>
  <Override PartName="/ppt/media/image27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2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4C8-BFD5-4A3F-AF58-1E58AFDD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014-3E6C-4873-B9F6-25521F9E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C97-12E3-459F-A998-7AB47B13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DEB-8F74-4D11-9FDC-D90C3D69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3FF2-AA79-427D-9BAF-E052BDD1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3184-E79C-43E2-9F4E-76E1D203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5FBC-ABD1-4A1C-9184-D18DC8DF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5596-D151-4D4E-95BE-FBC4A565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ED7F-DD53-4A59-B6B6-3E5F3785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B520-2C88-429F-A75F-A48AEB8A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3C52-FDD1-4AF1-ADCC-55CD635D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6A3-E6E0-4062-8189-16038674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1C44-01B0-40FA-8D12-4FB44159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CC0D-269E-4299-B62C-8E8DC653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436F-599B-4309-93FC-B5257142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D0FA-4370-453C-B15F-E12BA326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CA03-845A-4A4C-82BF-4F5CE40D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64EDB-26CC-4851-81D2-F2C56B47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EDD2A-DBD2-4F99-B35B-6D24EA61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1D4D5-2C79-4729-88AD-B70010AB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F397C-91A1-4F1D-AE5C-FB267528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FE816-F344-4490-A3B6-06B12DB2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B63-C080-491C-A30D-0C170A62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BC8A8-7176-4925-8AA7-39056A0E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E7406-CF3A-4DDD-A0CD-1A40BBFD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8D87E-8D48-40D4-8257-6A73CA7A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76691-BD2D-4AB2-A1AF-4345BFD1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AC5B7-FFCF-49F5-B233-EA163437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0C36A-F113-4CB6-BD42-11A09BD7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957DC-D0B5-4323-B87B-4BB3EDF2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67611-69D4-46C7-BF3B-477A55EF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60158-2045-4579-AB5E-98F68D42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11C4A-A0B0-4750-A66B-EE8679A2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2BC9-1A90-434D-A821-D5CAC3E8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A6950-0C6D-4E08-98E4-3DFA6E16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14F77-88A0-4ABD-BEE4-2B480409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F2023-A3F9-4A77-8805-59E3B391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304E0-E7D1-4BB6-A3D4-9254137C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EAEDA-9AEB-489D-AB57-8D71C610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B640D-3BC5-4373-BE31-BBDB9BF6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BFD5C-9156-469C-9D3F-897A57FE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58AB6-37F3-4080-A010-E4D541DB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059BB-7C0A-4DD2-9E22-1F69E2DF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0BF86-BEF7-4A20-BC5A-B57709DA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D351-BB75-4CCF-A7F0-8691DD02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F2F9B-DB32-461E-8DDD-446E582E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60387-1905-4860-923E-047DE6EA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6F888-7B44-4078-B65F-F0187A27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C7504-F1F8-4F76-B9B6-005A42EB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6FFDB-E317-48D1-BAD7-E51720C9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47AEA-8FD6-4483-84AB-93BC3889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332C7-88E8-416F-92FE-52BBD066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C4150-7BE9-4852-A7C8-AA7E06DE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68669-1265-4A93-8656-D018FA34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4A36A-2B50-4355-BC81-3949F85F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740A-5FF8-4A39-834F-9784A784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A8777-FD4C-4E65-ACA6-8FE756AA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1B278D-D159-4D7D-ACC0-0C59238C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F59232-6376-4AFB-808E-9BFC16A1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6D5CE5-34A3-4F9F-82A9-846F5C5B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C24AE6-34C5-4A2C-B0A7-5DED63B4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1C3C7-E9DB-490F-A9A9-0C1E9E00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C42076-292D-4A39-A171-726FE29F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47AF75-5CB3-44AE-A2E6-0724720E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7C0447-A442-4F85-8833-E6F55A7D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8A4CB2-D7F6-489E-B786-A25B3741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DDB9-805D-4586-AF89-0E9CD3D4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907EAA-8637-45E3-9D4C-2A4F7B00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6DC036-B51A-4E85-B25B-84423BC3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3D6914-EE48-41A4-AA22-1071F835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D1D43-F342-4B9C-9BFA-458FFA8D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4E4E0-6F93-4143-9F00-18186DA5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F4F6A-ACD1-47CA-AB2A-1D702B73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AD7B7-EB6A-4B3E-B220-935A2C39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A9575-FEAE-40B5-A279-325CA197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2317D-3577-4317-8769-62D194FD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DD156-5911-46A0-95A7-89491CC7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72EC-298D-438A-A6EF-C503929D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8BC51-3319-466C-8844-2F8CA028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2857C-696E-450A-8A35-0FB2F0E9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36337-842F-4B71-A19F-558D61F5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B068F-B911-4F6D-9FBA-B2152C0C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C78B9-A4B1-492B-8745-458FF148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9EED7-22D2-4A08-8688-5A213B0E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7DFCF-AB20-4813-9D71-E5B30C3B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B123F-8D87-47FA-B4A7-D5D1742E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639C2-1E46-4885-8ED4-C1AF545A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E7D14-D8DE-4D16-9D4B-DE86E4B8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CEBD-4E86-4C09-90E0-E2E70745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5C467-ABAE-4AC5-A3F2-AB55C815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FFD33-F907-453B-9F91-5BEE92BB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9341D-9086-4B44-A5CF-E3307369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26538-1249-4721-961A-CA9FCFE4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DE80C-B60F-4C2D-87A1-16BD8201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379DB-8C0B-430E-9897-1C033101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F9CC0-BE82-411F-97AD-7B66D440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F7A9-C728-40D6-A7C1-DE8604E417C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2DED-AA7C-40F6-8082-C9703818CB49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86E1-1E5F-43F8-A8A0-A4BA1969B3F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7909-ACFC-48DD-9F72-F5EEAB3FE634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BDB8-4FEE-4D1F-9267-19B5E79B441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F367-CFA9-4DB9-91D1-41027816792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A63A-0655-462C-9825-7D242E3551FE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EC5D-3726-4D71-9A40-CC0B013EC58D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hyperlink" Target="http://www.aerofoto.narod.ru/AEF862SR.jpg" TargetMode="Externa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90160" y="522000"/>
            <a:ext cx="769284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Book Antiqua"/>
              </a:rPr>
              <a:t>СИММЕТРИЯ В НЕЖИВОЙ ПРИРОДЕ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79" name="Picture 7" descr="алмаз"/>
          <p:cNvPicPr/>
          <p:nvPr/>
        </p:nvPicPr>
        <p:blipFill>
          <a:blip r:embed="rId1"/>
          <a:stretch/>
        </p:blipFill>
        <p:spPr>
          <a:xfrm>
            <a:off x="968400" y="1689120"/>
            <a:ext cx="2259000" cy="25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Object 8"/>
          <p:cNvGraphicFramePr/>
          <p:nvPr/>
        </p:nvGraphicFramePr>
        <p:xfrm>
          <a:off x="1581120" y="4344840"/>
          <a:ext cx="1789200" cy="13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81120" y="4344840"/>
                    <a:ext cx="1789200" cy="13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79600" y="1599840"/>
            <a:ext cx="450684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Каждый камень является огромной  колонией кристаллов, представляющих собой симметричные «постройки» из атомов и молекул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C:\Users\Мамуля\Desktop\weyl.jpg"/>
          <p:cNvPicPr/>
          <p:nvPr/>
        </p:nvPicPr>
        <p:blipFill>
          <a:blip r:embed="rId1"/>
          <a:stretch/>
        </p:blipFill>
        <p:spPr>
          <a:xfrm>
            <a:off x="4714920" y="1386000"/>
            <a:ext cx="2914560" cy="38574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552240" y="1541520"/>
            <a:ext cx="3754440" cy="4657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7534c"/>
                </a:solidFill>
                <a:latin typeface="Times New Roman"/>
                <a:ea typeface="Times New Roman"/>
              </a:rPr>
              <a:t>Вейль Герман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7534c"/>
                </a:solidFill>
                <a:latin typeface="Times New Roman"/>
                <a:ea typeface="Times New Roman"/>
              </a:rPr>
              <a:t> </a:t>
            </a:r>
            <a:r>
              <a:rPr b="1" lang="ru-RU" sz="1900" spc="-1" strike="noStrike">
                <a:solidFill>
                  <a:srgbClr val="47534c"/>
                </a:solidFill>
                <a:latin typeface="Times New Roman"/>
                <a:ea typeface="Times New Roman"/>
              </a:rPr>
              <a:t>(9.11.1885— 8.12.1955) - немецкий математик.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7534c"/>
                </a:solidFill>
                <a:latin typeface="Times New Roman"/>
                <a:ea typeface="Times New Roman"/>
              </a:rPr>
              <a:t>Окончил Гёттингенский университ.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7534c"/>
                </a:solidFill>
                <a:latin typeface="Times New Roman"/>
                <a:ea typeface="Times New Roman"/>
              </a:rPr>
              <a:t>В 1913—1930 г. профессор Цюрихского политехнического института,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7534c"/>
                </a:solidFill>
                <a:latin typeface="Times New Roman"/>
                <a:ea typeface="Times New Roman"/>
              </a:rPr>
              <a:t>в 1930—1933 профессор Гёттингенского университета,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7534c"/>
                </a:solidFill>
                <a:latin typeface="Times New Roman"/>
                <a:ea typeface="Times New Roman"/>
              </a:rPr>
              <a:t>в 1933 эмигрировал в США.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615600" y="264600"/>
            <a:ext cx="3637080" cy="118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b7d72"/>
                </a:solidFill>
                <a:latin typeface="Times New Roman"/>
                <a:ea typeface="Times New Roman"/>
              </a:rPr>
              <a:t>ВЕЙЛЬ ГЕРМАН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graphicFrame>
        <p:nvGraphicFramePr>
          <p:cNvPr id="447" name="Объект 4"/>
          <p:cNvGraphicFramePr/>
          <p:nvPr/>
        </p:nvGraphicFramePr>
        <p:xfrm>
          <a:off x="1147680" y="638280"/>
          <a:ext cx="690876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638280"/>
                    <a:ext cx="690876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ДОМАШНЕЕ ЗАДАНИЕ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12880" y="1848960"/>
            <a:ext cx="7881840" cy="408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очитать  п.47 стр.110-112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строить трапецию, симметричную данной относительно  прямой, содержащей её боковую сторону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строить  параллелограмм, симметричный данному относительно  какой –либо его вершины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дготовить презентацию по теме «Симметрия»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9144000" y="90612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363240"/>
            <a:ext cx="75438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СИММЕТРИЯ  В ПРИРОДЕ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7240" y="1699920"/>
            <a:ext cx="7615440" cy="52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6600"/>
              </a:solidFill>
              <a:latin typeface="Century Gothic"/>
            </a:endParaRPr>
          </a:p>
        </p:txBody>
      </p:sp>
      <p:pic>
        <p:nvPicPr>
          <p:cNvPr id="385" name="Picture 6" descr="бабочка2"/>
          <p:cNvPicPr/>
          <p:nvPr/>
        </p:nvPicPr>
        <p:blipFill>
          <a:blip r:embed="rId2"/>
          <a:stretch/>
        </p:blipFill>
        <p:spPr>
          <a:xfrm>
            <a:off x="496800" y="1698480"/>
            <a:ext cx="2827440" cy="2089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кактус"/>
          <p:cNvPicPr/>
          <p:nvPr/>
        </p:nvPicPr>
        <p:blipFill>
          <a:blip r:embed="rId3"/>
          <a:stretch/>
        </p:blipFill>
        <p:spPr>
          <a:xfrm>
            <a:off x="3193920" y="4064040"/>
            <a:ext cx="2670480" cy="20811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кленовый лист"/>
          <p:cNvPicPr/>
          <p:nvPr/>
        </p:nvPicPr>
        <p:blipFill>
          <a:blip r:embed="rId4"/>
          <a:stretch/>
        </p:blipFill>
        <p:spPr>
          <a:xfrm>
            <a:off x="5337000" y="1844640"/>
            <a:ext cx="310212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Book Antiqua"/>
              </a:rPr>
              <a:t>СИММЕТРИЯ В АРХИТЕКТУРЕ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9" name="Picture 2" descr="E:\ФОТО МАРИШЕ\%CA%E0%E7%E0%ED%20%F1%EE%E1%EE%F0.jpg"/>
          <p:cNvPicPr/>
          <p:nvPr/>
        </p:nvPicPr>
        <p:blipFill>
          <a:blip r:embed="rId1"/>
          <a:stretch/>
        </p:blipFill>
        <p:spPr>
          <a:xfrm>
            <a:off x="669960" y="3720960"/>
            <a:ext cx="3922560" cy="2781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E:\ФОТО МАРИШЕ\-2.jpg"/>
          <p:cNvPicPr/>
          <p:nvPr/>
        </p:nvPicPr>
        <p:blipFill>
          <a:blip r:embed="rId2"/>
          <a:stretch/>
        </p:blipFill>
        <p:spPr>
          <a:xfrm>
            <a:off x="5143680" y="2021040"/>
            <a:ext cx="3692520" cy="3763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Users\Мамуля\Desktop\77f2774f746c55e847e73710977343a8.jpg"/>
          <p:cNvPicPr/>
          <p:nvPr/>
        </p:nvPicPr>
        <p:blipFill>
          <a:blip r:embed="rId3"/>
          <a:stretch/>
        </p:blipFill>
        <p:spPr>
          <a:xfrm>
            <a:off x="573120" y="1457280"/>
            <a:ext cx="401940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0485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Book Antiqua"/>
              </a:rPr>
              <a:t>ЗЕРКАЛЬНАЯ СИММЕТРИЯ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4" name="Picture 2" descr="E:\Сережа\Фото\Фото скинутое 14 06 08\139CANON\IMG_3963.JPG"/>
          <p:cNvPicPr/>
          <p:nvPr/>
        </p:nvPicPr>
        <p:blipFill>
          <a:blip r:embed="rId1"/>
          <a:stretch/>
        </p:blipFill>
        <p:spPr>
          <a:xfrm>
            <a:off x="566640" y="1363680"/>
            <a:ext cx="4019760" cy="4137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D:\Pictures\1-webbig.jpg"/>
          <p:cNvPicPr/>
          <p:nvPr/>
        </p:nvPicPr>
        <p:blipFill>
          <a:blip r:embed="rId2"/>
          <a:stretch/>
        </p:blipFill>
        <p:spPr>
          <a:xfrm>
            <a:off x="4978440" y="2182680"/>
            <a:ext cx="3857760" cy="421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360360" y="255600"/>
            <a:ext cx="8229600" cy="103032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1584000"/>
            <a:ext cx="45403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564b3c"/>
                </a:solidFill>
                <a:latin typeface="Arial"/>
              </a:rPr>
              <a:t>Симметрия в химии проявляется в геометрической конфигурации молекул, что сказывается на специфике физических и химических свойств молекул в изолированном состоянии, во внешнем поле и при взаимодействии с другими атомами и молекулам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8" name="Picture 5" descr="i"/>
          <p:cNvPicPr/>
          <p:nvPr/>
        </p:nvPicPr>
        <p:blipFill>
          <a:blip r:embed="rId2"/>
          <a:stretch/>
        </p:blipFill>
        <p:spPr>
          <a:xfrm>
            <a:off x="5435640" y="1846440"/>
            <a:ext cx="3251160" cy="32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60360" y="139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вирусы"/>
          <p:cNvPicPr/>
          <p:nvPr/>
        </p:nvPicPr>
        <p:blipFill>
          <a:blip r:embed="rId2"/>
          <a:stretch/>
        </p:blipFill>
        <p:spPr>
          <a:xfrm>
            <a:off x="1946160" y="1627200"/>
            <a:ext cx="5050080" cy="391176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3"/>
          <p:cNvSpPr/>
          <p:nvPr/>
        </p:nvSpPr>
        <p:spPr>
          <a:xfrm>
            <a:off x="2571480" y="5929200"/>
            <a:ext cx="3980160" cy="58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метрия ви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Book Antiqua"/>
              </a:rPr>
              <a:t>СИММЕТРИЯ В ТЕХНИКЕ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3" name="Picture 2" descr="E:\ФОТО МАРИШЕ\800_481da1cea4820.jpg"/>
          <p:cNvPicPr/>
          <p:nvPr/>
        </p:nvPicPr>
        <p:blipFill>
          <a:blip r:embed="rId1"/>
          <a:stretch/>
        </p:blipFill>
        <p:spPr>
          <a:xfrm>
            <a:off x="334800" y="1363680"/>
            <a:ext cx="3546720" cy="2322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E:\ФОТО МАРИШЕ\normal_u11_55.jpg"/>
          <p:cNvPicPr/>
          <p:nvPr/>
        </p:nvPicPr>
        <p:blipFill>
          <a:blip r:embed="rId2"/>
          <a:stretch/>
        </p:blipFill>
        <p:spPr>
          <a:xfrm>
            <a:off x="4730760" y="1254240"/>
            <a:ext cx="3510000" cy="25416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1" descr="авто"/>
          <p:cNvPicPr/>
          <p:nvPr/>
        </p:nvPicPr>
        <p:blipFill>
          <a:blip r:embed="rId3"/>
          <a:stretch/>
        </p:blipFill>
        <p:spPr>
          <a:xfrm>
            <a:off x="652320" y="417024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Самолет Ил-86  Кликни по фотографии, &#10;чтобы увеличить до размера 1024 х 683.&#10;Click to picture for enlarge before size 1024 x 683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30760" y="4071960"/>
            <a:ext cx="3875040" cy="22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ПРОВЕРИМ ЗНАНИ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0600" y="1919160"/>
            <a:ext cx="4362480" cy="3897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стройте отрезок С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, симметричный отрезку С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относительно прямой а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стройте треугольник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M</a:t>
            </a:r>
            <a:r>
              <a:rPr b="0" lang="en-US" sz="1800" spc="-1" strike="noStrike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</a:t>
            </a:r>
            <a:r>
              <a:rPr b="0" lang="en-US" sz="1800" spc="-1" strike="noStrike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K</a:t>
            </a:r>
            <a:r>
              <a:rPr b="0" lang="en-US" sz="1800" spc="-1" strike="noStrike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, симметричный треугольнику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MNK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относительно точки 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O</a:t>
            </a: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9" name="Text Box 27"/>
          <p:cNvSpPr/>
          <p:nvPr/>
        </p:nvSpPr>
        <p:spPr>
          <a:xfrm>
            <a:off x="6610320" y="1512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8"/>
          <p:cNvSpPr/>
          <p:nvPr/>
        </p:nvSpPr>
        <p:spPr>
          <a:xfrm>
            <a:off x="6743880" y="333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9"/>
          <p:cNvSpPr/>
          <p:nvPr/>
        </p:nvSpPr>
        <p:spPr>
          <a:xfrm rot="981600">
            <a:off x="4775040" y="3971520"/>
            <a:ext cx="1067040" cy="1455840"/>
          </a:xfrm>
          <a:prstGeom prst="triangle">
            <a:avLst>
              <a:gd name="adj" fmla="val 100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0"/>
          <p:cNvSpPr/>
          <p:nvPr/>
        </p:nvSpPr>
        <p:spPr>
          <a:xfrm>
            <a:off x="6702480" y="483552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1"/>
          <p:cNvSpPr/>
          <p:nvPr/>
        </p:nvSpPr>
        <p:spPr>
          <a:xfrm>
            <a:off x="7167600" y="268128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32"/>
          <p:cNvSpPr/>
          <p:nvPr/>
        </p:nvSpPr>
        <p:spPr>
          <a:xfrm>
            <a:off x="4575240" y="520380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33"/>
          <p:cNvSpPr/>
          <p:nvPr/>
        </p:nvSpPr>
        <p:spPr>
          <a:xfrm>
            <a:off x="5611680" y="5526000"/>
            <a:ext cx="669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35"/>
          <p:cNvSpPr/>
          <p:nvPr/>
        </p:nvSpPr>
        <p:spPr>
          <a:xfrm>
            <a:off x="5977080" y="411948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6"/>
          <p:cNvSpPr/>
          <p:nvPr/>
        </p:nvSpPr>
        <p:spPr>
          <a:xfrm>
            <a:off x="6041880" y="380196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7"/>
          <p:cNvSpPr/>
          <p:nvPr/>
        </p:nvSpPr>
        <p:spPr>
          <a:xfrm>
            <a:off x="5619600" y="5506920"/>
            <a:ext cx="4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4356000" y="5234040"/>
            <a:ext cx="4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9"/>
          <p:cNvSpPr/>
          <p:nvPr/>
        </p:nvSpPr>
        <p:spPr>
          <a:xfrm>
            <a:off x="6611400" y="4792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0"/>
          <p:cNvSpPr/>
          <p:nvPr/>
        </p:nvSpPr>
        <p:spPr>
          <a:xfrm>
            <a:off x="7543800" y="167472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1"/>
          <p:cNvSpPr/>
          <p:nvPr/>
        </p:nvSpPr>
        <p:spPr>
          <a:xfrm flipV="1">
            <a:off x="5286240" y="1990440"/>
            <a:ext cx="213372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2"/>
          <p:cNvSpPr/>
          <p:nvPr/>
        </p:nvSpPr>
        <p:spPr>
          <a:xfrm>
            <a:off x="6715080" y="2028960"/>
            <a:ext cx="0" cy="14191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3"/>
          <p:cNvSpPr/>
          <p:nvPr/>
        </p:nvSpPr>
        <p:spPr>
          <a:xfrm flipH="1" flipV="1">
            <a:off x="5892840" y="2099520"/>
            <a:ext cx="1288800" cy="593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6"/>
          <p:cNvSpPr/>
          <p:nvPr/>
        </p:nvSpPr>
        <p:spPr>
          <a:xfrm>
            <a:off x="7277040" y="26370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7"/>
          <p:cNvSpPr/>
          <p:nvPr/>
        </p:nvSpPr>
        <p:spPr>
          <a:xfrm>
            <a:off x="5499000" y="1595520"/>
            <a:ext cx="8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48"/>
          <p:cNvSpPr/>
          <p:nvPr/>
        </p:nvSpPr>
        <p:spPr>
          <a:xfrm>
            <a:off x="7407360" y="554976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51"/>
          <p:cNvSpPr/>
          <p:nvPr/>
        </p:nvSpPr>
        <p:spPr>
          <a:xfrm rot="11724000">
            <a:off x="7615080" y="4287600"/>
            <a:ext cx="1067040" cy="1455480"/>
          </a:xfrm>
          <a:prstGeom prst="triangle">
            <a:avLst>
              <a:gd name="adj" fmla="val 100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49"/>
          <p:cNvSpPr/>
          <p:nvPr/>
        </p:nvSpPr>
        <p:spPr>
          <a:xfrm>
            <a:off x="7802640" y="414504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50"/>
          <p:cNvSpPr/>
          <p:nvPr/>
        </p:nvSpPr>
        <p:spPr>
          <a:xfrm>
            <a:off x="8813880" y="442584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2"/>
          <p:cNvSpPr/>
          <p:nvPr/>
        </p:nvSpPr>
        <p:spPr>
          <a:xfrm>
            <a:off x="7701480" y="3716280"/>
            <a:ext cx="5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3"/>
          <p:cNvSpPr/>
          <p:nvPr/>
        </p:nvSpPr>
        <p:spPr>
          <a:xfrm>
            <a:off x="8616960" y="457344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54"/>
          <p:cNvSpPr/>
          <p:nvPr/>
        </p:nvSpPr>
        <p:spPr>
          <a:xfrm>
            <a:off x="7413480" y="551016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24"/>
          <p:cNvSpPr/>
          <p:nvPr/>
        </p:nvSpPr>
        <p:spPr>
          <a:xfrm>
            <a:off x="6696000" y="197172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6"/>
          <p:cNvSpPr/>
          <p:nvPr/>
        </p:nvSpPr>
        <p:spPr>
          <a:xfrm>
            <a:off x="6684840" y="3417840"/>
            <a:ext cx="669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34"/>
          <p:cNvSpPr/>
          <p:nvPr/>
        </p:nvSpPr>
        <p:spPr>
          <a:xfrm>
            <a:off x="5891040" y="2071800"/>
            <a:ext cx="669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392040" y="1111320"/>
            <a:ext cx="345456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90099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метрию можно обнаружить почти везде, если знать, как ее искать. Творчество людей во всех своих проявлениях тяготеет к симметрии. Посредством симметрии человек всегда пытался, по словам немецкого математика Германа Вейля, «постичь и создать порядок, красоту и совершенство». 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graphicFrame>
        <p:nvGraphicFramePr>
          <p:cNvPr id="438" name="Object 6"/>
          <p:cNvGraphicFramePr/>
          <p:nvPr/>
        </p:nvGraphicFramePr>
        <p:xfrm>
          <a:off x="4021200" y="1111320"/>
          <a:ext cx="4621320" cy="47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21200" y="1111320"/>
                    <a:ext cx="4621320" cy="47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WordArt 5"/>
          <p:cNvSpPr txBox="1"/>
          <p:nvPr/>
        </p:nvSpPr>
        <p:spPr>
          <a:xfrm>
            <a:off x="1641600" y="716040"/>
            <a:ext cx="38415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7:10:11Z</dcterms:created>
  <dc:creator>Люда</dc:creator>
  <dc:description/>
  <dc:language>en-US</dc:language>
  <cp:lastModifiedBy>Людмила</cp:lastModifiedBy>
  <dcterms:modified xsi:type="dcterms:W3CDTF">2017-01-05T09:00:57Z</dcterms:modified>
  <cp:revision>72</cp:revision>
  <dc:subject/>
  <dc:title>Осевая и центральная симметрия</dc:title>
</cp:coreProperties>
</file>