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BC2-03E5-4F34-864E-76FAA771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753-1F90-4041-A0EA-5301484D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4E5-3D49-4B05-A204-4F48A033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9FD-7CDE-42E5-8097-4951B6CF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83B-E60D-425E-9637-F98FF9E1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DB2-AE8A-4CDE-B3A7-5B8F7F32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3F4-F788-43DB-BB65-2798F33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293-F9EC-4140-A7BF-CD11501A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97F-A3DE-424F-90ED-FE695E4B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B9E-B687-48D2-B22F-E5490B4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6B6-FED6-4FAF-B385-0319F660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DB6-865F-4F3C-B3B3-FF4D56A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042D-803B-459E-B7E2-A97095779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гащение словарного запаса младших школьников с ОВЗ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как средство формирования речевой компете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62320" y="37339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рощина Светлана Анатольевна,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ровского областного государ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ого бюджет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Школа-интернат для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ограниченными возможностями здоровь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Совет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 Дом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Дом стоял на пригор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Дом стоял на лесном пригор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- Дом стоял на лесном пригорке возле с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- Дом стоял на лесном пригорке возле зелёного сад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и совершенствование речи школь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рованное познание окружающей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из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лечение дополнитель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ткий отбор языковых сред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активных приёмов отечественных метод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проведению словарной рабо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зировка слов на единицу учебного времени (оптимальное число слов в пределах одного этапа – 2-3, для учащихся старших классов – 3-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ретное объяснение новых слов (процесс точного запоминания слов заметно эффективнее, если они объединены в тематические группы или включены в предлож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тически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л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лица, аллея, фонтан, здание, завод, фабрика, аптека, библиотека, метро, памятник, канава, песок, овр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варти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вартира, адрес, лестница, коридор, комната, кровать, диван, кресло, табурет, мебель, предмет, порядок, шифоньер, стеллаж, картина, портрет, колле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каз, составленный учащими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толица России. Здес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эта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ма. Круп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фабрики. Много краси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нта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мятни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Гуляют п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иц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уристы. Спешат на Красную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школьники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ев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ора на все возможные анализа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ёмы работы со слов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ие слова в воздухе пальчи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ие слова воображаемым карандашом, который находится на кончике н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ное представление словарного сл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альная «подсказоч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с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в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с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ю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ение к этимологии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 слова в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непонятного слова в понятную фразу (барьер – лошадь перепрыгнула через барьер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ение частного под общее (слон -  травоядное животно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ленение общего на частные (городской транспорт – автобус, такси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предложение со словами (трава, дрова, птичка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ь другие части речи от слов (почтенный, диво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рать однокоренные слова (стряслась, понеслась, 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ь данные слова близкими по смыс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ь данные слова противоположными по смы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Паровоз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разовой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лов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правильному построению лексико-грамматических констру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ровка вербальной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02T04:46:0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