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152A-2E55-4FC5-AE0A-B19F098B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065-9A0B-47A8-A1E9-BEEF56539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228B-3AD1-4040-9CDD-06C5972AA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F9E-E579-40DF-9F8A-ACCA0044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0D16-B160-4943-A5C9-A94A0325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899-B0C1-4F9B-A2CB-C748ACE8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C386-9083-4F82-9078-4153DBAC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5838-3900-4C0C-895E-2BCC7724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8747-160C-4860-81D4-86BB51CE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99E-0345-412D-A708-115891AB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FAB-96ED-4293-862C-B9FD584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C6B-FA31-4BEA-A92B-531E9F86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952E-D05E-4B0A-AA02-0E52C32E06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321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огащение словарного запаса младших школьников с ОВЗ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как средство формирования речевой компетент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62320" y="37339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рощина Светлана Анатольевна,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ровского областного государств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еобразовательного бюджетного уч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Школа-интернат для обучающих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 ограниченными возможностями здоровь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Совет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–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– Дом стоя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– Дом стоял на пригор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 - Дом стоял на лесном пригор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- Дом стоял на лесном пригорке возле с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 - Дом стоял на лесном пригорке возле зелёного сада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и совершенствование речи школьник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ференцированное познание окружающей действ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виз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лечение дополнительного материал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ёткий отбор языковых средст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активных приёмов отечественных метод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 к проведению словарной раб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зировка слов на единицу учебного времени (оптимальное число слов в пределах одного этапа – 2-3, для учащихся старших классов – 3-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кретное объяснение новых слов (процесс точного запоминания слов заметно эффективнее, если они объединены в тематические группы или включены в предлож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матические груп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лиц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лица, аллея, фонтан, здание, завод, фабрика, аптека, библиотека, метро, памятник, канава, песок, овр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варти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вартира, адрес, лестница, коридор, комната, кровать, диван, кресло, табурет, мебель, предмет, порядок, шифоньер, стеллаж, картина, портрет, колле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сказ, составленный учащими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столица России. Здес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ногоэтажны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ма. Крупны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в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фабрики. Много красивых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л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нтан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мятник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Гуляют п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ица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уристы. Спешат на Красную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ощад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школьники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ревен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ора на все возможные анализато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ёмы работы со слов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ие слова в воздухе пальчик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сание слова воображаемым карандашом, который находится на кончике нос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ное представление словарного с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альная «подсказоч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с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в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с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ю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щение к этимологии сло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ведение слова в реч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непонятного слова в понятную фразу (барьер – лошадь перепрыгнула через барьер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ведение частного под общее (слон -  травоядное животно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членение общего на частные (городской транспорт – автобус, такси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предложение со словами (трава, дрова, птичка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ть другие части речи от слов (почтенный, диво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рать однокоренные слова (стряслась, понеслась, 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ь данные слова близкими по смыс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енить данные слова противоположными по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Паровоз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разовой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гащение словар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ение правильному построению лексико-грамматических конструкц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ровка вербальной памя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02T04:46:0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