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69A9-B1E1-4ED7-A073-8D10420DC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 _ _ _ _ 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 (окраска поверхностей мелом или известью) - бе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_ _ _ _ 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(часть ноги от колена до стопы) – ол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с пяточком, хвост крючком? свин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е пушистый рыжий хвостик весело мелькает между зеленых веток и служит своей хозяйке парашютом во время прыжков? бе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хвосте этого представителя семейства кошачьих есть пушистая кисточка, а в ней острый кого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этого великана нос намного длиннее, чем хво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этого речного строителя хвост является и рулем, и веслом, в нем же он накапливает жир на зи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востом этого животного есть железа, которая содержит удивительно противно пахнущую жидкость, которую он выпрыскивает, подняв хвост, на проти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_ _ _ _ (правила сохранения здоровья)  - ги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ст _ _ _ _ а (охотничье ружье) – вол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_ _ _ _ ок (небольшой населенный пункт) – ос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_ _ _ _ ер ( охотник вне закона) – к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_ _ _ _ ка ( вкусное прозвище автомобильного руля) – ба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ю _ _ _ _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(виноградный сахар в плодах,  мёде) – ко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 _ _ _ _ д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 (огороженный садик перед домом) – ли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698-D474-4C78-B5CF-3DFFD7B0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34C-0347-45CA-918C-A9BF4FB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792-8DD9-4EDD-BE45-3F13C458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6F6-D04A-4736-8ED1-AAFFF68F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E98F-8B6E-4854-A8B7-1C4D87A8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B1EA-468D-4D6B-BC47-F13DE48F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5CE6-0093-452F-B2D8-CCD74EB9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F4AB-E34A-411F-A357-2A316175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D97C-39A1-4D4C-8069-ED32BE84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4111-66D4-4AA1-B6CC-522A419E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50A9-CE7D-42AC-836C-0EA0819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023-5660-4159-AF70-9EC60810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ABF8-406E-4145-BA2E-2C3E97F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DB4A-3E21-4B5F-B7EC-6C25351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1314-74A6-4BB1-988D-6776DC84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4883-67AA-4B5F-BE1F-00BFBE68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6067-B053-4DEF-813B-72A920D3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103-5565-4E7A-941B-060DC794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2D5-3B33-4F42-A61E-245AD656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128-53DC-4F0F-B03E-7257855F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BA2-9D0B-4ED3-813E-C175F43E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B8F-6736-4372-8EF4-204DE63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A17-3197-4059-9D0B-BC0D82E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FB8-9AE1-4BDE-BDAD-1EAB917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3C3-929C-43C8-8496-B6B60EE4F6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D317-C5CE-4E5D-BB36-D32A22AEB1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Интеллектуальная викторина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4 класс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«МИР ЖИВОТНЫХ»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 _  _ 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о _ 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востатая викторин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гадайте животное по опис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хво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ос пятачком, хвост крючком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1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лично поработали.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ерните зверей в слов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ьзуясь подсказками, отгадайте сами слова и названия тех зверей, которые из них «убежа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и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2600" y="1600200"/>
            <a:ext cx="8038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вуст_ _ _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53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_ _ _ _ ок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Бра_ _ _ _ ер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_ _ _ _ _ к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лю_ 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али_ _ _ _ дни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96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3T02:31:42Z</dcterms:created>
  <dc:creator>МКОУ СОШ</dc:creator>
  <dc:description/>
  <dc:language>en-US</dc:language>
  <cp:lastModifiedBy>МКОУ СОШ</cp:lastModifiedBy>
  <dcterms:modified xsi:type="dcterms:W3CDTF">2017-01-05T21:32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