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0218-3542-420B-917E-7DBB0B8068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о _ _ _ _ 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 (окраска поверхностей мелом или известью) - бе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Г_ _ _ _ 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(часть ноги от колена до стопы) – оле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с пяточком, хвост крючком? свин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Ее пушистый рыжий хвостик весело мелькает между зеленых веток и служит своей хозяйке парашютом во время прыжков? бе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хвосте этого представителя семейства кошачьих есть пушистая кисточка, а в ней острый кого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 этого великана нос намного длиннее, чем хво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этого речного строителя хвост является и рулем, и веслом, в нем же он накапливает жир на зи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хвостом этого животного есть железа, которая содержит удивительно противно пахнущую жидкость, которую он выпрыскивает, подняв хвост, на против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_ _ _ _ (правила сохранения здоровья)  - ги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уст _ _ _ _ а (охотничье ружье) – вол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_ _ _ _ ок (небольшой населенный пункт) – осе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_ _ _ _ ер ( охотник вне закона) – ко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 _ _ _ _ ка ( вкусное прозвище автомобильного руля) – ба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ю _ _ _ _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 (виноградный сахар в плодах,  мёде) – ко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 _ _ _ _ дн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 (огороженный садик перед домом) – ли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E64B-3043-4A2A-B2B5-1D48D9CD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4005-EC1D-4082-AF37-903E9D08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23E4-0A57-4DC9-A068-F5CBCE2C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B78C-9452-4243-A864-6D8E3E8F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22A0-DC05-461C-8FAB-F6879635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6F49-E3E8-4722-B5B2-E42B975D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F7CB-0D8F-4196-9075-51BE22E7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9BE7-87AF-4B2B-A7D0-E58A1BF9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B75E-E193-4288-B282-23A28DA1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192A-3892-449A-AAEE-38B76B10E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083E-B070-4767-8E22-EFF6C694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3E20-735C-44E2-A608-DB4CB1BD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205A-F624-4E77-93FD-4694F553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88DF-7694-4717-9EE4-FD529F8E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7F75-1E83-4C57-A763-51BEE0A7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C757-DEB4-4E06-B2D6-4285D36E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6EEA-8586-492C-9932-E7C3A6FB6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251F-DF94-4FE5-9FC6-D39A4114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B33C-9CB3-48FB-8F27-91C3C54F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56E2-D753-4A62-9F70-D3602583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AC5E-AEEC-4A1F-A022-DAC6E867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7752-68EB-4E07-BD5B-26F47E33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B6C2-1A47-4047-B236-CE7212CA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232F-89F0-4EC8-8F1D-411E5B2B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F6CA-F365-454F-83D3-7DF5C864923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ED04-9B98-420A-A571-54A59D0497C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Интеллектуальная викторина</a:t>
            </a:r>
            <a:br>
              <a:rPr sz="3200"/>
            </a:b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4 класс</a:t>
            </a:r>
            <a:br>
              <a:rPr sz="3200"/>
            </a:b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«МИР ЖИВОТНЫХ».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01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По _  _ _ _ _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848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Го _ _ _ _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848720" cy="47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Хвостатая викторина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гадайте животное по описани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го хвос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Нос пятачком, хвост крючком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620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772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7848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6914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0010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85800" y="533520"/>
            <a:ext cx="77724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Отлично поработали.</a:t>
            </a:r>
            <a:br>
              <a:rPr sz="4000"/>
            </a:b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Молодцы!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46784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Верните зверей в слова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льзуясь подсказками, отгадайте сами слова и названия тех зверей, которые из них «убежали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Ги_ _ _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52600" y="1600200"/>
            <a:ext cx="8038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Двуст_ _ _а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1532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_ _ _ _ ок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Бра_ _ _ _ ер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_ _ _ _ _ ка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8487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Глю_ _ _ _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800100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али_ _ _ _ дник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6964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3T02:31:42Z</dcterms:created>
  <dc:creator>МКОУ СОШ</dc:creator>
  <dc:description/>
  <dc:language>en-US</dc:language>
  <cp:lastModifiedBy>МКОУ СОШ</cp:lastModifiedBy>
  <dcterms:modified xsi:type="dcterms:W3CDTF">2017-01-05T21:32:4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