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29F0-1F36-4D16-A74C-9277DAE23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2713-B4AD-4337-A62D-82A91192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9F88-FCCD-472B-80B6-1DCDACAF8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CF87-F690-4C65-BC2C-28683995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008B-A729-47FD-B518-F07BEDD3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1500-92E9-403D-972E-F41B313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57F1-6E59-4420-AE84-E54AC210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536B-AA66-4B49-AE5F-60265BE5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C9A5-1667-4874-A863-90867A74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195F-5773-4B12-B7FA-8E5C97CD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5AAA-7924-4408-9FED-98E26CAF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5BF-D350-4768-BE91-BB3DB46F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9E63-9B94-4122-9C75-682D003B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013-7D5C-4EF4-8215-C78AF686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075A-B0B9-4C3D-993B-DD77B7D4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7091-16C1-4172-8180-163E59E9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28C8-7F15-41A7-A083-DA0BA016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F73-91D8-4D0E-AA85-266D11DB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4D75-EC26-4C13-9533-8CA5BE52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1CB5-475F-4923-AF64-C3BD4365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151D-176A-486D-A85F-B3637E90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F3C-2C82-4B99-9114-AFA669C4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7DA-17D2-4082-B5DB-8FD587A6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0FC-BB8A-435F-8627-488CE79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669900"/>
            </a:solidFill>
            <a:ln w="57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669900"/>
              </a:solidFill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9C38-2522-4F56-91AC-CA9899AEB0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f5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21" descr="з"/>
          <p:cNvPicPr/>
          <p:nvPr/>
        </p:nvPicPr>
        <p:blipFill>
          <a:blip r:embed="rId2"/>
          <a:stretch/>
        </p:blipFill>
        <p:spPr>
          <a:xfrm>
            <a:off x="0" y="5033880"/>
            <a:ext cx="9144000" cy="18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137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137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7" name="Picture 16" descr="книги"/>
          <p:cNvPicPr/>
          <p:nvPr/>
        </p:nvPicPr>
        <p:blipFill>
          <a:blip r:embed="rId2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104B-35B1-4FE8-9F5F-8D954C45436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ультуроведческий асп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преподава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усского язык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15"/>
          <p:cNvSpPr/>
          <p:nvPr/>
        </p:nvSpPr>
        <p:spPr>
          <a:xfrm>
            <a:off x="571680" y="1643040"/>
            <a:ext cx="8072280" cy="4929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6. Названия музыкальных инструменто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гусли, балалай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7. Названия музыкальных форм, исполнителей и танце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частушка, запевала, хоровод, пес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енник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8. Жанры устного народного творчеств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загадка, сказка, пословица, поговор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9. Слова из фольклор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витязь, травушка-муравушка, красна девица. младешеньк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0 Параметрическая лексика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вершок, пядь, сажень, аршин, верста, фунт, пуд, золотник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2. Праздн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и связанные с ними обычаи и обряды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Рождество, Крещение, Масленица, Прощеное воскресение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3"/>
          <p:cNvSpPr/>
          <p:nvPr/>
        </p:nvSpPr>
        <p:spPr>
          <a:xfrm>
            <a:off x="857160" y="2858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, содержащие культурно-значимую информациюв денота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аспекте значения  (продолжени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857160" y="2571840"/>
            <a:ext cx="350064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 содерж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Тексты с национально-культурным компонен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кругленный прямоугольник 4"/>
          <p:cNvSpPr/>
          <p:nvPr/>
        </p:nvSpPr>
        <p:spPr>
          <a:xfrm>
            <a:off x="785880" y="150012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тбор тек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 национально-культурным компон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5"/>
          <p:cNvSpPr/>
          <p:nvPr/>
        </p:nvSpPr>
        <p:spPr>
          <a:xfrm>
            <a:off x="4857840" y="2571840"/>
            <a:ext cx="350028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8"/>
          <p:cNvSpPr/>
          <p:nvPr/>
        </p:nvSpPr>
        <p:spPr>
          <a:xfrm>
            <a:off x="857160" y="3500280"/>
            <a:ext cx="357192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тради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быча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бы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9"/>
          <p:cNvSpPr/>
          <p:nvPr/>
        </p:nvSpPr>
        <p:spPr>
          <a:xfrm>
            <a:off x="4714920" y="3500280"/>
            <a:ext cx="4214880" cy="30718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оизведения художественной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миф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еда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ублицистические произвед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оизведения фолькло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ецедентные высказы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0"/>
          <p:cNvSpPr/>
          <p:nvPr/>
        </p:nvSpPr>
        <p:spPr>
          <a:xfrm>
            <a:off x="500040" y="5214960"/>
            <a:ext cx="4000680" cy="13572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00"/>
                </a:solidFill>
                <a:latin typeface="SchoolBookC"/>
              </a:rPr>
              <a:t>цель - отражение национально-культурного фона Росс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трелка вниз 11"/>
          <p:cNvSpPr/>
          <p:nvPr/>
        </p:nvSpPr>
        <p:spPr>
          <a:xfrm>
            <a:off x="2571840" y="23572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12"/>
          <p:cNvSpPr/>
          <p:nvPr/>
        </p:nvSpPr>
        <p:spPr>
          <a:xfrm>
            <a:off x="2571840" y="321480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трелка вниз 13"/>
          <p:cNvSpPr/>
          <p:nvPr/>
        </p:nvSpPr>
        <p:spPr>
          <a:xfrm>
            <a:off x="6500880" y="321480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трелка вниз 14"/>
          <p:cNvSpPr/>
          <p:nvPr/>
        </p:nvSpPr>
        <p:spPr>
          <a:xfrm>
            <a:off x="6500880" y="23572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трелка вниз 16"/>
          <p:cNvSpPr/>
          <p:nvPr/>
        </p:nvSpPr>
        <p:spPr>
          <a:xfrm>
            <a:off x="242892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направление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культуроведческого аспекта</a:t>
            </a:r>
            <a:br>
              <a:rPr sz="2800"/>
            </a:b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16"/>
          <p:cNvSpPr/>
          <p:nvPr/>
        </p:nvSpPr>
        <p:spPr>
          <a:xfrm>
            <a:off x="714240" y="292896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знание русск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18"/>
          <p:cNvSpPr/>
          <p:nvPr/>
        </p:nvSpPr>
        <p:spPr>
          <a:xfrm>
            <a:off x="866880" y="1714680"/>
            <a:ext cx="777708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задача -</a:t>
            </a:r>
            <a:r>
              <a:rPr b="0" lang="ru-RU" sz="2000" spc="-1" strike="noStrike">
                <a:solidFill>
                  <a:srgbClr val="ffffe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формирование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 своеобразии, самобытности и уник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усского и родного (иностранного)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19"/>
          <p:cNvSpPr/>
          <p:nvPr/>
        </p:nvSpPr>
        <p:spPr>
          <a:xfrm>
            <a:off x="714240" y="3857760"/>
            <a:ext cx="3929040" cy="1214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в диал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 культурой друг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20"/>
          <p:cNvSpPr/>
          <p:nvPr/>
        </p:nvSpPr>
        <p:spPr>
          <a:xfrm>
            <a:off x="4857840" y="3857760"/>
            <a:ext cx="3929040" cy="12142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во взаимодейств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 культурой друг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низ 21"/>
          <p:cNvSpPr/>
          <p:nvPr/>
        </p:nvSpPr>
        <p:spPr>
          <a:xfrm>
            <a:off x="45720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Диалог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Скругленный прямоугольник 16"/>
          <p:cNvSpPr/>
          <p:nvPr/>
        </p:nvSpPr>
        <p:spPr>
          <a:xfrm>
            <a:off x="714240" y="307188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аждая куль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Скругленный прямоугольник 18"/>
          <p:cNvSpPr/>
          <p:nvPr/>
        </p:nvSpPr>
        <p:spPr>
          <a:xfrm>
            <a:off x="857160" y="1643040"/>
            <a:ext cx="777708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моделируемая встреча культу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процессе изучения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одном временном сре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19"/>
          <p:cNvSpPr/>
          <p:nvPr/>
        </p:nvSpPr>
        <p:spPr>
          <a:xfrm>
            <a:off x="714240" y="3857760"/>
            <a:ext cx="3929040" cy="221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раскры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бще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что объединяет культуры разны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Скругленный прямоугольник 20"/>
          <p:cNvSpPr/>
          <p:nvPr/>
        </p:nvSpPr>
        <p:spPr>
          <a:xfrm>
            <a:off x="4857840" y="3857760"/>
            <a:ext cx="3929040" cy="2214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ткрыва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сво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новые стор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трелка вниз 21"/>
          <p:cNvSpPr/>
          <p:nvPr/>
        </p:nvSpPr>
        <p:spPr>
          <a:xfrm>
            <a:off x="4572000" y="2786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Цель диалога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18"/>
          <p:cNvSpPr/>
          <p:nvPr/>
        </p:nvSpPr>
        <p:spPr>
          <a:xfrm>
            <a:off x="2071800" y="1643040"/>
            <a:ext cx="5000400" cy="3357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свое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каждой из культу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SchoolBookC"/>
              </a:rPr>
              <a:t>путем сопоставлени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Что такое культура?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кругленный прямоугольник 16"/>
          <p:cNvSpPr/>
          <p:nvPr/>
        </p:nvSpPr>
        <p:spPr>
          <a:xfrm>
            <a:off x="714240" y="3071880"/>
            <a:ext cx="7858440" cy="6429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кругленный прямоугольник 19"/>
          <p:cNvSpPr/>
          <p:nvPr/>
        </p:nvSpPr>
        <p:spPr>
          <a:xfrm>
            <a:off x="714240" y="3857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ЩЕЧЕЛОВЕ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исущие всем нар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0"/>
          <p:cNvSpPr/>
          <p:nvPr/>
        </p:nvSpPr>
        <p:spPr>
          <a:xfrm>
            <a:off x="4857840" y="3857760"/>
            <a:ext cx="3929040" cy="15001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НИКАЛЬНЫ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присущие одному на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или  группе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21"/>
          <p:cNvSpPr/>
          <p:nvPr/>
        </p:nvSpPr>
        <p:spPr>
          <a:xfrm>
            <a:off x="4572000" y="2786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25"/>
          <p:cNvSpPr/>
          <p:nvPr/>
        </p:nvSpPr>
        <p:spPr>
          <a:xfrm>
            <a:off x="2500200" y="357192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26"/>
          <p:cNvSpPr/>
          <p:nvPr/>
        </p:nvSpPr>
        <p:spPr>
          <a:xfrm>
            <a:off x="6643800" y="35719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Выгнутая влево стрелка 11"/>
          <p:cNvSpPr/>
          <p:nvPr/>
        </p:nvSpPr>
        <p:spPr>
          <a:xfrm>
            <a:off x="214200" y="1857240"/>
            <a:ext cx="1714680" cy="478656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35720 h 4786560"/>
              <a:gd name="textAreaBottom" fmla="*/ 3536640 h 47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9" stAng="-5400000" swAng="-5400000"/>
                <a:lnTo>
                  <a:pt x="0" y="11284"/>
                </a:lnTo>
                <a:arcTo wR="21600" hR="9349" stAng="10800000" swAng="-3550922"/>
                <a:lnTo>
                  <a:pt x="16200" y="21303"/>
                </a:lnTo>
                <a:lnTo>
                  <a:pt x="21600" y="19666"/>
                </a:lnTo>
                <a:lnTo>
                  <a:pt x="16200" y="17434"/>
                </a:lnTo>
                <a:lnTo>
                  <a:pt x="16200" y="18401"/>
                </a:lnTo>
                <a:arcTo wR="21600" hR="9349" stAng="7249078" swAng="3396213"/>
                <a:lnTo>
                  <a:pt x="116" y="10317"/>
                </a:lnTo>
                <a:arcTo wR="21600" hR="9349" stAng="-10645291" swAng="5245291"/>
                <a:close/>
              </a:path>
              <a:path fill="darkenLess" w="21600" h="21600">
                <a:moveTo>
                  <a:pt x="21600" y="0"/>
                </a:moveTo>
                <a:arcTo wR="21600" hR="9349" stAng="-5400000" swAng="-5400000"/>
                <a:lnTo>
                  <a:pt x="0" y="9349"/>
                </a:lnTo>
                <a:arcTo wR="21600" hR="9349" stAng="10800000" swAng="-154709"/>
                <a:lnTo>
                  <a:pt x="116" y="10317"/>
                </a:lnTo>
                <a:arcTo wR="21600" hR="9349" stAng="-10645291" swAng="5245291"/>
                <a:close/>
              </a:path>
            </a:pathLst>
          </a:custGeom>
          <a:solidFill>
            <a:srgbClr val="008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Выгнутая вправо стрелка 12"/>
          <p:cNvSpPr/>
          <p:nvPr/>
        </p:nvSpPr>
        <p:spPr>
          <a:xfrm>
            <a:off x="7215120" y="1857240"/>
            <a:ext cx="1714680" cy="464364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00080 h 4643640"/>
              <a:gd name="textAreaBottom" fmla="*/ 3429360 h 46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3543697"/>
                <a:lnTo>
                  <a:pt x="5400" y="21305"/>
                </a:lnTo>
                <a:lnTo>
                  <a:pt x="0" y="19606"/>
                </a:lnTo>
                <a:lnTo>
                  <a:pt x="5400" y="17317"/>
                </a:lnTo>
                <a:lnTo>
                  <a:pt x="5400" y="18314"/>
                </a:lnTo>
                <a:arcTo wR="21600" hR="9305" stAng="3543697" swAng="-3384216"/>
                <a:lnTo>
                  <a:pt x="21476" y="10302"/>
                </a:lnTo>
                <a:arcTo wR="21600" hR="9305" stAng="-159482" swAng="-5240518"/>
                <a:close/>
              </a:path>
              <a:path fill="darkenLess"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-159482"/>
                <a:lnTo>
                  <a:pt x="21476" y="10302"/>
                </a:lnTo>
                <a:arcTo wR="21600" hR="9305" stAng="-159482" swAng="-5240518"/>
                <a:close/>
              </a:path>
            </a:pathLst>
          </a:custGeom>
          <a:solidFill>
            <a:srgbClr val="0066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Скругленный прямоугольник 13"/>
          <p:cNvSpPr/>
          <p:nvPr/>
        </p:nvSpPr>
        <p:spPr>
          <a:xfrm>
            <a:off x="857160" y="1643040"/>
            <a:ext cx="777708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ВОКУПНОСТЬ материальных и духовных ЦЕННОСТЕЙ, созданных и накопленных челов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Скругленный прямоугольник 14"/>
          <p:cNvSpPr/>
          <p:nvPr/>
        </p:nvSpPr>
        <p:spPr>
          <a:xfrm>
            <a:off x="1928880" y="5786280"/>
            <a:ext cx="5286240" cy="85752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ЧЕБНАЯ МОДЕЛЬ ДИАЛОГА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155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Учебная модель диалога культур</a:t>
            </a:r>
            <a:endParaRPr b="1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99680" y="1671120"/>
            <a:ext cx="8286840" cy="48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54526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9"/>
          <p:cNvSpPr/>
          <p:nvPr/>
        </p:nvSpPr>
        <p:spPr>
          <a:xfrm>
            <a:off x="642960" y="3500280"/>
            <a:ext cx="3929040" cy="1071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ОЩЕЧЕЛОВЕ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Скругленный прямоугольник 20"/>
          <p:cNvSpPr/>
          <p:nvPr/>
        </p:nvSpPr>
        <p:spPr>
          <a:xfrm>
            <a:off x="4857840" y="357192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SchoolBookC"/>
              </a:rPr>
              <a:t>УНИКАЛЬНЫХ  ЦЕН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Стрелка вниз 25"/>
          <p:cNvSpPr/>
          <p:nvPr/>
        </p:nvSpPr>
        <p:spPr>
          <a:xfrm>
            <a:off x="2500200" y="3214800"/>
            <a:ext cx="214560" cy="285480"/>
          </a:xfrm>
          <a:prstGeom prst="downArrow">
            <a:avLst>
              <a:gd name="adj1" fmla="val 50000"/>
              <a:gd name="adj2" fmla="val 49895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низ 26"/>
          <p:cNvSpPr/>
          <p:nvPr/>
        </p:nvSpPr>
        <p:spPr>
          <a:xfrm>
            <a:off x="6715080" y="328608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Выгнутая влево стрелка 11"/>
          <p:cNvSpPr/>
          <p:nvPr/>
        </p:nvSpPr>
        <p:spPr>
          <a:xfrm>
            <a:off x="214200" y="1857240"/>
            <a:ext cx="1714680" cy="478656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35720 h 4786560"/>
              <a:gd name="textAreaBottom" fmla="*/ 3536640 h 478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349" stAng="-5400000" swAng="-5400000"/>
                <a:lnTo>
                  <a:pt x="0" y="11284"/>
                </a:lnTo>
                <a:arcTo wR="21600" hR="9349" stAng="10800000" swAng="-3550922"/>
                <a:lnTo>
                  <a:pt x="16200" y="21303"/>
                </a:lnTo>
                <a:lnTo>
                  <a:pt x="21600" y="19666"/>
                </a:lnTo>
                <a:lnTo>
                  <a:pt x="16200" y="17434"/>
                </a:lnTo>
                <a:lnTo>
                  <a:pt x="16200" y="18401"/>
                </a:lnTo>
                <a:arcTo wR="21600" hR="9349" stAng="7249078" swAng="3396213"/>
                <a:lnTo>
                  <a:pt x="116" y="10317"/>
                </a:lnTo>
                <a:arcTo wR="21600" hR="9349" stAng="-10645291" swAng="5245291"/>
                <a:close/>
              </a:path>
              <a:path fill="darkenLess" w="21600" h="21600">
                <a:moveTo>
                  <a:pt x="21600" y="0"/>
                </a:moveTo>
                <a:arcTo wR="21600" hR="9349" stAng="-5400000" swAng="-5400000"/>
                <a:lnTo>
                  <a:pt x="0" y="9349"/>
                </a:lnTo>
                <a:arcTo wR="21600" hR="9349" stAng="10800000" swAng="-154709"/>
                <a:lnTo>
                  <a:pt x="116" y="10317"/>
                </a:lnTo>
                <a:arcTo wR="21600" hR="9349" stAng="-10645291" swAng="5245291"/>
                <a:close/>
              </a:path>
            </a:pathLst>
          </a:custGeom>
          <a:solidFill>
            <a:srgbClr val="0080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Выгнутая вправо стрелка 12"/>
          <p:cNvSpPr/>
          <p:nvPr/>
        </p:nvSpPr>
        <p:spPr>
          <a:xfrm>
            <a:off x="7215120" y="1857240"/>
            <a:ext cx="1714680" cy="4643640"/>
          </a:xfrm>
          <a:custGeom>
            <a:avLst/>
            <a:gdLst>
              <a:gd name="textAreaLeft" fmla="*/ 229680 w 1714680"/>
              <a:gd name="textAreaRight" fmla="*/ 1485000 w 1714680"/>
              <a:gd name="textAreaTop" fmla="*/ 1000080 h 4643640"/>
              <a:gd name="textAreaBottom" fmla="*/ 3429360 h 464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3543697"/>
                <a:lnTo>
                  <a:pt x="5400" y="21305"/>
                </a:lnTo>
                <a:lnTo>
                  <a:pt x="0" y="19606"/>
                </a:lnTo>
                <a:lnTo>
                  <a:pt x="5400" y="17317"/>
                </a:lnTo>
                <a:lnTo>
                  <a:pt x="5400" y="18314"/>
                </a:lnTo>
                <a:arcTo wR="21600" hR="9305" stAng="3543697" swAng="-3384216"/>
                <a:lnTo>
                  <a:pt x="21476" y="10302"/>
                </a:lnTo>
                <a:arcTo wR="21600" hR="9305" stAng="-159482" swAng="-5240518"/>
                <a:close/>
              </a:path>
              <a:path fill="darkenLess" w="21600" h="21600">
                <a:moveTo>
                  <a:pt x="0" y="0"/>
                </a:moveTo>
                <a:arcTo wR="21600" hR="9305" stAng="-5400000" swAng="5400000"/>
                <a:lnTo>
                  <a:pt x="21600" y="11299"/>
                </a:lnTo>
                <a:arcTo wR="21600" hR="9305" stAng="0" swAng="-159482"/>
                <a:lnTo>
                  <a:pt x="21476" y="10302"/>
                </a:lnTo>
                <a:arcTo wR="21600" hR="9305" stAng="-159482" swAng="-5240518"/>
                <a:close/>
              </a:path>
            </a:pathLst>
          </a:custGeom>
          <a:solidFill>
            <a:srgbClr val="006600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Скругленный прямоугольник 13"/>
          <p:cNvSpPr/>
          <p:nvPr/>
        </p:nvSpPr>
        <p:spPr>
          <a:xfrm>
            <a:off x="857160" y="1643040"/>
            <a:ext cx="777708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ыделение в своей культуре групп цен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 ОСНОВЕ СОПОСТАВЛ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 ЦЕННОСТЯМИ ДРУГИХ КУЛЬУ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14"/>
          <p:cNvSpPr/>
          <p:nvPr/>
        </p:nvSpPr>
        <p:spPr>
          <a:xfrm>
            <a:off x="1928880" y="4857840"/>
            <a:ext cx="5286240" cy="1785960"/>
          </a:xfrm>
          <a:prstGeom prst="roundRect">
            <a:avLst>
              <a:gd name="adj" fmla="val 16667"/>
            </a:avLst>
          </a:prstGeom>
          <a:solidFill>
            <a:srgbClr val="669900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осознание свое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e1"/>
                </a:solidFill>
                <a:latin typeface="Times New Roman"/>
              </a:rPr>
              <a:t>своего языка (культуры) и в то же время сходства и близости языков (культур</a:t>
            </a:r>
            <a:r>
              <a:rPr b="1" lang="ru-RU" sz="2400" spc="-1" strike="noStrike">
                <a:solidFill>
                  <a:srgbClr val="ffffe1"/>
                </a:solidFill>
                <a:latin typeface="SchoolBookC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Функции «диалога культур» в преподава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3"/>
          <p:cNvSpPr/>
          <p:nvPr/>
        </p:nvSpPr>
        <p:spPr>
          <a:xfrm>
            <a:off x="642960" y="3714840"/>
            <a:ext cx="771516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формирования умения жить и общаться в многонациональной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осознания учащимися многообразия духовного и материального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5"/>
          <p:cNvSpPr/>
          <p:nvPr/>
        </p:nvSpPr>
        <p:spPr>
          <a:xfrm>
            <a:off x="571680" y="257184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признания и понимания учащимися ценностей друг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571680" y="5857920"/>
            <a:ext cx="7929360" cy="5713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осознания уникальности родной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8"/>
          <p:cNvSpPr/>
          <p:nvPr/>
        </p:nvSpPr>
        <p:spPr>
          <a:xfrm>
            <a:off x="714240" y="4857840"/>
            <a:ext cx="7929720" cy="7142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редство познания национальной (иной)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071720" y="0"/>
            <a:ext cx="7173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«Картина мира» 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центральное понятие «диалога культур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Скругленный прямоугольник 3"/>
          <p:cNvSpPr/>
          <p:nvPr/>
        </p:nvSpPr>
        <p:spPr>
          <a:xfrm>
            <a:off x="785880" y="4857840"/>
            <a:ext cx="750096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уальная КАРТИНА МИРА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ЗЕРКАЛО реальной (объективной) картины 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уальная модель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Скругленный прямоугольник 5"/>
          <p:cNvSpPr/>
          <p:nvPr/>
        </p:nvSpPr>
        <p:spPr>
          <a:xfrm>
            <a:off x="642960" y="3071880"/>
            <a:ext cx="778680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МИР  - универс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ПОНЯТИЙ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трелка вниз 10"/>
          <p:cNvSpPr/>
          <p:nvPr/>
        </p:nvSpPr>
        <p:spPr>
          <a:xfrm>
            <a:off x="4071960" y="400068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Стрелка вниз 11"/>
          <p:cNvSpPr/>
          <p:nvPr/>
        </p:nvSpPr>
        <p:spPr>
          <a:xfrm>
            <a:off x="4071960" y="2357280"/>
            <a:ext cx="500040" cy="85752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6"/>
          <p:cNvSpPr/>
          <p:nvPr/>
        </p:nvSpPr>
        <p:spPr>
          <a:xfrm>
            <a:off x="1071720" y="0"/>
            <a:ext cx="717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«Картина мира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3"/>
          <p:cNvSpPr/>
          <p:nvPr/>
        </p:nvSpPr>
        <p:spPr>
          <a:xfrm>
            <a:off x="785880" y="4429080"/>
            <a:ext cx="7500960" cy="2071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АРТИНЫ МИРА, создаваемые и отражаемые национальными языками, существенно РАЗ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здается и отражается в национальн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Скругленный прямоугольник 5"/>
          <p:cNvSpPr/>
          <p:nvPr/>
        </p:nvSpPr>
        <p:spPr>
          <a:xfrm>
            <a:off x="571680" y="285768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уществует национальная специфика отражения объективной картины ми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10"/>
          <p:cNvSpPr/>
          <p:nvPr/>
        </p:nvSpPr>
        <p:spPr>
          <a:xfrm>
            <a:off x="4000680" y="3786120"/>
            <a:ext cx="500040" cy="642960"/>
          </a:xfrm>
          <a:prstGeom prst="downArrow">
            <a:avLst>
              <a:gd name="adj1" fmla="val 50000"/>
              <a:gd name="adj2" fmla="val 50004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1"/>
          <p:cNvSpPr/>
          <p:nvPr/>
        </p:nvSpPr>
        <p:spPr>
          <a:xfrm>
            <a:off x="4071960" y="2357280"/>
            <a:ext cx="428760" cy="50040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15"/>
          <p:cNvSpPr/>
          <p:nvPr/>
        </p:nvSpPr>
        <p:spPr>
          <a:xfrm>
            <a:off x="857160" y="1643040"/>
            <a:ext cx="3714840" cy="1214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Изменившиеся требования об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16"/>
          <p:cNvSpPr/>
          <p:nvPr/>
        </p:nvSpPr>
        <p:spPr>
          <a:xfrm>
            <a:off x="5072040" y="1714680"/>
            <a:ext cx="371484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нденции современной лингв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19"/>
          <p:cNvSpPr/>
          <p:nvPr/>
        </p:nvSpPr>
        <p:spPr>
          <a:xfrm>
            <a:off x="857160" y="3286080"/>
            <a:ext cx="3857760" cy="16430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язык как средство формирования  успешной, социально адаптированной, толерантной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20"/>
          <p:cNvSpPr/>
          <p:nvPr/>
        </p:nvSpPr>
        <p:spPr>
          <a:xfrm>
            <a:off x="4929120" y="335772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изучение языка через изучение его носителя – челов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трелка вниз 14"/>
          <p:cNvSpPr/>
          <p:nvPr/>
        </p:nvSpPr>
        <p:spPr>
          <a:xfrm>
            <a:off x="2500200" y="292896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трелка вниз 18"/>
          <p:cNvSpPr/>
          <p:nvPr/>
        </p:nvSpPr>
        <p:spPr>
          <a:xfrm>
            <a:off x="6715080" y="30002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3"/>
          <p:cNvSpPr/>
          <p:nvPr/>
        </p:nvSpPr>
        <p:spPr>
          <a:xfrm>
            <a:off x="857160" y="285840"/>
            <a:ext cx="77155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Причины  выделения культуроведческого аспе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в преподавании русского язы</a:t>
            </a: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24"/>
          <p:cNvSpPr/>
          <p:nvPr/>
        </p:nvSpPr>
        <p:spPr>
          <a:xfrm>
            <a:off x="857160" y="5214960"/>
            <a:ext cx="385776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Компетентностный подхо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культуроведческая компетенц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25"/>
          <p:cNvSpPr/>
          <p:nvPr/>
        </p:nvSpPr>
        <p:spPr>
          <a:xfrm>
            <a:off x="4786200" y="5214960"/>
            <a:ext cx="4071960" cy="14288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языковая личн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трелка вниз 26"/>
          <p:cNvSpPr/>
          <p:nvPr/>
        </p:nvSpPr>
        <p:spPr>
          <a:xfrm>
            <a:off x="257184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27"/>
          <p:cNvSpPr/>
          <p:nvPr/>
        </p:nvSpPr>
        <p:spPr>
          <a:xfrm>
            <a:off x="6715080" y="4929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ЯЗЫКОВЫЕ ФАКТЫ проя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национально-культурной специфи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3"/>
          <p:cNvSpPr/>
          <p:nvPr/>
        </p:nvSpPr>
        <p:spPr>
          <a:xfrm>
            <a:off x="571680" y="4000680"/>
            <a:ext cx="771516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разы животных и птиц, а также специфичные ассоциации их с характеро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4"/>
          <p:cNvSpPr/>
          <p:nvPr/>
        </p:nvSpPr>
        <p:spPr>
          <a:xfrm>
            <a:off x="714240" y="1500120"/>
            <a:ext cx="75726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звания предметов, явлений, собы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5"/>
          <p:cNvSpPr/>
          <p:nvPr/>
        </p:nvSpPr>
        <p:spPr>
          <a:xfrm>
            <a:off x="571680" y="2643120"/>
            <a:ext cx="7786440" cy="11430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рмины родства, время, цвет, части тела, степень размера, вы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8"/>
          <p:cNvSpPr/>
          <p:nvPr/>
        </p:nvSpPr>
        <p:spPr>
          <a:xfrm>
            <a:off x="642960" y="5357880"/>
            <a:ext cx="778680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ормы речевого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6"/>
          <p:cNvSpPr/>
          <p:nvPr/>
        </p:nvSpPr>
        <p:spPr>
          <a:xfrm>
            <a:off x="1071720" y="0"/>
            <a:ext cx="7173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Реализация 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в обучен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Скругленный прямоугольник 3"/>
          <p:cNvSpPr/>
          <p:nvPr/>
        </p:nvSpPr>
        <p:spPr>
          <a:xfrm>
            <a:off x="571680" y="4214880"/>
            <a:ext cx="771516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2 этап - осознание и постижение богатства и своеобразия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кругленный прямоугольник 4"/>
          <p:cNvSpPr/>
          <p:nvPr/>
        </p:nvSpPr>
        <p:spPr>
          <a:xfrm>
            <a:off x="714240" y="1500120"/>
            <a:ext cx="7572600" cy="1071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 этап - приобщение к языку 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еномену культуры и к русской куль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траженной в русск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кругленный прямоугольник 5"/>
          <p:cNvSpPr/>
          <p:nvPr/>
        </p:nvSpPr>
        <p:spPr>
          <a:xfrm>
            <a:off x="3857760" y="2643120"/>
            <a:ext cx="4500360" cy="1285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оздание контекста культу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обучении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ый прямоугольник 8"/>
          <p:cNvSpPr/>
          <p:nvPr/>
        </p:nvSpPr>
        <p:spPr>
          <a:xfrm>
            <a:off x="3714840" y="5357880"/>
            <a:ext cx="4714920" cy="1285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процессе диалога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6"/>
          <p:cNvSpPr/>
          <p:nvPr/>
        </p:nvSpPr>
        <p:spPr>
          <a:xfrm>
            <a:off x="1071720" y="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Список использованной литера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642960" y="1452960"/>
            <a:ext cx="8072280" cy="10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А. Диалог культур на уроках русского языка. – СПб.: Просвещение, 200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Культуроведческий аспект в преподавании русского языка в школе // Русская словесность. — 2001. — №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Культуроведческий аспект в преподавании русского языка в условиях ближнего зарубежья // Школа и мир культуры этносов. — Вып. 2.— М.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строва Е. А. Программа элективного курса «Русский язык и культура» для школ гуманитарного профиля // Мир русского слова. — № 4. —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лагаглиева Л.К., Саяхова Л.Г. Пособие для учителя. Русский язык в диалоге культур. - Уфа: Китап, 20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ллагалиева Л.K. Реалии русской культуры. Лингвокультурологический словарь / Под ред. Л.Г.Саяховой - Уфа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хова Л.Г. Методология и методическая система формирования лингвокультурологической компетенции тюркоязычных учащихся на уроках русского языка. - Уфа: РИЦ БашГУ, 20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яхова Л.Г. Русский язык в диалоге культур.- Москва: Научно-издательский центр,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184400" y="260280"/>
            <a:ext cx="71737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Лингвотеоретические основы разработ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642960" y="1643040"/>
            <a:ext cx="8072280" cy="61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1. Язык — форма и зеркало национальной культуры. Культура включена в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2. Язык — основная форма хранения знаний о культуре народа и средство познания этих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choolBookC"/>
              </a:rPr>
              <a:t>3. Картина мира воздействует на человека, формируя его языковое сознание, а вместе с ним и культуронациональное самосознание. «..язык участвует в формировании менталитета этноса, народа, нации» (В.Н. Те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184400" y="260280"/>
            <a:ext cx="717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Задачи реализ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культуроведческого аспек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42960" y="1643040"/>
            <a:ext cx="807228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636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3"/>
          <p:cNvSpPr/>
          <p:nvPr/>
        </p:nvSpPr>
        <p:spPr>
          <a:xfrm>
            <a:off x="642960" y="3714840"/>
            <a:ext cx="7715160" cy="5713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оспитание любви к на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714240" y="1714680"/>
            <a:ext cx="7572600" cy="6426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азвитие национального самос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5"/>
          <p:cNvSpPr/>
          <p:nvPr/>
        </p:nvSpPr>
        <p:spPr>
          <a:xfrm>
            <a:off x="571680" y="2571840"/>
            <a:ext cx="7786440" cy="9284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ормирование представлений о родной культуре как материальной и духовной ц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6"/>
          <p:cNvSpPr/>
          <p:nvPr/>
        </p:nvSpPr>
        <p:spPr>
          <a:xfrm>
            <a:off x="642960" y="4429080"/>
            <a:ext cx="771516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формирование русской языковой картины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7"/>
          <p:cNvSpPr/>
          <p:nvPr/>
        </p:nvSpPr>
        <p:spPr>
          <a:xfrm>
            <a:off x="571680" y="5572080"/>
            <a:ext cx="7929360" cy="8571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сознание особенностей родного языка, его своеобр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6"/>
          <p:cNvSpPr/>
          <p:nvPr/>
        </p:nvSpPr>
        <p:spPr>
          <a:xfrm>
            <a:off x="714240" y="26028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40000"/>
                </a:solidFill>
                <a:latin typeface="SchoolBookC"/>
              </a:rPr>
              <a:t>Требования к отбору и методической интерпретации                            культуроведческ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642960" y="1643040"/>
            <a:ext cx="80722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00"/>
                </a:solidFill>
                <a:latin typeface="Times New Roman"/>
              </a:rPr>
              <a:t>Раскрывает русскую языковую картину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000"/>
                </a:solidFill>
                <a:latin typeface="Times New Roman"/>
              </a:rPr>
              <a:t>Создает национально-культурный фон для познания самобытности русского язы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15"/>
          <p:cNvSpPr/>
          <p:nvPr/>
        </p:nvSpPr>
        <p:spPr>
          <a:xfrm>
            <a:off x="857160" y="1643040"/>
            <a:ext cx="7358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SchoolBookC"/>
              </a:rPr>
              <a:t>обучение русскому язык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19"/>
          <p:cNvSpPr/>
          <p:nvPr/>
        </p:nvSpPr>
        <p:spPr>
          <a:xfrm>
            <a:off x="785880" y="292896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текст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усской   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20"/>
          <p:cNvSpPr/>
          <p:nvPr/>
        </p:nvSpPr>
        <p:spPr>
          <a:xfrm>
            <a:off x="4929120" y="3000240"/>
            <a:ext cx="3929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тек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диалога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низ 14"/>
          <p:cNvSpPr/>
          <p:nvPr/>
        </p:nvSpPr>
        <p:spPr>
          <a:xfrm>
            <a:off x="257184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низ 18"/>
          <p:cNvSpPr/>
          <p:nvPr/>
        </p:nvSpPr>
        <p:spPr>
          <a:xfrm>
            <a:off x="66438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Два направления  в реализации культуроведческого аспек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24"/>
          <p:cNvSpPr/>
          <p:nvPr/>
        </p:nvSpPr>
        <p:spPr>
          <a:xfrm>
            <a:off x="857160" y="4286160"/>
            <a:ext cx="3714840" cy="2357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познание, постижение русской культуры, отраженной в язык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25"/>
          <p:cNvSpPr/>
          <p:nvPr/>
        </p:nvSpPr>
        <p:spPr>
          <a:xfrm>
            <a:off x="5000760" y="4286160"/>
            <a:ext cx="3857400" cy="235764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осознание самобытности, русского язы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на фоне сопоставл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200" spc="-1" strike="noStrike">
                <a:solidFill>
                  <a:srgbClr val="003300"/>
                </a:solidFill>
                <a:latin typeface="SchoolBookC"/>
              </a:rPr>
              <a:t>с другими культурами и язык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трелка вниз 26"/>
          <p:cNvSpPr/>
          <p:nvPr/>
        </p:nvSpPr>
        <p:spPr>
          <a:xfrm>
            <a:off x="2571840" y="400068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трелка вниз 27"/>
          <p:cNvSpPr/>
          <p:nvPr/>
        </p:nvSpPr>
        <p:spPr>
          <a:xfrm>
            <a:off x="6715080" y="3929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19"/>
          <p:cNvSpPr/>
          <p:nvPr/>
        </p:nvSpPr>
        <p:spPr>
          <a:xfrm>
            <a:off x="785880" y="1785960"/>
            <a:ext cx="785808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национально-маркированные единицы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20"/>
          <p:cNvSpPr/>
          <p:nvPr/>
        </p:nvSpPr>
        <p:spPr>
          <a:xfrm>
            <a:off x="785880" y="3000240"/>
            <a:ext cx="807228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ексты с национально-культурным компонен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3"/>
          <p:cNvSpPr/>
          <p:nvPr/>
        </p:nvSpPr>
        <p:spPr>
          <a:xfrm>
            <a:off x="857160" y="214200"/>
            <a:ext cx="7715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0033"/>
                </a:solidFill>
                <a:latin typeface="Times New Roman"/>
              </a:rPr>
              <a:t>I </a:t>
            </a: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направление.</a:t>
            </a:r>
            <a:br>
              <a:rPr sz="2600"/>
            </a:b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Материал для формирования </a:t>
            </a:r>
            <a:br>
              <a:rPr sz="2600"/>
            </a:br>
            <a:r>
              <a:rPr b="1" lang="ru-RU" sz="2600" spc="-1" strike="noStrike">
                <a:solidFill>
                  <a:srgbClr val="330033"/>
                </a:solidFill>
                <a:latin typeface="Times New Roman"/>
              </a:rPr>
              <a:t>контекста русской культу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24"/>
          <p:cNvSpPr/>
          <p:nvPr/>
        </p:nvSpPr>
        <p:spPr>
          <a:xfrm>
            <a:off x="785880" y="4286160"/>
            <a:ext cx="7929360" cy="7858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концепты духовной культуры русского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25"/>
          <p:cNvSpPr/>
          <p:nvPr/>
        </p:nvSpPr>
        <p:spPr>
          <a:xfrm>
            <a:off x="857160" y="5357880"/>
            <a:ext cx="80010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стереотипы речевого повед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ключая речевой этик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15"/>
          <p:cNvSpPr/>
          <p:nvPr/>
        </p:nvSpPr>
        <p:spPr>
          <a:xfrm>
            <a:off x="857160" y="1643040"/>
            <a:ext cx="792972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SchoolBookC"/>
              </a:rPr>
              <a:t>Содержание культурно-значимой информаци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9"/>
          <p:cNvSpPr/>
          <p:nvPr/>
        </p:nvSpPr>
        <p:spPr>
          <a:xfrm>
            <a:off x="785880" y="2928960"/>
            <a:ext cx="3857400" cy="100008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денотатив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спекте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20"/>
          <p:cNvSpPr/>
          <p:nvPr/>
        </p:nvSpPr>
        <p:spPr>
          <a:xfrm>
            <a:off x="4929120" y="3000240"/>
            <a:ext cx="3929040" cy="92880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в коннотатив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спекте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трелка вниз 14"/>
          <p:cNvSpPr/>
          <p:nvPr/>
        </p:nvSpPr>
        <p:spPr>
          <a:xfrm>
            <a:off x="2571840" y="25718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трелка вниз 18"/>
          <p:cNvSpPr/>
          <p:nvPr/>
        </p:nvSpPr>
        <p:spPr>
          <a:xfrm>
            <a:off x="6643800" y="264312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3"/>
          <p:cNvSpPr/>
          <p:nvPr/>
        </p:nvSpPr>
        <p:spPr>
          <a:xfrm>
            <a:off x="857160" y="28584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Национально-маркированны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 язы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24"/>
          <p:cNvSpPr/>
          <p:nvPr/>
        </p:nvSpPr>
        <p:spPr>
          <a:xfrm>
            <a:off x="857160" y="4286160"/>
            <a:ext cx="371484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реалии б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ыч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5"/>
          <p:cNvSpPr/>
          <p:nvPr/>
        </p:nvSpPr>
        <p:spPr>
          <a:xfrm>
            <a:off x="5000760" y="4286160"/>
            <a:ext cx="3857400" cy="15717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образы-этал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низ 26"/>
          <p:cNvSpPr/>
          <p:nvPr/>
        </p:nvSpPr>
        <p:spPr>
          <a:xfrm>
            <a:off x="2571840" y="4000680"/>
            <a:ext cx="214200" cy="28548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низ 27"/>
          <p:cNvSpPr/>
          <p:nvPr/>
        </p:nvSpPr>
        <p:spPr>
          <a:xfrm>
            <a:off x="6715080" y="3929040"/>
            <a:ext cx="214200" cy="2858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5"/>
          <p:cNvSpPr/>
          <p:nvPr/>
        </p:nvSpPr>
        <p:spPr>
          <a:xfrm>
            <a:off x="571680" y="4005360"/>
            <a:ext cx="2339640" cy="2138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15"/>
          <p:cNvSpPr/>
          <p:nvPr/>
        </p:nvSpPr>
        <p:spPr>
          <a:xfrm>
            <a:off x="857160" y="1643040"/>
            <a:ext cx="7786800" cy="47149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1.Названия архитектурных сооружений и их частей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кремль, терем, хоромы, палата, светлица, изб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2. Наименования крестьянской утвари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печь, сундук, икона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3. Названия транспортных средств и средств передвижения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тройка, сани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4. Наименования продуктов питания  и традиционных русских блюд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сбитень, расстегай, щи, водка, чай, блины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5. Названия сословий и чинов (</a:t>
            </a:r>
            <a:r>
              <a:rPr b="1" i="1" lang="ru-RU" sz="2400" spc="-1" strike="noStrike">
                <a:solidFill>
                  <a:srgbClr val="003300"/>
                </a:solidFill>
                <a:latin typeface="SchoolBookC"/>
              </a:rPr>
              <a:t>боярин, стрелец, казак, князь, стольник</a:t>
            </a: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SchoolBook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57160" y="2858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Единицы, содержащие культурно-значимую информацию в денотативн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 </a:t>
            </a:r>
            <a:r>
              <a:rPr b="1" lang="ru-RU" sz="2600" spc="-1" strike="noStrike">
                <a:solidFill>
                  <a:srgbClr val="740000"/>
                </a:solidFill>
                <a:latin typeface="SchoolBookC"/>
              </a:rPr>
              <a:t>аспекте значе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9:36:56Z</dcterms:created>
  <dc:creator>Shpak</dc:creator>
  <dc:description/>
  <dc:language>en-US</dc:language>
  <cp:lastModifiedBy>Microsoft</cp:lastModifiedBy>
  <dcterms:modified xsi:type="dcterms:W3CDTF">2017-01-06T20:25:18Z</dcterms:modified>
  <cp:revision>871</cp:revision>
  <dc:subject/>
  <dc:title>Слайд 1</dc:title>
</cp:coreProperties>
</file>