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30C64-E782-4085-A7CE-FEDB45104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3B44A-2F9A-4551-BE35-735CDE60C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BD6AA-F8E3-4CA7-8514-D8AE01900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10A81-ACAA-4F52-A05B-9A8047A22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ACE83-88ED-4026-B5CF-152CB59FA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52C54-2D0E-4A05-B0F6-B0BC8ACF1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4675E-A552-49F0-927B-061A494E6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7448C-4BEF-45E9-9754-38FE7807F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2F31E-491E-4563-9EBD-2A1653FF1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4D734-0754-47A9-8ABF-CD25468E8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72172-C030-409C-915E-C84981ACC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9E546-A509-496D-8ED9-ADAAC7DD6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EB23A-E99F-47CC-9CE6-17435AB4B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5F315-A4B3-4CF8-9C11-2215D4693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98F6A-D21D-421F-8D91-10D740216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39A7B-4E22-4AD8-9B3B-6B2E4F67F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6C754-C159-41C1-9D56-60FB7527E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335A9-32D7-42BF-8A79-EC047558E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41002-51B6-488E-B36D-0002F516B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BDEF3-52A9-4D5B-89DF-58E91D7A4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B5DEB-2195-4E8D-A957-4C47A4415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FE606-1F8B-4063-AEDC-AABCB0996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09C96-F0AC-4CF8-B211-6455C626F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E1731-3732-4D11-864C-FE662A101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669900"/>
            </a:solidFill>
            <a:ln w="57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669900"/>
              </a:solidFill>
              <a:ln w="57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57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1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BF094-F257-4231-AAC8-3D5D9D39D7E1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0f5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" name="Picture 21" descr="з"/>
          <p:cNvPicPr/>
          <p:nvPr/>
        </p:nvPicPr>
        <p:blipFill>
          <a:blip r:embed="rId2"/>
          <a:stretch/>
        </p:blipFill>
        <p:spPr>
          <a:xfrm>
            <a:off x="0" y="5033880"/>
            <a:ext cx="9144000" cy="182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1377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1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5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1377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57" name="Picture 16" descr="книги"/>
          <p:cNvPicPr/>
          <p:nvPr/>
        </p:nvPicPr>
        <p:blipFill>
          <a:blip r:embed="rId2"/>
          <a:stretch/>
        </p:blipFill>
        <p:spPr>
          <a:xfrm>
            <a:off x="0" y="5300640"/>
            <a:ext cx="9144000" cy="155736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1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0F1E1-B4AF-4581-A775-0AD2B904417D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ультуроведческий аспек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 преподавани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русского язык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 школ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Oval 5"/>
          <p:cNvSpPr/>
          <p:nvPr/>
        </p:nvSpPr>
        <p:spPr>
          <a:xfrm>
            <a:off x="571680" y="4005360"/>
            <a:ext cx="2339640" cy="2138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Скругленный прямоугольник 15"/>
          <p:cNvSpPr/>
          <p:nvPr/>
        </p:nvSpPr>
        <p:spPr>
          <a:xfrm>
            <a:off x="571680" y="1643040"/>
            <a:ext cx="8072280" cy="492912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SchoolBookC"/>
              </a:rPr>
              <a:t>6. Названия музыкальных инструментов (</a:t>
            </a:r>
            <a:r>
              <a:rPr b="1" i="1" lang="ru-RU" sz="2400" spc="-1" strike="noStrike">
                <a:solidFill>
                  <a:srgbClr val="003300"/>
                </a:solidFill>
                <a:latin typeface="SchoolBookC"/>
              </a:rPr>
              <a:t>гусли, балалайка</a:t>
            </a:r>
            <a:r>
              <a:rPr b="1" lang="ru-RU" sz="2400" spc="-1" strike="noStrike">
                <a:solidFill>
                  <a:srgbClr val="003300"/>
                </a:solidFill>
                <a:latin typeface="SchoolBookC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SchoolBookC"/>
              </a:rPr>
              <a:t>7. Названия музыкальных форм, исполнителей и танцев (</a:t>
            </a:r>
            <a:r>
              <a:rPr b="1" i="1" lang="ru-RU" sz="2400" spc="-1" strike="noStrike">
                <a:solidFill>
                  <a:srgbClr val="003300"/>
                </a:solidFill>
                <a:latin typeface="SchoolBookC"/>
              </a:rPr>
              <a:t>частушка, запевала, хоровод, пес</a:t>
            </a:r>
            <a:r>
              <a:rPr b="1" lang="ru-RU" sz="2400" spc="-1" strike="noStrike">
                <a:solidFill>
                  <a:srgbClr val="003300"/>
                </a:solidFill>
                <a:latin typeface="SchoolBookC"/>
              </a:rPr>
              <a:t>енник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SchoolBookC"/>
              </a:rPr>
              <a:t>8. Жанры устного народного творчества (</a:t>
            </a:r>
            <a:r>
              <a:rPr b="1" i="1" lang="ru-RU" sz="2400" spc="-1" strike="noStrike">
                <a:solidFill>
                  <a:srgbClr val="003300"/>
                </a:solidFill>
                <a:latin typeface="SchoolBookC"/>
              </a:rPr>
              <a:t>загадка, сказка, пословица, поговорка</a:t>
            </a:r>
            <a:r>
              <a:rPr b="1" lang="ru-RU" sz="2400" spc="-1" strike="noStrike">
                <a:solidFill>
                  <a:srgbClr val="003300"/>
                </a:solidFill>
                <a:latin typeface="SchoolBookC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SchoolBookC"/>
              </a:rPr>
              <a:t>9. Слова из фольклора (</a:t>
            </a:r>
            <a:r>
              <a:rPr b="1" i="1" lang="ru-RU" sz="2400" spc="-1" strike="noStrike">
                <a:solidFill>
                  <a:srgbClr val="003300"/>
                </a:solidFill>
                <a:latin typeface="SchoolBookC"/>
              </a:rPr>
              <a:t>витязь, травушка-муравушка, красна девица. младешенька</a:t>
            </a:r>
            <a:r>
              <a:rPr b="1" lang="ru-RU" sz="2400" spc="-1" strike="noStrike">
                <a:solidFill>
                  <a:srgbClr val="003300"/>
                </a:solidFill>
                <a:latin typeface="SchoolBookC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SchoolBookC"/>
              </a:rPr>
              <a:t>10 Параметрическая лексика (</a:t>
            </a:r>
            <a:r>
              <a:rPr b="1" i="1" lang="ru-RU" sz="2400" spc="-1" strike="noStrike">
                <a:solidFill>
                  <a:srgbClr val="003300"/>
                </a:solidFill>
                <a:latin typeface="SchoolBookC"/>
              </a:rPr>
              <a:t>вершок, пядь, сажень, аршин, верста, фунт, пуд, золотник</a:t>
            </a:r>
            <a:r>
              <a:rPr b="1" lang="ru-RU" sz="2400" spc="-1" strike="noStrike">
                <a:solidFill>
                  <a:srgbClr val="003300"/>
                </a:solidFill>
                <a:latin typeface="SchoolBookC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SchoolBookC"/>
              </a:rPr>
              <a:t>12. Праздники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lang="ru-RU" sz="2400" spc="-1" strike="noStrike">
                <a:solidFill>
                  <a:srgbClr val="003300"/>
                </a:solidFill>
                <a:latin typeface="SchoolBookC"/>
              </a:rPr>
              <a:t>и связанные с ними обычаи и обряды (</a:t>
            </a:r>
            <a:r>
              <a:rPr b="1" i="1" lang="ru-RU" sz="2400" spc="-1" strike="noStrike">
                <a:solidFill>
                  <a:srgbClr val="003300"/>
                </a:solidFill>
                <a:latin typeface="SchoolBookC"/>
              </a:rPr>
              <a:t>Рождество, Крещение, Масленица, Прощеное воскресение</a:t>
            </a:r>
            <a:r>
              <a:rPr b="1" lang="ru-RU" sz="2400" spc="-1" strike="noStrike">
                <a:solidFill>
                  <a:srgbClr val="003300"/>
                </a:solidFill>
                <a:latin typeface="SchoolBookC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оугольник 23"/>
          <p:cNvSpPr/>
          <p:nvPr/>
        </p:nvSpPr>
        <p:spPr>
          <a:xfrm>
            <a:off x="857160" y="285840"/>
            <a:ext cx="771552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740000"/>
                </a:solidFill>
                <a:latin typeface="SchoolBookC"/>
              </a:rPr>
              <a:t>Единицы, содержащие культурно-значимую информациюв денотативном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740000"/>
                </a:solidFill>
                <a:latin typeface="SchoolBookC"/>
              </a:rPr>
              <a:t> </a:t>
            </a:r>
            <a:r>
              <a:rPr b="1" lang="ru-RU" sz="2600" spc="-1" strike="noStrike">
                <a:solidFill>
                  <a:srgbClr val="740000"/>
                </a:solidFill>
                <a:latin typeface="SchoolBookC"/>
              </a:rPr>
              <a:t>аспекте значения  (продолжение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Oval 5"/>
          <p:cNvSpPr/>
          <p:nvPr/>
        </p:nvSpPr>
        <p:spPr>
          <a:xfrm>
            <a:off x="571680" y="4005360"/>
            <a:ext cx="2339640" cy="2138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Скругленный прямоугольник 15"/>
          <p:cNvSpPr/>
          <p:nvPr/>
        </p:nvSpPr>
        <p:spPr>
          <a:xfrm>
            <a:off x="857160" y="2571840"/>
            <a:ext cx="3500640" cy="71424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SchoolBookC"/>
              </a:rPr>
              <a:t>по содержани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оугольник 23"/>
          <p:cNvSpPr/>
          <p:nvPr/>
        </p:nvSpPr>
        <p:spPr>
          <a:xfrm>
            <a:off x="857160" y="285840"/>
            <a:ext cx="77155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740000"/>
                </a:solidFill>
                <a:latin typeface="SchoolBookC"/>
              </a:rPr>
              <a:t>Тексты с национально-культурным компонентом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Скругленный прямоугольник 4"/>
          <p:cNvSpPr/>
          <p:nvPr/>
        </p:nvSpPr>
        <p:spPr>
          <a:xfrm>
            <a:off x="785880" y="1500120"/>
            <a:ext cx="7786800" cy="85716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SchoolBookC"/>
              </a:rPr>
              <a:t>Отбор текст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SchoolBookC"/>
              </a:rPr>
              <a:t>с национально-культурным компонент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Скругленный прямоугольник 5"/>
          <p:cNvSpPr/>
          <p:nvPr/>
        </p:nvSpPr>
        <p:spPr>
          <a:xfrm>
            <a:off x="4857840" y="2571840"/>
            <a:ext cx="3500280" cy="71424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SchoolBookC"/>
              </a:rPr>
              <a:t>по форм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Скругленный прямоугольник 8"/>
          <p:cNvSpPr/>
          <p:nvPr/>
        </p:nvSpPr>
        <p:spPr>
          <a:xfrm>
            <a:off x="857160" y="3500280"/>
            <a:ext cx="3571920" cy="142884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indent="450720">
              <a:lnSpc>
                <a:spcPct val="100000"/>
              </a:lnSpc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SchoolBookC"/>
              </a:rPr>
              <a:t>традици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50720">
              <a:lnSpc>
                <a:spcPct val="100000"/>
              </a:lnSpc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SchoolBookC"/>
              </a:rPr>
              <a:t> </a:t>
            </a:r>
            <a:r>
              <a:rPr b="1" lang="ru-RU" sz="2000" spc="-1" strike="noStrike">
                <a:solidFill>
                  <a:srgbClr val="003300"/>
                </a:solidFill>
                <a:latin typeface="SchoolBookC"/>
              </a:rPr>
              <a:t>обыча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50720">
              <a:lnSpc>
                <a:spcPct val="100000"/>
              </a:lnSpc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SchoolBookC"/>
              </a:rPr>
              <a:t>быт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50720">
              <a:lnSpc>
                <a:spcPct val="100000"/>
              </a:lnSpc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SchoolBookC"/>
              </a:rPr>
              <a:t> </a:t>
            </a:r>
            <a:r>
              <a:rPr b="1" lang="ru-RU" sz="2000" spc="-1" strike="noStrike">
                <a:solidFill>
                  <a:srgbClr val="003300"/>
                </a:solidFill>
                <a:latin typeface="SchoolBookC"/>
              </a:rPr>
              <a:t>религ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Скругленный прямоугольник 9"/>
          <p:cNvSpPr/>
          <p:nvPr/>
        </p:nvSpPr>
        <p:spPr>
          <a:xfrm>
            <a:off x="4714920" y="3500280"/>
            <a:ext cx="4214880" cy="307188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indent="363600">
              <a:lnSpc>
                <a:spcPct val="100000"/>
              </a:lnSpc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SchoolBookC"/>
              </a:rPr>
              <a:t>произведения художественной литературы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363600">
              <a:lnSpc>
                <a:spcPct val="100000"/>
              </a:lnSpc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SchoolBookC"/>
              </a:rPr>
              <a:t>мифы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363600">
              <a:lnSpc>
                <a:spcPct val="100000"/>
              </a:lnSpc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SchoolBookC"/>
              </a:rPr>
              <a:t>предания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363600">
              <a:lnSpc>
                <a:spcPct val="100000"/>
              </a:lnSpc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SchoolBookC"/>
              </a:rPr>
              <a:t>публицистические произведения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363600">
              <a:lnSpc>
                <a:spcPct val="100000"/>
              </a:lnSpc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SchoolBookC"/>
              </a:rPr>
              <a:t>произведения фольклор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363600">
              <a:lnSpc>
                <a:spcPct val="100000"/>
              </a:lnSpc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SchoolBookC"/>
              </a:rPr>
              <a:t>прецедентные высказы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363600">
              <a:lnSpc>
                <a:spcPct val="100000"/>
              </a:lnSpc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Скругленный прямоугольник 10"/>
          <p:cNvSpPr/>
          <p:nvPr/>
        </p:nvSpPr>
        <p:spPr>
          <a:xfrm>
            <a:off x="500040" y="5214960"/>
            <a:ext cx="4000680" cy="135720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3300"/>
                </a:solidFill>
                <a:latin typeface="SchoolBookC"/>
              </a:rPr>
              <a:t>цель - отражение национально-культурного фона России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Стрелка вниз 11"/>
          <p:cNvSpPr/>
          <p:nvPr/>
        </p:nvSpPr>
        <p:spPr>
          <a:xfrm>
            <a:off x="2571840" y="2357280"/>
            <a:ext cx="214200" cy="285840"/>
          </a:xfrm>
          <a:prstGeom prst="downArrow">
            <a:avLst>
              <a:gd name="adj1" fmla="val 50000"/>
              <a:gd name="adj2" fmla="val 50042"/>
            </a:avLst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Стрелка вниз 12"/>
          <p:cNvSpPr/>
          <p:nvPr/>
        </p:nvSpPr>
        <p:spPr>
          <a:xfrm>
            <a:off x="2571840" y="3214800"/>
            <a:ext cx="214200" cy="285480"/>
          </a:xfrm>
          <a:prstGeom prst="downArrow">
            <a:avLst>
              <a:gd name="adj1" fmla="val 50000"/>
              <a:gd name="adj2" fmla="val 49979"/>
            </a:avLst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Стрелка вниз 13"/>
          <p:cNvSpPr/>
          <p:nvPr/>
        </p:nvSpPr>
        <p:spPr>
          <a:xfrm>
            <a:off x="6500880" y="3214800"/>
            <a:ext cx="214200" cy="285480"/>
          </a:xfrm>
          <a:prstGeom prst="downArrow">
            <a:avLst>
              <a:gd name="adj1" fmla="val 50000"/>
              <a:gd name="adj2" fmla="val 49979"/>
            </a:avLst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Стрелка вниз 14"/>
          <p:cNvSpPr/>
          <p:nvPr/>
        </p:nvSpPr>
        <p:spPr>
          <a:xfrm>
            <a:off x="6500880" y="2357280"/>
            <a:ext cx="214200" cy="285840"/>
          </a:xfrm>
          <a:prstGeom prst="downArrow">
            <a:avLst>
              <a:gd name="adj1" fmla="val 50000"/>
              <a:gd name="adj2" fmla="val 50042"/>
            </a:avLst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Стрелка вниз 16"/>
          <p:cNvSpPr/>
          <p:nvPr/>
        </p:nvSpPr>
        <p:spPr>
          <a:xfrm>
            <a:off x="2428920" y="4929120"/>
            <a:ext cx="214200" cy="285840"/>
          </a:xfrm>
          <a:prstGeom prst="downArrow">
            <a:avLst>
              <a:gd name="adj1" fmla="val 50000"/>
              <a:gd name="adj2" fmla="val 50042"/>
            </a:avLst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57160" y="-360"/>
            <a:ext cx="7715520" cy="14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33"/>
                </a:solidFill>
                <a:latin typeface="Times New Roman"/>
              </a:rPr>
              <a:t>II </a:t>
            </a:r>
            <a:r>
              <a:rPr b="1" lang="ru-RU" sz="2800" spc="-1" strike="noStrike">
                <a:solidFill>
                  <a:srgbClr val="330033"/>
                </a:solidFill>
                <a:latin typeface="Times New Roman"/>
              </a:rPr>
              <a:t>направление</a:t>
            </a:r>
            <a:r>
              <a:rPr b="1" lang="en-US" sz="2800" spc="-1" strike="noStrike">
                <a:solidFill>
                  <a:srgbClr val="330033"/>
                </a:solidFill>
                <a:latin typeface="Times New Roman"/>
              </a:rPr>
              <a:t> </a:t>
            </a:r>
            <a:br>
              <a:rPr sz="2800"/>
            </a:br>
            <a:r>
              <a:rPr b="1" lang="ru-RU" sz="2800" spc="-1" strike="noStrike">
                <a:solidFill>
                  <a:srgbClr val="330033"/>
                </a:solidFill>
                <a:latin typeface="Times New Roman"/>
              </a:rPr>
              <a:t>культуроведческого аспекта</a:t>
            </a:r>
            <a:br>
              <a:rPr sz="2800"/>
            </a:br>
            <a:endParaRPr b="1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99680" y="1671120"/>
            <a:ext cx="8286840" cy="48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454526"/>
                </a:solidFill>
                <a:latin typeface="Times New Roman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Скругленный прямоугольник 16"/>
          <p:cNvSpPr/>
          <p:nvPr/>
        </p:nvSpPr>
        <p:spPr>
          <a:xfrm>
            <a:off x="714240" y="2928960"/>
            <a:ext cx="7858440" cy="64296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SchoolBookC"/>
              </a:rPr>
              <a:t>познание русской культу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Скругленный прямоугольник 18"/>
          <p:cNvSpPr/>
          <p:nvPr/>
        </p:nvSpPr>
        <p:spPr>
          <a:xfrm>
            <a:off x="866880" y="1714680"/>
            <a:ext cx="7777080" cy="100008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SchoolBookC"/>
              </a:rPr>
              <a:t>задача -</a:t>
            </a:r>
            <a:r>
              <a:rPr b="0" lang="ru-RU" sz="2000" spc="-1" strike="noStrike">
                <a:solidFill>
                  <a:srgbClr val="ffffe1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3300"/>
                </a:solidFill>
                <a:latin typeface="SchoolBookC"/>
              </a:rPr>
              <a:t>формирование представле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SchoolBookC"/>
              </a:rPr>
              <a:t>о своеобразии, самобытности и уникальност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SchoolBookC"/>
              </a:rPr>
              <a:t>русского и родного (иностранного) язык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Скругленный прямоугольник 19"/>
          <p:cNvSpPr/>
          <p:nvPr/>
        </p:nvSpPr>
        <p:spPr>
          <a:xfrm>
            <a:off x="714240" y="3857760"/>
            <a:ext cx="3929040" cy="121428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SchoolBookC"/>
              </a:rPr>
              <a:t>в диалог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SchoolBookC"/>
              </a:rPr>
              <a:t> </a:t>
            </a:r>
            <a:r>
              <a:rPr b="1" lang="ru-RU" sz="2000" spc="-1" strike="noStrike">
                <a:solidFill>
                  <a:srgbClr val="003300"/>
                </a:solidFill>
                <a:latin typeface="SchoolBookC"/>
              </a:rPr>
              <a:t>с культурой других народ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Скругленный прямоугольник 20"/>
          <p:cNvSpPr/>
          <p:nvPr/>
        </p:nvSpPr>
        <p:spPr>
          <a:xfrm>
            <a:off x="4857840" y="3857760"/>
            <a:ext cx="3929040" cy="121428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SchoolBookC"/>
              </a:rPr>
              <a:t>во взаимодейств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SchoolBookC"/>
              </a:rPr>
              <a:t>с культурой других народ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Стрелка вниз 21"/>
          <p:cNvSpPr/>
          <p:nvPr/>
        </p:nvSpPr>
        <p:spPr>
          <a:xfrm>
            <a:off x="4572000" y="2643120"/>
            <a:ext cx="214200" cy="285840"/>
          </a:xfrm>
          <a:prstGeom prst="downArrow">
            <a:avLst>
              <a:gd name="adj1" fmla="val 50000"/>
              <a:gd name="adj2" fmla="val 50042"/>
            </a:avLst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Стрелка вниз 25"/>
          <p:cNvSpPr/>
          <p:nvPr/>
        </p:nvSpPr>
        <p:spPr>
          <a:xfrm>
            <a:off x="2500200" y="3571920"/>
            <a:ext cx="214560" cy="285840"/>
          </a:xfrm>
          <a:prstGeom prst="downArrow">
            <a:avLst>
              <a:gd name="adj1" fmla="val 50000"/>
              <a:gd name="adj2" fmla="val 49958"/>
            </a:avLst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Стрелка вниз 26"/>
          <p:cNvSpPr/>
          <p:nvPr/>
        </p:nvSpPr>
        <p:spPr>
          <a:xfrm>
            <a:off x="6643800" y="3571920"/>
            <a:ext cx="214200" cy="285840"/>
          </a:xfrm>
          <a:prstGeom prst="downArrow">
            <a:avLst>
              <a:gd name="adj1" fmla="val 50000"/>
              <a:gd name="adj2" fmla="val 50042"/>
            </a:avLst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57160" y="-360"/>
            <a:ext cx="7715520" cy="14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0033"/>
                </a:solidFill>
                <a:latin typeface="Times New Roman"/>
              </a:rPr>
              <a:t>Диалог культур</a:t>
            </a:r>
            <a:endParaRPr b="1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99680" y="1671120"/>
            <a:ext cx="8286840" cy="48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454526"/>
                </a:solidFill>
                <a:latin typeface="Times New Roman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Скругленный прямоугольник 16"/>
          <p:cNvSpPr/>
          <p:nvPr/>
        </p:nvSpPr>
        <p:spPr>
          <a:xfrm>
            <a:off x="714240" y="3071880"/>
            <a:ext cx="7858440" cy="64296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SchoolBookC"/>
              </a:rPr>
              <a:t>каждая культу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Скругленный прямоугольник 18"/>
          <p:cNvSpPr/>
          <p:nvPr/>
        </p:nvSpPr>
        <p:spPr>
          <a:xfrm>
            <a:off x="857160" y="1643040"/>
            <a:ext cx="7777080" cy="114300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SchoolBookC"/>
              </a:rPr>
              <a:t>моделируемая встреча культур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SchoolBookC"/>
              </a:rPr>
              <a:t>в процессе изучения язы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SchoolBookC"/>
              </a:rPr>
              <a:t> </a:t>
            </a:r>
            <a:r>
              <a:rPr b="1" lang="ru-RU" sz="2400" spc="-1" strike="noStrike">
                <a:solidFill>
                  <a:srgbClr val="003300"/>
                </a:solidFill>
                <a:latin typeface="SchoolBookC"/>
              </a:rPr>
              <a:t>в одном временном срез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Скругленный прямоугольник 19"/>
          <p:cNvSpPr/>
          <p:nvPr/>
        </p:nvSpPr>
        <p:spPr>
          <a:xfrm>
            <a:off x="714240" y="3857760"/>
            <a:ext cx="3929040" cy="221436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SchoolBookC"/>
              </a:rPr>
              <a:t>раскрыва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SchoolBookC"/>
              </a:rPr>
              <a:t> </a:t>
            </a:r>
            <a:r>
              <a:rPr b="1" lang="ru-RU" sz="2000" spc="-1" strike="noStrike">
                <a:solidFill>
                  <a:srgbClr val="003300"/>
                </a:solidFill>
                <a:latin typeface="SchoolBookC"/>
              </a:rPr>
              <a:t>общее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SchoolBookC"/>
              </a:rPr>
              <a:t>что объединяет культуры разных народ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Скругленный прямоугольник 20"/>
          <p:cNvSpPr/>
          <p:nvPr/>
        </p:nvSpPr>
        <p:spPr>
          <a:xfrm>
            <a:off x="4857840" y="3857760"/>
            <a:ext cx="3929040" cy="221436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SchoolBookC"/>
              </a:rPr>
              <a:t>открывае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SchoolBookC"/>
              </a:rPr>
              <a:t>сво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SchoolBookC"/>
              </a:rPr>
              <a:t>новые сторо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Стрелка вниз 21"/>
          <p:cNvSpPr/>
          <p:nvPr/>
        </p:nvSpPr>
        <p:spPr>
          <a:xfrm>
            <a:off x="4572000" y="2786040"/>
            <a:ext cx="214200" cy="285840"/>
          </a:xfrm>
          <a:prstGeom prst="downArrow">
            <a:avLst>
              <a:gd name="adj1" fmla="val 50000"/>
              <a:gd name="adj2" fmla="val 50042"/>
            </a:avLst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Стрелка вниз 25"/>
          <p:cNvSpPr/>
          <p:nvPr/>
        </p:nvSpPr>
        <p:spPr>
          <a:xfrm>
            <a:off x="2500200" y="3571920"/>
            <a:ext cx="214560" cy="285840"/>
          </a:xfrm>
          <a:prstGeom prst="downArrow">
            <a:avLst>
              <a:gd name="adj1" fmla="val 50000"/>
              <a:gd name="adj2" fmla="val 49958"/>
            </a:avLst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Стрелка вниз 26"/>
          <p:cNvSpPr/>
          <p:nvPr/>
        </p:nvSpPr>
        <p:spPr>
          <a:xfrm>
            <a:off x="6643800" y="3571920"/>
            <a:ext cx="214200" cy="285840"/>
          </a:xfrm>
          <a:prstGeom prst="downArrow">
            <a:avLst>
              <a:gd name="adj1" fmla="val 50000"/>
              <a:gd name="adj2" fmla="val 50042"/>
            </a:avLst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57160" y="-360"/>
            <a:ext cx="7715520" cy="14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0033"/>
                </a:solidFill>
                <a:latin typeface="Times New Roman"/>
              </a:rPr>
              <a:t>Цель диалога культур</a:t>
            </a:r>
            <a:endParaRPr b="1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99680" y="1671120"/>
            <a:ext cx="8286840" cy="48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454526"/>
                </a:solidFill>
                <a:latin typeface="Times New Roman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Скругленный прямоугольник 18"/>
          <p:cNvSpPr/>
          <p:nvPr/>
        </p:nvSpPr>
        <p:spPr>
          <a:xfrm>
            <a:off x="2071800" y="1643040"/>
            <a:ext cx="5000400" cy="335772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SchoolBookC"/>
              </a:rPr>
              <a:t>определ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SchoolBookC"/>
              </a:rPr>
              <a:t> </a:t>
            </a:r>
            <a:r>
              <a:rPr b="1" lang="ru-RU" sz="2800" spc="-1" strike="noStrike">
                <a:solidFill>
                  <a:srgbClr val="003300"/>
                </a:solidFill>
                <a:latin typeface="SchoolBookC"/>
              </a:rPr>
              <a:t>своеобраз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SchoolBookC"/>
              </a:rPr>
              <a:t> </a:t>
            </a:r>
            <a:r>
              <a:rPr b="1" lang="ru-RU" sz="2800" spc="-1" strike="noStrike">
                <a:solidFill>
                  <a:srgbClr val="003300"/>
                </a:solidFill>
                <a:latin typeface="SchoolBookC"/>
              </a:rPr>
              <a:t>каждой из культур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SchoolBookC"/>
              </a:rPr>
              <a:t>путем сопоставлени</a:t>
            </a:r>
            <a:r>
              <a:rPr b="1" lang="ru-RU" sz="2400" spc="-1" strike="noStrike">
                <a:solidFill>
                  <a:srgbClr val="003300"/>
                </a:solidFill>
                <a:latin typeface="SchoolBookC"/>
              </a:rPr>
              <a:t>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57160" y="-360"/>
            <a:ext cx="7715520" cy="14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40000"/>
                </a:solidFill>
                <a:latin typeface="SchoolBookC"/>
              </a:rPr>
              <a:t>Что такое культура?</a:t>
            </a:r>
            <a:endParaRPr b="1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99680" y="1671120"/>
            <a:ext cx="8286840" cy="48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454526"/>
                </a:solidFill>
                <a:latin typeface="Times New Roman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Скругленный прямоугольник 16"/>
          <p:cNvSpPr/>
          <p:nvPr/>
        </p:nvSpPr>
        <p:spPr>
          <a:xfrm>
            <a:off x="714240" y="3071880"/>
            <a:ext cx="7858440" cy="64296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SchoolBookC"/>
              </a:rPr>
              <a:t>ЦЕН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Скругленный прямоугольник 19"/>
          <p:cNvSpPr/>
          <p:nvPr/>
        </p:nvSpPr>
        <p:spPr>
          <a:xfrm>
            <a:off x="714240" y="3857760"/>
            <a:ext cx="3929040" cy="157140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SchoolBookC"/>
              </a:rPr>
              <a:t>ОЩЕЧЕЛОВЕЧЕСКИ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SchoolBookC"/>
              </a:rPr>
              <a:t>присущие всем народа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Скругленный прямоугольник 20"/>
          <p:cNvSpPr/>
          <p:nvPr/>
        </p:nvSpPr>
        <p:spPr>
          <a:xfrm>
            <a:off x="4857840" y="3857760"/>
            <a:ext cx="3929040" cy="150012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SchoolBookC"/>
              </a:rPr>
              <a:t>УНИКАЛЬНЫЕ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SchoolBookC"/>
              </a:rPr>
              <a:t>присущие одному народ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SchoolBookC"/>
              </a:rPr>
              <a:t> </a:t>
            </a:r>
            <a:r>
              <a:rPr b="1" lang="ru-RU" sz="2000" spc="-1" strike="noStrike">
                <a:solidFill>
                  <a:srgbClr val="003300"/>
                </a:solidFill>
                <a:latin typeface="SchoolBookC"/>
              </a:rPr>
              <a:t>или  группе народ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Стрелка вниз 21"/>
          <p:cNvSpPr/>
          <p:nvPr/>
        </p:nvSpPr>
        <p:spPr>
          <a:xfrm>
            <a:off x="4572000" y="2786040"/>
            <a:ext cx="214200" cy="285840"/>
          </a:xfrm>
          <a:prstGeom prst="downArrow">
            <a:avLst>
              <a:gd name="adj1" fmla="val 50000"/>
              <a:gd name="adj2" fmla="val 50042"/>
            </a:avLst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Стрелка вниз 25"/>
          <p:cNvSpPr/>
          <p:nvPr/>
        </p:nvSpPr>
        <p:spPr>
          <a:xfrm>
            <a:off x="2500200" y="3571920"/>
            <a:ext cx="214560" cy="285840"/>
          </a:xfrm>
          <a:prstGeom prst="downArrow">
            <a:avLst>
              <a:gd name="adj1" fmla="val 50000"/>
              <a:gd name="adj2" fmla="val 49958"/>
            </a:avLst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Стрелка вниз 26"/>
          <p:cNvSpPr/>
          <p:nvPr/>
        </p:nvSpPr>
        <p:spPr>
          <a:xfrm>
            <a:off x="6643800" y="3571920"/>
            <a:ext cx="214200" cy="285840"/>
          </a:xfrm>
          <a:prstGeom prst="downArrow">
            <a:avLst>
              <a:gd name="adj1" fmla="val 50000"/>
              <a:gd name="adj2" fmla="val 50042"/>
            </a:avLst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Выгнутая влево стрелка 11"/>
          <p:cNvSpPr/>
          <p:nvPr/>
        </p:nvSpPr>
        <p:spPr>
          <a:xfrm>
            <a:off x="214200" y="1857240"/>
            <a:ext cx="1714680" cy="4786560"/>
          </a:xfrm>
          <a:custGeom>
            <a:avLst/>
            <a:gdLst>
              <a:gd name="textAreaLeft" fmla="*/ 229680 w 1714680"/>
              <a:gd name="textAreaRight" fmla="*/ 1485000 w 1714680"/>
              <a:gd name="textAreaTop" fmla="*/ 1035720 h 4786560"/>
              <a:gd name="textAreaBottom" fmla="*/ 3536640 h 4786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349" stAng="-5400000" swAng="-5400000"/>
                <a:lnTo>
                  <a:pt x="0" y="11284"/>
                </a:lnTo>
                <a:arcTo wR="21600" hR="9349" stAng="10800000" swAng="-3550922"/>
                <a:lnTo>
                  <a:pt x="16200" y="21303"/>
                </a:lnTo>
                <a:lnTo>
                  <a:pt x="21600" y="19666"/>
                </a:lnTo>
                <a:lnTo>
                  <a:pt x="16200" y="17434"/>
                </a:lnTo>
                <a:lnTo>
                  <a:pt x="16200" y="18401"/>
                </a:lnTo>
                <a:arcTo wR="21600" hR="9349" stAng="7249078" swAng="3396213"/>
                <a:lnTo>
                  <a:pt x="116" y="10317"/>
                </a:lnTo>
                <a:arcTo wR="21600" hR="9349" stAng="-10645291" swAng="5245291"/>
                <a:close/>
              </a:path>
              <a:path fill="darkenLess" w="21600" h="21600">
                <a:moveTo>
                  <a:pt x="21600" y="0"/>
                </a:moveTo>
                <a:arcTo wR="21600" hR="9349" stAng="-5400000" swAng="-5400000"/>
                <a:lnTo>
                  <a:pt x="0" y="9349"/>
                </a:lnTo>
                <a:arcTo wR="21600" hR="9349" stAng="10800000" swAng="-154709"/>
                <a:lnTo>
                  <a:pt x="116" y="10317"/>
                </a:lnTo>
                <a:arcTo wR="21600" hR="9349" stAng="-10645291" swAng="5245291"/>
                <a:close/>
              </a:path>
            </a:pathLst>
          </a:custGeom>
          <a:solidFill>
            <a:srgbClr val="008000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Выгнутая вправо стрелка 12"/>
          <p:cNvSpPr/>
          <p:nvPr/>
        </p:nvSpPr>
        <p:spPr>
          <a:xfrm>
            <a:off x="7215120" y="1857240"/>
            <a:ext cx="1714680" cy="4643640"/>
          </a:xfrm>
          <a:custGeom>
            <a:avLst/>
            <a:gdLst>
              <a:gd name="textAreaLeft" fmla="*/ 229680 w 1714680"/>
              <a:gd name="textAreaRight" fmla="*/ 1485000 w 1714680"/>
              <a:gd name="textAreaTop" fmla="*/ 1000080 h 4643640"/>
              <a:gd name="textAreaBottom" fmla="*/ 3429360 h 464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305" stAng="-5400000" swAng="5400000"/>
                <a:lnTo>
                  <a:pt x="21600" y="11299"/>
                </a:lnTo>
                <a:arcTo wR="21600" hR="9305" stAng="0" swAng="3543697"/>
                <a:lnTo>
                  <a:pt x="5400" y="21305"/>
                </a:lnTo>
                <a:lnTo>
                  <a:pt x="0" y="19606"/>
                </a:lnTo>
                <a:lnTo>
                  <a:pt x="5400" y="17317"/>
                </a:lnTo>
                <a:lnTo>
                  <a:pt x="5400" y="18314"/>
                </a:lnTo>
                <a:arcTo wR="21600" hR="9305" stAng="3543697" swAng="-3384216"/>
                <a:lnTo>
                  <a:pt x="21476" y="10302"/>
                </a:lnTo>
                <a:arcTo wR="21600" hR="9305" stAng="-159482" swAng="-5240518"/>
                <a:close/>
              </a:path>
              <a:path fill="darkenLess" w="21600" h="21600">
                <a:moveTo>
                  <a:pt x="0" y="0"/>
                </a:moveTo>
                <a:arcTo wR="21600" hR="9305" stAng="-5400000" swAng="5400000"/>
                <a:lnTo>
                  <a:pt x="21600" y="11299"/>
                </a:lnTo>
                <a:arcTo wR="21600" hR="9305" stAng="0" swAng="-159482"/>
                <a:lnTo>
                  <a:pt x="21476" y="10302"/>
                </a:lnTo>
                <a:arcTo wR="21600" hR="9305" stAng="-159482" swAng="-5240518"/>
                <a:close/>
              </a:path>
            </a:pathLst>
          </a:custGeom>
          <a:solidFill>
            <a:srgbClr val="006600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Скругленный прямоугольник 13"/>
          <p:cNvSpPr/>
          <p:nvPr/>
        </p:nvSpPr>
        <p:spPr>
          <a:xfrm>
            <a:off x="857160" y="1643040"/>
            <a:ext cx="7777080" cy="114300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SchoolBookC"/>
              </a:rPr>
              <a:t>СОВОКУПНОСТЬ материальных и духовных ЦЕННОСТЕЙ, созданных и накопленных человек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Скругленный прямоугольник 14"/>
          <p:cNvSpPr/>
          <p:nvPr/>
        </p:nvSpPr>
        <p:spPr>
          <a:xfrm>
            <a:off x="1928880" y="5786280"/>
            <a:ext cx="5286240" cy="857520"/>
          </a:xfrm>
          <a:prstGeom prst="roundRect">
            <a:avLst>
              <a:gd name="adj" fmla="val 16667"/>
            </a:avLst>
          </a:prstGeom>
          <a:solidFill>
            <a:srgbClr val="669900"/>
          </a:solidFill>
          <a:ln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SchoolBookC"/>
              </a:rPr>
              <a:t>УЧЕБНАЯ МОДЕЛЬ ДИАЛОГА КУЛЬТУ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57160" y="-360"/>
            <a:ext cx="7715520" cy="14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40000"/>
                </a:solidFill>
                <a:latin typeface="SchoolBookC"/>
              </a:rPr>
              <a:t>Учебная модель диалога культур</a:t>
            </a:r>
            <a:endParaRPr b="1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99680" y="1671120"/>
            <a:ext cx="8286840" cy="48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454526"/>
                </a:solidFill>
                <a:latin typeface="Times New Roman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Скругленный прямоугольник 19"/>
          <p:cNvSpPr/>
          <p:nvPr/>
        </p:nvSpPr>
        <p:spPr>
          <a:xfrm>
            <a:off x="642960" y="3500280"/>
            <a:ext cx="3929040" cy="107172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SchoolBookC"/>
              </a:rPr>
              <a:t>ОЩЕЧЕЛОВЕЧЕСКИ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SchoolBookC"/>
              </a:rPr>
              <a:t>ЦЕННОСТ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Скругленный прямоугольник 20"/>
          <p:cNvSpPr/>
          <p:nvPr/>
        </p:nvSpPr>
        <p:spPr>
          <a:xfrm>
            <a:off x="4857840" y="3571920"/>
            <a:ext cx="3929040" cy="100008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SchoolBookC"/>
              </a:rPr>
              <a:t>УНИКАЛЬНЫХ  ЦЕННОСТ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Стрелка вниз 25"/>
          <p:cNvSpPr/>
          <p:nvPr/>
        </p:nvSpPr>
        <p:spPr>
          <a:xfrm>
            <a:off x="2500200" y="3214800"/>
            <a:ext cx="214560" cy="285480"/>
          </a:xfrm>
          <a:prstGeom prst="downArrow">
            <a:avLst>
              <a:gd name="adj1" fmla="val 50000"/>
              <a:gd name="adj2" fmla="val 49895"/>
            </a:avLst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Стрелка вниз 26"/>
          <p:cNvSpPr/>
          <p:nvPr/>
        </p:nvSpPr>
        <p:spPr>
          <a:xfrm>
            <a:off x="6715080" y="3286080"/>
            <a:ext cx="214200" cy="285840"/>
          </a:xfrm>
          <a:prstGeom prst="downArrow">
            <a:avLst>
              <a:gd name="adj1" fmla="val 50000"/>
              <a:gd name="adj2" fmla="val 50042"/>
            </a:avLst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Выгнутая влево стрелка 11"/>
          <p:cNvSpPr/>
          <p:nvPr/>
        </p:nvSpPr>
        <p:spPr>
          <a:xfrm>
            <a:off x="214200" y="1857240"/>
            <a:ext cx="1714680" cy="4786560"/>
          </a:xfrm>
          <a:custGeom>
            <a:avLst/>
            <a:gdLst>
              <a:gd name="textAreaLeft" fmla="*/ 229680 w 1714680"/>
              <a:gd name="textAreaRight" fmla="*/ 1485000 w 1714680"/>
              <a:gd name="textAreaTop" fmla="*/ 1035720 h 4786560"/>
              <a:gd name="textAreaBottom" fmla="*/ 3536640 h 4786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349" stAng="-5400000" swAng="-5400000"/>
                <a:lnTo>
                  <a:pt x="0" y="11284"/>
                </a:lnTo>
                <a:arcTo wR="21600" hR="9349" stAng="10800000" swAng="-3550922"/>
                <a:lnTo>
                  <a:pt x="16200" y="21303"/>
                </a:lnTo>
                <a:lnTo>
                  <a:pt x="21600" y="19666"/>
                </a:lnTo>
                <a:lnTo>
                  <a:pt x="16200" y="17434"/>
                </a:lnTo>
                <a:lnTo>
                  <a:pt x="16200" y="18401"/>
                </a:lnTo>
                <a:arcTo wR="21600" hR="9349" stAng="7249078" swAng="3396213"/>
                <a:lnTo>
                  <a:pt x="116" y="10317"/>
                </a:lnTo>
                <a:arcTo wR="21600" hR="9349" stAng="-10645291" swAng="5245291"/>
                <a:close/>
              </a:path>
              <a:path fill="darkenLess" w="21600" h="21600">
                <a:moveTo>
                  <a:pt x="21600" y="0"/>
                </a:moveTo>
                <a:arcTo wR="21600" hR="9349" stAng="-5400000" swAng="-5400000"/>
                <a:lnTo>
                  <a:pt x="0" y="9349"/>
                </a:lnTo>
                <a:arcTo wR="21600" hR="9349" stAng="10800000" swAng="-154709"/>
                <a:lnTo>
                  <a:pt x="116" y="10317"/>
                </a:lnTo>
                <a:arcTo wR="21600" hR="9349" stAng="-10645291" swAng="5245291"/>
                <a:close/>
              </a:path>
            </a:pathLst>
          </a:custGeom>
          <a:solidFill>
            <a:srgbClr val="008000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Выгнутая вправо стрелка 12"/>
          <p:cNvSpPr/>
          <p:nvPr/>
        </p:nvSpPr>
        <p:spPr>
          <a:xfrm>
            <a:off x="7215120" y="1857240"/>
            <a:ext cx="1714680" cy="4643640"/>
          </a:xfrm>
          <a:custGeom>
            <a:avLst/>
            <a:gdLst>
              <a:gd name="textAreaLeft" fmla="*/ 229680 w 1714680"/>
              <a:gd name="textAreaRight" fmla="*/ 1485000 w 1714680"/>
              <a:gd name="textAreaTop" fmla="*/ 1000080 h 4643640"/>
              <a:gd name="textAreaBottom" fmla="*/ 3429360 h 464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305" stAng="-5400000" swAng="5400000"/>
                <a:lnTo>
                  <a:pt x="21600" y="11299"/>
                </a:lnTo>
                <a:arcTo wR="21600" hR="9305" stAng="0" swAng="3543697"/>
                <a:lnTo>
                  <a:pt x="5400" y="21305"/>
                </a:lnTo>
                <a:lnTo>
                  <a:pt x="0" y="19606"/>
                </a:lnTo>
                <a:lnTo>
                  <a:pt x="5400" y="17317"/>
                </a:lnTo>
                <a:lnTo>
                  <a:pt x="5400" y="18314"/>
                </a:lnTo>
                <a:arcTo wR="21600" hR="9305" stAng="3543697" swAng="-3384216"/>
                <a:lnTo>
                  <a:pt x="21476" y="10302"/>
                </a:lnTo>
                <a:arcTo wR="21600" hR="9305" stAng="-159482" swAng="-5240518"/>
                <a:close/>
              </a:path>
              <a:path fill="darkenLess" w="21600" h="21600">
                <a:moveTo>
                  <a:pt x="0" y="0"/>
                </a:moveTo>
                <a:arcTo wR="21600" hR="9305" stAng="-5400000" swAng="5400000"/>
                <a:lnTo>
                  <a:pt x="21600" y="11299"/>
                </a:lnTo>
                <a:arcTo wR="21600" hR="9305" stAng="0" swAng="-159482"/>
                <a:lnTo>
                  <a:pt x="21476" y="10302"/>
                </a:lnTo>
                <a:arcTo wR="21600" hR="9305" stAng="-159482" swAng="-5240518"/>
                <a:close/>
              </a:path>
            </a:pathLst>
          </a:custGeom>
          <a:solidFill>
            <a:srgbClr val="006600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Скругленный прямоугольник 13"/>
          <p:cNvSpPr/>
          <p:nvPr/>
        </p:nvSpPr>
        <p:spPr>
          <a:xfrm>
            <a:off x="857160" y="1643040"/>
            <a:ext cx="7777080" cy="157176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SchoolBookC"/>
              </a:rPr>
              <a:t>выделение в своей культуре групп ценносте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SchoolBookC"/>
              </a:rPr>
              <a:t>НА ОСНОВЕ СОПОСТАВЛЕ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SchoolBookC"/>
              </a:rPr>
              <a:t>С ЦЕННОСТЯМИ ДРУГИХ КУЛЬУТ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Скругленный прямоугольник 14"/>
          <p:cNvSpPr/>
          <p:nvPr/>
        </p:nvSpPr>
        <p:spPr>
          <a:xfrm>
            <a:off x="1928880" y="4857840"/>
            <a:ext cx="5286240" cy="1785960"/>
          </a:xfrm>
          <a:prstGeom prst="roundRect">
            <a:avLst>
              <a:gd name="adj" fmla="val 16667"/>
            </a:avLst>
          </a:prstGeom>
          <a:solidFill>
            <a:srgbClr val="669900"/>
          </a:solidFill>
          <a:ln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e1"/>
                </a:solidFill>
                <a:latin typeface="Times New Roman"/>
              </a:rPr>
              <a:t>осознание своеобраз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e1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ffe1"/>
                </a:solidFill>
                <a:latin typeface="Times New Roman"/>
              </a:rPr>
              <a:t>своего языка (культуры) и в то же время сходства и близости языков (культур</a:t>
            </a:r>
            <a:r>
              <a:rPr b="1" lang="ru-RU" sz="2400" spc="-1" strike="noStrike">
                <a:solidFill>
                  <a:srgbClr val="ffffe1"/>
                </a:solidFill>
                <a:latin typeface="SchoolBookC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 Box 6"/>
          <p:cNvSpPr/>
          <p:nvPr/>
        </p:nvSpPr>
        <p:spPr>
          <a:xfrm>
            <a:off x="1071720" y="0"/>
            <a:ext cx="717372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740000"/>
                </a:solidFill>
                <a:latin typeface="SchoolBookC"/>
              </a:rPr>
              <a:t>Функции «диалога культур» в преподавани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11"/>
          <p:cNvSpPr/>
          <p:nvPr/>
        </p:nvSpPr>
        <p:spPr>
          <a:xfrm>
            <a:off x="642960" y="1643040"/>
            <a:ext cx="8072280" cy="65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363600">
              <a:lnSpc>
                <a:spcPct val="100000"/>
              </a:lnSpc>
              <a:spcBef>
                <a:spcPts val="1500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363600" algn="ctr">
              <a:lnSpc>
                <a:spcPct val="100000"/>
              </a:lnSpc>
              <a:spcBef>
                <a:spcPts val="1500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363600" algn="ctr">
              <a:lnSpc>
                <a:spcPct val="100000"/>
              </a:lnSpc>
              <a:spcBef>
                <a:spcPts val="1500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Скругленный прямоугольник 3"/>
          <p:cNvSpPr/>
          <p:nvPr/>
        </p:nvSpPr>
        <p:spPr>
          <a:xfrm>
            <a:off x="642960" y="3714840"/>
            <a:ext cx="7715160" cy="100008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SchoolBookC"/>
              </a:rPr>
              <a:t>средство формирования умения жить и общаться в многонациональной стра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Скругленный прямоугольник 4"/>
          <p:cNvSpPr/>
          <p:nvPr/>
        </p:nvSpPr>
        <p:spPr>
          <a:xfrm>
            <a:off x="714240" y="1500120"/>
            <a:ext cx="7572600" cy="85716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SchoolBookC"/>
              </a:rPr>
              <a:t>средство осознания учащимися многообразия духовного и материального ми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Скругленный прямоугольник 5"/>
          <p:cNvSpPr/>
          <p:nvPr/>
        </p:nvSpPr>
        <p:spPr>
          <a:xfrm>
            <a:off x="571680" y="2571840"/>
            <a:ext cx="7786440" cy="92844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SchoolBookC"/>
              </a:rPr>
              <a:t>средство признания и понимания учащимися ценностей другой культу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Скругленный прямоугольник 7"/>
          <p:cNvSpPr/>
          <p:nvPr/>
        </p:nvSpPr>
        <p:spPr>
          <a:xfrm>
            <a:off x="571680" y="5857920"/>
            <a:ext cx="7929360" cy="57132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SchoolBookC"/>
              </a:rPr>
              <a:t>средство осознания уникальности родной культу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Скругленный прямоугольник 8"/>
          <p:cNvSpPr/>
          <p:nvPr/>
        </p:nvSpPr>
        <p:spPr>
          <a:xfrm>
            <a:off x="714240" y="4857840"/>
            <a:ext cx="7929720" cy="71424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SchoolBookC"/>
              </a:rPr>
              <a:t>средство познания национальной (иной)культу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15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 Box 6"/>
          <p:cNvSpPr/>
          <p:nvPr/>
        </p:nvSpPr>
        <p:spPr>
          <a:xfrm>
            <a:off x="1071720" y="0"/>
            <a:ext cx="717372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740000"/>
                </a:solidFill>
                <a:latin typeface="SchoolBookC"/>
              </a:rPr>
              <a:t>«Картина мира» -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740000"/>
                </a:solidFill>
                <a:latin typeface="SchoolBookC"/>
              </a:rPr>
              <a:t>центральное понятие «диалога культур»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11"/>
          <p:cNvSpPr/>
          <p:nvPr/>
        </p:nvSpPr>
        <p:spPr>
          <a:xfrm>
            <a:off x="642960" y="1643040"/>
            <a:ext cx="8072280" cy="65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363600">
              <a:lnSpc>
                <a:spcPct val="100000"/>
              </a:lnSpc>
              <a:spcBef>
                <a:spcPts val="1500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363600" algn="ctr">
              <a:lnSpc>
                <a:spcPct val="100000"/>
              </a:lnSpc>
              <a:spcBef>
                <a:spcPts val="1500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363600" algn="ctr">
              <a:lnSpc>
                <a:spcPct val="100000"/>
              </a:lnSpc>
              <a:spcBef>
                <a:spcPts val="1500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Скругленный прямоугольник 3"/>
          <p:cNvSpPr/>
          <p:nvPr/>
        </p:nvSpPr>
        <p:spPr>
          <a:xfrm>
            <a:off x="785880" y="4857840"/>
            <a:ext cx="7500960" cy="100008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SchoolBookC"/>
              </a:rPr>
              <a:t>концептуальная КАРТИНА МИРА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SchoolBookC"/>
              </a:rPr>
              <a:t>ЗЕРКАЛО реальной (объективной) картины  ми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Скругленный прямоугольник 4"/>
          <p:cNvSpPr/>
          <p:nvPr/>
        </p:nvSpPr>
        <p:spPr>
          <a:xfrm>
            <a:off x="714240" y="1500120"/>
            <a:ext cx="7572600" cy="85716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SchoolBookC"/>
              </a:rPr>
              <a:t>Концептуальная модель мир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Скругленный прямоугольник 5"/>
          <p:cNvSpPr/>
          <p:nvPr/>
        </p:nvSpPr>
        <p:spPr>
          <a:xfrm>
            <a:off x="642960" y="3071880"/>
            <a:ext cx="7786800" cy="92880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SchoolBookC"/>
              </a:rPr>
              <a:t>МИР  - универсальна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SchoolBookC"/>
              </a:rPr>
              <a:t>ПОНЯТИЙНАЯ СИСТЕ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Стрелка вниз 10"/>
          <p:cNvSpPr/>
          <p:nvPr/>
        </p:nvSpPr>
        <p:spPr>
          <a:xfrm>
            <a:off x="4071960" y="4000680"/>
            <a:ext cx="500040" cy="857160"/>
          </a:xfrm>
          <a:prstGeom prst="downArrow">
            <a:avLst>
              <a:gd name="adj1" fmla="val 50000"/>
              <a:gd name="adj2" fmla="val 49997"/>
            </a:avLst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Стрелка вниз 11"/>
          <p:cNvSpPr/>
          <p:nvPr/>
        </p:nvSpPr>
        <p:spPr>
          <a:xfrm>
            <a:off x="4071960" y="2357280"/>
            <a:ext cx="500040" cy="857520"/>
          </a:xfrm>
          <a:prstGeom prst="downArrow">
            <a:avLst>
              <a:gd name="adj1" fmla="val 50000"/>
              <a:gd name="adj2" fmla="val 50018"/>
            </a:avLst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15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 Box 6"/>
          <p:cNvSpPr/>
          <p:nvPr/>
        </p:nvSpPr>
        <p:spPr>
          <a:xfrm>
            <a:off x="1071720" y="0"/>
            <a:ext cx="71737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740000"/>
                </a:solidFill>
                <a:latin typeface="SchoolBookC"/>
              </a:rPr>
              <a:t>«Картина мира»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11"/>
          <p:cNvSpPr/>
          <p:nvPr/>
        </p:nvSpPr>
        <p:spPr>
          <a:xfrm>
            <a:off x="642960" y="1643040"/>
            <a:ext cx="8072280" cy="65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363600">
              <a:lnSpc>
                <a:spcPct val="100000"/>
              </a:lnSpc>
              <a:spcBef>
                <a:spcPts val="1500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363600" algn="ctr">
              <a:lnSpc>
                <a:spcPct val="100000"/>
              </a:lnSpc>
              <a:spcBef>
                <a:spcPts val="1500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363600" algn="ctr">
              <a:lnSpc>
                <a:spcPct val="100000"/>
              </a:lnSpc>
              <a:spcBef>
                <a:spcPts val="1500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Скругленный прямоугольник 3"/>
          <p:cNvSpPr/>
          <p:nvPr/>
        </p:nvSpPr>
        <p:spPr>
          <a:xfrm>
            <a:off x="785880" y="4429080"/>
            <a:ext cx="7500960" cy="207180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SchoolBookC"/>
              </a:rPr>
              <a:t>КАРТИНЫ МИРА, создаваемые и отражаемые национальными языками, существенно РАЗЛИЧАЮ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Скругленный прямоугольник 4"/>
          <p:cNvSpPr/>
          <p:nvPr/>
        </p:nvSpPr>
        <p:spPr>
          <a:xfrm>
            <a:off x="714240" y="1500120"/>
            <a:ext cx="7572600" cy="85716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SchoolBookC"/>
              </a:rPr>
              <a:t>создается и отражается в национальном язы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Скругленный прямоугольник 5"/>
          <p:cNvSpPr/>
          <p:nvPr/>
        </p:nvSpPr>
        <p:spPr>
          <a:xfrm>
            <a:off x="571680" y="2857680"/>
            <a:ext cx="7786440" cy="92844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SchoolBookC"/>
              </a:rPr>
              <a:t>существует национальная специфика отражения объективной картины мир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Стрелка вниз 10"/>
          <p:cNvSpPr/>
          <p:nvPr/>
        </p:nvSpPr>
        <p:spPr>
          <a:xfrm>
            <a:off x="4000680" y="3786120"/>
            <a:ext cx="500040" cy="642960"/>
          </a:xfrm>
          <a:prstGeom prst="downArrow">
            <a:avLst>
              <a:gd name="adj1" fmla="val 50000"/>
              <a:gd name="adj2" fmla="val 50004"/>
            </a:avLst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Стрелка вниз 11"/>
          <p:cNvSpPr/>
          <p:nvPr/>
        </p:nvSpPr>
        <p:spPr>
          <a:xfrm>
            <a:off x="4071960" y="2357280"/>
            <a:ext cx="428760" cy="500400"/>
          </a:xfrm>
          <a:prstGeom prst="downArrow">
            <a:avLst>
              <a:gd name="adj1" fmla="val 50000"/>
              <a:gd name="adj2" fmla="val 50017"/>
            </a:avLst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15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Oval 5"/>
          <p:cNvSpPr/>
          <p:nvPr/>
        </p:nvSpPr>
        <p:spPr>
          <a:xfrm>
            <a:off x="571680" y="4005360"/>
            <a:ext cx="2339640" cy="2138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Скругленный прямоугольник 15"/>
          <p:cNvSpPr/>
          <p:nvPr/>
        </p:nvSpPr>
        <p:spPr>
          <a:xfrm>
            <a:off x="857160" y="1643040"/>
            <a:ext cx="3714840" cy="121464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SchoolBookC"/>
              </a:rPr>
              <a:t>Изменившиеся требования обще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Скругленный прямоугольник 16"/>
          <p:cNvSpPr/>
          <p:nvPr/>
        </p:nvSpPr>
        <p:spPr>
          <a:xfrm>
            <a:off x="5072040" y="1714680"/>
            <a:ext cx="3714840" cy="114300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SchoolBookC"/>
              </a:rPr>
              <a:t>Тенденции современной лингвист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Скругленный прямоугольник 19"/>
          <p:cNvSpPr/>
          <p:nvPr/>
        </p:nvSpPr>
        <p:spPr>
          <a:xfrm>
            <a:off x="857160" y="3286080"/>
            <a:ext cx="3857760" cy="164304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3300"/>
                </a:solidFill>
                <a:latin typeface="SchoolBookC"/>
              </a:rPr>
              <a:t>язык как средство формирования  успешной, социально адаптированной, толерантной личност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Скругленный прямоугольник 20"/>
          <p:cNvSpPr/>
          <p:nvPr/>
        </p:nvSpPr>
        <p:spPr>
          <a:xfrm>
            <a:off x="4929120" y="3357720"/>
            <a:ext cx="3929040" cy="157140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3300"/>
                </a:solidFill>
                <a:latin typeface="SchoolBookC"/>
              </a:rPr>
              <a:t>изучение языка через изучение его носителя – человек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Стрелка вниз 14"/>
          <p:cNvSpPr/>
          <p:nvPr/>
        </p:nvSpPr>
        <p:spPr>
          <a:xfrm>
            <a:off x="2500200" y="2928960"/>
            <a:ext cx="214560" cy="285840"/>
          </a:xfrm>
          <a:prstGeom prst="downArrow">
            <a:avLst>
              <a:gd name="adj1" fmla="val 50000"/>
              <a:gd name="adj2" fmla="val 49958"/>
            </a:avLst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Стрелка вниз 18"/>
          <p:cNvSpPr/>
          <p:nvPr/>
        </p:nvSpPr>
        <p:spPr>
          <a:xfrm>
            <a:off x="6715080" y="3000240"/>
            <a:ext cx="214200" cy="285840"/>
          </a:xfrm>
          <a:prstGeom prst="downArrow">
            <a:avLst>
              <a:gd name="adj1" fmla="val 50000"/>
              <a:gd name="adj2" fmla="val 50042"/>
            </a:avLst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23"/>
          <p:cNvSpPr/>
          <p:nvPr/>
        </p:nvSpPr>
        <p:spPr>
          <a:xfrm>
            <a:off x="857160" y="285840"/>
            <a:ext cx="771552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740000"/>
                </a:solidFill>
                <a:latin typeface="SchoolBookC"/>
              </a:rPr>
              <a:t>Причины  выделения культуроведческого аспекта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740000"/>
                </a:solidFill>
                <a:latin typeface="SchoolBookC"/>
              </a:rPr>
              <a:t>в преподавании русского язы</a:t>
            </a:r>
            <a:r>
              <a:rPr b="1" lang="ru-RU" sz="2800" spc="-1" strike="noStrike">
                <a:solidFill>
                  <a:srgbClr val="740000"/>
                </a:solidFill>
                <a:latin typeface="SchoolBookC"/>
              </a:rPr>
              <a:t>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Скругленный прямоугольник 24"/>
          <p:cNvSpPr/>
          <p:nvPr/>
        </p:nvSpPr>
        <p:spPr>
          <a:xfrm>
            <a:off x="857160" y="5214960"/>
            <a:ext cx="3857760" cy="142884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3300"/>
                </a:solidFill>
                <a:latin typeface="SchoolBookC"/>
              </a:rPr>
              <a:t>Компетентностный подход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3300"/>
                </a:solidFill>
                <a:latin typeface="SchoolBookC"/>
              </a:rPr>
              <a:t>культуроведческая компетенц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Скругленный прямоугольник 25"/>
          <p:cNvSpPr/>
          <p:nvPr/>
        </p:nvSpPr>
        <p:spPr>
          <a:xfrm>
            <a:off x="4786200" y="5214960"/>
            <a:ext cx="4071960" cy="142884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3300"/>
                </a:solidFill>
                <a:latin typeface="SchoolBookC"/>
              </a:rPr>
              <a:t>языковая личност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Стрелка вниз 26"/>
          <p:cNvSpPr/>
          <p:nvPr/>
        </p:nvSpPr>
        <p:spPr>
          <a:xfrm>
            <a:off x="2571840" y="4929120"/>
            <a:ext cx="214200" cy="285840"/>
          </a:xfrm>
          <a:prstGeom prst="downArrow">
            <a:avLst>
              <a:gd name="adj1" fmla="val 50000"/>
              <a:gd name="adj2" fmla="val 50042"/>
            </a:avLst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Стрелка вниз 27"/>
          <p:cNvSpPr/>
          <p:nvPr/>
        </p:nvSpPr>
        <p:spPr>
          <a:xfrm>
            <a:off x="6715080" y="4929120"/>
            <a:ext cx="214200" cy="285840"/>
          </a:xfrm>
          <a:prstGeom prst="downArrow">
            <a:avLst>
              <a:gd name="adj1" fmla="val 50000"/>
              <a:gd name="adj2" fmla="val 50042"/>
            </a:avLst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 Box 6"/>
          <p:cNvSpPr/>
          <p:nvPr/>
        </p:nvSpPr>
        <p:spPr>
          <a:xfrm>
            <a:off x="1071720" y="0"/>
            <a:ext cx="717372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740000"/>
                </a:solidFill>
                <a:latin typeface="SchoolBookC"/>
              </a:rPr>
              <a:t>ЯЗЫКОВЫЕ ФАКТЫ проявлени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740000"/>
                </a:solidFill>
                <a:latin typeface="SchoolBookC"/>
              </a:rPr>
              <a:t> </a:t>
            </a:r>
            <a:r>
              <a:rPr b="1" lang="ru-RU" sz="2600" spc="-1" strike="noStrike">
                <a:solidFill>
                  <a:srgbClr val="740000"/>
                </a:solidFill>
                <a:latin typeface="SchoolBookC"/>
              </a:rPr>
              <a:t>национально-культурной специфики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11"/>
          <p:cNvSpPr/>
          <p:nvPr/>
        </p:nvSpPr>
        <p:spPr>
          <a:xfrm>
            <a:off x="642960" y="1643040"/>
            <a:ext cx="8072280" cy="65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363600">
              <a:lnSpc>
                <a:spcPct val="100000"/>
              </a:lnSpc>
              <a:spcBef>
                <a:spcPts val="1500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363600" algn="ctr">
              <a:lnSpc>
                <a:spcPct val="100000"/>
              </a:lnSpc>
              <a:spcBef>
                <a:spcPts val="1500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363600" algn="ctr">
              <a:lnSpc>
                <a:spcPct val="100000"/>
              </a:lnSpc>
              <a:spcBef>
                <a:spcPts val="1500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Скругленный прямоугольник 3"/>
          <p:cNvSpPr/>
          <p:nvPr/>
        </p:nvSpPr>
        <p:spPr>
          <a:xfrm>
            <a:off x="571680" y="4000680"/>
            <a:ext cx="7715160" cy="114300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SchoolBookC"/>
              </a:rPr>
              <a:t>образы животных и птиц, а также специфичные ассоциации их с характером челове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Скругленный прямоугольник 4"/>
          <p:cNvSpPr/>
          <p:nvPr/>
        </p:nvSpPr>
        <p:spPr>
          <a:xfrm>
            <a:off x="714240" y="1500120"/>
            <a:ext cx="7572600" cy="85716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SchoolBookC"/>
              </a:rPr>
              <a:t>названия предметов, явлений, событ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Скругленный прямоугольник 5"/>
          <p:cNvSpPr/>
          <p:nvPr/>
        </p:nvSpPr>
        <p:spPr>
          <a:xfrm>
            <a:off x="571680" y="2643120"/>
            <a:ext cx="7786440" cy="114300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SchoolBookC"/>
              </a:rPr>
              <a:t>термины родства, время, цвет, части тела, степень размера, высо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Скругленный прямоугольник 8"/>
          <p:cNvSpPr/>
          <p:nvPr/>
        </p:nvSpPr>
        <p:spPr>
          <a:xfrm>
            <a:off x="642960" y="5357880"/>
            <a:ext cx="7786800" cy="85716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SchoolBookC"/>
              </a:rPr>
              <a:t>нормы речевого повед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15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ext Box 6"/>
          <p:cNvSpPr/>
          <p:nvPr/>
        </p:nvSpPr>
        <p:spPr>
          <a:xfrm>
            <a:off x="1071720" y="0"/>
            <a:ext cx="717372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740000"/>
                </a:solidFill>
                <a:latin typeface="SchoolBookC"/>
              </a:rPr>
              <a:t>Реализация культуроведческого аспект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740000"/>
                </a:solidFill>
                <a:latin typeface="SchoolBookC"/>
              </a:rPr>
              <a:t> </a:t>
            </a:r>
            <a:r>
              <a:rPr b="1" lang="ru-RU" sz="2600" spc="-1" strike="noStrike">
                <a:solidFill>
                  <a:srgbClr val="740000"/>
                </a:solidFill>
                <a:latin typeface="SchoolBookC"/>
              </a:rPr>
              <a:t>в обучени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11"/>
          <p:cNvSpPr/>
          <p:nvPr/>
        </p:nvSpPr>
        <p:spPr>
          <a:xfrm>
            <a:off x="642960" y="1643040"/>
            <a:ext cx="8072280" cy="65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363600">
              <a:lnSpc>
                <a:spcPct val="100000"/>
              </a:lnSpc>
              <a:spcBef>
                <a:spcPts val="1500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363600" algn="ctr">
              <a:lnSpc>
                <a:spcPct val="100000"/>
              </a:lnSpc>
              <a:spcBef>
                <a:spcPts val="1500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363600" algn="ctr">
              <a:lnSpc>
                <a:spcPct val="100000"/>
              </a:lnSpc>
              <a:spcBef>
                <a:spcPts val="1500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Скругленный прямоугольник 3"/>
          <p:cNvSpPr/>
          <p:nvPr/>
        </p:nvSpPr>
        <p:spPr>
          <a:xfrm>
            <a:off x="571680" y="4214880"/>
            <a:ext cx="7715160" cy="92880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SchoolBookC"/>
              </a:rPr>
              <a:t>2 этап - осознание и постижение богатства и своеобразия русского язык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Скругленный прямоугольник 4"/>
          <p:cNvSpPr/>
          <p:nvPr/>
        </p:nvSpPr>
        <p:spPr>
          <a:xfrm>
            <a:off x="714240" y="1500120"/>
            <a:ext cx="7572600" cy="107172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SchoolBookC"/>
              </a:rPr>
              <a:t>1 этап - приобщение к языку —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SchoolBookC"/>
              </a:rPr>
              <a:t>феномену культуры и к русской культуре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SchoolBookC"/>
              </a:rPr>
              <a:t>отраженной в русском язы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Скругленный прямоугольник 5"/>
          <p:cNvSpPr/>
          <p:nvPr/>
        </p:nvSpPr>
        <p:spPr>
          <a:xfrm>
            <a:off x="3857760" y="2643120"/>
            <a:ext cx="4500360" cy="128592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SchoolBookC"/>
              </a:rPr>
              <a:t>создание контекста культур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SchoolBookC"/>
              </a:rPr>
              <a:t>в обучении русскому язык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Скругленный прямоугольник 8"/>
          <p:cNvSpPr/>
          <p:nvPr/>
        </p:nvSpPr>
        <p:spPr>
          <a:xfrm>
            <a:off x="3714840" y="5357880"/>
            <a:ext cx="4714920" cy="128592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SchoolBookC"/>
              </a:rPr>
              <a:t>в процессе диалога культу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0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15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6"/>
          <p:cNvSpPr/>
          <p:nvPr/>
        </p:nvSpPr>
        <p:spPr>
          <a:xfrm>
            <a:off x="1071720" y="0"/>
            <a:ext cx="717372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740000"/>
                </a:solidFill>
                <a:latin typeface="SchoolBookC"/>
              </a:rPr>
              <a:t>Список использованной литературы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11"/>
          <p:cNvSpPr/>
          <p:nvPr/>
        </p:nvSpPr>
        <p:spPr>
          <a:xfrm>
            <a:off x="642960" y="1452960"/>
            <a:ext cx="8072280" cy="109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ыстрова Е.А. Диалог культур на уроках русского языка. – СПб.: Просвещение, 200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ыстрова Е. А. Культуроведческий аспект в преподавании русского языка в школе // Русская словесность. — 2001. — №6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ыстрова Е. А. Культуроведческий аспект в преподавании русского языка в условиях ближнего зарубежья // Школа и мир культуры этносов. — Вып. 2.— М., 1995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ыстрова Е. А. Программа элективного курса «Русский язык и культура» для школ гуманитарного профиля // Мир русского слова. — № 4. — 200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уллагаглиева Л.К., Саяхова Л.Г. Пособие для учителя. Русский язык в диалоге культур. - Уфа: Китап, 200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уллагалиева Л.K. Реалии русской культуры. Лингвокультурологический словарь / Под ред. Л.Г.Саяховой - Уфа, 200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аяхова Л.Г. Методология и методическая система формирования лингвокультурологической компетенции тюркоязычных учащихся на уроках русского языка. - Уфа: РИЦ БашГУ, 2010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аяхова Л.Г. Русский язык в диалоге культур.- Москва: Научно-издательский центр, 2006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6"/>
          <p:cNvSpPr/>
          <p:nvPr/>
        </p:nvSpPr>
        <p:spPr>
          <a:xfrm>
            <a:off x="1184400" y="260280"/>
            <a:ext cx="717372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740000"/>
                </a:solidFill>
                <a:latin typeface="SchoolBookC"/>
              </a:rPr>
              <a:t>Лингвотеоретические основы разработки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740000"/>
                </a:solidFill>
                <a:latin typeface="SchoolBookC"/>
              </a:rPr>
              <a:t>культуроведческого аспект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642960" y="1643040"/>
            <a:ext cx="8072280" cy="61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SchoolBookC"/>
              </a:rPr>
              <a:t>1. Язык — форма и зеркало национальной культуры. Культура включена в язы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SchoolBookC"/>
              </a:rPr>
              <a:t>2. Язык — основная форма хранения знаний о культуре народа и средство познания этих зна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SchoolBookC"/>
              </a:rPr>
              <a:t>3. Картина мира воздействует на человека, формируя его языковое сознание, а вместе с ним и культуронациональное самосознание. «..язык участвует в формировании менталитета этноса, народа, нации» (В.Н. Тели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363600">
              <a:lnSpc>
                <a:spcPct val="100000"/>
              </a:lnSpc>
              <a:spcBef>
                <a:spcPts val="1500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363600" algn="ctr">
              <a:lnSpc>
                <a:spcPct val="100000"/>
              </a:lnSpc>
              <a:spcBef>
                <a:spcPts val="1500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363600" algn="ctr">
              <a:lnSpc>
                <a:spcPct val="100000"/>
              </a:lnSpc>
              <a:spcBef>
                <a:spcPts val="1500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6"/>
          <p:cNvSpPr/>
          <p:nvPr/>
        </p:nvSpPr>
        <p:spPr>
          <a:xfrm>
            <a:off x="1184400" y="260280"/>
            <a:ext cx="71737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740000"/>
                </a:solidFill>
                <a:latin typeface="SchoolBookC"/>
              </a:rPr>
              <a:t>Задачи реализации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740000"/>
                </a:solidFill>
                <a:latin typeface="SchoolBookC"/>
              </a:rPr>
              <a:t>культуроведческого аспект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1"/>
          <p:cNvSpPr/>
          <p:nvPr/>
        </p:nvSpPr>
        <p:spPr>
          <a:xfrm>
            <a:off x="642960" y="1643040"/>
            <a:ext cx="8072280" cy="65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363600">
              <a:lnSpc>
                <a:spcPct val="100000"/>
              </a:lnSpc>
              <a:spcBef>
                <a:spcPts val="1500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363600" algn="ctr">
              <a:lnSpc>
                <a:spcPct val="100000"/>
              </a:lnSpc>
              <a:spcBef>
                <a:spcPts val="1500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363600" algn="ctr">
              <a:lnSpc>
                <a:spcPct val="100000"/>
              </a:lnSpc>
              <a:spcBef>
                <a:spcPts val="1500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Скругленный прямоугольник 3"/>
          <p:cNvSpPr/>
          <p:nvPr/>
        </p:nvSpPr>
        <p:spPr>
          <a:xfrm>
            <a:off x="642960" y="3714840"/>
            <a:ext cx="7715160" cy="57132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SchoolBookC"/>
              </a:rPr>
              <a:t>воспитание любви к народ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Скругленный прямоугольник 4"/>
          <p:cNvSpPr/>
          <p:nvPr/>
        </p:nvSpPr>
        <p:spPr>
          <a:xfrm>
            <a:off x="714240" y="1714680"/>
            <a:ext cx="7572600" cy="64260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SchoolBookC"/>
              </a:rPr>
              <a:t>развитие национального самосозн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Скругленный прямоугольник 5"/>
          <p:cNvSpPr/>
          <p:nvPr/>
        </p:nvSpPr>
        <p:spPr>
          <a:xfrm>
            <a:off x="571680" y="2571840"/>
            <a:ext cx="7786440" cy="92844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SchoolBookC"/>
              </a:rPr>
              <a:t>формирование представлений о родной культуре как материальной и духовной цен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Скругленный прямоугольник 6"/>
          <p:cNvSpPr/>
          <p:nvPr/>
        </p:nvSpPr>
        <p:spPr>
          <a:xfrm>
            <a:off x="642960" y="4429080"/>
            <a:ext cx="7715160" cy="92880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SchoolBookC"/>
              </a:rPr>
              <a:t>формирование русской языковой картины ми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Скругленный прямоугольник 7"/>
          <p:cNvSpPr/>
          <p:nvPr/>
        </p:nvSpPr>
        <p:spPr>
          <a:xfrm>
            <a:off x="571680" y="5572080"/>
            <a:ext cx="7929360" cy="85716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SchoolBookC"/>
              </a:rPr>
              <a:t>осознание особенностей родного языка, его своеобраз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15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6"/>
          <p:cNvSpPr/>
          <p:nvPr/>
        </p:nvSpPr>
        <p:spPr>
          <a:xfrm>
            <a:off x="714240" y="260280"/>
            <a:ext cx="7643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40000"/>
                </a:solidFill>
                <a:latin typeface="SchoolBookC"/>
              </a:rPr>
              <a:t>Требования к отбору и методической интерпретации                            культуроведческого материа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1"/>
          <p:cNvSpPr/>
          <p:nvPr/>
        </p:nvSpPr>
        <p:spPr>
          <a:xfrm>
            <a:off x="642960" y="1643040"/>
            <a:ext cx="8072280" cy="47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990033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990033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03000"/>
                </a:solidFill>
                <a:latin typeface="Times New Roman"/>
              </a:rPr>
              <a:t>Раскрывает русскую языковую картину ми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990033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990033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03000"/>
                </a:solidFill>
                <a:latin typeface="Times New Roman"/>
              </a:rPr>
              <a:t>Создает национально-культурный фон для познания самобытности русского язы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1500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1500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Oval 5"/>
          <p:cNvSpPr/>
          <p:nvPr/>
        </p:nvSpPr>
        <p:spPr>
          <a:xfrm>
            <a:off x="571680" y="4005360"/>
            <a:ext cx="2339640" cy="2138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Скругленный прямоугольник 15"/>
          <p:cNvSpPr/>
          <p:nvPr/>
        </p:nvSpPr>
        <p:spPr>
          <a:xfrm>
            <a:off x="857160" y="1643040"/>
            <a:ext cx="7358040" cy="92880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3300"/>
                </a:solidFill>
                <a:latin typeface="SchoolBookC"/>
              </a:rPr>
              <a:t>обучение русскому языку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Скругленный прямоугольник 19"/>
          <p:cNvSpPr/>
          <p:nvPr/>
        </p:nvSpPr>
        <p:spPr>
          <a:xfrm>
            <a:off x="785880" y="2928960"/>
            <a:ext cx="3857400" cy="100008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SchoolBookC"/>
              </a:rPr>
              <a:t>в контексте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SchoolBookC"/>
              </a:rPr>
              <a:t>русской   культу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Скругленный прямоугольник 20"/>
          <p:cNvSpPr/>
          <p:nvPr/>
        </p:nvSpPr>
        <p:spPr>
          <a:xfrm>
            <a:off x="4929120" y="3000240"/>
            <a:ext cx="3929040" cy="92880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SchoolBookC"/>
              </a:rPr>
              <a:t>в контекс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SchoolBookC"/>
              </a:rPr>
              <a:t> </a:t>
            </a:r>
            <a:r>
              <a:rPr b="1" lang="ru-RU" sz="2400" spc="-1" strike="noStrike">
                <a:solidFill>
                  <a:srgbClr val="003300"/>
                </a:solidFill>
                <a:latin typeface="SchoolBookC"/>
              </a:rPr>
              <a:t>диалога культу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Стрелка вниз 14"/>
          <p:cNvSpPr/>
          <p:nvPr/>
        </p:nvSpPr>
        <p:spPr>
          <a:xfrm>
            <a:off x="2571840" y="2571840"/>
            <a:ext cx="214200" cy="285840"/>
          </a:xfrm>
          <a:prstGeom prst="downArrow">
            <a:avLst>
              <a:gd name="adj1" fmla="val 50000"/>
              <a:gd name="adj2" fmla="val 50042"/>
            </a:avLst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Стрелка вниз 18"/>
          <p:cNvSpPr/>
          <p:nvPr/>
        </p:nvSpPr>
        <p:spPr>
          <a:xfrm>
            <a:off x="6643800" y="2643120"/>
            <a:ext cx="214200" cy="285840"/>
          </a:xfrm>
          <a:prstGeom prst="downArrow">
            <a:avLst>
              <a:gd name="adj1" fmla="val 50000"/>
              <a:gd name="adj2" fmla="val 50042"/>
            </a:avLst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Прямоугольник 23"/>
          <p:cNvSpPr/>
          <p:nvPr/>
        </p:nvSpPr>
        <p:spPr>
          <a:xfrm>
            <a:off x="857160" y="285840"/>
            <a:ext cx="77155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740000"/>
                </a:solidFill>
                <a:latin typeface="SchoolBookC"/>
              </a:rPr>
              <a:t>Два направления  в реализации культуроведческого аспекта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Скругленный прямоугольник 24"/>
          <p:cNvSpPr/>
          <p:nvPr/>
        </p:nvSpPr>
        <p:spPr>
          <a:xfrm>
            <a:off x="857160" y="4286160"/>
            <a:ext cx="3714840" cy="235764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3300"/>
                </a:solidFill>
                <a:latin typeface="SchoolBookC"/>
              </a:rPr>
              <a:t>познание, постижение русской культуры, отраженной в язык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Скругленный прямоугольник 25"/>
          <p:cNvSpPr/>
          <p:nvPr/>
        </p:nvSpPr>
        <p:spPr>
          <a:xfrm>
            <a:off x="5000760" y="4286160"/>
            <a:ext cx="3857400" cy="235764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3300"/>
                </a:solidFill>
                <a:latin typeface="SchoolBookC"/>
              </a:rPr>
              <a:t>осознание самобытности, русского языка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3300"/>
                </a:solidFill>
                <a:latin typeface="SchoolBookC"/>
              </a:rPr>
              <a:t>на фоне сопоставлен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3300"/>
                </a:solidFill>
                <a:latin typeface="SchoolBookC"/>
              </a:rPr>
              <a:t> </a:t>
            </a:r>
            <a:r>
              <a:rPr b="1" lang="ru-RU" sz="2200" spc="-1" strike="noStrike">
                <a:solidFill>
                  <a:srgbClr val="003300"/>
                </a:solidFill>
                <a:latin typeface="SchoolBookC"/>
              </a:rPr>
              <a:t>с другими культурами и языкам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Стрелка вниз 26"/>
          <p:cNvSpPr/>
          <p:nvPr/>
        </p:nvSpPr>
        <p:spPr>
          <a:xfrm>
            <a:off x="2571840" y="4000680"/>
            <a:ext cx="214200" cy="285480"/>
          </a:xfrm>
          <a:prstGeom prst="downArrow">
            <a:avLst>
              <a:gd name="adj1" fmla="val 50000"/>
              <a:gd name="adj2" fmla="val 49979"/>
            </a:avLst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Стрелка вниз 27"/>
          <p:cNvSpPr/>
          <p:nvPr/>
        </p:nvSpPr>
        <p:spPr>
          <a:xfrm>
            <a:off x="6715080" y="3929040"/>
            <a:ext cx="214200" cy="285840"/>
          </a:xfrm>
          <a:prstGeom prst="downArrow">
            <a:avLst>
              <a:gd name="adj1" fmla="val 50000"/>
              <a:gd name="adj2" fmla="val 50042"/>
            </a:avLst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Oval 5"/>
          <p:cNvSpPr/>
          <p:nvPr/>
        </p:nvSpPr>
        <p:spPr>
          <a:xfrm>
            <a:off x="571680" y="4005360"/>
            <a:ext cx="2339640" cy="2138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Скругленный прямоугольник 19"/>
          <p:cNvSpPr/>
          <p:nvPr/>
        </p:nvSpPr>
        <p:spPr>
          <a:xfrm>
            <a:off x="785880" y="1785960"/>
            <a:ext cx="7858080" cy="92880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SchoolBookC"/>
              </a:rPr>
              <a:t>национально-маркированные единицы язы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Скругленный прямоугольник 20"/>
          <p:cNvSpPr/>
          <p:nvPr/>
        </p:nvSpPr>
        <p:spPr>
          <a:xfrm>
            <a:off x="785880" y="3000240"/>
            <a:ext cx="8072280" cy="92880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SchoolBookC"/>
              </a:rPr>
              <a:t>тексты с национально-культурным компонент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Прямоугольник 23"/>
          <p:cNvSpPr/>
          <p:nvPr/>
        </p:nvSpPr>
        <p:spPr>
          <a:xfrm>
            <a:off x="857160" y="214200"/>
            <a:ext cx="771552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0033"/>
                </a:solidFill>
                <a:latin typeface="Times New Roman"/>
              </a:rPr>
              <a:t>I </a:t>
            </a:r>
            <a:r>
              <a:rPr b="1" lang="ru-RU" sz="2600" spc="-1" strike="noStrike">
                <a:solidFill>
                  <a:srgbClr val="330033"/>
                </a:solidFill>
                <a:latin typeface="Times New Roman"/>
              </a:rPr>
              <a:t>направление.</a:t>
            </a:r>
            <a:br>
              <a:rPr sz="2600"/>
            </a:br>
            <a:r>
              <a:rPr b="1" lang="ru-RU" sz="2600" spc="-1" strike="noStrike">
                <a:solidFill>
                  <a:srgbClr val="330033"/>
                </a:solidFill>
                <a:latin typeface="Times New Roman"/>
              </a:rPr>
              <a:t>Материал для формирования </a:t>
            </a:r>
            <a:br>
              <a:rPr sz="2600"/>
            </a:br>
            <a:r>
              <a:rPr b="1" lang="ru-RU" sz="2600" spc="-1" strike="noStrike">
                <a:solidFill>
                  <a:srgbClr val="330033"/>
                </a:solidFill>
                <a:latin typeface="Times New Roman"/>
              </a:rPr>
              <a:t>контекста русской культуры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Скругленный прямоугольник 24"/>
          <p:cNvSpPr/>
          <p:nvPr/>
        </p:nvSpPr>
        <p:spPr>
          <a:xfrm>
            <a:off x="785880" y="4286160"/>
            <a:ext cx="7929360" cy="78588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SchoolBookC"/>
              </a:rPr>
              <a:t>концепты духовной культуры русского нар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Скругленный прямоугольник 25"/>
          <p:cNvSpPr/>
          <p:nvPr/>
        </p:nvSpPr>
        <p:spPr>
          <a:xfrm>
            <a:off x="857160" y="5357880"/>
            <a:ext cx="8001000" cy="100008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SchoolBookC"/>
              </a:rPr>
              <a:t>стереотипы речевого поведени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SchoolBookC"/>
              </a:rPr>
              <a:t> </a:t>
            </a:r>
            <a:r>
              <a:rPr b="1" lang="ru-RU" sz="2400" spc="-1" strike="noStrike">
                <a:solidFill>
                  <a:srgbClr val="003300"/>
                </a:solidFill>
                <a:latin typeface="SchoolBookC"/>
              </a:rPr>
              <a:t>включая речевой этик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Oval 5"/>
          <p:cNvSpPr/>
          <p:nvPr/>
        </p:nvSpPr>
        <p:spPr>
          <a:xfrm>
            <a:off x="571680" y="4005360"/>
            <a:ext cx="2339640" cy="2138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Скругленный прямоугольник 15"/>
          <p:cNvSpPr/>
          <p:nvPr/>
        </p:nvSpPr>
        <p:spPr>
          <a:xfrm>
            <a:off x="857160" y="1643040"/>
            <a:ext cx="7929720" cy="92880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3300"/>
                </a:solidFill>
                <a:latin typeface="SchoolBookC"/>
              </a:rPr>
              <a:t>Содержание культурно-значимой информации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Скругленный прямоугольник 19"/>
          <p:cNvSpPr/>
          <p:nvPr/>
        </p:nvSpPr>
        <p:spPr>
          <a:xfrm>
            <a:off x="785880" y="2928960"/>
            <a:ext cx="3857400" cy="100008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SchoolBookC"/>
              </a:rPr>
              <a:t>в денотативн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SchoolBookC"/>
              </a:rPr>
              <a:t> </a:t>
            </a:r>
            <a:r>
              <a:rPr b="1" lang="ru-RU" sz="2400" spc="-1" strike="noStrike">
                <a:solidFill>
                  <a:srgbClr val="003300"/>
                </a:solidFill>
                <a:latin typeface="SchoolBookC"/>
              </a:rPr>
              <a:t>аспекте значе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Скругленный прямоугольник 20"/>
          <p:cNvSpPr/>
          <p:nvPr/>
        </p:nvSpPr>
        <p:spPr>
          <a:xfrm>
            <a:off x="4929120" y="3000240"/>
            <a:ext cx="3929040" cy="92880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SchoolBookC"/>
              </a:rPr>
              <a:t>в коннотативн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SchoolBookC"/>
              </a:rPr>
              <a:t> </a:t>
            </a:r>
            <a:r>
              <a:rPr b="1" lang="ru-RU" sz="2400" spc="-1" strike="noStrike">
                <a:solidFill>
                  <a:srgbClr val="003300"/>
                </a:solidFill>
                <a:latin typeface="SchoolBookC"/>
              </a:rPr>
              <a:t>аспекте значе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Стрелка вниз 14"/>
          <p:cNvSpPr/>
          <p:nvPr/>
        </p:nvSpPr>
        <p:spPr>
          <a:xfrm>
            <a:off x="2571840" y="2571840"/>
            <a:ext cx="214200" cy="285840"/>
          </a:xfrm>
          <a:prstGeom prst="downArrow">
            <a:avLst>
              <a:gd name="adj1" fmla="val 50000"/>
              <a:gd name="adj2" fmla="val 50042"/>
            </a:avLst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Стрелка вниз 18"/>
          <p:cNvSpPr/>
          <p:nvPr/>
        </p:nvSpPr>
        <p:spPr>
          <a:xfrm>
            <a:off x="6643800" y="2643120"/>
            <a:ext cx="214200" cy="285840"/>
          </a:xfrm>
          <a:prstGeom prst="downArrow">
            <a:avLst>
              <a:gd name="adj1" fmla="val 50000"/>
              <a:gd name="adj2" fmla="val 50042"/>
            </a:avLst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рямоугольник 23"/>
          <p:cNvSpPr/>
          <p:nvPr/>
        </p:nvSpPr>
        <p:spPr>
          <a:xfrm>
            <a:off x="857160" y="285840"/>
            <a:ext cx="77155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740000"/>
                </a:solidFill>
                <a:latin typeface="SchoolBookC"/>
              </a:rPr>
              <a:t>Национально-маркированные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740000"/>
                </a:solidFill>
                <a:latin typeface="SchoolBookC"/>
              </a:rPr>
              <a:t>единицы язык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Скругленный прямоугольник 24"/>
          <p:cNvSpPr/>
          <p:nvPr/>
        </p:nvSpPr>
        <p:spPr>
          <a:xfrm>
            <a:off x="857160" y="4286160"/>
            <a:ext cx="3714840" cy="157176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SchoolBookC"/>
              </a:rPr>
              <a:t>реалии бы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SchoolBookC"/>
              </a:rPr>
              <a:t>тради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SchoolBookC"/>
              </a:rPr>
              <a:t>обыча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Скругленный прямоугольник 25"/>
          <p:cNvSpPr/>
          <p:nvPr/>
        </p:nvSpPr>
        <p:spPr>
          <a:xfrm>
            <a:off x="5000760" y="4286160"/>
            <a:ext cx="3857400" cy="157176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SchoolBookC"/>
              </a:rPr>
              <a:t>образы-этало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Стрелка вниз 26"/>
          <p:cNvSpPr/>
          <p:nvPr/>
        </p:nvSpPr>
        <p:spPr>
          <a:xfrm>
            <a:off x="2571840" y="4000680"/>
            <a:ext cx="214200" cy="285480"/>
          </a:xfrm>
          <a:prstGeom prst="downArrow">
            <a:avLst>
              <a:gd name="adj1" fmla="val 50000"/>
              <a:gd name="adj2" fmla="val 49979"/>
            </a:avLst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Стрелка вниз 27"/>
          <p:cNvSpPr/>
          <p:nvPr/>
        </p:nvSpPr>
        <p:spPr>
          <a:xfrm>
            <a:off x="6715080" y="3929040"/>
            <a:ext cx="214200" cy="285840"/>
          </a:xfrm>
          <a:prstGeom prst="downArrow">
            <a:avLst>
              <a:gd name="adj1" fmla="val 50000"/>
              <a:gd name="adj2" fmla="val 50042"/>
            </a:avLst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Oval 5"/>
          <p:cNvSpPr/>
          <p:nvPr/>
        </p:nvSpPr>
        <p:spPr>
          <a:xfrm>
            <a:off x="571680" y="4005360"/>
            <a:ext cx="2339640" cy="2138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Скругленный прямоугольник 15"/>
          <p:cNvSpPr/>
          <p:nvPr/>
        </p:nvSpPr>
        <p:spPr>
          <a:xfrm>
            <a:off x="857160" y="1643040"/>
            <a:ext cx="7786800" cy="471492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SchoolBookC"/>
              </a:rPr>
              <a:t>1.Названия архитектурных сооружений и их частей (</a:t>
            </a:r>
            <a:r>
              <a:rPr b="1" i="1" lang="ru-RU" sz="2400" spc="-1" strike="noStrike">
                <a:solidFill>
                  <a:srgbClr val="003300"/>
                </a:solidFill>
                <a:latin typeface="SchoolBookC"/>
              </a:rPr>
              <a:t>кремль, терем, хоромы, палата, светлица, изб</a:t>
            </a:r>
            <a:r>
              <a:rPr b="1" lang="ru-RU" sz="2400" spc="-1" strike="noStrike">
                <a:solidFill>
                  <a:srgbClr val="003300"/>
                </a:solidFill>
                <a:latin typeface="SchoolBookC"/>
              </a:rPr>
              <a:t>а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SchoolBookC"/>
              </a:rPr>
              <a:t>2. Наименования крестьянской утвари (</a:t>
            </a:r>
            <a:r>
              <a:rPr b="1" i="1" lang="ru-RU" sz="2400" spc="-1" strike="noStrike">
                <a:solidFill>
                  <a:srgbClr val="003300"/>
                </a:solidFill>
                <a:latin typeface="SchoolBookC"/>
              </a:rPr>
              <a:t>печь, сундук, икона</a:t>
            </a:r>
            <a:r>
              <a:rPr b="1" lang="ru-RU" sz="2400" spc="-1" strike="noStrike">
                <a:solidFill>
                  <a:srgbClr val="003300"/>
                </a:solidFill>
                <a:latin typeface="SchoolBookC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SchoolBookC"/>
              </a:rPr>
              <a:t>3. Названия транспортных средств и средств передвижения (</a:t>
            </a:r>
            <a:r>
              <a:rPr b="1" i="1" lang="ru-RU" sz="2400" spc="-1" strike="noStrike">
                <a:solidFill>
                  <a:srgbClr val="003300"/>
                </a:solidFill>
                <a:latin typeface="SchoolBookC"/>
              </a:rPr>
              <a:t>тройка, сани</a:t>
            </a:r>
            <a:r>
              <a:rPr b="1" lang="ru-RU" sz="2400" spc="-1" strike="noStrike">
                <a:solidFill>
                  <a:srgbClr val="003300"/>
                </a:solidFill>
                <a:latin typeface="SchoolBookC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SchoolBookC"/>
              </a:rPr>
              <a:t>4. Наименования продуктов питания  и традиционных русских блюд (</a:t>
            </a:r>
            <a:r>
              <a:rPr b="1" i="1" lang="ru-RU" sz="2400" spc="-1" strike="noStrike">
                <a:solidFill>
                  <a:srgbClr val="003300"/>
                </a:solidFill>
                <a:latin typeface="SchoolBookC"/>
              </a:rPr>
              <a:t>сбитень, расстегай, щи, водка, чай, блины</a:t>
            </a:r>
            <a:r>
              <a:rPr b="1" lang="ru-RU" sz="2400" spc="-1" strike="noStrike">
                <a:solidFill>
                  <a:srgbClr val="003300"/>
                </a:solidFill>
                <a:latin typeface="SchoolBookC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SchoolBookC"/>
              </a:rPr>
              <a:t>5. Названия сословий и чинов (</a:t>
            </a:r>
            <a:r>
              <a:rPr b="1" i="1" lang="ru-RU" sz="2400" spc="-1" strike="noStrike">
                <a:solidFill>
                  <a:srgbClr val="003300"/>
                </a:solidFill>
                <a:latin typeface="SchoolBookC"/>
              </a:rPr>
              <a:t>боярин, стрелец, казак, князь, стольник</a:t>
            </a:r>
            <a:r>
              <a:rPr b="1" lang="ru-RU" sz="2400" spc="-1" strike="noStrike">
                <a:solidFill>
                  <a:srgbClr val="003300"/>
                </a:solidFill>
                <a:latin typeface="SchoolBookC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SchoolBookC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23"/>
          <p:cNvSpPr/>
          <p:nvPr/>
        </p:nvSpPr>
        <p:spPr>
          <a:xfrm>
            <a:off x="857160" y="285840"/>
            <a:ext cx="771552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740000"/>
                </a:solidFill>
                <a:latin typeface="SchoolBookC"/>
              </a:rPr>
              <a:t>Единицы, содержащие культурно-значимую информацию в денотативном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740000"/>
                </a:solidFill>
                <a:latin typeface="SchoolBookC"/>
              </a:rPr>
              <a:t> </a:t>
            </a:r>
            <a:r>
              <a:rPr b="1" lang="ru-RU" sz="2600" spc="-1" strike="noStrike">
                <a:solidFill>
                  <a:srgbClr val="740000"/>
                </a:solidFill>
                <a:latin typeface="SchoolBookC"/>
              </a:rPr>
              <a:t>аспекте значения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7T09:36:56Z</dcterms:created>
  <dc:creator>Shpak</dc:creator>
  <dc:description/>
  <dc:language>en-US</dc:language>
  <cp:lastModifiedBy>Microsoft</cp:lastModifiedBy>
  <dcterms:modified xsi:type="dcterms:W3CDTF">2017-01-06T20:25:18Z</dcterms:modified>
  <cp:revision>871</cp:revision>
  <dc:subject/>
  <dc:title>Слайд 1</dc:title>
</cp:coreProperties>
</file>