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FE6-6329-4368-913F-F48F6A94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4C9-515E-4DD0-A364-1F8B9F04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4DC-523A-47D7-ABB3-8DDDAD09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2DA-F65D-400E-866E-9AF5E29B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C68C-7319-4A2E-B9A7-E5E8AFCC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C0B2-9728-419C-97DB-61F4B69B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32C1-900E-413E-9274-D4C98453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8C6D-8E0E-41D8-8A2F-95630C35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4638-54F7-41FF-AD9F-EB122E72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1D2D-96C1-470C-80F2-E7D8B57A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8D4F-AB96-4801-8FC2-53D08D99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750-2074-44BE-8F19-C445CCE3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4BB7-28B2-4931-BE2B-23E6B0D6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D67E-BD5D-4A36-8F2B-E82BA4F7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0FDD-4D84-447E-8D25-48A7CB29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25D5-CD1D-4447-BAAF-F0F5E2FE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B027-1C74-44CD-B9D3-B0C68566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9077-FF92-4779-891D-39BF6C2C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A589F-7D60-4D40-9ECF-0FF28C00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6896-67C0-4447-8205-5158D273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E89A-6F23-426F-B392-39C970F0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B407-09A7-4FD2-9E61-616482A4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719-3A4A-4E59-A9BF-8DA3CF70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D692-6932-43AC-872E-EEA2F351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7336-961A-4B7F-9332-8FC8C9F0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3D63-AC41-4AD9-9499-D7683730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75F24-41CE-446B-B0C5-215E1ED2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B589-233B-427B-8936-C1D06DB3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AC0A-3326-4EEB-B1AA-8A739FAA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1D5E-090B-4DB7-B73C-C8C9B72B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6E5B-AC76-4599-B2FF-E9642831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B171-F38B-4538-8634-8E036D84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E7817-9A37-48FD-B3A4-1B0E97C9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8F8-FD2E-4D87-8134-19AE9968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4D0F-2307-4B39-B921-6056B4C0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6153B-8153-47EB-800B-99EFC7E2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50FA3-DD05-4F92-A149-37531C37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9CE19-DE7A-4BB4-B033-2A306E5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9C8F5-5EB5-49CC-ABE2-B0FEC2E4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5AD69-F048-4683-B0C0-B3A1FD5C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4AFD9-5D4E-4579-89BC-BB793F8E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17BE3-E0C4-48CE-86F8-94C97632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E75C1-2670-4BBF-A117-4A79777B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4ED-3BB5-457A-9BCC-BC279B58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76D-3A00-40AF-BA56-4A6257ED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835-FFE9-4771-9934-5FE2040D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13F-E2CC-45FD-A713-7F76494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C54-460B-49F3-BC20-E80E489E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C37F-ABC9-4A82-B6E8-B05F70471C6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D84F-780D-4340-910B-F41F9A09A0E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9416-04B5-4550-9402-195528F8158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059F-8179-449D-BE45-4BA26246BC5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urometr.s3.amazonaws.com/images/other/tour/01/26/94/2010/06/21/849fcf_700px.jpg" TargetMode="External"/><Relationship Id="rId2" Type="http://schemas.openxmlformats.org/officeDocument/2006/relationships/hyperlink" Target="http://union-art.ru/modules/gallery/images/73776041949ba624745866.jpg" TargetMode="External"/><Relationship Id="rId3" Type="http://schemas.openxmlformats.org/officeDocument/2006/relationships/hyperlink" Target="http://img-fotki.yandex.ru/get/17/topflight.8/0_b869_a4346218_X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55600" y="1371600"/>
            <a:ext cx="8534520" cy="2273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Скругленный прямоугольник 3">
            <a:hlinkClick r:id="rId2"/>
          </p:cNvPr>
          <p:cNvSpPr/>
          <p:nvPr/>
        </p:nvSpPr>
        <p:spPr>
          <a:xfrm>
            <a:off x="3898800" y="6477120"/>
            <a:ext cx="13716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klass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роверка домашнего зад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опорным словам составить письменный пересказ басни «Белка и волк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белка прыгал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упала на сонного во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стала проси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отчего так весел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оттого скучно, что зо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веселы оттого, что добр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3" descr=""/>
          <p:cNvPicPr/>
          <p:nvPr/>
        </p:nvPicPr>
        <p:blipFill>
          <a:blip r:embed="rId1"/>
          <a:stretch/>
        </p:blipFill>
        <p:spPr>
          <a:xfrm>
            <a:off x="530280" y="341280"/>
            <a:ext cx="7772400" cy="217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Picture 2" descr="C:\Users\Катерина\Desktop\мама\завтра\л 33.jpeg"/>
          <p:cNvPicPr/>
          <p:nvPr/>
        </p:nvPicPr>
        <p:blipFill>
          <a:blip r:embed="rId2"/>
          <a:stretch/>
        </p:blipFill>
        <p:spPr>
          <a:xfrm>
            <a:off x="857160" y="2357280"/>
            <a:ext cx="7358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1315800"/>
            <a:ext cx="77310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onstantia"/>
              </a:rPr>
              <a:t>Они летели день и ночь, и другой день и другую ночь они летели, не отдыхая, над водою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Picture 3" descr="C:\Users\Катерина\Desktop\мама\завтра\л2.gif"/>
          <p:cNvPicPr/>
          <p:nvPr/>
        </p:nvPicPr>
        <p:blipFill>
          <a:blip r:embed="rId1"/>
          <a:stretch/>
        </p:blipFill>
        <p:spPr>
          <a:xfrm>
            <a:off x="928800" y="428760"/>
            <a:ext cx="7072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i="1" lang="ru-RU" sz="3600" spc="-1" strike="noStrike">
                <a:solidFill>
                  <a:srgbClr val="ffffff"/>
                </a:solidFill>
                <a:latin typeface="Constantia"/>
              </a:rPr>
              <a:t>Лебедь опустился на воду и сложил крылья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Picture 2" descr="C:\Users\Катерина\Desktop\мама\завтра\6.gif"/>
          <p:cNvPicPr/>
          <p:nvPr/>
        </p:nvPicPr>
        <p:blipFill>
          <a:blip r:embed="rId1"/>
          <a:stretch/>
        </p:blipFill>
        <p:spPr>
          <a:xfrm>
            <a:off x="4071960" y="214200"/>
            <a:ext cx="47624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0280" y="357120"/>
            <a:ext cx="7772400" cy="621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9d9d9"/>
                </a:solidFill>
                <a:latin typeface="Constantia"/>
              </a:rPr>
              <a:t>  </a:t>
            </a:r>
            <a:r>
              <a:rPr b="1" i="1" lang="ru-RU" sz="3200" spc="-1" strike="noStrike">
                <a:solidFill>
                  <a:srgbClr val="d9d9d9"/>
                </a:solidFill>
                <a:latin typeface="Constantia"/>
              </a:rPr>
              <a:t>Перед зарёй лёгкий ветерок стал колыхать мор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1" name="Picture 2" descr="C:\Users\Катерина\Desktop\мама\завтра\заря.jpg"/>
          <p:cNvPicPr/>
          <p:nvPr/>
        </p:nvPicPr>
        <p:blipFill>
          <a:blip r:embed="rId1"/>
          <a:stretch/>
        </p:blipFill>
        <p:spPr>
          <a:xfrm>
            <a:off x="1285920" y="357120"/>
            <a:ext cx="6762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6a3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0076a3"/>
                </a:solidFill>
                <a:latin typeface="Constantia"/>
              </a:rPr>
              <a:t>Лебедь вздохнул, вытянул шею и взмахнул крыльями, приподнялся и полетел, цепляя крыльями по вод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C:\Users\Катерина\Desktop\мама\завтра\0_b869_a4346218_XL.jpeg"/>
          <p:cNvPicPr/>
          <p:nvPr/>
        </p:nvPicPr>
        <p:blipFill>
          <a:blip r:embed="rId1"/>
          <a:stretch/>
        </p:blipFill>
        <p:spPr>
          <a:xfrm>
            <a:off x="457200" y="2071800"/>
            <a:ext cx="40402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Словар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уморились – выбились из сил, уста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месячный свет –лунный св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Деление на част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Constantia"/>
              </a:rPr>
              <a:t>Начал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С чего всё началось?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Почему лебеди летели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Для чего автор использует повторы слов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Как птицы себя чувствовали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В какое время это происходило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Озаглавь первую част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Основная ча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onstantia"/>
              </a:rPr>
              <a:t>Что случилось с молодым лебедем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onstantia"/>
              </a:rPr>
              <a:t>На что он решился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onstantia"/>
              </a:rPr>
              <a:t>Как лебедь себя повел на воде? Почему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onstantia"/>
              </a:rPr>
              <a:t>Озаглавь вторую  часть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Концов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Как изменилось поведение лебедя утром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Озаглавь эту част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070c0"/>
                </a:solidFill>
                <a:latin typeface="Calibri"/>
              </a:rPr>
              <a:t>Цели и задачи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продолжить знакомство с творчеством Л.Н.Толстого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совершенствовать навык чтени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развивать память, логическое мышление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учить делить текст на части и озаглавливать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воспитывать интерес к чтению, чувство сопереживания, добро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i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Примерный 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1.Трудный перелёт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2.Лебедь отста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3.Снова в путь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обще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 писатель относится к лебедю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ое впечатление вызвал рассказ у вас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686d"/>
                </a:solidFill>
                <a:latin typeface="Constantia"/>
              </a:rPr>
              <a:t>Обязательно:  Пересказ текста или наизусть последний абзац ( по выбор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686d"/>
                </a:solidFill>
                <a:latin typeface="Constantia"/>
              </a:rPr>
              <a:t>По желанию: Нарисовать иллюстрацию к тексту или придумать продолжение рассказ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Используемые ресур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turometr.s3.amazonaws.com/images/other/tour/01/26/94/2010/06/21/849fcf_700px.jpg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union-art.ru/modules/gallery/images/73776041949ba624745866.jpg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http://www.beenergy.ru/2008/01/21/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img-fotki.yandex.ru/get/17/topflight.8/0_b869_a4346218_XL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www.feltur.ru/tmp/images/photoalbum/149/07.33566.jp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www.1zoom.ru/10/foto/155733/92.6/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lady.webnice.ru/forum/viewtopic.php?t=7790&amp;start=705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kolekcioner.net.ua/otkritki_po_ris._e._bem2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www.bg-znanie.ru/rubrics.php?r_id=191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books.tr200.ru/v.php?p=0&amp;t=8&amp;id=20054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www.1zoom.ru/10/top2/69/&amp;width=1280&amp;height=102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stihiya.org/work_3228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Arial"/>
                <a:ea typeface="Arial"/>
              </a:rPr>
              <a:t>Лев Николаевич Толстой – гениальный писатель и необыкновенный челове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Содержимое 4" descr="тол1.jpg"/>
          <p:cNvPicPr/>
          <p:nvPr/>
        </p:nvPicPr>
        <p:blipFill>
          <a:blip r:embed="rId1"/>
          <a:stretch/>
        </p:blipFill>
        <p:spPr>
          <a:xfrm>
            <a:off x="1062000" y="1920960"/>
            <a:ext cx="2828880" cy="4433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d0d0d"/>
                </a:solidFill>
                <a:latin typeface="Constantia"/>
              </a:rPr>
              <a:t>Что вы знаете о Л.Н.Толстом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7030a0"/>
                </a:solidFill>
                <a:latin typeface="Calibri"/>
              </a:rPr>
              <a:t>Долгая  интересная жизн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Военный. Участник Крымской войн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Содержимое 8" descr="воен.jpg"/>
          <p:cNvPicPr/>
          <p:nvPr/>
        </p:nvPicPr>
        <p:blipFill>
          <a:blip r:embed="rId1"/>
          <a:stretch/>
        </p:blipFill>
        <p:spPr>
          <a:xfrm>
            <a:off x="4992840" y="1920960"/>
            <a:ext cx="33494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09" name="Содержимое 8" descr="ясная пол.jpg"/>
          <p:cNvPicPr/>
          <p:nvPr/>
        </p:nvPicPr>
        <p:blipFill>
          <a:blip r:embed="rId1"/>
          <a:stretch/>
        </p:blipFill>
        <p:spPr>
          <a:xfrm>
            <a:off x="285840" y="2143080"/>
            <a:ext cx="4500360" cy="38210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5286240" y="2000160"/>
            <a:ext cx="340056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Большую часть жизни писатель провёл в родовом имении - Ясная Поля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Arial"/>
                <a:ea typeface="Arial"/>
              </a:rPr>
              <a:t>Для крестьянских детей открыл школу в Ясной Полян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14" name="Содержимое 6" descr="30d86772a80ffe0c402b7680a741512a.jpeg"/>
          <p:cNvPicPr/>
          <p:nvPr/>
        </p:nvPicPr>
        <p:blipFill>
          <a:blip r:embed="rId1"/>
          <a:stretch/>
        </p:blipFill>
        <p:spPr>
          <a:xfrm>
            <a:off x="285840" y="1928880"/>
            <a:ext cx="4875120" cy="342432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7" descr="флигель школ.jpg"/>
          <p:cNvPicPr/>
          <p:nvPr/>
        </p:nvPicPr>
        <p:blipFill>
          <a:blip r:embed="rId2"/>
          <a:stretch/>
        </p:blipFill>
        <p:spPr>
          <a:xfrm>
            <a:off x="5143680" y="3786120"/>
            <a:ext cx="368424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3495c"/>
                </a:solidFill>
                <a:latin typeface="Arial"/>
                <a:ea typeface="Arial"/>
              </a:rPr>
              <a:t>Автор «Азбуки для детей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19" name="Содержимое 7" descr="азбука.jpg"/>
          <p:cNvPicPr/>
          <p:nvPr/>
        </p:nvPicPr>
        <p:blipFill>
          <a:blip r:embed="rId1"/>
          <a:stretch/>
        </p:blipFill>
        <p:spPr>
          <a:xfrm>
            <a:off x="1000080" y="2514600"/>
            <a:ext cx="2954520" cy="3846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Arial"/>
                <a:ea typeface="Arial"/>
              </a:rPr>
              <a:t>Какие произведения по жанру писал Л.Н.Толстой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Arial"/>
                <a:ea typeface="Arial"/>
              </a:rPr>
              <a:t>Какие произведения по жанру писал Л.Н.Толстой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Сказк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Басн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Рассказ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Былин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5:41:46Z</dcterms:created>
  <dc:creator>Катерина</dc:creator>
  <dc:description/>
  <dc:language>en-US</dc:language>
  <cp:lastModifiedBy>Home</cp:lastModifiedBy>
  <dcterms:modified xsi:type="dcterms:W3CDTF">2017-12-06T15:13:55Z</dcterms:modified>
  <cp:revision>20</cp:revision>
  <dc:subject/>
  <dc:title>Урок литературного чтения Л.Н.Толстой «Лебеди»</dc:title>
</cp:coreProperties>
</file>