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5.gif" ContentType="image/gif"/>
  <Override PartName="/ppt/media/image10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DE19-DCBA-403D-BC98-365F6BF8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99C-4D7B-413A-AF20-62E58C53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5A5-FAEC-4585-850F-B18F8014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6D23-686E-4C63-AD13-433D6B42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3D4E-2C49-478F-BC88-9E945B97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9A01-66D6-4398-89B9-AC0AD006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F59A-DEDC-4F5A-A6FE-BBAF3B66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3365-4AE0-446E-82DB-4CBFBE02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8F94-D1BA-415E-8949-FF6233C8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2845-149A-4D89-BB49-0C002418B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C056-E854-4D25-9BA8-8F1ED429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49C-216E-42F0-9DA8-403E2744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F917-F5D1-4EB3-B2F2-C11C0ED7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8191-631C-4752-9A5D-BF306FC6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BFBF-5A34-459D-B882-9EDA93B9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89E0-51E3-461F-83BE-D8A5F1426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2E711-767F-48DD-B43C-11801B85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1E1FE-023F-4023-85FC-92B038B8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83E66-E22C-4E56-898A-7D234DB5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3DD0-63D1-4833-B719-CDA9D82A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C351F-7677-429C-AB88-780DA54A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4BC38-C666-406A-A2AA-BA3069B3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25E-BFD5-4B1C-A7D0-0639C2E7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AE99-6244-449E-AA72-3143D4D5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67ED6-CC2A-450F-B4F8-3EBB14C9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F8041-1CF4-4490-9B80-8CCDEE01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5D76F-9174-4012-AB81-C481B839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C158-AF10-414B-8221-3C0CC224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5AEE7-D603-4F40-A420-1D9EB7D3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DDB0B-BF8B-4544-94E8-639C110E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5607-35C5-4588-BA26-4536BB7C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1A7D7-8E3E-46C8-92CE-EB20A086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3B41D-A08B-4BEB-BCB7-43156CAE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12E0-C0BE-4204-8FD4-3476B12C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E1F5C-A6A8-4EDD-905C-BE85E594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6DCB2-24D7-40CE-A96E-B8C1FD6E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4AE68-77E4-44FD-8F7E-740A9151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73436-1778-4A78-88C0-64887A5A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D44F3-CD95-4EF2-8E43-5B135956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4D120-FF9D-43E8-B977-A6028D15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606D6-8A46-444B-A38B-F0247C25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C1263-8241-46BD-BCBE-E35DA8DD4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7F881-9909-4F63-B0BE-931A2E17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A6F-821A-4CAF-B518-AED1DA95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35E-A3E5-452C-8ED5-D449AF73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6416-3E16-4992-AAC3-5402059A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3C95-4BEC-4DC9-92F2-E5AF40D8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10C5-4C41-415D-9527-FE22D6E1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77DA-615F-4128-B511-E4AE26AAC0E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97B6-E463-4838-8EEC-E15CA9B020F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66BB-14BB-46B6-B526-BB25C00B38C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3E21-8D75-49FE-8E1E-4AF9F6C09A9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urometr.s3.amazonaws.com/images/other/tour/01/26/94/2010/06/21/849fcf_700px.jpg" TargetMode="External"/><Relationship Id="rId2" Type="http://schemas.openxmlformats.org/officeDocument/2006/relationships/hyperlink" Target="http://union-art.ru/modules/gallery/images/73776041949ba624745866.jpg" TargetMode="External"/><Relationship Id="rId3" Type="http://schemas.openxmlformats.org/officeDocument/2006/relationships/hyperlink" Target="http://img-fotki.yandex.ru/get/17/topflight.8/0_b869_a4346218_X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255600" y="1371600"/>
            <a:ext cx="8534520" cy="2273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Скругленный прямоугольник 3">
            <a:hlinkClick r:id="rId2"/>
          </p:cNvPr>
          <p:cNvSpPr/>
          <p:nvPr/>
        </p:nvSpPr>
        <p:spPr>
          <a:xfrm>
            <a:off x="3898800" y="6477120"/>
            <a:ext cx="13716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5klass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Calibri"/>
              </a:rPr>
              <a:t>Проверка домашнего задан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 опорным словам составить письменный пересказ басни «Белка и волк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белка прыгал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упала на сонного во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стала просит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отчего так весел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оттого скучно, что зо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веселы оттого, что добры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3" descr=""/>
          <p:cNvPicPr/>
          <p:nvPr/>
        </p:nvPicPr>
        <p:blipFill>
          <a:blip r:embed="rId1"/>
          <a:stretch/>
        </p:blipFill>
        <p:spPr>
          <a:xfrm>
            <a:off x="530280" y="341280"/>
            <a:ext cx="7772400" cy="21765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2" name="Picture 2" descr="C:\Users\Катерина\Desktop\мама\завтра\л 33.jpeg"/>
          <p:cNvPicPr/>
          <p:nvPr/>
        </p:nvPicPr>
        <p:blipFill>
          <a:blip r:embed="rId2"/>
          <a:stretch/>
        </p:blipFill>
        <p:spPr>
          <a:xfrm>
            <a:off x="857160" y="2357280"/>
            <a:ext cx="73580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1320" y="1315800"/>
            <a:ext cx="77310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2f2f2"/>
                </a:solidFill>
                <a:latin typeface="Constantia"/>
              </a:rPr>
              <a:t>Они летели день и ночь, и другой день и другую ночь они летели, не отдыхая, над водою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5" name="Picture 3" descr="C:\Users\Катерина\Desktop\мама\завтра\л2.gif"/>
          <p:cNvPicPr/>
          <p:nvPr/>
        </p:nvPicPr>
        <p:blipFill>
          <a:blip r:embed="rId1"/>
          <a:stretch/>
        </p:blipFill>
        <p:spPr>
          <a:xfrm>
            <a:off x="928800" y="428760"/>
            <a:ext cx="7072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0280" y="131616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351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i="1" lang="ru-RU" sz="3600" spc="-1" strike="noStrike">
                <a:solidFill>
                  <a:srgbClr val="ffffff"/>
                </a:solidFill>
                <a:latin typeface="Constantia"/>
              </a:rPr>
              <a:t>Лебедь опустился на воду и сложил крылья 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8" name="Picture 2" descr="C:\Users\Катерина\Desktop\мама\завтра\6.gif"/>
          <p:cNvPicPr/>
          <p:nvPr/>
        </p:nvPicPr>
        <p:blipFill>
          <a:blip r:embed="rId1"/>
          <a:stretch/>
        </p:blipFill>
        <p:spPr>
          <a:xfrm>
            <a:off x="4071960" y="214200"/>
            <a:ext cx="47624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0280" y="357120"/>
            <a:ext cx="7772400" cy="621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0280" y="270468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9d9d9"/>
                </a:solidFill>
                <a:latin typeface="Constantia"/>
              </a:rPr>
              <a:t>  </a:t>
            </a:r>
            <a:r>
              <a:rPr b="1" i="1" lang="ru-RU" sz="3200" spc="-1" strike="noStrike">
                <a:solidFill>
                  <a:srgbClr val="d9d9d9"/>
                </a:solidFill>
                <a:latin typeface="Constantia"/>
              </a:rPr>
              <a:t>Перед зарёй лёгкий ветерок стал колыхать мор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41" name="Picture 2" descr="C:\Users\Катерина\Desktop\мама\завтра\заря.jpg"/>
          <p:cNvPicPr/>
          <p:nvPr/>
        </p:nvPicPr>
        <p:blipFill>
          <a:blip r:embed="rId1"/>
          <a:stretch/>
        </p:blipFill>
        <p:spPr>
          <a:xfrm>
            <a:off x="1285920" y="357120"/>
            <a:ext cx="6762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6a3"/>
                </a:solidFill>
                <a:latin typeface="Constantia"/>
              </a:rPr>
              <a:t>   </a:t>
            </a:r>
            <a:r>
              <a:rPr b="1" i="1" lang="ru-RU" sz="2800" spc="-1" strike="noStrike">
                <a:solidFill>
                  <a:srgbClr val="0076a3"/>
                </a:solidFill>
                <a:latin typeface="Constantia"/>
              </a:rPr>
              <a:t>Лебедь вздохнул, вытянул шею и взмахнул крыльями, приподнялся и полетел, цепляя крыльями по воде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2" descr="C:\Users\Катерина\Desktop\мама\завтра\0_b869_a4346218_XL.jpeg"/>
          <p:cNvPicPr/>
          <p:nvPr/>
        </p:nvPicPr>
        <p:blipFill>
          <a:blip r:embed="rId1"/>
          <a:stretch/>
        </p:blipFill>
        <p:spPr>
          <a:xfrm>
            <a:off x="457200" y="2071800"/>
            <a:ext cx="40402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Словарная работ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уморились – выбились из сил, устал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a3"/>
                </a:solidFill>
                <a:latin typeface="Constantia"/>
              </a:rPr>
              <a:t>месячный свет –лунный свет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Деление на части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6a3"/>
                </a:solidFill>
                <a:latin typeface="Constantia"/>
              </a:rPr>
              <a:t>Начало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С чего всё началось?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Почему лебеди летели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Для чего автор использует повторы слов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Как птицы себя чувствовали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В какое время это происходило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Озаглавь первую част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Основная част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onstantia"/>
              </a:rPr>
              <a:t>Что случилось с молодым лебедем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onstantia"/>
              </a:rPr>
              <a:t>На что он решился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onstantia"/>
              </a:rPr>
              <a:t>Как лебедь себя повел на воде? Почему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onstantia"/>
              </a:rPr>
              <a:t>Озаглавь вторую  часть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Концов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Как изменилось поведение лебедя утром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onstantia"/>
              </a:rPr>
              <a:t>Озаглавь эту часть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0070c0"/>
                </a:solidFill>
                <a:latin typeface="Calibri"/>
              </a:rPr>
              <a:t>Цели и задачи: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продолжить знакомство с творчеством Л.Н.Толстого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совершенствовать навык чтения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развивать память, логическое мышление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учить делить текст на части и озаглавливать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воспитывать интерес к чтению, чувство сопереживания, добро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b5395"/>
                </a:solidFill>
                <a:latin typeface="Arial"/>
                <a:ea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i="1" lang="ru-RU" sz="5000" spc="-1" strike="noStrike">
                <a:solidFill>
                  <a:srgbClr val="04617b"/>
                </a:solidFill>
                <a:latin typeface="Arial"/>
                <a:ea typeface="Arial"/>
              </a:rPr>
              <a:t>Примерный план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1.Трудный перелёт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2.Лебедь отстал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b5395"/>
                </a:solidFill>
                <a:latin typeface="Arial"/>
                <a:ea typeface="Arial"/>
              </a:rPr>
              <a:t>3.Снова в путь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общение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ак писатель относится к лебедю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акое впечатление вызвал рассказ у вас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7030a0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28760" y="1856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686d"/>
                </a:solidFill>
                <a:latin typeface="Constantia"/>
              </a:rPr>
              <a:t>Обязательно:  Пересказ текста или наизусть последний абзац ( по выбору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6686d"/>
                </a:solidFill>
                <a:latin typeface="Constantia"/>
              </a:rPr>
              <a:t>По желанию: Нарисовать иллюстрацию к тексту или придумать продолжение рассказ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4617b"/>
                </a:solidFill>
                <a:latin typeface="Calibri"/>
              </a:rPr>
              <a:t>Используемые ресурс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turometr.s3.amazonaws.com/images/other/tour/01/26/94/2010/06/21/849fcf_700px.jpg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union-art.ru/modules/gallery/images/73776041949ba624745866.jpg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http://www.beenergy.ru/2008/01/21/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http://img-fotki.yandex.ru/get/17/topflight.8/0_b869_a4346218_XL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www.feltur.ru/tmp/images/photoalbum/149/07.33566.jpg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www.1zoom.ru/10/foto/155733/92.6/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lady.webnice.ru/forum/viewtopic.php?t=7790&amp;start=705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kolekcioner.net.ua/otkritki_po_ris._e._bem2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www.bg-znanie.ru/rubrics.php?r_id=1917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books.tr200.ru/v.php?p=0&amp;t=8&amp;id=20054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www.1zoom.ru/10/top2/69/&amp;width=1280&amp;height=1024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http://stihiya.org/work_3228.htm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Arial"/>
                <a:ea typeface="Arial"/>
              </a:rPr>
              <a:t>Лев Николаевич Толстой – гениальный писатель и необыкновенный человек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Содержимое 4" descr="тол1.jpg"/>
          <p:cNvPicPr/>
          <p:nvPr/>
        </p:nvPicPr>
        <p:blipFill>
          <a:blip r:embed="rId1"/>
          <a:stretch/>
        </p:blipFill>
        <p:spPr>
          <a:xfrm>
            <a:off x="1062000" y="1920960"/>
            <a:ext cx="2828880" cy="4433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0d0d0d"/>
                </a:solidFill>
                <a:latin typeface="Constantia"/>
              </a:rPr>
              <a:t>Что вы знаете о Л.Н.Толстом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7030a0"/>
                </a:solidFill>
                <a:latin typeface="Calibri"/>
              </a:rPr>
              <a:t>Долгая  интересная жизнь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Constantia"/>
              </a:rPr>
              <a:t>Военный. Участник Крымской войн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Содержимое 8" descr="воен.jpg"/>
          <p:cNvPicPr/>
          <p:nvPr/>
        </p:nvPicPr>
        <p:blipFill>
          <a:blip r:embed="rId1"/>
          <a:stretch/>
        </p:blipFill>
        <p:spPr>
          <a:xfrm>
            <a:off x="4992840" y="1920960"/>
            <a:ext cx="33494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09" name="Содержимое 8" descr="ясная пол.jpg"/>
          <p:cNvPicPr/>
          <p:nvPr/>
        </p:nvPicPr>
        <p:blipFill>
          <a:blip r:embed="rId1"/>
          <a:stretch/>
        </p:blipFill>
        <p:spPr>
          <a:xfrm>
            <a:off x="285840" y="2143080"/>
            <a:ext cx="4500360" cy="38210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5286240" y="2000160"/>
            <a:ext cx="3400560" cy="4361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  <a:ea typeface="Arial"/>
              </a:rPr>
              <a:t>Большую часть жизни писатель провёл в родовом имении - Ясная Поля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Arial"/>
                <a:ea typeface="Arial"/>
              </a:rPr>
              <a:t>Для крестьянских детей открыл школу в Ясной Полян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14" name="Содержимое 6" descr="30d86772a80ffe0c402b7680a741512a.jpeg"/>
          <p:cNvPicPr/>
          <p:nvPr/>
        </p:nvPicPr>
        <p:blipFill>
          <a:blip r:embed="rId1"/>
          <a:stretch/>
        </p:blipFill>
        <p:spPr>
          <a:xfrm>
            <a:off x="285840" y="1928880"/>
            <a:ext cx="4875120" cy="3424320"/>
          </a:xfrm>
          <a:prstGeom prst="rect">
            <a:avLst/>
          </a:prstGeom>
          <a:ln w="0">
            <a:noFill/>
          </a:ln>
        </p:spPr>
      </p:pic>
      <p:pic>
        <p:nvPicPr>
          <p:cNvPr id="215" name="Содержимое 7" descr="флигель школ.jpg"/>
          <p:cNvPicPr/>
          <p:nvPr/>
        </p:nvPicPr>
        <p:blipFill>
          <a:blip r:embed="rId2"/>
          <a:stretch/>
        </p:blipFill>
        <p:spPr>
          <a:xfrm>
            <a:off x="5143680" y="3786120"/>
            <a:ext cx="368424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3495c"/>
                </a:solidFill>
                <a:latin typeface="Arial"/>
                <a:ea typeface="Arial"/>
              </a:rPr>
              <a:t>Автор «Азбуки для детей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pic>
        <p:nvPicPr>
          <p:cNvPr id="219" name="Содержимое 7" descr="азбука.jpg"/>
          <p:cNvPicPr/>
          <p:nvPr/>
        </p:nvPicPr>
        <p:blipFill>
          <a:blip r:embed="rId1"/>
          <a:stretch/>
        </p:blipFill>
        <p:spPr>
          <a:xfrm>
            <a:off x="1000080" y="2514600"/>
            <a:ext cx="2954520" cy="3846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Arial"/>
                <a:ea typeface="Arial"/>
              </a:rPr>
              <a:t>Какие произведения по жанру писал Л.Н.Толстой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500" spc="-1" strike="noStrike">
                <a:solidFill>
                  <a:srgbClr val="04617b"/>
                </a:solidFill>
                <a:latin typeface="Arial"/>
                <a:ea typeface="Arial"/>
              </a:rPr>
              <a:t>Какие произведения по жанру писал Л.Н.Толстой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Сказк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Басн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Рассказ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Былины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5:41:46Z</dcterms:created>
  <dc:creator>Катерина</dc:creator>
  <dc:description/>
  <dc:language>en-US</dc:language>
  <cp:lastModifiedBy>Home</cp:lastModifiedBy>
  <dcterms:modified xsi:type="dcterms:W3CDTF">2017-12-06T15:13:55Z</dcterms:modified>
  <cp:revision>20</cp:revision>
  <dc:subject/>
  <dc:title>Урок литературного чтения Л.Н.Толстой «Лебеди»</dc:title>
</cp:coreProperties>
</file>