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27.png" ContentType="image/png"/>
  <Override PartName="/ppt/media/image13.png" ContentType="image/png"/>
  <Override PartName="/ppt/media/image5.jpeg" ContentType="image/jpeg"/>
  <Override PartName="/ppt/media/image7.gif" ContentType="image/gif"/>
  <Override PartName="/ppt/media/image8.gif" ContentType="image/gif"/>
  <Override PartName="/ppt/media/applause.wav" ContentType="audio/x-wav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3.gif" ContentType="image/gif"/>
  <Override PartName="/ppt/media/image6.jpeg" ContentType="image/jpeg"/>
  <Override PartName="/ppt/media/image18.png" ContentType="image/png"/>
  <Override PartName="/ppt/media/image26.gif" ContentType="image/gif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28.gif" ContentType="image/gif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3C02-5D6F-4F37-9624-572AE4339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ртинки ссылки на загадки. На картин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льчик» в верхнем правом углу ссылка на слайд благодар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ижская основная школа «ПАРДАУГАВА», Рига, Латв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8.png"/><Relationship Id="rId4" Type="http://schemas.openxmlformats.org/officeDocument/2006/relationships/image" Target="../media/image7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8.gif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8.gif"/><Relationship Id="rId7" Type="http://schemas.openxmlformats.org/officeDocument/2006/relationships/image" Target="../media/image23.gif"/><Relationship Id="rId8" Type="http://schemas.openxmlformats.org/officeDocument/2006/relationships/image" Target="../media/image29.gif"/><Relationship Id="rId9" Type="http://schemas.openxmlformats.org/officeDocument/2006/relationships/image" Target="../media/image27.png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animatika.narod.ru/Narabotki14.htm" TargetMode="External"/><Relationship Id="rId3" Type="http://schemas.openxmlformats.org/officeDocument/2006/relationships/hyperlink" Target="http://www.lenagold.ru/" TargetMode="External"/><Relationship Id="rId4" Type="http://schemas.openxmlformats.org/officeDocument/2006/relationships/hyperlink" Target="http://smiles.33b.ru/smile.bereich102_0.html" TargetMode="External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9.jpeg"/><Relationship Id="rId4" Type="http://schemas.openxmlformats.org/officeDocument/2006/relationships/slide" Target=""/><Relationship Id="rId5" Type="http://schemas.openxmlformats.org/officeDocument/2006/relationships/image" Target="../media/image10.jpeg"/><Relationship Id="rId6" Type="http://schemas.openxmlformats.org/officeDocument/2006/relationships/slide" Target=""/><Relationship Id="rId7" Type="http://schemas.openxmlformats.org/officeDocument/2006/relationships/image" Target="../media/image11.png"/><Relationship Id="rId8" Type="http://schemas.openxmlformats.org/officeDocument/2006/relationships/slide" Target=""/><Relationship Id="rId9" Type="http://schemas.openxmlformats.org/officeDocument/2006/relationships/image" Target="../media/image12.png"/><Relationship Id="rId10" Type="http://schemas.openxmlformats.org/officeDocument/2006/relationships/slide" Target=""/><Relationship Id="rId11" Type="http://schemas.openxmlformats.org/officeDocument/2006/relationships/image" Target="../media/image13.png"/><Relationship Id="rId12" Type="http://schemas.openxmlformats.org/officeDocument/2006/relationships/slide" Target=""/><Relationship Id="rId13" Type="http://schemas.openxmlformats.org/officeDocument/2006/relationships/image" Target="../media/image14.png"/><Relationship Id="rId14" Type="http://schemas.openxmlformats.org/officeDocument/2006/relationships/slide" Target=""/><Relationship Id="rId15" Type="http://schemas.openxmlformats.org/officeDocument/2006/relationships/image" Target="../media/image15.jpeg"/><Relationship Id="rId16" Type="http://schemas.openxmlformats.org/officeDocument/2006/relationships/slide" Target=""/><Relationship Id="rId17" Type="http://schemas.openxmlformats.org/officeDocument/2006/relationships/image" Target="../media/image16.jpeg"/><Relationship Id="rId18" Type="http://schemas.openxmlformats.org/officeDocument/2006/relationships/slide" Target=""/><Relationship Id="rId19" Type="http://schemas.openxmlformats.org/officeDocument/2006/relationships/image" Target="../media/image17.jpeg"/><Relationship Id="rId20" Type="http://schemas.openxmlformats.org/officeDocument/2006/relationships/slide" Target=""/><Relationship Id="rId21" Type="http://schemas.openxmlformats.org/officeDocument/2006/relationships/image" Target="../media/image18.png"/><Relationship Id="rId22" Type="http://schemas.openxmlformats.org/officeDocument/2006/relationships/slide" Target=""/><Relationship Id="rId23" Type="http://schemas.openxmlformats.org/officeDocument/2006/relationships/image" Target="../media/image19.png"/><Relationship Id="rId24" Type="http://schemas.openxmlformats.org/officeDocument/2006/relationships/slide" Target=""/><Relationship Id="rId25" Type="http://schemas.openxmlformats.org/officeDocument/2006/relationships/image" Target="../media/image20.jpeg"/><Relationship Id="rId26" Type="http://schemas.openxmlformats.org/officeDocument/2006/relationships/slide" Target=""/><Relationship Id="rId27" Type="http://schemas.openxmlformats.org/officeDocument/2006/relationships/image" Target="../media/image21.png"/><Relationship Id="rId28" Type="http://schemas.openxmlformats.org/officeDocument/2006/relationships/image" Target="../media/image22.png"/><Relationship Id="rId29" Type="http://schemas.openxmlformats.org/officeDocument/2006/relationships/image" Target="../media/image5.jpeg"/><Relationship Id="rId30" Type="http://schemas.openxmlformats.org/officeDocument/2006/relationships/image" Target="../media/image5.jpeg"/><Relationship Id="rId31" Type="http://schemas.openxmlformats.org/officeDocument/2006/relationships/image" Target="../media/image23.gif"/><Relationship Id="rId32" Type="http://schemas.openxmlformats.org/officeDocument/2006/relationships/image" Target="../media/image24.png"/><Relationship Id="rId33" Type="http://schemas.openxmlformats.org/officeDocument/2006/relationships/image" Target="../media/image25.jpeg"/><Relationship Id="rId34" Type="http://schemas.openxmlformats.org/officeDocument/2006/relationships/slideLayout" Target="../slideLayouts/slideLayout3.xml"/><Relationship Id="rId3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6.gif"/><Relationship Id="rId4" Type="http://schemas.openxmlformats.org/officeDocument/2006/relationships/image" Target="../media/image7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8.gif"/><Relationship Id="rId6" Type="http://schemas.openxmlformats.org/officeDocument/2006/relationships/slide" Target=""/><Relationship Id="rId7" Type="http://schemas.openxmlformats.org/officeDocument/2006/relationships/image" Target="../media/image27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775280" cy="2048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132000" y="3284640"/>
            <a:ext cx="2976840" cy="29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859720" y="565992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1266840" cy="3165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72120" y="1842480"/>
            <a:ext cx="419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лом пишет и рису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с ошибками вою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 думать, размышля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 его, ребята, з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195640" y="3716280"/>
            <a:ext cx="952200" cy="1276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268360" y="378936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862960" y="56599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7840" y="1842120"/>
            <a:ext cx="37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кажи, кто так вкусн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отовит щи капустны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ахучие котлеты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латы, винегреты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е завтраки, обе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1471680" cy="4116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835280" y="4365720"/>
            <a:ext cx="952200" cy="1276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908000" y="4365720"/>
            <a:ext cx="809640" cy="1238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51960" y="5659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ОЖ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720" y="1410840"/>
            <a:ext cx="482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 огнём бороться мы должны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 водою мы напарники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ы очень людям всем нужны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ь скорее, кто же м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59280" y="2997360"/>
            <a:ext cx="3581280" cy="23875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979640" y="335772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050920" y="342900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76800" y="5733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МАЛЯ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040" y="1914120"/>
            <a:ext cx="43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т на краешке с опаско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железо красит краской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него в руке ведро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м раскрашен он пестр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48360" y="3213000"/>
            <a:ext cx="2857320" cy="23716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1979640" y="386064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50440" y="1663560"/>
            <a:ext cx="3541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этой волшебни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ой художни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кисти и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гребень и нож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а 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инственной сил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 кому прикоснё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т станет краси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25640" y="53020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АРИКМА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4319640" cy="28767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952560" cy="1276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1835280" y="4869000"/>
            <a:ext cx="809640" cy="1238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3560" y="2202840"/>
            <a:ext cx="387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октор, но не для дет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для птиц и для зве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него особый д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от врач -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92520" y="58770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ЕТЕРИ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59280" y="4221000"/>
            <a:ext cx="1295280" cy="1500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334200" y="1916280"/>
            <a:ext cx="1762200" cy="3746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979640" y="4076640"/>
            <a:ext cx="952560" cy="127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050920" y="414972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57360" y="2201040"/>
            <a:ext cx="439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цирке он смешнее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него – большой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лько вспомнить остаё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есельчак тот как зов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09880" y="58053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ЛО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303640" cy="3381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050920" y="4076640"/>
            <a:ext cx="952560" cy="127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2124000" y="407664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2565360"/>
            <a:ext cx="2381400" cy="31338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512640" y="1986480"/>
            <a:ext cx="494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природу охраня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раконьеров прогоня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зимою у корм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гости ждёт лесных зверю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197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ЛЕС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268360" y="400536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411280" y="407664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1200" y="2050200"/>
            <a:ext cx="456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по крышам ходит смел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него та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дымоход с ершом ныр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от сажи нас спас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51440" y="580536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ТРУБОЧ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2346120" cy="4151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484360" y="378936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2556000" y="386064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76360" y="1268280"/>
            <a:ext cx="6048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3708360" y="30686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5651640" y="4221000"/>
            <a:ext cx="1162080" cy="2057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1692360" y="4365720"/>
            <a:ext cx="2286000" cy="1847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10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476360" y="1484280"/>
            <a:ext cx="604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ФЕССИЯ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5950080"/>
            <a:ext cx="1440000" cy="28728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0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СУРСЫ:</a:t>
            </a:r>
            <a:br>
              <a:rPr sz="3200"/>
            </a:br>
            <a:br>
              <a:rPr sz="32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zanimatika.narod.ru/Narabotki14.htm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загадки о профессиях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lenagold.ru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артинки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smiles.33b.ru/smile.bereich102_0.html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картинк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 http://aida.ucoz.ru/</a:t>
            </a: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мочка.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61524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адки – неотъемлемая часть детства. Любой из нас помнит и лампочку - “грушу, которую нельзя скушать”, и ножницы, у которых “два конца, два кольца, посередине гвоздик”. К сожалению, мы не уделяем должного внимания загадкам - этим коротким и метким “развивалкам” детского ума, а иногда и вообще забываем об их существовании. А ведь для этого не нужно ни специальных знаний, ни большого количества времени. Отгадывать загадки можно прямо на ходу: во время прогулки или по дороге в шк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ОПРОБУЕМ?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380360" y="4941720"/>
            <a:ext cx="952560" cy="1276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42920" y="5013360"/>
            <a:ext cx="809640" cy="123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03280" y="1773360"/>
            <a:ext cx="1511280" cy="10047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59280" y="1773360"/>
            <a:ext cx="1512720" cy="1008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56000" y="4292640"/>
            <a:ext cx="982440" cy="208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88000" y="2924280"/>
            <a:ext cx="1158840" cy="1224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08360" y="4292640"/>
            <a:ext cx="833400" cy="208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716360" y="4292640"/>
            <a:ext cx="747720" cy="208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0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43640" y="1773360"/>
            <a:ext cx="1511280" cy="1008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1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130560" y="2924280"/>
            <a:ext cx="1512720" cy="12254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2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716360" y="1773360"/>
            <a:ext cx="1582920" cy="1008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3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020000" y="4292640"/>
            <a:ext cx="979560" cy="208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4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971640" y="4292640"/>
            <a:ext cx="1420560" cy="208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5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084720" y="2924280"/>
            <a:ext cx="930600" cy="1224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6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5651640" y="4292640"/>
            <a:ext cx="1179360" cy="208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8"/>
          <a:stretch/>
        </p:blipFill>
        <p:spPr>
          <a:xfrm>
            <a:off x="7020000" y="5805360"/>
            <a:ext cx="487440" cy="56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755640" y="907920"/>
            <a:ext cx="604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БИРАЙ И ОТГАДЫВА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692280"/>
            <a:ext cx="936720" cy="934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1"/>
          <a:stretch/>
        </p:blipFill>
        <p:spPr>
          <a:xfrm>
            <a:off x="7267680" y="765000"/>
            <a:ext cx="44928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endshow"/>
          </p:cNvPr>
          <p:cNvPicPr/>
          <p:nvPr/>
        </p:nvPicPr>
        <p:blipFill>
          <a:blip r:embed="rId32"/>
          <a:stretch/>
        </p:blipFill>
        <p:spPr>
          <a:xfrm>
            <a:off x="8820000" y="6624720"/>
            <a:ext cx="324000" cy="23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3"/>
          <a:stretch/>
        </p:blipFill>
        <p:spPr>
          <a:xfrm>
            <a:off x="1692360" y="2924280"/>
            <a:ext cx="1295280" cy="12254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776560" y="580428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0840" y="1626120"/>
            <a:ext cx="597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ы учишь буквы складывать, считат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веты растить и бабочек ловит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все смотреть и все запоминат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все родное, родину любит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432240" cy="22795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124000" y="3573360"/>
            <a:ext cx="952560" cy="127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700360" y="357336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02120" y="57330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1080" y="1626480"/>
            <a:ext cx="542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таем мы очень ран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дь наша забот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х отвозить по утрам на работ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346200" cy="22287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340000" y="335772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2556000" y="350028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43280" y="580428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ДОКТО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1660680"/>
            <a:ext cx="537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то в дни болезней всех полезн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лечит нас от всех болезней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00720" y="2708280"/>
            <a:ext cx="1424160" cy="302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276720" y="306864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419640" y="321300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9840" y="565992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АКТ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2382840" cy="2520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714960" y="1771200"/>
            <a:ext cx="411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работает, иг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Есть профессия так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на сцене с давних п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 професси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79640" y="364500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2050920" y="371628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51640" y="5013360"/>
            <a:ext cx="216036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арри Пот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43920" y="573300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ФОТ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720" y="1771200"/>
            <a:ext cx="458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ведет стеклянный глаз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Щелкнет раз - и помним вас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328464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95640" y="3357720"/>
            <a:ext cx="809640" cy="123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6" action="ppaction://hlinksldjump"/>
          </p:cNvPr>
          <p:cNvPicPr/>
          <p:nvPr/>
        </p:nvPicPr>
        <p:blipFill>
          <a:blip r:embed="rId7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859280" y="2852640"/>
            <a:ext cx="2955960" cy="27147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5:38:13Z</dcterms:created>
  <dc:creator>L. Lazareva</dc:creator>
  <dc:description/>
  <dc:language>en-US</dc:language>
  <cp:lastModifiedBy>L. Lazareva</cp:lastModifiedBy>
  <dcterms:modified xsi:type="dcterms:W3CDTF">2010-01-17T07:33:17Z</dcterms:modified>
  <cp:revision>35</cp:revision>
  <dc:subject/>
  <dc:title>Zagadki o professijah</dc:title>
</cp:coreProperties>
</file>