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7D2-B1DB-461E-9442-6D972D92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7AD-988A-4D37-A21C-43F4984A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6F5-2DCB-4A41-9226-5621A08D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377-A646-4490-9F49-0EE6AAA8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C03A-7A8E-4C01-84FE-58E2B3A7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979C-646A-436D-893D-69F5D2CA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3D3D-7719-4D00-A5D3-8137AABC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F226-7911-4BA1-8474-D81B7BA1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DED2-7588-4CE9-884B-5720855B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F6B9-749C-41B0-AB3C-BCA2C94E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B53D-0B31-46F1-B75E-7D04F681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E0B-379E-499E-85B2-9D489316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A7B8-601D-45CC-B694-F7824AE6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DCC2-7C56-4638-9A56-0AE660ED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4370-5B25-4530-8811-A404627E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AA1D-796D-4862-B7C1-EE797489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6BCF-A202-46FB-B38D-A569EDF9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B74-907A-4406-8F07-45CBE4AE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669-032D-40E7-86BF-3F250A7D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E4A-06C6-43A9-A8FF-C06A13FE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2AA-7256-42B6-ACD6-B0FAE788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E49-D037-4D2E-9AFF-457B272E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445-26C7-4242-9475-41F5CBAF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983-01D0-4C27-BBD1-17E4DBF8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16A1-7C99-4320-80ED-FF69AC00344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E841-C869-49BF-ADF2-8C16B276B1C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9.gif"/><Relationship Id="rId16" Type="http://schemas.openxmlformats.org/officeDocument/2006/relationships/image" Target="../media/image10.gif"/><Relationship Id="rId17" Type="http://schemas.openxmlformats.org/officeDocument/2006/relationships/audio" Target="file:///tmp/home/.config/libreoffice/4/user/gallery/&#1087;&#1088;&#1080;&#1085;&#1094;.wav" TargetMode="External"/><Relationship Id="rId18" Type="http://schemas.microsoft.com/office/2007/relationships/media" Target="file:///tmp/home/.config/libreoffice/4/user/gallery/&#1087;&#1088;&#1080;&#1085;&#1094;.wav" TargetMode="External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543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Arial Black"/>
              </a:rPr>
              <a:t>Физкультминутка</a:t>
            </a: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cc00"/>
                </a:solidFill>
                <a:latin typeface="Arial Black"/>
              </a:rPr>
              <a:t>«Солнечная </a:t>
            </a:r>
            <a:br>
              <a:rPr sz="7200"/>
            </a:br>
            <a:r>
              <a:rPr b="1" lang="en-US" sz="7200" spc="-1" strike="noStrike">
                <a:solidFill>
                  <a:srgbClr val="ffcc00"/>
                </a:solidFill>
                <a:latin typeface="Arial Black"/>
              </a:rPr>
              <a:t>система»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b1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9871400">
            <a:off x="6084360" y="765000"/>
            <a:ext cx="1795680" cy="1603440"/>
          </a:xfrm>
          <a:prstGeom prst="star5">
            <a:avLst/>
          </a:pr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042920" y="4797360"/>
            <a:ext cx="936720" cy="863640"/>
          </a:xfrm>
          <a:prstGeom prst="star5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635280" y="549360"/>
            <a:ext cx="1224000" cy="1079280"/>
          </a:xfrm>
          <a:prstGeom prst="star5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9975200">
            <a:off x="6283440" y="3414240"/>
            <a:ext cx="1731960" cy="165600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9975200">
            <a:off x="779040" y="1011240"/>
            <a:ext cx="1587600" cy="151128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975200">
            <a:off x="3566880" y="4804920"/>
            <a:ext cx="1873080" cy="1736640"/>
          </a:xfrm>
          <a:prstGeom prst="star5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3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5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3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3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2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06" dur="3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15" dur="3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3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36" dur="3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9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3500"/>
                            </p:stCondLst>
                            <p:childTnLst>
                              <p:par>
                                <p:cTn id="1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160" dur="3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3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95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1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2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35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40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7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21:40:53Z</dcterms:created>
  <dc:creator>людмила</dc:creator>
  <dc:description/>
  <dc:language>en-US</dc:language>
  <cp:lastModifiedBy>людмила</cp:lastModifiedBy>
  <dcterms:modified xsi:type="dcterms:W3CDTF">2017-01-05T21:44:1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