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AA2-EFCB-4099-ACDD-F79F5B23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B0D-F90E-4786-BB14-C047EAF3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BC25-1959-4C41-95B6-79B9E39E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BE0-1C42-4B68-BFD4-E93F6D9A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CF7D-9E5B-4D3A-9212-383AC0D4D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4696-8501-45BE-B30A-381D7D6B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8FDD-ABAA-4BB5-B581-F579E91D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7EDB-EF9B-4D42-906A-29F99236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27B9-9280-428C-99DC-64832088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E081-6B8E-4615-B6C6-8AFDDD3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0E31-92BF-466A-8612-37BE533A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DEBE-5497-4ABC-8DEB-AB2FC948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8D13-5D01-45A9-A6C0-066613CF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06FF2-24FC-468C-89D5-C88638EE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25CD-9853-4222-B2E2-5BE75094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4B58-4097-40CF-B32A-1CDD69994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5868-D58F-4896-946A-F669E437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9F0-48D5-4EAF-B164-297FD181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3878-690C-4763-88CB-7AC3FB7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17F8-2617-40A2-9932-45BB31A5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58A8-CE23-4BE2-B436-131EE73B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012-FB49-40BF-940C-C8A8961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7F2-5E23-4C6A-8333-2365E85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61CE-2F4F-464F-8057-4526D753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ECFF-2032-4632-BCF4-CCACF06028E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CA7C-9C1C-40C7-A2D2-D509CC0ACEB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image" Target="../media/image4.gif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8.gif"/><Relationship Id="rId14" Type="http://schemas.openxmlformats.org/officeDocument/2006/relationships/image" Target="../media/image8.gif"/><Relationship Id="rId15" Type="http://schemas.openxmlformats.org/officeDocument/2006/relationships/image" Target="../media/image9.gif"/><Relationship Id="rId16" Type="http://schemas.openxmlformats.org/officeDocument/2006/relationships/image" Target="../media/image10.gif"/><Relationship Id="rId17" Type="http://schemas.openxmlformats.org/officeDocument/2006/relationships/audio" Target="file:///tmp/home/.config/libreoffice/4/user/gallery/&#1087;&#1088;&#1080;&#1085;&#1094;.wav" TargetMode="External"/><Relationship Id="rId18" Type="http://schemas.microsoft.com/office/2007/relationships/media" Target="file:///tmp/home/.config/libreoffice/4/user/gallery/&#1087;&#1088;&#1080;&#1085;&#1094;.wav" TargetMode="External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Arial Black"/>
              </a:rPr>
              <a:t>Физкультминутка</a:t>
            </a: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«Солнечная </a:t>
            </a:r>
            <a:br>
              <a:rPr sz="7200"/>
            </a:br>
            <a:r>
              <a:rPr b="1" lang="en-US" sz="7200" spc="-1" strike="noStrike">
                <a:solidFill>
                  <a:srgbClr val="ffcc00"/>
                </a:solidFill>
                <a:latin typeface="Arial Black"/>
              </a:rPr>
              <a:t>система»</a:t>
            </a:r>
            <a:endParaRPr b="0" lang="en-US" sz="7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b17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19871400">
            <a:off x="6084360" y="765000"/>
            <a:ext cx="1795680" cy="1603440"/>
          </a:xfrm>
          <a:prstGeom prst="star5">
            <a:avLst/>
          </a:prstGeom>
          <a:gradFill rotWithShape="0">
            <a:gsLst>
              <a:gs pos="0">
                <a:srgbClr val="0000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042920" y="4797360"/>
            <a:ext cx="936720" cy="863640"/>
          </a:xfrm>
          <a:prstGeom prst="star5">
            <a:avLst/>
          </a:pr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35280" y="549360"/>
            <a:ext cx="1224000" cy="1079280"/>
          </a:xfrm>
          <a:prstGeom prst="star5">
            <a:avLst/>
          </a:pr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9975200">
            <a:off x="6283440" y="3414240"/>
            <a:ext cx="1731960" cy="1656000"/>
          </a:xfrm>
          <a:prstGeom prst="star5">
            <a:avLst/>
          </a:pr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9975200">
            <a:off x="779040" y="1011240"/>
            <a:ext cx="1587600" cy="151128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9975200">
            <a:off x="3566880" y="4804920"/>
            <a:ext cx="1873080" cy="1736640"/>
          </a:xfrm>
          <a:prstGeom prst="star5">
            <a:avLst/>
          </a:pr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>
            <a:hlinkClick r:id="" action="ppaction://media"/>
          </p:cNvPr>
          <p:cNvPicPr/>
          <p:nvPr>
            <a:audi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" dur="3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3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3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106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115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3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136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1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160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3000" fill="hold"/>
                                        <p:tgtEl>
                                          <p:spTgt spid="37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1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5" dur="2000" fill="hold"/>
                                        <p:tgtEl>
                                          <p:spTgt spid="3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1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1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74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5T21:40:53Z</dcterms:created>
  <dc:creator>людмила</dc:creator>
  <dc:description/>
  <dc:language>en-US</dc:language>
  <cp:lastModifiedBy>людмила</cp:lastModifiedBy>
  <dcterms:modified xsi:type="dcterms:W3CDTF">2017-01-05T21:44:1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