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4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25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995D-F528-4420-A8DD-96B2795A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8B7A-7B46-47B8-AA96-FCE2C575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701B-A6D9-429C-84C3-2D50CCC4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69B8-F371-4E8D-8890-477564B7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C9ED-4134-419D-9E70-1CF08902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1F89-5A77-4A44-9913-AC8B1924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F445-7ACA-464A-B90B-889B4261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C905-D555-4639-986A-7FECD921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C176-F076-4060-9B12-E7005531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604A-B8FF-4899-913E-65CBF6B3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1176-704B-46AE-A9A9-3266EFC3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CEB5-3F95-433B-99AF-BFC10E90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9496-4B91-40B1-9640-20D9E13D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D3B7-16FA-4F3C-A86B-D5FF5C3C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3036-6622-48E1-B042-8F3CEDAD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5239-EFF1-48BD-9AB4-E505BB53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431A-06AA-40CE-9B41-AB7B694D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89CA-14D0-451E-8A58-FD28A177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D53A-97E6-4391-A460-3AA16195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89C8-617F-4F0F-8459-367A1EF8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82DB-BBB2-4D44-B67B-FBB66004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D2F8-7452-4B1E-8C9E-CD0DAA55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DCA1-6E4E-40CE-812B-003B579F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2475-7C07-41FB-A1A7-536E4AC9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0242-93F5-4E93-AB26-3AF6A1A7F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CDEF-0167-43FC-973A-32CEC351D7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7;&#1086;&#1083;&#1080;&#1090;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Monotype Corsiva"/>
              </a:rPr>
              <a:t>«Хлеб: польза и вред.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580000" y="5013360"/>
            <a:ext cx="3240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ыполнил: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Достовалов    Ант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ученик  7 класс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Руководитель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упава Г.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читель мате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Рисунок 28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3000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28760" y="42840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1332000" y="464040"/>
            <a:ext cx="6624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чем вред хлеб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Горячий хлеб есть нельз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780000" y="20606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ный отказ от хлеб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ожет привести к депресс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324000" y="3216960"/>
            <a:ext cx="694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пасен хлеб с большим сроком хранения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2556000" y="3572640"/>
            <a:ext cx="594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кой бы полезный и дорогой хлеб вы ни купили, он принесет вам только вред, если он неправильно приготовлен (будет непропеченный, пересушенный, просроченны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2771640" y="5615640"/>
            <a:ext cx="63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«Вред белого хлеба»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500040" y="6169680"/>
            <a:ext cx="694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рожжевой хлеб очень вреден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Как правильно печь хлеб?"/>
          <p:cNvPicPr/>
          <p:nvPr/>
        </p:nvPicPr>
        <p:blipFill>
          <a:blip r:embed="rId1"/>
          <a:stretch/>
        </p:blipFill>
        <p:spPr>
          <a:xfrm>
            <a:off x="1042920" y="1628640"/>
            <a:ext cx="2449440" cy="16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1. Как часто вы едите хлеб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429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-571320" rIns="90000" tIns="-37800" bIns="-151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1187280" y="189000"/>
            <a:ext cx="640908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571320" rIns="90000" tIns="152280" bIns="3816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Социологический опро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971640" y="1484280"/>
            <a:ext cx="684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571320" rIns="90000" tIns="152280" bIns="38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8" name="Object 8"/>
          <p:cNvGraphicFramePr/>
          <p:nvPr/>
        </p:nvGraphicFramePr>
        <p:xfrm>
          <a:off x="1214280" y="2071800"/>
          <a:ext cx="7072560" cy="45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071800"/>
                    <a:ext cx="707256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2. Какой хлеб вы больше любите?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428760" y="1643040"/>
          <a:ext cx="8143920" cy="45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643040"/>
                    <a:ext cx="8143920" cy="45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 txBox="1"/>
          <p:nvPr/>
        </p:nvSpPr>
        <p:spPr>
          <a:xfrm>
            <a:off x="1499760" y="1599840"/>
            <a:ext cx="7643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3. Знаете ли вы, что к хлебу нужно относиться бережно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7" name="Object 4"/>
          <p:cNvGraphicFramePr/>
          <p:nvPr/>
        </p:nvGraphicFramePr>
        <p:xfrm>
          <a:off x="857160" y="1428840"/>
          <a:ext cx="7715520" cy="52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428840"/>
                    <a:ext cx="771552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4.  Можете ли Вы обойтись без употребления хлеба?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1143000" y="928800"/>
          <a:ext cx="7643880" cy="59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28800"/>
                    <a:ext cx="7643880" cy="59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5 Как вы думаете, хлеб имеет полезные для организма свойства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8" name="Object 5"/>
          <p:cNvGraphicFramePr/>
          <p:nvPr/>
        </p:nvGraphicFramePr>
        <p:xfrm>
          <a:off x="1071720" y="1643040"/>
          <a:ext cx="757224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643040"/>
                    <a:ext cx="757224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6. Имеет ли хлеб вредное воздействие на организм человека? Какие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Object 5"/>
          <p:cNvGraphicFramePr/>
          <p:nvPr/>
        </p:nvGraphicFramePr>
        <p:xfrm>
          <a:off x="1285920" y="1285920"/>
          <a:ext cx="6929280" cy="55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1285920"/>
                    <a:ext cx="692928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7.Что для тебя кусочек хлеба?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6840" y="160020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8" name="Object 1"/>
          <p:cNvGraphicFramePr/>
          <p:nvPr/>
        </p:nvGraphicFramePr>
        <p:xfrm>
          <a:off x="826920" y="1052640"/>
          <a:ext cx="770580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052640"/>
                    <a:ext cx="770580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Monotype Corsiva"/>
              </a:rPr>
              <a:t>Вывод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Хлеб очень полезен, в нем находятся практически все питательные вещества необходимые человеку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становлено </a:t>
            </a:r>
            <a:r>
              <a:rPr b="0" lang="ru-RU" sz="3600" spc="-1" strike="noStrike">
                <a:solidFill>
                  <a:srgbClr val="ffffff"/>
                </a:solidFill>
                <a:latin typeface="Arial Unicode MS"/>
              </a:rPr>
              <a:t>, что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орма хлеба для детей и подростков  150-400г, для взрослого человека, не занятого физическим трудом, – примерно 300–350 г хлеба в день, однако это количество может меняться в зависимости от возраста, вида деятельности челове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этому кушайте хлеб на здоровье в меру: он и вкусный, и полезны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Monotype Corsiva"/>
              </a:rPr>
              <a:t>Цель работы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Цель  данного исследования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обраться, вреден или полезен хлеб для здоровья лю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4" descr=" (420x280, 73Kb)"/>
          <p:cNvPicPr/>
          <p:nvPr/>
        </p:nvPicPr>
        <p:blipFill>
          <a:blip r:embed="rId1"/>
          <a:stretch/>
        </p:blipFill>
        <p:spPr>
          <a:xfrm>
            <a:off x="3786120" y="3071880"/>
            <a:ext cx="4572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9152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т он, хлебушко душисты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 хрупкой корочкой вито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т он теплый, золотисты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ловно солнцем налит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каждый дом, на каждый сто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н пожаловал, приш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нем здоровье, наша сил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нем чудесное теп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076720" y="2565360"/>
            <a:ext cx="3384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Задачи исследования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Изучить литературу по теме исследовательской работ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Провести  и обработать  анкетиро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Приготовить презентацию исследовательской части рабо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апы исследова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этап -   поисково-теоретическ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этап -   проведение и обработ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кетиро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этап -  вывод по результата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еланной работ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ы исследова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Теоретический анали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Анкетиров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общени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156360" y="4508640"/>
            <a:ext cx="26305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395280" y="0"/>
            <a:ext cx="8137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857160" y="714240"/>
            <a:ext cx="70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Хле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— один из старейших приготавливаемых продуктов, появившийся ещё в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1"/>
              </a:rPr>
              <a:t>Неолит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 Считается, что впервые хлеб появился больше пятнадцати тысяч лет назад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92360" y="5472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Из истории хлеба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826920" y="3643200"/>
            <a:ext cx="70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ольших успехов в искусстве хлебопечения достигли египтяне. Их в древнем мире называли "хлебоедами"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оугольник 6"/>
          <p:cNvSpPr/>
          <p:nvPr/>
        </p:nvSpPr>
        <p:spPr>
          <a:xfrm>
            <a:off x="857160" y="2143080"/>
            <a:ext cx="728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к известно в древние времена выпекали только пресный хлеб, так было до тех пор, пока у одного раба в древнем Египте по неосторожности не скисло тест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оугольник 7"/>
          <p:cNvSpPr/>
          <p:nvPr/>
        </p:nvSpPr>
        <p:spPr>
          <a:xfrm>
            <a:off x="826920" y="4724280"/>
            <a:ext cx="650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ревнеегипетские хлебопеки пекли хлеб самых разных форм: продолговатый, круглы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форме пирамидок, плетенок, рыб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финкс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Хлеб для гипертоников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295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Хлеб да каша - пища наша"/>
          <p:cNvPicPr/>
          <p:nvPr/>
        </p:nvPicPr>
        <p:blipFill>
          <a:blip r:embed="rId3"/>
          <a:stretch/>
        </p:blipFill>
        <p:spPr>
          <a:xfrm>
            <a:off x="6622920" y="5084640"/>
            <a:ext cx="2521080" cy="17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476360" y="47520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лебные рекорды Гиннес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68360" y="1125360"/>
            <a:ext cx="539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амая большая буханка хлеб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ес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,43 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2340000" y="1894680"/>
            <a:ext cx="62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0" y="6108840"/>
            <a:ext cx="5688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екс - чемпи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азмер 25 на 1,5 метр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3276720" y="1557360"/>
            <a:ext cx="252072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амый большой каравай в ми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есит 465,1 кг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ысота 78 с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иаметр: 2, 21 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2556000" y="3141720"/>
            <a:ext cx="401616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571320" rIns="90000" tIns="152280" bIns="3816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мую большую хлебную мозаику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знаменитой картины Леонардо да Винчи «Джоконда» создала Лаура Хендлен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492360" y="4331880"/>
            <a:ext cx="359892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571320" rIns="90000" tIns="152280" bIns="38160" anchor="ctr">
            <a:spAutoFit/>
          </a:bodyPr>
          <a:p>
            <a:pPr algn="r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лебная мозаи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с 3 тон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сота 2 мет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ора Хэдлен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ожила  мозаичн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ртрет сво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екрови из тост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Рисунок 16" descr="99"/>
          <p:cNvPicPr/>
          <p:nvPr/>
        </p:nvPicPr>
        <p:blipFill>
          <a:blip r:embed="rId1"/>
          <a:stretch/>
        </p:blipFill>
        <p:spPr>
          <a:xfrm>
            <a:off x="500040" y="1785960"/>
            <a:ext cx="1857240" cy="124776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17" descr="замеры рекорда"/>
          <p:cNvPicPr/>
          <p:nvPr/>
        </p:nvPicPr>
        <p:blipFill>
          <a:blip r:embed="rId2"/>
          <a:stretch/>
        </p:blipFill>
        <p:spPr>
          <a:xfrm>
            <a:off x="6156360" y="1125360"/>
            <a:ext cx="2592360" cy="216072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18" descr="41da913af350"/>
          <p:cNvPicPr/>
          <p:nvPr/>
        </p:nvPicPr>
        <p:blipFill>
          <a:blip r:embed="rId3"/>
          <a:stretch/>
        </p:blipFill>
        <p:spPr>
          <a:xfrm>
            <a:off x="395280" y="3068640"/>
            <a:ext cx="1571760" cy="221472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9" descr="12_12_10_1"/>
          <p:cNvPicPr/>
          <p:nvPr/>
        </p:nvPicPr>
        <p:blipFill>
          <a:blip r:embed="rId4"/>
          <a:stretch/>
        </p:blipFill>
        <p:spPr>
          <a:xfrm>
            <a:off x="7070760" y="4581360"/>
            <a:ext cx="2073240" cy="1872000"/>
          </a:xfrm>
          <a:prstGeom prst="rect">
            <a:avLst/>
          </a:prstGeom>
          <a:ln w="0">
            <a:noFill/>
          </a:ln>
        </p:spPr>
      </p:pic>
      <p:pic>
        <p:nvPicPr>
          <p:cNvPr id="243" name="Rectangle 68" descr=""/>
          <p:cNvPicPr/>
          <p:nvPr/>
        </p:nvPicPr>
        <p:blipFill>
          <a:blip r:embed="rId5"/>
          <a:stretch/>
        </p:blipFill>
        <p:spPr>
          <a:xfrm>
            <a:off x="2556000" y="5084640"/>
            <a:ext cx="1957320" cy="15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1116000" y="29268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лассификация хлеб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324000" y="84816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Хлебные изделия в зависимости от вида муки  могут быть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539640" y="2861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жаны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2843280" y="28486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468360" y="34930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 рецептуре теста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539640" y="58896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оугольник 18"/>
          <p:cNvSpPr/>
          <p:nvPr/>
        </p:nvSpPr>
        <p:spPr>
          <a:xfrm>
            <a:off x="2085840" y="28576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жано-пшеничны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19"/>
          <p:cNvSpPr/>
          <p:nvPr/>
        </p:nvSpPr>
        <p:spPr>
          <a:xfrm>
            <a:off x="4371840" y="28576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шенично-ржаны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20"/>
          <p:cNvSpPr/>
          <p:nvPr/>
        </p:nvSpPr>
        <p:spPr>
          <a:xfrm>
            <a:off x="6939000" y="285768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шеничны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9"/>
          <p:cNvSpPr/>
          <p:nvPr/>
        </p:nvSpPr>
        <p:spPr>
          <a:xfrm flipH="1">
            <a:off x="928440" y="1643040"/>
            <a:ext cx="785880" cy="1000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8"/>
          <p:cNvSpPr/>
          <p:nvPr/>
        </p:nvSpPr>
        <p:spPr>
          <a:xfrm>
            <a:off x="6286680" y="1571760"/>
            <a:ext cx="1071360" cy="857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10"/>
          <p:cNvSpPr/>
          <p:nvPr/>
        </p:nvSpPr>
        <p:spPr>
          <a:xfrm flipH="1">
            <a:off x="3163680" y="1571760"/>
            <a:ext cx="5076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5286240" y="1571760"/>
            <a:ext cx="4608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оугольник 27"/>
          <p:cNvSpPr/>
          <p:nvPr/>
        </p:nvSpPr>
        <p:spPr>
          <a:xfrm>
            <a:off x="2293200" y="407196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сты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8"/>
          <p:cNvSpPr/>
          <p:nvPr/>
        </p:nvSpPr>
        <p:spPr>
          <a:xfrm>
            <a:off x="5721480" y="400068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добны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9"/>
          <p:cNvSpPr/>
          <p:nvPr/>
        </p:nvSpPr>
        <p:spPr>
          <a:xfrm flipH="1">
            <a:off x="3429000" y="3857760"/>
            <a:ext cx="928800" cy="357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5214960" y="3857760"/>
            <a:ext cx="503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31"/>
          <p:cNvSpPr/>
          <p:nvPr/>
        </p:nvSpPr>
        <p:spPr>
          <a:xfrm>
            <a:off x="2844720" y="443700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 способу реализации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рямоугольник 32"/>
          <p:cNvSpPr/>
          <p:nvPr/>
        </p:nvSpPr>
        <p:spPr>
          <a:xfrm>
            <a:off x="2509560" y="507204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штучн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рямоугольник 33"/>
          <p:cNvSpPr/>
          <p:nvPr/>
        </p:nvSpPr>
        <p:spPr>
          <a:xfrm>
            <a:off x="5864040" y="521496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весн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 flipH="1">
            <a:off x="3643200" y="4857840"/>
            <a:ext cx="936720" cy="357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4929120" y="4857840"/>
            <a:ext cx="928800" cy="428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1"/>
          <p:cNvSpPr/>
          <p:nvPr/>
        </p:nvSpPr>
        <p:spPr>
          <a:xfrm>
            <a:off x="3361680" y="28584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Хлеб  бывает раз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357120" y="96732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Хлеб из ржаной мук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оугольник 6"/>
          <p:cNvSpPr/>
          <p:nvPr/>
        </p:nvSpPr>
        <p:spPr>
          <a:xfrm>
            <a:off x="6143760" y="857160"/>
            <a:ext cx="20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Хлеб с отрубями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8"/>
          <p:cNvSpPr/>
          <p:nvPr/>
        </p:nvSpPr>
        <p:spPr>
          <a:xfrm>
            <a:off x="3357720" y="928800"/>
            <a:ext cx="207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оугольник 9"/>
          <p:cNvSpPr/>
          <p:nvPr/>
        </p:nvSpPr>
        <p:spPr>
          <a:xfrm>
            <a:off x="428760" y="4071960"/>
            <a:ext cx="207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Бездрожжевой хлеб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оугольник 10"/>
          <p:cNvSpPr/>
          <p:nvPr/>
        </p:nvSpPr>
        <p:spPr>
          <a:xfrm>
            <a:off x="6286680" y="4143240"/>
            <a:ext cx="20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Биохле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9" descr="%D1%85%D0%BB%D0%B5%D0%B1"/>
          <p:cNvPicPr/>
          <p:nvPr/>
        </p:nvPicPr>
        <p:blipFill>
          <a:blip r:embed="rId1"/>
          <a:stretch/>
        </p:blipFill>
        <p:spPr>
          <a:xfrm>
            <a:off x="395280" y="1628640"/>
            <a:ext cx="2143080" cy="24289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2987640" y="206064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отрубной хлеб польза"/>
          <p:cNvPicPr/>
          <p:nvPr/>
        </p:nvPicPr>
        <p:blipFill>
          <a:blip r:embed="rId3"/>
          <a:stretch/>
        </p:blipFill>
        <p:spPr>
          <a:xfrm>
            <a:off x="6227640" y="170028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913480" y="1030320"/>
            <a:ext cx="31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Хлеб из пшеничной му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684360" y="4797360"/>
            <a:ext cx="2232000" cy="16560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5940360" y="4797360"/>
            <a:ext cx="25192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684360" y="1025280"/>
            <a:ext cx="784836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гулятор функций нервной системы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потребление отрубного хлеба подавляет аппет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вышает содержание желез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ладает очистительными свойствам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ездрожжевой хлеб на хмелевой закваске имеет противовоспалительное, отхаркивающее и желчегонное действи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рка хлеба  обладает целебными свойств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ерный хлеб обладает свойством влиять на зрение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437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ими полезными для здоровья качествами обладает хлеб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07:00:10Z</dcterms:created>
  <dc:creator>ученик</dc:creator>
  <dc:description/>
  <dc:language>en-US</dc:language>
  <cp:lastModifiedBy>ученик</cp:lastModifiedBy>
  <dcterms:modified xsi:type="dcterms:W3CDTF">2012-11-29T14:55:12Z</dcterms:modified>
  <cp:revision>31</cp:revision>
  <dc:subject/>
  <dc:title>«Шоколад за и против»</dc:title>
</cp:coreProperties>
</file>