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25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FDDA-3C46-498A-B286-7522F70A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595F-DBC8-47D6-BD55-8F316626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ECD-AF16-47CA-BE3F-BD8A88A8D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DF2-FB36-46A9-B3A6-C873464E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A26C-A15F-4A8C-BA33-04919E08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321D-A40B-4314-8B41-3A67ECB6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9CC3-69AA-4B3F-964E-DE4171A1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1852-821E-4463-937D-2149B69C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759F-D52B-47A8-A909-C10EFDBE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0865-17CE-4D64-975E-FA7C3C03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B814-D4BF-4A13-BF3D-E1B280B2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F12-709D-4D78-A41E-49CCE025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F5ED-9EE0-41A6-B8CA-4D301757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D6C4-E22F-4DE8-84FA-7DCD0D44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1274-A3F0-4A7B-A9D4-E9C73BB5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D40B-B9C0-4FE5-9463-D588C1C7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ABA5-40F8-415D-930D-4CF6FC26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48E-ED58-4F62-8F0F-C4B668F2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788-3C45-41B4-906B-3F48A0DD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9C37-B4B7-409B-A4CF-5EF37C316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6C0-30F1-4C42-BECD-142EC24B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709-F792-4CCC-A54A-F7C0B30B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796A-9B9A-4614-B447-00392775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AA21-ADF0-4786-98E7-F8643B3E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3C31-7239-4617-A001-991567297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4203-24D1-46F5-A905-CB46A83206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7;&#1086;&#1083;&#1080;&#1090;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Monotype Corsiva"/>
              </a:rPr>
              <a:t>«Хлеб: польза и вред.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580000" y="5013360"/>
            <a:ext cx="3240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Выполнил: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остовалов    Ант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ченик  7 класс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Руководитель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Купава Г.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учитель матема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Рисунок 28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3000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28760" y="428400"/>
            <a:ext cx="822960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332000" y="464040"/>
            <a:ext cx="6624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чем вред хлеб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орячий хлеб есть нельз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780000" y="20606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ный отказ от хлеб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ожет привести к депресс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324000" y="3216960"/>
            <a:ext cx="69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пасен хлеб с большим сроком хранения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556000" y="3572640"/>
            <a:ext cx="594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ой бы полезный и дорогой хлеб вы ни купили, он принесет вам только вред, если он неправильно приготовлен (будет непропеченный, пересушенный, просроченны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2771640" y="5615640"/>
            <a:ext cx="63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Вред белого хлеба»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"/>
          <p:cNvSpPr/>
          <p:nvPr/>
        </p:nvSpPr>
        <p:spPr>
          <a:xfrm>
            <a:off x="500040" y="6169680"/>
            <a:ext cx="69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ожжевой хлеб очень вреден</a:t>
            </a: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Как правильно печь хлеб?"/>
          <p:cNvPicPr/>
          <p:nvPr/>
        </p:nvPicPr>
        <p:blipFill>
          <a:blip r:embed="rId1"/>
          <a:stretch/>
        </p:blipFill>
        <p:spPr>
          <a:xfrm>
            <a:off x="1042920" y="1628640"/>
            <a:ext cx="2449440" cy="16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1. Как часто вы едите хлеб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429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571320" rIns="90000" tIns="-37800" bIns="-151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1187280" y="189000"/>
            <a:ext cx="640908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571320" rIns="90000" tIns="152280" bIns="3816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Социологический опр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971640" y="1484280"/>
            <a:ext cx="68403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571320" rIns="90000" tIns="152280" bIns="38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" name="Object 8"/>
          <p:cNvGraphicFramePr/>
          <p:nvPr/>
        </p:nvGraphicFramePr>
        <p:xfrm>
          <a:off x="1214280" y="2071800"/>
          <a:ext cx="7072560" cy="45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71800"/>
                    <a:ext cx="707256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2. Какой хлеб вы больше любите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" name="Object 4"/>
          <p:cNvGraphicFramePr/>
          <p:nvPr/>
        </p:nvGraphicFramePr>
        <p:xfrm>
          <a:off x="428760" y="1643040"/>
          <a:ext cx="8143920" cy="45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643040"/>
                    <a:ext cx="814392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 txBox="1"/>
          <p:nvPr/>
        </p:nvSpPr>
        <p:spPr>
          <a:xfrm>
            <a:off x="1499760" y="1599840"/>
            <a:ext cx="7643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3. Знаете ли вы, что к хлебу нужно относиться бережно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Object 4"/>
          <p:cNvGraphicFramePr/>
          <p:nvPr/>
        </p:nvGraphicFramePr>
        <p:xfrm>
          <a:off x="857160" y="1428840"/>
          <a:ext cx="7715520" cy="521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1428840"/>
                    <a:ext cx="771552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4.  Можете ли Вы обойтись без употребления хлеба?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1143000" y="928800"/>
          <a:ext cx="7643880" cy="59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28800"/>
                    <a:ext cx="764388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5 Как вы думаете, хлеб имеет полезные для организма свойства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" name="Object 5"/>
          <p:cNvGraphicFramePr/>
          <p:nvPr/>
        </p:nvGraphicFramePr>
        <p:xfrm>
          <a:off x="1071720" y="1643040"/>
          <a:ext cx="7572240" cy="50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1643040"/>
                    <a:ext cx="757224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6. Имеет ли хлеб вредное воздействие на организм человека? Какие?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1285920" y="1285920"/>
          <a:ext cx="6929280" cy="55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285920"/>
                    <a:ext cx="6929280" cy="55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ecff"/>
                </a:solidFill>
                <a:uFillTx/>
                <a:latin typeface="Arial"/>
              </a:rPr>
              <a:t>7.Что для тебя кусочек хлеба?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60020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Object 1"/>
          <p:cNvGraphicFramePr/>
          <p:nvPr/>
        </p:nvGraphicFramePr>
        <p:xfrm>
          <a:off x="826920" y="1052640"/>
          <a:ext cx="770580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70580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Monotype Corsiva"/>
              </a:rPr>
              <a:t>Вывод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Хлеб очень полезен, в нем находятся практически все питательные вещества необходимые человеку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становлено </a:t>
            </a:r>
            <a:r>
              <a:rPr b="0" lang="ru-RU" sz="3600" spc="-1" strike="noStrike">
                <a:solidFill>
                  <a:srgbClr val="ffffff"/>
                </a:solidFill>
                <a:latin typeface="Arial Unicode MS"/>
              </a:rPr>
              <a:t>, что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орма хлеба для детей и подростков  150-400г, для взрослого человека, не занятого физическим трудом, – примерно 300–350 г хлеба в день, однако это количество может меняться в зависимости от возраста, вида деятельности чело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этому кушайте хлеб на здоровье в меру: он и вкусный, и полезны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Monotype Corsiva"/>
              </a:rPr>
              <a:t>Цель работы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Цель  данного исследования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азобраться, вреден или полезен хлеб для здоровья люд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4" descr=" (420x280, 73Kb)"/>
          <p:cNvPicPr/>
          <p:nvPr/>
        </p:nvPicPr>
        <p:blipFill>
          <a:blip r:embed="rId1"/>
          <a:stretch/>
        </p:blipFill>
        <p:spPr>
          <a:xfrm>
            <a:off x="3786120" y="3071880"/>
            <a:ext cx="4572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915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т он, хлебушко душист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хрупкой корочкой вито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т он теплый, золотистый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овно солнцем налит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каждый дом, на каждый сто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н пожаловал, прише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ем здоровье, наша сил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нем чудесное теп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5076720" y="2565360"/>
            <a:ext cx="3384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Задачи исследования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зучить литературу по теме исследовательской работы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ровести  и обработать  анкетирова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риготовить презентацию исследовательской части рабо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апы исследов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 этап -   поисково-теоретическ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этап -   проведение и обработ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нкетир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 этап -  вывод по результат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еланной рабо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ы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Теоретический анали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Анкет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общ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6156360" y="4508640"/>
            <a:ext cx="2630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395280" y="0"/>
            <a:ext cx="8137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857160" y="714240"/>
            <a:ext cx="70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Хле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— один из старейших приготавливаемых продуктов, появившийся ещё в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Times New Roman"/>
                <a:hlinkClick r:id="rId1"/>
              </a:rPr>
              <a:t>Неолите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 Считается, что впервые хлеб появился больше пятнадцати тысяч лет назад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1692360" y="547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з истории хлеба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27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826920" y="36432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ольших успехов в искусстве хлебопечения достигли египтяне. Их в древнем мире называли "хлебоедами"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6"/>
          <p:cNvSpPr/>
          <p:nvPr/>
        </p:nvSpPr>
        <p:spPr>
          <a:xfrm>
            <a:off x="857160" y="2143080"/>
            <a:ext cx="728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 известно в древние времена выпекали только пресный хлеб, так было до тех пор, пока у одного раба в древнем Египте по неосторожности не скисло тест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7"/>
          <p:cNvSpPr/>
          <p:nvPr/>
        </p:nvSpPr>
        <p:spPr>
          <a:xfrm>
            <a:off x="826920" y="4724280"/>
            <a:ext cx="650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ревнеегипетские хлебопеки пекли хлеб самых разных форм: продолговатый, круглы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форме пирамидок, плетенок, рыб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финк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Хлеб для гипертоников"/>
          <p:cNvPicPr/>
          <p:nvPr/>
        </p:nvPicPr>
        <p:blipFill>
          <a:blip r:embed="rId2"/>
          <a:stretch/>
        </p:blipFill>
        <p:spPr>
          <a:xfrm>
            <a:off x="7164360" y="333360"/>
            <a:ext cx="1655640" cy="1295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Хлеб да каша - пища наша"/>
          <p:cNvPicPr/>
          <p:nvPr/>
        </p:nvPicPr>
        <p:blipFill>
          <a:blip r:embed="rId3"/>
          <a:stretch/>
        </p:blipFill>
        <p:spPr>
          <a:xfrm>
            <a:off x="6622920" y="5084640"/>
            <a:ext cx="252108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476360" y="4752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Хлебные рекорды Гиннес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68360" y="1125360"/>
            <a:ext cx="53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амая большая буханка хлеб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ес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,43 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2340000" y="1894680"/>
            <a:ext cx="62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0" y="6108840"/>
            <a:ext cx="5688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Кекс - чемпио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Размер 25 на 1,5 метр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3276720" y="1557360"/>
            <a:ext cx="252072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Самый большой каравай в ми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есит 465,1 к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ысота 78 см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диаметр: 2, 21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2556000" y="3141720"/>
            <a:ext cx="401616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571320" rIns="90000" tIns="152280" bIns="38160" anchor="t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мую большую хлебную мозаик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знаменитой картины Леонардо да Винчи «Джоконда» создала Лаура Хендлен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492360" y="4331880"/>
            <a:ext cx="359892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571320" rIns="90000" tIns="152280" bIns="38160" anchor="ctr">
            <a:spAutoFit/>
          </a:bodyPr>
          <a:p>
            <a:pPr algn="r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лебная мозаи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 3 тон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сота 2 ме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ора Хэдлен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ожила  мозаичн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ртрет сво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екрови из тостов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Рисунок 16" descr="99"/>
          <p:cNvPicPr/>
          <p:nvPr/>
        </p:nvPicPr>
        <p:blipFill>
          <a:blip r:embed="rId1"/>
          <a:stretch/>
        </p:blipFill>
        <p:spPr>
          <a:xfrm>
            <a:off x="500040" y="1785960"/>
            <a:ext cx="1857240" cy="12477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7" descr="замеры рекорда"/>
          <p:cNvPicPr/>
          <p:nvPr/>
        </p:nvPicPr>
        <p:blipFill>
          <a:blip r:embed="rId2"/>
          <a:stretch/>
        </p:blipFill>
        <p:spPr>
          <a:xfrm>
            <a:off x="6156360" y="1125360"/>
            <a:ext cx="2592360" cy="21607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8" descr="41da913af350"/>
          <p:cNvPicPr/>
          <p:nvPr/>
        </p:nvPicPr>
        <p:blipFill>
          <a:blip r:embed="rId3"/>
          <a:stretch/>
        </p:blipFill>
        <p:spPr>
          <a:xfrm>
            <a:off x="395280" y="3068640"/>
            <a:ext cx="1571760" cy="221472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9" descr="12_12_10_1"/>
          <p:cNvPicPr/>
          <p:nvPr/>
        </p:nvPicPr>
        <p:blipFill>
          <a:blip r:embed="rId4"/>
          <a:stretch/>
        </p:blipFill>
        <p:spPr>
          <a:xfrm>
            <a:off x="7070760" y="4581360"/>
            <a:ext cx="2073240" cy="187200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68" descr=""/>
          <p:cNvPicPr/>
          <p:nvPr/>
        </p:nvPicPr>
        <p:blipFill>
          <a:blip r:embed="rId5"/>
          <a:stretch/>
        </p:blipFill>
        <p:spPr>
          <a:xfrm>
            <a:off x="2556000" y="5084640"/>
            <a:ext cx="1957320" cy="15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1116000" y="2926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ассификация хлеб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24000" y="84816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лебные изделия в зависимости от вида муки  могут быть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539640" y="2861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жа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2843280" y="28486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468360" y="34930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 рецептуре теста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539640" y="588960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Прямоугольник 18"/>
          <p:cNvSpPr/>
          <p:nvPr/>
        </p:nvSpPr>
        <p:spPr>
          <a:xfrm>
            <a:off x="2085840" y="2857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жано-пшенич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Прямоугольник 19"/>
          <p:cNvSpPr/>
          <p:nvPr/>
        </p:nvSpPr>
        <p:spPr>
          <a:xfrm>
            <a:off x="4371840" y="285768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шенично-ржа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Прямоугольник 20"/>
          <p:cNvSpPr/>
          <p:nvPr/>
        </p:nvSpPr>
        <p:spPr>
          <a:xfrm>
            <a:off x="6939000" y="285768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шенич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9"/>
          <p:cNvSpPr/>
          <p:nvPr/>
        </p:nvSpPr>
        <p:spPr>
          <a:xfrm flipH="1">
            <a:off x="928440" y="1643040"/>
            <a:ext cx="785880" cy="1000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6286680" y="1571760"/>
            <a:ext cx="1071360" cy="857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3163680" y="1571760"/>
            <a:ext cx="507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5286240" y="1571760"/>
            <a:ext cx="460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27"/>
          <p:cNvSpPr/>
          <p:nvPr/>
        </p:nvSpPr>
        <p:spPr>
          <a:xfrm>
            <a:off x="2293200" y="4071960"/>
            <a:ext cx="129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сты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рямоугольник 28"/>
          <p:cNvSpPr/>
          <p:nvPr/>
        </p:nvSpPr>
        <p:spPr>
          <a:xfrm>
            <a:off x="5721480" y="400068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доб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 flipH="1">
            <a:off x="3429000" y="3857760"/>
            <a:ext cx="928800" cy="35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5214960" y="3857760"/>
            <a:ext cx="503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31"/>
          <p:cNvSpPr/>
          <p:nvPr/>
        </p:nvSpPr>
        <p:spPr>
          <a:xfrm>
            <a:off x="2844720" y="443700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 способу реализации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рямоугольник 32"/>
          <p:cNvSpPr/>
          <p:nvPr/>
        </p:nvSpPr>
        <p:spPr>
          <a:xfrm>
            <a:off x="2509560" y="50720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штуч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Прямоугольник 33"/>
          <p:cNvSpPr/>
          <p:nvPr/>
        </p:nvSpPr>
        <p:spPr>
          <a:xfrm>
            <a:off x="5864040" y="521496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весн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 flipH="1">
            <a:off x="3643200" y="4857840"/>
            <a:ext cx="936720" cy="35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4929120" y="4857840"/>
            <a:ext cx="928800" cy="428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3361680" y="2858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Хлеб  бывает ра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357120" y="967320"/>
            <a:ext cx="19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Хлеб из ржаной мук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6"/>
          <p:cNvSpPr/>
          <p:nvPr/>
        </p:nvSpPr>
        <p:spPr>
          <a:xfrm>
            <a:off x="6143760" y="857160"/>
            <a:ext cx="20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Хлеб с отрубями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оугольник 8"/>
          <p:cNvSpPr/>
          <p:nvPr/>
        </p:nvSpPr>
        <p:spPr>
          <a:xfrm>
            <a:off x="3357720" y="928800"/>
            <a:ext cx="207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оугольник 9"/>
          <p:cNvSpPr/>
          <p:nvPr/>
        </p:nvSpPr>
        <p:spPr>
          <a:xfrm>
            <a:off x="428760" y="4071960"/>
            <a:ext cx="207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ездрожжевой хлеб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Прямоугольник 10"/>
          <p:cNvSpPr/>
          <p:nvPr/>
        </p:nvSpPr>
        <p:spPr>
          <a:xfrm>
            <a:off x="6286680" y="4143240"/>
            <a:ext cx="20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Биохле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9" descr="%D1%85%D0%BB%D0%B5%D0%B1"/>
          <p:cNvPicPr/>
          <p:nvPr/>
        </p:nvPicPr>
        <p:blipFill>
          <a:blip r:embed="rId1"/>
          <a:stretch/>
        </p:blipFill>
        <p:spPr>
          <a:xfrm>
            <a:off x="395280" y="1628640"/>
            <a:ext cx="2143080" cy="2428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987640" y="206064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отрубной хлеб польза"/>
          <p:cNvPicPr/>
          <p:nvPr/>
        </p:nvPicPr>
        <p:blipFill>
          <a:blip r:embed="rId3"/>
          <a:stretch/>
        </p:blipFill>
        <p:spPr>
          <a:xfrm>
            <a:off x="6227640" y="170028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913480" y="1030320"/>
            <a:ext cx="311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Хлеб из пшеничной му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684360" y="4797360"/>
            <a:ext cx="2232000" cy="16560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5940360" y="4797360"/>
            <a:ext cx="25192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684360" y="1025280"/>
            <a:ext cx="78483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гулятор функций нервной системы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потребление отрубного хлеба подавляет аппет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ышает содержание желез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бладает очистительными свойствам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здрожжевой хлеб на хмелевой закваске имеет противовоспалительное, отхаркивающее и желчегонное действи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рка хлеба  обладает целебными свойств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ерный хлеб обладает свойством влиять на зрение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4374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акими полезными для здоровья качествами обладает хлеб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7:00:10Z</dcterms:created>
  <dc:creator>ученик</dc:creator>
  <dc:description/>
  <dc:language>en-US</dc:language>
  <cp:lastModifiedBy>ученик</cp:lastModifiedBy>
  <dcterms:modified xsi:type="dcterms:W3CDTF">2012-11-29T14:55:12Z</dcterms:modified>
  <cp:revision>31</cp:revision>
  <dc:subject/>
  <dc:title>«Шоколад за и против»</dc:title>
</cp:coreProperties>
</file>